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6674-8860-4C6D-81BE-37F7817A3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6742-A06E-4293-8E1E-740653C7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CC8C-E85C-43E1-97E8-C7F9B81C8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D14C-10ED-45F0-9190-D3FCD7287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C400-76F9-42D8-8E67-628148414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A2F0-9A4A-46A0-8610-5EC73451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D6CC-8501-41D2-ADE9-8802FECF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3A7D-7C2D-4346-9CF4-EDC64020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DA81-6A44-4F66-842C-7D45BFF2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C784-0B73-43DF-A18E-93216937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6B77-C6E9-412C-A4F1-16BCFDA0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66D0-6AC7-450D-BD0F-76D9DDA0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C2A1-9625-4E4F-B78C-2B7F820B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09F6-78EB-4C98-BEC1-D708B68B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961B-2445-4E72-A711-82BFC573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6456-8414-4274-9392-0D5F79443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194D-B2C1-4F79-8EFA-C0693620C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2AB5-9D46-4454-97A6-98811D64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52CD-DBB1-4C6B-BC94-81F854EC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47A7-9459-42E8-8C60-6E5ABCE1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73C3-9D58-47FF-9F99-2099F1A9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D461-A94D-4E88-8A24-299496E8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5ACB-0906-45E5-A870-0A4C6BF1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EBD9-4A2F-4E92-8B17-D2514940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1782-F735-4D26-BDB2-F0EBDF265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9333-F37D-42BA-9EA6-A1126C48D173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5" name="Picture 4" descr="gai zheng"/>
          <p:cNvPicPr/>
          <p:nvPr/>
        </p:nvPicPr>
        <p:blipFill>
          <a:blip r:embed="rId2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gg.mp3" descr=""/>
          <p:cNvPicPr/>
          <p:nvPr/>
        </p:nvPicPr>
        <p:blipFill>
          <a:blip r:embed="rId3"/>
          <a:stretch/>
        </p:blipFill>
        <p:spPr>
          <a:xfrm>
            <a:off x="142920" y="62866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763640" y="2565360"/>
            <a:ext cx="3148200" cy="138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升国旗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1252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ine 2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11" name="Group 4"/>
          <p:cNvGrpSpPr/>
          <p:nvPr/>
        </p:nvGrpSpPr>
        <p:grpSpPr>
          <a:xfrm>
            <a:off x="1979640" y="476280"/>
            <a:ext cx="5688000" cy="5300640"/>
            <a:chOff x="1979640" y="476280"/>
            <a:chExt cx="5688000" cy="5300640"/>
          </a:xfrm>
        </p:grpSpPr>
        <p:sp>
          <p:nvSpPr>
            <p:cNvPr id="112" name="Rectangle 5"/>
            <p:cNvSpPr/>
            <p:nvPr/>
          </p:nvSpPr>
          <p:spPr>
            <a:xfrm>
              <a:off x="1979640" y="47628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3" name="Line 6"/>
            <p:cNvSpPr/>
            <p:nvPr/>
          </p:nvSpPr>
          <p:spPr>
            <a:xfrm>
              <a:off x="1979640" y="313992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14" name="Line 7"/>
          <p:cNvSpPr/>
          <p:nvPr/>
        </p:nvSpPr>
        <p:spPr>
          <a:xfrm>
            <a:off x="4859280" y="476280"/>
            <a:ext cx="0" cy="532764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3352680" y="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升</a:t>
            </a:r>
            <a:endParaRPr b="0" lang="en-US" sz="37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Line 2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18" name="Group 3"/>
          <p:cNvGrpSpPr/>
          <p:nvPr/>
        </p:nvGrpSpPr>
        <p:grpSpPr>
          <a:xfrm>
            <a:off x="1332000" y="549360"/>
            <a:ext cx="5688000" cy="5300640"/>
            <a:chOff x="1332000" y="549360"/>
            <a:chExt cx="5688000" cy="5300640"/>
          </a:xfrm>
        </p:grpSpPr>
        <p:sp>
          <p:nvSpPr>
            <p:cNvPr id="119" name="Rectangle 4"/>
            <p:cNvSpPr/>
            <p:nvPr/>
          </p:nvSpPr>
          <p:spPr>
            <a:xfrm>
              <a:off x="1332000" y="54936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0" name="Line 5"/>
            <p:cNvSpPr/>
            <p:nvPr/>
          </p:nvSpPr>
          <p:spPr>
            <a:xfrm>
              <a:off x="1332000" y="321300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21" name="Line 6"/>
          <p:cNvSpPr/>
          <p:nvPr/>
        </p:nvSpPr>
        <p:spPr>
          <a:xfrm>
            <a:off x="4140360" y="549360"/>
            <a:ext cx="0" cy="532764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7168320" y="333360"/>
            <a:ext cx="789840" cy="73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左边撇小小右边竖长长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2633760" y="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升</a:t>
            </a:r>
            <a:endParaRPr b="0" lang="en-US" sz="37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2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1979640" y="765000"/>
            <a:ext cx="5688000" cy="5300640"/>
            <a:chOff x="1979640" y="765000"/>
            <a:chExt cx="5688000" cy="5300640"/>
          </a:xfrm>
        </p:grpSpPr>
        <p:sp>
          <p:nvSpPr>
            <p:cNvPr id="127" name="Rectangle 5"/>
            <p:cNvSpPr/>
            <p:nvPr/>
          </p:nvSpPr>
          <p:spPr>
            <a:xfrm>
              <a:off x="1979640" y="76500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8" name="Line 6"/>
            <p:cNvSpPr/>
            <p:nvPr/>
          </p:nvSpPr>
          <p:spPr>
            <a:xfrm>
              <a:off x="1979640" y="342864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29" name="Line 7"/>
          <p:cNvSpPr/>
          <p:nvPr/>
        </p:nvSpPr>
        <p:spPr>
          <a:xfrm>
            <a:off x="4859280" y="765000"/>
            <a:ext cx="0" cy="532800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3425760" y="18900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中</a:t>
            </a:r>
            <a:endParaRPr b="0" lang="en-US" sz="37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2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3" name="Group 4"/>
          <p:cNvGrpSpPr/>
          <p:nvPr/>
        </p:nvGrpSpPr>
        <p:grpSpPr>
          <a:xfrm>
            <a:off x="1908000" y="476280"/>
            <a:ext cx="5688000" cy="5300640"/>
            <a:chOff x="1908000" y="476280"/>
            <a:chExt cx="5688000" cy="5300640"/>
          </a:xfrm>
        </p:grpSpPr>
        <p:sp>
          <p:nvSpPr>
            <p:cNvPr id="134" name="Rectangle 5"/>
            <p:cNvSpPr/>
            <p:nvPr/>
          </p:nvSpPr>
          <p:spPr>
            <a:xfrm>
              <a:off x="1908000" y="47628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5" name="Line 6"/>
            <p:cNvSpPr/>
            <p:nvPr/>
          </p:nvSpPr>
          <p:spPr>
            <a:xfrm>
              <a:off x="1908000" y="313992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36" name="Line 7"/>
          <p:cNvSpPr/>
          <p:nvPr/>
        </p:nvSpPr>
        <p:spPr>
          <a:xfrm>
            <a:off x="4859280" y="476280"/>
            <a:ext cx="0" cy="532764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7599960" y="404640"/>
            <a:ext cx="789840" cy="73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一竖穿扁口上短下更长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3352680" y="-17136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中</a:t>
            </a:r>
            <a:endParaRPr b="0" lang="en-US" sz="37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611280" y="2421000"/>
          <a:ext cx="3106800" cy="3073320"/>
        </p:xfrm>
        <a:graphic>
          <a:graphicData uri="http://schemas.openxmlformats.org/drawingml/2006/table">
            <a:tbl>
              <a:tblPr/>
              <a:tblGrid>
                <a:gridCol w="1584360"/>
                <a:gridCol w="152244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5219640" y="2421000"/>
          <a:ext cx="3062520" cy="3073320"/>
        </p:xfrm>
        <a:graphic>
          <a:graphicData uri="http://schemas.openxmlformats.org/drawingml/2006/table">
            <a:tbl>
              <a:tblPr/>
              <a:tblGrid>
                <a:gridCol w="1562040"/>
                <a:gridCol w="150048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26"/>
          <p:cNvSpPr/>
          <p:nvPr/>
        </p:nvSpPr>
        <p:spPr>
          <a:xfrm>
            <a:off x="1281600" y="1125360"/>
            <a:ext cx="195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Times New Roman"/>
              </a:rPr>
              <a:t>shēn</a:t>
            </a:r>
            <a:r>
              <a:rPr b="0" lang="zh-CN" sz="6000" spc="-1" strike="noStrike">
                <a:solidFill>
                  <a:srgbClr val="990033"/>
                </a:solidFill>
                <a:latin typeface="Times New Roman"/>
              </a:rPr>
              <a:t>ɡ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Text Box 27"/>
          <p:cNvSpPr/>
          <p:nvPr/>
        </p:nvSpPr>
        <p:spPr>
          <a:xfrm>
            <a:off x="5364000" y="1125360"/>
            <a:ext cx="2895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Times New Roman"/>
              </a:rPr>
              <a:t>zhōn</a:t>
            </a:r>
            <a:r>
              <a:rPr b="0" lang="zh-CN" sz="6000" spc="-1" strike="noStrike">
                <a:solidFill>
                  <a:srgbClr val="990033"/>
                </a:solidFill>
                <a:latin typeface="Times New Roman"/>
              </a:rPr>
              <a:t>ɡ</a:t>
            </a:r>
            <a:r>
              <a:rPr b="0" lang="en-US" sz="60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Text Box 28"/>
          <p:cNvSpPr/>
          <p:nvPr/>
        </p:nvSpPr>
        <p:spPr>
          <a:xfrm>
            <a:off x="971640" y="2492280"/>
            <a:ext cx="2160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升</a:t>
            </a:r>
            <a:endParaRPr b="0" lang="en-US" sz="1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Text Box 29"/>
          <p:cNvSpPr/>
          <p:nvPr/>
        </p:nvSpPr>
        <p:spPr>
          <a:xfrm>
            <a:off x="5651640" y="2349360"/>
            <a:ext cx="2160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中</a:t>
            </a:r>
            <a:endParaRPr b="0" lang="en-US" sz="17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6" name="guzheng.mp3" descr=""/>
          <p:cNvPicPr/>
          <p:nvPr/>
        </p:nvPicPr>
        <p:blipFill>
          <a:blip r:embed="rId2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33996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1116360" y="1197000"/>
            <a:ext cx="534996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作业：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842920" y="2133360"/>
            <a:ext cx="5562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画画我们的国旗，把你心中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的心愿写在国旗下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11280" y="2276640"/>
            <a:ext cx="2341440" cy="3911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国旗1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1" name="Picture 4" descr="gai zheng"/>
          <p:cNvPicPr/>
          <p:nvPr/>
        </p:nvPicPr>
        <p:blipFill>
          <a:blip r:embed="rId2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4" name="Picture 4" descr="生字"/>
          <p:cNvPicPr/>
          <p:nvPr/>
        </p:nvPicPr>
        <p:blipFill>
          <a:blip r:embed="rId2"/>
          <a:stretch/>
        </p:blipFill>
        <p:spPr>
          <a:xfrm>
            <a:off x="380880" y="60948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00000" y="1915920"/>
            <a:ext cx="7137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我们     国旗     升起    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立正     敬礼     歌声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9" name="Picture 4" descr="gai"/>
          <p:cNvPicPr/>
          <p:nvPr/>
        </p:nvPicPr>
        <p:blipFill>
          <a:blip r:embed="rId2"/>
          <a:stretch/>
        </p:blipFill>
        <p:spPr>
          <a:xfrm>
            <a:off x="2133720" y="0"/>
            <a:ext cx="50292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RFNDXzI2MzcguA==_LzDatIfprR8u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79280" y="47628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ɡuó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qí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ɡuó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qí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zhēn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měi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lì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国    旗  国   旗   真    美    丽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jīn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xīnɡ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jīn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xīnɡ zhào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dà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dì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金    星     金     星     照    大  地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wǒ yuàn biàn duǒ xiǎo hónɡ yún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我    愿    变    朵    小     红   云 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fēi shànɡ lán tiān qīn qīn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nǐ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飞    上    蓝  天     亲   亲   你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611280" y="2421000"/>
          <a:ext cx="3106800" cy="3073320"/>
        </p:xfrm>
        <a:graphic>
          <a:graphicData uri="http://schemas.openxmlformats.org/drawingml/2006/table">
            <a:tbl>
              <a:tblPr/>
              <a:tblGrid>
                <a:gridCol w="1584360"/>
                <a:gridCol w="152244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219640" y="2421000"/>
          <a:ext cx="3062520" cy="3073320"/>
        </p:xfrm>
        <a:graphic>
          <a:graphicData uri="http://schemas.openxmlformats.org/drawingml/2006/table">
            <a:tbl>
              <a:tblPr/>
              <a:tblGrid>
                <a:gridCol w="1562040"/>
                <a:gridCol w="150048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 Box 26"/>
          <p:cNvSpPr/>
          <p:nvPr/>
        </p:nvSpPr>
        <p:spPr>
          <a:xfrm>
            <a:off x="1281600" y="1125360"/>
            <a:ext cx="195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Times New Roman"/>
              </a:rPr>
              <a:t>shēn</a:t>
            </a:r>
            <a:r>
              <a:rPr b="0" lang="zh-CN" sz="6000" spc="-1" strike="noStrike">
                <a:solidFill>
                  <a:srgbClr val="990033"/>
                </a:solidFill>
                <a:latin typeface="Times New Roman"/>
              </a:rPr>
              <a:t>ɡ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Text Box 27"/>
          <p:cNvSpPr/>
          <p:nvPr/>
        </p:nvSpPr>
        <p:spPr>
          <a:xfrm>
            <a:off x="5364000" y="1125360"/>
            <a:ext cx="2895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Times New Roman"/>
              </a:rPr>
              <a:t>zhōn</a:t>
            </a:r>
            <a:r>
              <a:rPr b="0" lang="zh-CN" sz="6000" spc="-1" strike="noStrike">
                <a:solidFill>
                  <a:srgbClr val="990033"/>
                </a:solidFill>
                <a:latin typeface="Times New Roman"/>
              </a:rPr>
              <a:t>ɡ</a:t>
            </a:r>
            <a:r>
              <a:rPr b="0" lang="en-US" sz="60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971640" y="2492280"/>
            <a:ext cx="2160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升</a:t>
            </a:r>
            <a:endParaRPr b="0" lang="en-US" sz="1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Text Box 30"/>
          <p:cNvSpPr/>
          <p:nvPr/>
        </p:nvSpPr>
        <p:spPr>
          <a:xfrm>
            <a:off x="5651640" y="2349360"/>
            <a:ext cx="2160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中</a:t>
            </a:r>
            <a:endParaRPr b="0" lang="en-US" sz="17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3:50:25Z</dcterms:created>
  <dc:creator>刘卉</dc:creator>
  <dc:description/>
  <dc:language>en-US</dc:language>
  <cp:lastModifiedBy>番茄花园</cp:lastModifiedBy>
  <dcterms:modified xsi:type="dcterms:W3CDTF">2009-12-26T08:55:06Z</dcterms:modified>
  <cp:revision>23</cp:revision>
  <dc:subject/>
  <dc:title>PowerPoint 演示文稿</dc:title>
</cp:coreProperties>
</file>