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CA4-E67B-4796-A151-40799298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482-F351-409D-ABB0-97CE06EA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6C1-EC47-409F-B169-5F0DCFBA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1DA-6614-4131-978E-94ADD616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6CEF-D895-4596-898A-248B7BD8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1B08-3567-4D85-B1FB-FE2DD7D7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5CB1-FAC0-4C36-B049-9E55316C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B9BB-7AE8-4B89-81A4-48128D12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0FB3-59E7-42EE-B1CE-C427C0A7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531F-6E22-4942-92E7-D6AC40D3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2CD5-D81D-46EA-ABAE-243D1596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136-8173-4B32-8526-088A38CA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43CF-5DF2-45FA-98B2-5CF46124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4AD0-6E43-4D43-BC97-29B8F6AB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4527-46A6-453A-8B4B-07A9BF5E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C878-1567-4BDF-AF5F-E343C723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DE04-8673-4C13-8EF4-3714FB03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6A8-66A6-44A8-A8B2-06544B60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DAC-21C6-4E3C-94D8-B22AE032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6BB-9A57-4AF9-A6FD-480255DB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85D-5173-499C-AA5A-B9C0E8A9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2A5-DEB9-4D5B-A083-DA06D01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32E-AEA8-4ECB-90F8-996D9202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E67-15CB-4D12-BBB6-CFE10704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DA73-3D42-40E0-81C8-CB9F923E8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BAB1-8B6F-40CD-9A60-2118B9987972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gg.mp3" descr=""/>
          <p:cNvPicPr/>
          <p:nvPr/>
        </p:nvPicPr>
        <p:blipFill>
          <a:blip r:embed="rId3"/>
          <a:stretch/>
        </p:blipFill>
        <p:spPr>
          <a:xfrm>
            <a:off x="14292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2565360"/>
            <a:ext cx="314820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升国旗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979640" y="476280"/>
            <a:ext cx="5688000" cy="5300640"/>
            <a:chOff x="1979640" y="476280"/>
            <a:chExt cx="5688000" cy="5300640"/>
          </a:xfrm>
        </p:grpSpPr>
        <p:sp>
          <p:nvSpPr>
            <p:cNvPr id="112" name="Rectangle 5"/>
            <p:cNvSpPr/>
            <p:nvPr/>
          </p:nvSpPr>
          <p:spPr>
            <a:xfrm>
              <a:off x="197964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197964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4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35268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332000" y="549360"/>
            <a:ext cx="5688000" cy="5300640"/>
            <a:chOff x="1332000" y="549360"/>
            <a:chExt cx="5688000" cy="5300640"/>
          </a:xfrm>
        </p:grpSpPr>
        <p:sp>
          <p:nvSpPr>
            <p:cNvPr id="119" name="Rectangle 4"/>
            <p:cNvSpPr/>
            <p:nvPr/>
          </p:nvSpPr>
          <p:spPr>
            <a:xfrm>
              <a:off x="1332000" y="54936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1332000" y="3213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1" name="Line 6"/>
          <p:cNvSpPr/>
          <p:nvPr/>
        </p:nvSpPr>
        <p:spPr>
          <a:xfrm>
            <a:off x="4140360" y="549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168320" y="333360"/>
            <a:ext cx="789840" cy="73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左边撇小小右边竖长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63376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979640" y="765000"/>
            <a:ext cx="5688000" cy="5300640"/>
            <a:chOff x="1979640" y="765000"/>
            <a:chExt cx="5688000" cy="5300640"/>
          </a:xfrm>
        </p:grpSpPr>
        <p:sp>
          <p:nvSpPr>
            <p:cNvPr id="127" name="Rectangle 5"/>
            <p:cNvSpPr/>
            <p:nvPr/>
          </p:nvSpPr>
          <p:spPr>
            <a:xfrm>
              <a:off x="1979640" y="765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1979640" y="342864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9" name="Line 7"/>
          <p:cNvSpPr/>
          <p:nvPr/>
        </p:nvSpPr>
        <p:spPr>
          <a:xfrm>
            <a:off x="4859280" y="765000"/>
            <a:ext cx="0" cy="5328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425760" y="189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1908000" y="476280"/>
            <a:ext cx="5688000" cy="5300640"/>
            <a:chOff x="1908000" y="476280"/>
            <a:chExt cx="5688000" cy="5300640"/>
          </a:xfrm>
        </p:grpSpPr>
        <p:sp>
          <p:nvSpPr>
            <p:cNvPr id="134" name="Rectangle 5"/>
            <p:cNvSpPr/>
            <p:nvPr/>
          </p:nvSpPr>
          <p:spPr>
            <a:xfrm>
              <a:off x="190800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190800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6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599960" y="404640"/>
            <a:ext cx="789840" cy="73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竖穿扁口上短下更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52680" y="-1713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guzheng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339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116360" y="1197000"/>
            <a:ext cx="5349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42920" y="2133360"/>
            <a:ext cx="556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画画我们的国旗，把你心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的心愿写在国旗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2341440" cy="3911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国旗1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4" descr="生字"/>
          <p:cNvPicPr/>
          <p:nvPr/>
        </p:nvPicPr>
        <p:blipFill>
          <a:blip r:embed="rId2"/>
          <a:stretch/>
        </p:blipFill>
        <p:spPr>
          <a:xfrm>
            <a:off x="380880" y="6094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13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我们     国旗     升起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立正     敬礼     歌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4" descr="gai"/>
          <p:cNvPicPr/>
          <p:nvPr/>
        </p:nvPicPr>
        <p:blipFill>
          <a:blip r:embed="rId2"/>
          <a:stretch/>
        </p:blipFill>
        <p:spPr>
          <a:xfrm>
            <a:off x="213372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RFNDXzI2MzcguA==_LzDatIfprR8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zhē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mě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国    旗  国   旗   真    美    丽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zhà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金    星     金     星     照    大  地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wǒ yuàn biàn duǒ xiǎo hónɡ yú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    愿    变    朵    小     红   云 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fēi shànɡ lán tiān qīn qī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n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飞    上    蓝  天     亲   亲   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50:25Z</dcterms:created>
  <dc:creator>刘卉</dc:creator>
  <dc:description/>
  <dc:language>en-US</dc:language>
  <cp:lastModifiedBy>番茄花园</cp:lastModifiedBy>
  <dcterms:modified xsi:type="dcterms:W3CDTF">2009-12-26T08:55:06Z</dcterms:modified>
  <cp:revision>23</cp:revision>
  <dc:subject/>
  <dc:title>PowerPoint 演示文稿</dc:title>
</cp:coreProperties>
</file>