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551-AE7A-41CA-A768-484238E4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F85-E038-4231-B7C1-F5BE9817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F56-243B-498A-A297-11086E90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DDB-D3DC-42FF-9D0C-150BE07F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7547-31A5-4F47-9D82-957A2ECA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4172-5005-411C-B5CB-9DC8E2A2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D1AB-9E13-4225-B06E-C47E15C4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9DE0-522D-4009-A1F1-3392E83F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0415-0FDD-482F-AF33-2297E51A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82D6-12CB-4B91-9C20-6B330DC6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B6EA-2CEF-46D8-B02E-EF8D07C0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FD3-7D22-4CBA-A467-0CC12AD8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A2BB-C3F7-4ABA-9A46-C6C6BF94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25E7-EC9B-47C6-AEAA-DF1AFA8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7BA0-05F5-4395-8FE1-FB9DF978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6175-7B78-4CC2-AF14-3E1CCCE1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074C-00F9-4F35-959B-88E8C952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6B9-B65E-4CE5-95A3-326A3C27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0B6-55C0-4401-A994-DA76762E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0C3-CF81-4709-A6A6-64A1525F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927-A372-4539-BA33-FB8E0597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F1F-F419-44A5-948D-4D8C6A87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5A8-D633-40B5-8159-433460D7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9FD-5A17-4805-8D6C-3FEEB9DE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AB6B-9C5B-4E2A-A51A-93AF5FCCD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CE71-0EDF-4260-ADAC-554D35603AA2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gg.mp3" descr=""/>
          <p:cNvPicPr/>
          <p:nvPr/>
        </p:nvPicPr>
        <p:blipFill>
          <a:blip r:embed="rId3"/>
          <a:stretch/>
        </p:blipFill>
        <p:spPr>
          <a:xfrm>
            <a:off x="14292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63640" y="2565360"/>
            <a:ext cx="314820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升国旗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979640" y="476280"/>
            <a:ext cx="5688000" cy="5300640"/>
            <a:chOff x="1979640" y="476280"/>
            <a:chExt cx="5688000" cy="5300640"/>
          </a:xfrm>
        </p:grpSpPr>
        <p:sp>
          <p:nvSpPr>
            <p:cNvPr id="112" name="Rectangle 5"/>
            <p:cNvSpPr/>
            <p:nvPr/>
          </p:nvSpPr>
          <p:spPr>
            <a:xfrm>
              <a:off x="197964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197964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14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35268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332000" y="549360"/>
            <a:ext cx="5688000" cy="5300640"/>
            <a:chOff x="1332000" y="549360"/>
            <a:chExt cx="5688000" cy="5300640"/>
          </a:xfrm>
        </p:grpSpPr>
        <p:sp>
          <p:nvSpPr>
            <p:cNvPr id="119" name="Rectangle 4"/>
            <p:cNvSpPr/>
            <p:nvPr/>
          </p:nvSpPr>
          <p:spPr>
            <a:xfrm>
              <a:off x="1332000" y="54936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1332000" y="3213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1" name="Line 6"/>
          <p:cNvSpPr/>
          <p:nvPr/>
        </p:nvSpPr>
        <p:spPr>
          <a:xfrm>
            <a:off x="4140360" y="549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168320" y="333360"/>
            <a:ext cx="789840" cy="73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左边撇小小右边竖长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63376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979640" y="765000"/>
            <a:ext cx="5688000" cy="5300640"/>
            <a:chOff x="1979640" y="765000"/>
            <a:chExt cx="5688000" cy="5300640"/>
          </a:xfrm>
        </p:grpSpPr>
        <p:sp>
          <p:nvSpPr>
            <p:cNvPr id="127" name="Rectangle 5"/>
            <p:cNvSpPr/>
            <p:nvPr/>
          </p:nvSpPr>
          <p:spPr>
            <a:xfrm>
              <a:off x="1979640" y="765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>
              <a:off x="1979640" y="342864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9" name="Line 7"/>
          <p:cNvSpPr/>
          <p:nvPr/>
        </p:nvSpPr>
        <p:spPr>
          <a:xfrm>
            <a:off x="4859280" y="765000"/>
            <a:ext cx="0" cy="5328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425760" y="18900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1908000" y="476280"/>
            <a:ext cx="5688000" cy="5300640"/>
            <a:chOff x="1908000" y="476280"/>
            <a:chExt cx="5688000" cy="5300640"/>
          </a:xfrm>
        </p:grpSpPr>
        <p:sp>
          <p:nvSpPr>
            <p:cNvPr id="134" name="Rectangle 5"/>
            <p:cNvSpPr/>
            <p:nvPr/>
          </p:nvSpPr>
          <p:spPr>
            <a:xfrm>
              <a:off x="190800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>
              <a:off x="190800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6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599960" y="404640"/>
            <a:ext cx="789840" cy="73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一竖穿扁口上短下更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52680" y="-1713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37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6" name="guzheng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3399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116360" y="1197000"/>
            <a:ext cx="5349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42920" y="2133360"/>
            <a:ext cx="556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画画我们的国旗，把你心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的心愿写在国旗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2341440" cy="3911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国旗1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4" descr="gai zheng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4" descr="生字"/>
          <p:cNvPicPr/>
          <p:nvPr/>
        </p:nvPicPr>
        <p:blipFill>
          <a:blip r:embed="rId2"/>
          <a:stretch/>
        </p:blipFill>
        <p:spPr>
          <a:xfrm>
            <a:off x="380880" y="60948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13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我们     国旗     升起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立正     敬礼     歌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Picture 4" descr="gai"/>
          <p:cNvPicPr/>
          <p:nvPr/>
        </p:nvPicPr>
        <p:blipFill>
          <a:blip r:embed="rId2"/>
          <a:stretch/>
        </p:blipFill>
        <p:spPr>
          <a:xfrm>
            <a:off x="213372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RFNDXzI2MzcguA==_LzDatIfprR8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zhē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mě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国    旗  国   旗   真    美    丽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zhà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d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金    星     金     星     照    大  地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wǒ yuàn biàn duǒ xiǎo hónɡ yún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    愿    变    朵    小     红   云 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fēi shànɡ lán tiān qīn qī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n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飞    上    蓝  天     亲   亲   你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19640" y="2421000"/>
          <a:ext cx="306252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4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shē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zhōn</a:t>
            </a:r>
            <a:r>
              <a:rPr b="0" lang="zh-CN" sz="6000" spc="-1" strike="noStrike">
                <a:solidFill>
                  <a:srgbClr val="990033"/>
                </a:solidFill>
                <a:latin typeface="Times New Roman"/>
              </a:rPr>
              <a:t>ɡ</a:t>
            </a:r>
            <a:r>
              <a:rPr b="0" lang="en-US" sz="6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升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中</a:t>
            </a:r>
            <a:endParaRPr b="0" lang="en-US" sz="1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50:25Z</dcterms:created>
  <dc:creator>刘卉</dc:creator>
  <dc:description/>
  <dc:language>en-US</dc:language>
  <cp:lastModifiedBy>番茄花园</cp:lastModifiedBy>
  <dcterms:modified xsi:type="dcterms:W3CDTF">2009-12-26T08:55:06Z</dcterms:modified>
  <cp:revision>23</cp:revision>
  <dc:subject/>
  <dc:title>PowerPoint 演示文稿</dc:title>
</cp:coreProperties>
</file>