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0FC-745D-48D1-AD20-6C4FC4F4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CAB-87C1-4A0C-BA41-BF765997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4B5-91B0-4454-AA9B-73310578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0E7-94D1-479C-A21E-67DEBFA2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EDB5-1D8B-4177-8A34-5C51EDBB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7820-D90C-483B-A5A4-AB7EFE53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195F-1E0B-4BBD-AEBB-99752240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AC05-0BD5-4E57-B262-446218B2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5097-C171-4AC0-AE94-B168A76B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CBF9-B9C0-45F2-B9AD-7E66ACD3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EA17-2218-4019-95E6-7B26D38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40D-7588-47B2-85FB-FB3D52D3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EABC-4C8C-4379-906E-455B84D3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61CF-F48C-480E-82CA-2EF00205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6609-2A69-41C4-BF9E-95076E48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8455-29F6-4B16-8F1D-B350E3BD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DF5E-B084-4AB9-824A-560B9BD5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240-30AE-4E14-BC6A-9E1DA73C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D68-1854-42EF-B8A2-CFED43E6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A9F-BC0F-4C84-A3B1-23A13EE0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4EE-844A-4F66-A310-9123489B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C06-3B20-4479-826F-93E964CF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4FB-DBBB-4092-9B91-1214AE92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926-F53B-44F0-A0E4-C0F35C20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7B09-6F3B-4B80-BB93-F604831F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961D-D06F-4EE3-8979-15F6999ADA8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g.mp3" descr=""/>
          <p:cNvPicPr/>
          <p:nvPr/>
        </p:nvPicPr>
        <p:blipFill>
          <a:blip r:embed="rId3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升国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112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119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1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左边撇小小右边竖长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127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134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竖穿扁口上短下更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guzheng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国旗1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4" descr="生字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我们     国旗     升起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立正     敬礼     歌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4" descr="gai"/>
          <p:cNvPicPr/>
          <p:nvPr/>
        </p:nvPicPr>
        <p:blipFill>
          <a:blip r:embed="rId2"/>
          <a:stretch/>
        </p:blipFill>
        <p:spPr>
          <a:xfrm>
            <a:off x="21337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RFNDXzI2MzcguA==_LzDatIfprR8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à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àn bià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à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>刘卉</dc:creator>
  <dc:description/>
  <dc:language>en-US</dc:language>
  <cp:lastModifiedBy>番茄花园</cp:lastModifiedBy>
  <dcterms:modified xsi:type="dcterms:W3CDTF">2009-12-26T08:55:06Z</dcterms:modified>
  <cp:revision>23</cp:revision>
  <dc:subject/>
  <dc:title>PowerPoint 演示文稿</dc:title>
</cp:coreProperties>
</file>