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333-23A8-488D-ADE5-07F68613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502D-DB79-44E4-BB0C-1FE8C636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204-05C8-498C-B472-C5A0980A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C59-D498-4F8C-8AF3-7B6965FC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C485-76FF-4873-B9CD-862EC5EA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943F-F88E-439F-8576-811724A6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7D3E-BFF2-4E61-9E83-67E774D6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C131-9FA1-4E7E-9ADA-E9A9F6A0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04CD-930F-47EC-BE8B-F8BFD6B7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0553-0F93-47C3-BFA6-2699D61B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4119-E246-4618-A777-324F465F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67D-ADF8-4D27-8214-C292D057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421F-B209-4518-9A24-C9A2A798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FC23-9BB4-4262-BBD0-9BC2F203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67D3-2FCC-4097-91A0-FA04DC73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2788-9CAA-408D-87F3-49FE5ACE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9C0B-9F9B-4560-B4CD-64C53254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337-3AD1-4CFC-9103-0DD66ED2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30E-6694-4A4D-A4BD-F5082E95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EA5-FC6F-4AD2-9CD6-13B1998C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C5B-0CA2-4899-A6CA-D45C571A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DF7F-8043-40FF-9B34-B68DB597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2D7-07FE-4CD4-84C1-D6E6F8AE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A6B-8F64-4F10-9051-8A86F382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2A92-49D8-4A6C-A93F-83EA223AC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D54B-7B97-4F1A-A721-7C4CFAB65BB8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5" name="Picture 4" descr="gai zheng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gg.mp3" descr=""/>
          <p:cNvPicPr/>
          <p:nvPr/>
        </p:nvPicPr>
        <p:blipFill>
          <a:blip r:embed="rId3"/>
          <a:stretch/>
        </p:blipFill>
        <p:spPr>
          <a:xfrm>
            <a:off x="142920" y="62866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63640" y="2565360"/>
            <a:ext cx="314820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升国旗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52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1979640" y="476280"/>
            <a:ext cx="5688000" cy="5300640"/>
            <a:chOff x="1979640" y="476280"/>
            <a:chExt cx="5688000" cy="5300640"/>
          </a:xfrm>
        </p:grpSpPr>
        <p:sp>
          <p:nvSpPr>
            <p:cNvPr id="112" name="Rectangle 5"/>
            <p:cNvSpPr/>
            <p:nvPr/>
          </p:nvSpPr>
          <p:spPr>
            <a:xfrm>
              <a:off x="1979640" y="47628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" name="Line 6"/>
            <p:cNvSpPr/>
            <p:nvPr/>
          </p:nvSpPr>
          <p:spPr>
            <a:xfrm>
              <a:off x="1979640" y="313992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4" name="Line 7"/>
          <p:cNvSpPr/>
          <p:nvPr/>
        </p:nvSpPr>
        <p:spPr>
          <a:xfrm>
            <a:off x="4859280" y="47628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352680" y="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1332000" y="549360"/>
            <a:ext cx="5688000" cy="5300640"/>
            <a:chOff x="1332000" y="549360"/>
            <a:chExt cx="5688000" cy="5300640"/>
          </a:xfrm>
        </p:grpSpPr>
        <p:sp>
          <p:nvSpPr>
            <p:cNvPr id="119" name="Rectangle 4"/>
            <p:cNvSpPr/>
            <p:nvPr/>
          </p:nvSpPr>
          <p:spPr>
            <a:xfrm>
              <a:off x="1332000" y="54936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" name="Line 5"/>
            <p:cNvSpPr/>
            <p:nvPr/>
          </p:nvSpPr>
          <p:spPr>
            <a:xfrm>
              <a:off x="1332000" y="3213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1" name="Line 6"/>
          <p:cNvSpPr/>
          <p:nvPr/>
        </p:nvSpPr>
        <p:spPr>
          <a:xfrm>
            <a:off x="4140360" y="549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7168320" y="333360"/>
            <a:ext cx="789840" cy="73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左边撇小小右边竖长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633760" y="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979640" y="765000"/>
            <a:ext cx="5688000" cy="5300640"/>
            <a:chOff x="1979640" y="765000"/>
            <a:chExt cx="5688000" cy="5300640"/>
          </a:xfrm>
        </p:grpSpPr>
        <p:sp>
          <p:nvSpPr>
            <p:cNvPr id="127" name="Rectangle 5"/>
            <p:cNvSpPr/>
            <p:nvPr/>
          </p:nvSpPr>
          <p:spPr>
            <a:xfrm>
              <a:off x="1979640" y="765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>
              <a:off x="1979640" y="342864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9" name="Line 7"/>
          <p:cNvSpPr/>
          <p:nvPr/>
        </p:nvSpPr>
        <p:spPr>
          <a:xfrm>
            <a:off x="4859280" y="765000"/>
            <a:ext cx="0" cy="53280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425760" y="18900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1908000" y="476280"/>
            <a:ext cx="5688000" cy="5300640"/>
            <a:chOff x="1908000" y="476280"/>
            <a:chExt cx="5688000" cy="5300640"/>
          </a:xfrm>
        </p:grpSpPr>
        <p:sp>
          <p:nvSpPr>
            <p:cNvPr id="134" name="Rectangle 5"/>
            <p:cNvSpPr/>
            <p:nvPr/>
          </p:nvSpPr>
          <p:spPr>
            <a:xfrm>
              <a:off x="1908000" y="47628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Line 6"/>
            <p:cNvSpPr/>
            <p:nvPr/>
          </p:nvSpPr>
          <p:spPr>
            <a:xfrm>
              <a:off x="1908000" y="313992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6" name="Line 7"/>
          <p:cNvSpPr/>
          <p:nvPr/>
        </p:nvSpPr>
        <p:spPr>
          <a:xfrm>
            <a:off x="4859280" y="47628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7599960" y="404640"/>
            <a:ext cx="789840" cy="73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一竖穿扁口上短下更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352680" y="-17136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611280" y="2421000"/>
          <a:ext cx="3106800" cy="3073320"/>
        </p:xfrm>
        <a:graphic>
          <a:graphicData uri="http://schemas.openxmlformats.org/drawingml/2006/table">
            <a:tbl>
              <a:tblPr/>
              <a:tblGrid>
                <a:gridCol w="1584360"/>
                <a:gridCol w="15224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219640" y="2421000"/>
          <a:ext cx="3062520" cy="3073320"/>
        </p:xfrm>
        <a:graphic>
          <a:graphicData uri="http://schemas.openxmlformats.org/drawingml/2006/table">
            <a:tbl>
              <a:tblPr/>
              <a:tblGrid>
                <a:gridCol w="1562040"/>
                <a:gridCol w="15004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26"/>
          <p:cNvSpPr/>
          <p:nvPr/>
        </p:nvSpPr>
        <p:spPr>
          <a:xfrm>
            <a:off x="1281600" y="112536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shē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5364000" y="112536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zhō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971640" y="249228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651640" y="234936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6" name="guzheng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3399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116360" y="1197000"/>
            <a:ext cx="5349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42920" y="2133360"/>
            <a:ext cx="556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画画我们的国旗，把你心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的心愿写在国旗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2341440" cy="3911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国旗1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1" name="Picture 4" descr="gai zheng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4" name="Picture 4" descr="生字"/>
          <p:cNvPicPr/>
          <p:nvPr/>
        </p:nvPicPr>
        <p:blipFill>
          <a:blip r:embed="rId2"/>
          <a:stretch/>
        </p:blipFill>
        <p:spPr>
          <a:xfrm>
            <a:off x="380880" y="60948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137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我们     国旗     升起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立正     敬礼     歌声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Picture 4" descr="gai"/>
          <p:cNvPicPr/>
          <p:nvPr/>
        </p:nvPicPr>
        <p:blipFill>
          <a:blip r:embed="rId2"/>
          <a:stretch/>
        </p:blipFill>
        <p:spPr>
          <a:xfrm>
            <a:off x="213372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RFNDXzI2MzcguA==_LzDatIfprR8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ɡuó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qí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ɡuó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qí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zhē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měi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l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国    旗  国   旗   真    美    丽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jī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xīnɡ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jī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xīnɡ zhà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dà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d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金    星     金     星     照    大  地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wǒ yuàn biàn duǒ xiǎo hónɡ yún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我    愿    变    朵    小     红   云 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fēi shànɡ lán tiān qīn qīn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nǐ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飞    上    蓝  天     亲   亲   你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11280" y="2421000"/>
          <a:ext cx="3106800" cy="3073320"/>
        </p:xfrm>
        <a:graphic>
          <a:graphicData uri="http://schemas.openxmlformats.org/drawingml/2006/table">
            <a:tbl>
              <a:tblPr/>
              <a:tblGrid>
                <a:gridCol w="1584360"/>
                <a:gridCol w="15224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219640" y="2421000"/>
          <a:ext cx="3062520" cy="3073320"/>
        </p:xfrm>
        <a:graphic>
          <a:graphicData uri="http://schemas.openxmlformats.org/drawingml/2006/table">
            <a:tbl>
              <a:tblPr/>
              <a:tblGrid>
                <a:gridCol w="1562040"/>
                <a:gridCol w="15004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26"/>
          <p:cNvSpPr/>
          <p:nvPr/>
        </p:nvSpPr>
        <p:spPr>
          <a:xfrm>
            <a:off x="1281600" y="112536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shē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364000" y="112536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zhō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971640" y="249228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5651640" y="234936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50:25Z</dcterms:created>
  <dc:creator>刘卉</dc:creator>
  <dc:description/>
  <dc:language>en-US</dc:language>
  <cp:lastModifiedBy>番茄花园</cp:lastModifiedBy>
  <dcterms:modified xsi:type="dcterms:W3CDTF">2009-12-26T08:55:06Z</dcterms:modified>
  <cp:revision>23</cp:revision>
  <dc:subject/>
  <dc:title>PowerPoint 演示文稿</dc:title>
</cp:coreProperties>
</file>