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BFA-2B02-4850-A231-A7ABBFCD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2E3A-851E-468E-88C4-CABA7EF2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6D8-2D31-48B2-AE1E-0E69C5E9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69A8-878D-4708-BA41-187982F0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AA7-2517-46E7-8186-9694CE11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C77-61F0-4F7B-AAEA-E45766E8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DCBE-2BF3-4C24-8CA0-81AF0922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44C-1430-4C6B-9B24-8EC38FB7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185-7809-490C-BD35-0E73ACC4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0F23-AEC7-4DC7-A6D9-FE5428C0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82B4-0A28-4506-8B5C-60B3E633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39C-FA42-4FB4-8BDC-26B34731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0DC8-A4C9-4D6B-B9A3-3153F8E9EF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1160" y="907920"/>
            <a:ext cx="565776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5472000" cy="461880"/>
          </a:xfrm>
          <a:prstGeom prst="rect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673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第一章  运动的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2852280"/>
            <a:ext cx="7345440" cy="647640"/>
          </a:xfrm>
          <a:prstGeom prst="rect">
            <a:avLst/>
          </a:prstGeom>
          <a:solidFill>
            <a:srgbClr val="ffffff">
              <a:alpha val="49000"/>
            </a:srgbClr>
          </a:solidFill>
          <a:ln w="9360">
            <a:solidFill>
              <a:srgbClr val="99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汉仪中隶书简"/>
                <a:ea typeface="汉仪中隶书简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汉仪中隶书简"/>
                <a:ea typeface="汉仪中隶书简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速度变化快慢的描述——加速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速度 、速度的变化 量 、加速度的区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5840" y="907920"/>
            <a:ext cx="741852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是运动状态量，对应某一时刻（或某一位置）的运动快慢和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的变化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Monotype Corsiva"/>
              </a:rPr>
              <a:t>t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运动过程量，对应某一段时间（或某一段位移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是反应速度变化快慢的物理量，因此也称为“速度的变化率”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与速度无直接关系，与速度的变化量也无直接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01680" y="135000"/>
            <a:ext cx="740268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的变化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5300640"/>
            <a:ext cx="76327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：加速度是与速度的变化率或速度变化的快慢有关系，是由速度变化量和所用时间共同决定的，并不是单纯地与速度大小或速度的变化量的大小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620640"/>
            <a:ext cx="741672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速度是描述物体速度变化快慢的物理量，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速度是矢量，其方向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加速度不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为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匀变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40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同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加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4000" spc="-1" strike="noStrike">
                <a:solidFill>
                  <a:srgbClr val="3366ff"/>
                </a:solidFill>
                <a:latin typeface="Monotype Corsiva"/>
              </a:rPr>
              <a:t>a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3366ff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反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为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减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利用</a:t>
            </a:r>
            <a:r>
              <a:rPr b="1" lang="zh-CN" sz="3200" spc="-1" strike="noStrike">
                <a:solidFill>
                  <a:srgbClr val="000000"/>
                </a:solidFill>
                <a:latin typeface="Monotype Corsiva"/>
              </a:rPr>
              <a:t>v – 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象求加速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1197000"/>
            <a:ext cx="7777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说法正确的是                 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速度改变量大，其加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有加速度时，速度就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的加速度大，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速度的变化率大，加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61080" y="114300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Monotype Corsiv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260280"/>
            <a:ext cx="820872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汽车的加速度方向与速度方向一致，当加速度减小时，则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汽车的速度也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汽车的速度仍在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当加速度减小到零时，汽车静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加速度减小到零时，汽车的速度达到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3733920"/>
            <a:ext cx="8470800" cy="26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所说的运动情况，可能的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　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增大，其速度也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减小，其速度也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增大，但速度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减小，但速度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54920" y="711360"/>
            <a:ext cx="83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B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3573360"/>
            <a:ext cx="10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AB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019920" y="4495680"/>
            <a:ext cx="2666880" cy="1600200"/>
            <a:chOff x="6019920" y="4495680"/>
            <a:chExt cx="2666880" cy="1600200"/>
          </a:xfrm>
        </p:grpSpPr>
        <p:sp>
          <p:nvSpPr>
            <p:cNvPr id="225" name=""/>
            <p:cNvSpPr/>
            <p:nvPr/>
          </p:nvSpPr>
          <p:spPr>
            <a:xfrm>
              <a:off x="6400800" y="510552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019920" y="540972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62920" y="5257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与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反向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019920" y="4800600"/>
              <a:ext cx="10666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4480" y="4495680"/>
              <a:ext cx="8384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38880" y="46483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与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同向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98100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足球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m/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速度飞来，运动员把它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m/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速度反方向踢出，踢球时间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.2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设球飞来的方向为正方向，则足球在这段时间内的加速度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回顾位移图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374920" y="3986280"/>
            <a:ext cx="3692160" cy="87120"/>
            <a:chOff x="2374920" y="3986280"/>
            <a:chExt cx="3692160" cy="87120"/>
          </a:xfrm>
        </p:grpSpPr>
        <p:sp>
          <p:nvSpPr>
            <p:cNvPr id="235" name=""/>
            <p:cNvSpPr/>
            <p:nvPr/>
          </p:nvSpPr>
          <p:spPr>
            <a:xfrm>
              <a:off x="237492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5308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12200" y="3986280"/>
              <a:ext cx="0" cy="8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8820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6708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2620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309400" y="1911240"/>
            <a:ext cx="119160" cy="2684160"/>
            <a:chOff x="2309400" y="1911240"/>
            <a:chExt cx="119160" cy="2684160"/>
          </a:xfrm>
        </p:grpSpPr>
        <p:sp>
          <p:nvSpPr>
            <p:cNvPr id="242" name=""/>
            <p:cNvSpPr/>
            <p:nvPr/>
          </p:nvSpPr>
          <p:spPr>
            <a:xfrm flipH="1">
              <a:off x="2309400" y="19112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309400" y="29858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309400" y="2447280"/>
              <a:ext cx="11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309400" y="35204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309400" y="459540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309400" y="40568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325600" y="1004760"/>
            <a:ext cx="0" cy="395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889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6520" y="3848040"/>
            <a:ext cx="73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68520" y="406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478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826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746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80600" y="407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2960" y="3363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3680" y="2825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83440" y="2271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83440" y="1698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25600" y="4046400"/>
            <a:ext cx="4187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03960" y="43434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57280" y="2435400"/>
            <a:ext cx="3527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57280" y="1932120"/>
            <a:ext cx="2951280" cy="20872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08000" y="836640"/>
            <a:ext cx="18241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10720" y="3448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77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5" dur="770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7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9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4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6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8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7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77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770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77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1" dur="770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3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77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0" dur="770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2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77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9" dur="770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1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3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8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2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7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9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1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6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8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0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5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7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9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4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6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8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3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5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7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77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2" dur="770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4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6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1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5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0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2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4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77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9" dur="770" fill="hold"/>
                                        <p:tgtEl>
                                          <p:spTgt spid="2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1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3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77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8" dur="77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0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2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77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7" dur="770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9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1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77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6" dur="77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8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0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77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5" dur="77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7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9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77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4" dur="770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6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8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3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5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7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2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4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6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1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3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5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77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0" dur="770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2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9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1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8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0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速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间图象求加速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57280" y="2435400"/>
            <a:ext cx="3527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57280" y="1932120"/>
            <a:ext cx="2951280" cy="20872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782360" y="711360"/>
            <a:ext cx="5326920" cy="4244760"/>
            <a:chOff x="1782360" y="711360"/>
            <a:chExt cx="5326920" cy="4244760"/>
          </a:xfrm>
        </p:grpSpPr>
        <p:grpSp>
          <p:nvGrpSpPr>
            <p:cNvPr id="284" name=""/>
            <p:cNvGrpSpPr/>
            <p:nvPr/>
          </p:nvGrpSpPr>
          <p:grpSpPr>
            <a:xfrm>
              <a:off x="2374920" y="3986280"/>
              <a:ext cx="3692160" cy="87120"/>
              <a:chOff x="2374920" y="3986280"/>
              <a:chExt cx="3692160" cy="87120"/>
            </a:xfrm>
          </p:grpSpPr>
          <p:sp>
            <p:nvSpPr>
              <p:cNvPr id="285" name=""/>
              <p:cNvSpPr/>
              <p:nvPr/>
            </p:nvSpPr>
            <p:spPr>
              <a:xfrm>
                <a:off x="237492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853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12200" y="3986280"/>
                <a:ext cx="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88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067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326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309400" y="1911240"/>
              <a:ext cx="119160" cy="2684160"/>
              <a:chOff x="2309400" y="1911240"/>
              <a:chExt cx="119160" cy="268416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2309400" y="19112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2309400" y="2985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2309400" y="2447280"/>
                <a:ext cx="1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2309400" y="35204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2309400" y="459540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2309400" y="4056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 flipV="1">
              <a:off x="2325600" y="1004760"/>
              <a:ext cx="0" cy="395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53000" y="3848040"/>
              <a:ext cx="65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2917800" y="4043520"/>
              <a:ext cx="3426120" cy="400320"/>
              <a:chOff x="2917800" y="4043520"/>
              <a:chExt cx="3426120" cy="400320"/>
            </a:xfrm>
          </p:grpSpPr>
          <p:sp>
            <p:nvSpPr>
              <p:cNvPr id="301" name=""/>
              <p:cNvSpPr/>
              <p:nvPr/>
            </p:nvSpPr>
            <p:spPr>
              <a:xfrm>
                <a:off x="5167080" y="4043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4636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17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09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879880" y="404496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2325600" y="4046400"/>
              <a:ext cx="418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1782360" y="1673280"/>
              <a:ext cx="464040" cy="3069000"/>
              <a:chOff x="1782360" y="1673280"/>
              <a:chExt cx="464040" cy="3069000"/>
            </a:xfrm>
          </p:grpSpPr>
          <p:sp>
            <p:nvSpPr>
              <p:cNvPr id="308" name=""/>
              <p:cNvSpPr/>
              <p:nvPr/>
            </p:nvSpPr>
            <p:spPr>
              <a:xfrm>
                <a:off x="1888920" y="3860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01520" y="3338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03320" y="2800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782360" y="22464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82360" y="16732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03960" y="434340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1979640" y="711360"/>
              <a:ext cx="182412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10720" y="3448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92360" y="5084640"/>
            <a:ext cx="63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论：图线的斜率表示加速度，图线的倾斜程度反映加速度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1500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4788000" y="1052640"/>
            <a:ext cx="3975120" cy="3239640"/>
            <a:chOff x="4788000" y="1052640"/>
            <a:chExt cx="3975120" cy="3239640"/>
          </a:xfrm>
        </p:grpSpPr>
        <p:sp>
          <p:nvSpPr>
            <p:cNvPr id="321" name=""/>
            <p:cNvSpPr/>
            <p:nvPr/>
          </p:nvSpPr>
          <p:spPr>
            <a:xfrm flipV="1">
              <a:off x="6883560" y="2087640"/>
              <a:ext cx="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348520" y="2087640"/>
              <a:ext cx="14810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337360" y="1283760"/>
              <a:ext cx="0" cy="300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30840" y="33116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61360" y="3448080"/>
              <a:ext cx="40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37360" y="3622680"/>
              <a:ext cx="318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3948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319720" y="2087640"/>
              <a:ext cx="1563840" cy="8906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83560" y="2087640"/>
              <a:ext cx="82224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05800" y="2087640"/>
              <a:ext cx="603360" cy="153504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704360" y="2087640"/>
              <a:ext cx="144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7612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35640" y="1052640"/>
              <a:ext cx="4320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88000" y="1716120"/>
              <a:ext cx="64764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55640" y="1052640"/>
            <a:ext cx="3988080" cy="3239640"/>
            <a:chOff x="755640" y="1052640"/>
            <a:chExt cx="3988080" cy="3239640"/>
          </a:xfrm>
        </p:grpSpPr>
        <p:sp>
          <p:nvSpPr>
            <p:cNvPr id="337" name=""/>
            <p:cNvSpPr/>
            <p:nvPr/>
          </p:nvSpPr>
          <p:spPr>
            <a:xfrm>
              <a:off x="1403280" y="1052640"/>
              <a:ext cx="5079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5640" y="1717560"/>
              <a:ext cx="64764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849400" y="2087640"/>
              <a:ext cx="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314000" y="2087640"/>
              <a:ext cx="148140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303200" y="1283760"/>
              <a:ext cx="0" cy="300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1720" y="3300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41960" y="3429000"/>
              <a:ext cx="40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03200" y="3622680"/>
              <a:ext cx="318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0712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1330200" y="2087640"/>
              <a:ext cx="1519200" cy="8539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49400" y="2087640"/>
              <a:ext cx="82260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72000" y="2087640"/>
              <a:ext cx="603000" cy="153504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670200" y="2087640"/>
              <a:ext cx="180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4376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410080" y="4648320"/>
            <a:ext cx="33530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v1=10m/s,t1=4s,t2=6s,t3=8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求加速度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a1,a2,a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2743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077320" y="35956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5000" y="2209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1676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077320" y="25146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0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77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7" dur="770" fill="hold"/>
                                        <p:tgtEl>
                                          <p:spTgt spid="3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1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77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6" dur="770" fill="hold"/>
                                        <p:tgtEl>
                                          <p:spTgt spid="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0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-324000" y="112536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物体的加速度为零，则该物体一定是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  <a:ea typeface="Times New Roman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静止不动         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匀速直线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静止或匀速直线运动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做速度大小不变的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200400"/>
            <a:ext cx="9144000" cy="32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关于速度和加速度的叙述中，结论正确的是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的速度越大，它的加速度也一定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运动的加速度为零，它的速度也为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运动的速度改变越大，它的加速度也一定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加速度的大小就是速度对时间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化率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0" y="115920"/>
            <a:ext cx="3222720" cy="838080"/>
          </a:xfrm>
          <a:custGeom>
            <a:avLst/>
            <a:gdLst>
              <a:gd name="textAreaLeft" fmla="*/ 98640 w 3222720"/>
              <a:gd name="textAreaRight" fmla="*/ 3124080 w 3222720"/>
              <a:gd name="textAreaTop" fmla="*/ 98640 h 838080"/>
              <a:gd name="textAreaBottom" fmla="*/ 739440 h 838080"/>
            </a:gdLst>
            <a:ahLst/>
            <a:rect l="textAreaLeft" t="textAreaTop" r="textAreaRight" b="textAreaBottom"/>
            <a:pathLst>
              <a:path w="8303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9433" y="21600"/>
                </a:lnTo>
                <a:arcTo wR="3600" hR="3600" stAng="10800000" swAng="5400000"/>
                <a:lnTo>
                  <a:pt x="83033" y="3600"/>
                </a:lnTo>
                <a:arcTo wR="3600" hR="3600" stAng="5400000" swAng="5400000"/>
                <a:close/>
              </a:path>
            </a:pathLst>
          </a:custGeom>
          <a:solidFill>
            <a:srgbClr val="f81f0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c00"/>
                </a:solidFill>
                <a:latin typeface="Times New Roman"/>
              </a:rPr>
              <a:t>扩展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494480" y="101124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302724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371600" y="638316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甲                                              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201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甲图中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段表示质点在作什么运动？试求各段时间内质点的加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2280" y="3030480"/>
            <a:ext cx="4434120" cy="3504960"/>
            <a:chOff x="152280" y="3030480"/>
            <a:chExt cx="4434120" cy="3504960"/>
          </a:xfrm>
        </p:grpSpPr>
        <p:sp>
          <p:nvSpPr>
            <p:cNvPr id="365" name=""/>
            <p:cNvSpPr/>
            <p:nvPr/>
          </p:nvSpPr>
          <p:spPr>
            <a:xfrm>
              <a:off x="3429000" y="5697360"/>
              <a:ext cx="115740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t/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152280" y="3030480"/>
              <a:ext cx="3272040" cy="3504960"/>
              <a:chOff x="152280" y="3030480"/>
              <a:chExt cx="3272040" cy="3504960"/>
            </a:xfrm>
          </p:grpSpPr>
          <p:sp>
            <p:nvSpPr>
              <p:cNvPr id="367" name=""/>
              <p:cNvSpPr/>
              <p:nvPr/>
            </p:nvSpPr>
            <p:spPr>
              <a:xfrm>
                <a:off x="250920" y="5717880"/>
                <a:ext cx="68256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660240" y="5873400"/>
                <a:ext cx="2764080" cy="133560"/>
                <a:chOff x="660240" y="5873400"/>
                <a:chExt cx="2764080" cy="1335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60240" y="5928840"/>
                  <a:ext cx="2764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78712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43396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08080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72764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37412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02096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 flipV="1">
                <a:off x="638280" y="3477960"/>
                <a:ext cx="0" cy="245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82480" y="380664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2480" y="416052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2480" y="451620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2480" y="487044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2480" y="522432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2480" y="557820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19280" y="3030480"/>
                <a:ext cx="149040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v/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m·s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832040" y="5891040"/>
                <a:ext cx="83484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36920" y="5891040"/>
                <a:ext cx="8157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109520" y="589104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71360" y="425736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2280" y="351468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919400"/>
                <a:ext cx="5479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628560" y="4859280"/>
                <a:ext cx="362160" cy="106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986040" y="4864680"/>
                <a:ext cx="747720" cy="12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5800" y="44020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295280" y="44020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8560" y="4859280"/>
                <a:ext cx="36216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5040" y="4859280"/>
                <a:ext cx="106668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1676520" y="3792240"/>
                <a:ext cx="1066680" cy="1067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5040" y="3792240"/>
                <a:ext cx="213372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666880" y="34876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"/>
          <p:cNvSpPr/>
          <p:nvPr/>
        </p:nvSpPr>
        <p:spPr>
          <a:xfrm>
            <a:off x="4343400" y="11253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乙图中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段表示质点在作什么运动？试求各段时间内质点的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572000" y="2954160"/>
            <a:ext cx="4205160" cy="3504960"/>
            <a:chOff x="4572000" y="2954160"/>
            <a:chExt cx="4205160" cy="3504960"/>
          </a:xfrm>
        </p:grpSpPr>
        <p:grpSp>
          <p:nvGrpSpPr>
            <p:cNvPr id="401" name=""/>
            <p:cNvGrpSpPr/>
            <p:nvPr/>
          </p:nvGrpSpPr>
          <p:grpSpPr>
            <a:xfrm>
              <a:off x="4572000" y="2954160"/>
              <a:ext cx="3271320" cy="3504960"/>
              <a:chOff x="4572000" y="2954160"/>
              <a:chExt cx="3271320" cy="3504960"/>
            </a:xfrm>
          </p:grpSpPr>
          <p:sp>
            <p:nvSpPr>
              <p:cNvPr id="402" name=""/>
              <p:cNvSpPr/>
              <p:nvPr/>
            </p:nvSpPr>
            <p:spPr>
              <a:xfrm>
                <a:off x="4670280" y="5641560"/>
                <a:ext cx="68220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5079600" y="5797080"/>
                <a:ext cx="2763720" cy="133560"/>
                <a:chOff x="5079600" y="5797080"/>
                <a:chExt cx="2763720" cy="1335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079600" y="5852520"/>
                  <a:ext cx="2763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20612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85260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49944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14628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79312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43996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" name=""/>
              <p:cNvSpPr/>
              <p:nvPr/>
            </p:nvSpPr>
            <p:spPr>
              <a:xfrm flipV="1">
                <a:off x="5057640" y="3401640"/>
                <a:ext cx="0" cy="245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001840" y="373032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001840" y="408420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001840" y="443988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001840" y="479412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001840" y="514800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001840" y="550188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138640" y="2954160"/>
                <a:ext cx="149004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s/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251400" y="5814720"/>
                <a:ext cx="83448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956280" y="5814720"/>
                <a:ext cx="81540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528880" y="581472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590720" y="418104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572000" y="343836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572000" y="4843080"/>
                <a:ext cx="5475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5047920" y="4782960"/>
                <a:ext cx="361800" cy="106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05400" y="4788360"/>
                <a:ext cx="747360" cy="12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105160" y="4325760"/>
                <a:ext cx="609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14640" y="432576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047920" y="4782960"/>
                <a:ext cx="36180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054400" y="4782960"/>
                <a:ext cx="106632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6095880" y="3715920"/>
                <a:ext cx="1066320" cy="1067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054400" y="3715920"/>
                <a:ext cx="213336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086240" y="341136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7620120" y="5316480"/>
              <a:ext cx="11570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t/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971640" y="26028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思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体的位移多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何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观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跑车加速性能的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848360" cy="582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463680"/>
            <a:ext cx="3313080" cy="246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2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较速度变化快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60280"/>
            <a:ext cx="8244000" cy="2808360"/>
          </a:xfrm>
          <a:prstGeom prst="rect">
            <a:avLst/>
          </a:prstGeom>
          <a:noFill/>
          <a:ln w="57240">
            <a:solidFill>
              <a:srgbClr val="ff66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48720" y="333360"/>
            <a:ext cx="140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相同的时间内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速度变化大的速度变化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5516640"/>
            <a:ext cx="37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相同的速度变化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用时越少速度变化越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4076640"/>
            <a:ext cx="3889440" cy="2087640"/>
          </a:xfrm>
          <a:prstGeom prst="cloudCallout">
            <a:avLst>
              <a:gd name="adj1" fmla="val -49592"/>
              <a:gd name="adj2" fmla="val -59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如何比较１和３谁的速度变化快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27640" y="480960"/>
            <a:ext cx="3529080" cy="244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357120"/>
            <a:ext cx="3529080" cy="6120000"/>
          </a:xfrm>
          <a:prstGeom prst="rect">
            <a:avLst/>
          </a:prstGeom>
          <a:noFill/>
          <a:ln w="57240">
            <a:solidFill>
              <a:srgbClr val="ff00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71640" y="3213000"/>
            <a:ext cx="331308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8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385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38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38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85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385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588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第一章  运动的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可以求出单位时间内速度的变化量来比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位时间内速度的变化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100/4.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25(km/s</a:t>
            </a:r>
            <a:r>
              <a:rPr b="0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位时间内速度的变化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60-0/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16.67(km/s</a:t>
            </a:r>
            <a:r>
              <a:rPr b="0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4120" y="3809880"/>
            <a:ext cx="1584360" cy="1204920"/>
            <a:chOff x="5334120" y="3809880"/>
            <a:chExt cx="1584360" cy="1204920"/>
          </a:xfrm>
        </p:grpSpPr>
        <p:sp>
          <p:nvSpPr>
            <p:cNvPr id="60" name=""/>
            <p:cNvSpPr/>
            <p:nvPr/>
          </p:nvSpPr>
          <p:spPr>
            <a:xfrm>
              <a:off x="5910480" y="380988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4120" y="402588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   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82120" y="431136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486400" y="2133720"/>
            <a:ext cx="1584360" cy="1204560"/>
            <a:chOff x="5486400" y="2133720"/>
            <a:chExt cx="1584360" cy="1204560"/>
          </a:xfrm>
        </p:grpSpPr>
        <p:sp>
          <p:nvSpPr>
            <p:cNvPr id="64" name=""/>
            <p:cNvSpPr/>
            <p:nvPr/>
          </p:nvSpPr>
          <p:spPr>
            <a:xfrm>
              <a:off x="6062760" y="213372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86400" y="234936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   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34400" y="263484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加速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547560"/>
            <a:ext cx="6046920" cy="10810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速度是速度的变化量与发生这一变化所用时间的比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549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29923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32000" y="2779560"/>
            <a:ext cx="1584360" cy="1406880"/>
            <a:chOff x="3132000" y="2779560"/>
            <a:chExt cx="1584360" cy="1406880"/>
          </a:xfrm>
        </p:grpSpPr>
        <p:sp>
          <p:nvSpPr>
            <p:cNvPr id="72" name=""/>
            <p:cNvSpPr/>
            <p:nvPr/>
          </p:nvSpPr>
          <p:spPr>
            <a:xfrm>
              <a:off x="3708360" y="277956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32000" y="2995560"/>
              <a:ext cx="158436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=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80000" y="328104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643280" y="2633760"/>
            <a:ext cx="2736720" cy="1013040"/>
            <a:chOff x="4643280" y="2633760"/>
            <a:chExt cx="2736720" cy="1013040"/>
          </a:xfrm>
        </p:grpSpPr>
        <p:sp>
          <p:nvSpPr>
            <p:cNvPr id="76" name=""/>
            <p:cNvSpPr/>
            <p:nvPr/>
          </p:nvSpPr>
          <p:spPr>
            <a:xfrm>
              <a:off x="5003640" y="2633760"/>
              <a:ext cx="223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Monotype Corsiva"/>
                </a:rPr>
                <a:t>-</a:t>
              </a: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43280" y="3065400"/>
              <a:ext cx="273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Monotype Corsiva"/>
                </a:rPr>
                <a:t>= —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219640" y="32846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△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38577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38577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米每二次方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506920" y="3807000"/>
            <a:ext cx="1441440" cy="703440"/>
            <a:chOff x="5506920" y="3807000"/>
            <a:chExt cx="1441440" cy="703440"/>
          </a:xfrm>
        </p:grpSpPr>
        <p:sp>
          <p:nvSpPr>
            <p:cNvPr id="82" name=""/>
            <p:cNvSpPr/>
            <p:nvPr/>
          </p:nvSpPr>
          <p:spPr>
            <a:xfrm>
              <a:off x="5506920" y="380700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/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72000" y="380700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093080" y="3645000"/>
            <a:ext cx="1439640" cy="851040"/>
            <a:chOff x="7093080" y="3645000"/>
            <a:chExt cx="1439640" cy="851040"/>
          </a:xfrm>
        </p:grpSpPr>
        <p:sp>
          <p:nvSpPr>
            <p:cNvPr id="85" name=""/>
            <p:cNvSpPr/>
            <p:nvPr/>
          </p:nvSpPr>
          <p:spPr>
            <a:xfrm>
              <a:off x="7956720" y="364500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93080" y="379260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 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24720" y="366588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588000" y="38577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48657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4883040"/>
            <a:ext cx="5976720" cy="8251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速度的方向与速度变化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8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方向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2060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理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2060640"/>
            <a:ext cx="5616720" cy="5763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速度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改变快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物理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38088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]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匀加速运动的火车，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火车加速度的大小。汽车紧急刹车时做匀减速运动，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小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汽车的加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：由于速度、加速度都是矢量，所以我们计算的时候必须先选一个正方向。一般选初速度的方向为正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火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内速度的改变量是多少，方向与初速度方向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汽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的改变量是多少？方向与其初速度方向有何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两物体的运动加速度分别为多少？方向如何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加速度的方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116000" y="981000"/>
            <a:ext cx="7775640" cy="2664000"/>
            <a:chOff x="1116000" y="981000"/>
            <a:chExt cx="7775640" cy="2664000"/>
          </a:xfrm>
        </p:grpSpPr>
        <p:sp>
          <p:nvSpPr>
            <p:cNvPr id="96" name=""/>
            <p:cNvSpPr/>
            <p:nvPr/>
          </p:nvSpPr>
          <p:spPr>
            <a:xfrm>
              <a:off x="1116000" y="981000"/>
              <a:ext cx="7775640" cy="2664000"/>
            </a:xfrm>
            <a:prstGeom prst="rect">
              <a:avLst/>
            </a:prstGeom>
            <a:noFill/>
            <a:ln w="38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32360" y="981000"/>
              <a:ext cx="0" cy="2664000"/>
            </a:xfrm>
            <a:prstGeom prst="line">
              <a:avLst/>
            </a:prstGeom>
            <a:ln w="38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059280" y="1719360"/>
            <a:ext cx="1512720" cy="703440"/>
            <a:chOff x="3059280" y="1719360"/>
            <a:chExt cx="1512720" cy="703440"/>
          </a:xfrm>
        </p:grpSpPr>
        <p:sp>
          <p:nvSpPr>
            <p:cNvPr id="99" name=""/>
            <p:cNvSpPr/>
            <p:nvPr/>
          </p:nvSpPr>
          <p:spPr>
            <a:xfrm>
              <a:off x="3059280" y="2295720"/>
              <a:ext cx="1512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74920" y="1719360"/>
              <a:ext cx="93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35640" y="1563840"/>
            <a:ext cx="3024000" cy="2084040"/>
            <a:chOff x="5435640" y="1563840"/>
            <a:chExt cx="3024000" cy="2084040"/>
          </a:xfrm>
        </p:grpSpPr>
        <p:sp>
          <p:nvSpPr>
            <p:cNvPr id="102" name=""/>
            <p:cNvSpPr/>
            <p:nvPr/>
          </p:nvSpPr>
          <p:spPr>
            <a:xfrm>
              <a:off x="5435640" y="2211120"/>
              <a:ext cx="302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8920" y="1563840"/>
              <a:ext cx="576000" cy="9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35640" y="2787480"/>
              <a:ext cx="14396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1280" y="2860560"/>
              <a:ext cx="8632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4000" spc="-1" strike="noStrike" baseline="-25000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57640" y="2819520"/>
            <a:ext cx="1584360" cy="703440"/>
            <a:chOff x="6857640" y="2819520"/>
            <a:chExt cx="1584360" cy="703440"/>
          </a:xfrm>
        </p:grpSpPr>
        <p:sp>
          <p:nvSpPr>
            <p:cNvPr id="107" name=""/>
            <p:cNvSpPr/>
            <p:nvPr/>
          </p:nvSpPr>
          <p:spPr>
            <a:xfrm flipH="1">
              <a:off x="6857640" y="2819520"/>
              <a:ext cx="1584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34000" y="281952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474920" y="1719360"/>
            <a:ext cx="3097080" cy="1939680"/>
            <a:chOff x="1474920" y="1719360"/>
            <a:chExt cx="3097080" cy="1939680"/>
          </a:xfrm>
        </p:grpSpPr>
        <p:sp>
          <p:nvSpPr>
            <p:cNvPr id="110" name=""/>
            <p:cNvSpPr/>
            <p:nvPr/>
          </p:nvSpPr>
          <p:spPr>
            <a:xfrm>
              <a:off x="1474920" y="2295360"/>
              <a:ext cx="165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74920" y="2798640"/>
              <a:ext cx="3097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49480" y="1719360"/>
              <a:ext cx="575640" cy="9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3840" y="2871720"/>
              <a:ext cx="720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4000" spc="-1" strike="noStrike" baseline="-25000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12600"/>
            <a:ext cx="7921800" cy="825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速度的方向与速度变化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8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方向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627280" y="981000"/>
            <a:ext cx="719280" cy="703440"/>
            <a:chOff x="2627280" y="981000"/>
            <a:chExt cx="719280" cy="703440"/>
          </a:xfrm>
        </p:grpSpPr>
        <p:sp>
          <p:nvSpPr>
            <p:cNvPr id="116" name=""/>
            <p:cNvSpPr/>
            <p:nvPr/>
          </p:nvSpPr>
          <p:spPr>
            <a:xfrm>
              <a:off x="2771640" y="98100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27280" y="1555560"/>
              <a:ext cx="719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661080" y="981000"/>
            <a:ext cx="1079280" cy="703440"/>
            <a:chOff x="6661080" y="981000"/>
            <a:chExt cx="1079280" cy="703440"/>
          </a:xfrm>
        </p:grpSpPr>
        <p:sp>
          <p:nvSpPr>
            <p:cNvPr id="119" name=""/>
            <p:cNvSpPr/>
            <p:nvPr/>
          </p:nvSpPr>
          <p:spPr>
            <a:xfrm flipH="1">
              <a:off x="6661080" y="1557000"/>
              <a:ext cx="792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76720" y="98100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258920" y="4395960"/>
            <a:ext cx="741672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加速度与初速度方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相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物体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加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当加速度与初速度方向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相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物体做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减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速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间图象求加速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82360" y="711360"/>
            <a:ext cx="5326920" cy="4244760"/>
            <a:chOff x="1782360" y="711360"/>
            <a:chExt cx="5326920" cy="4244760"/>
          </a:xfrm>
        </p:grpSpPr>
        <p:grpSp>
          <p:nvGrpSpPr>
            <p:cNvPr id="130" name=""/>
            <p:cNvGrpSpPr/>
            <p:nvPr/>
          </p:nvGrpSpPr>
          <p:grpSpPr>
            <a:xfrm>
              <a:off x="2374920" y="3986280"/>
              <a:ext cx="3692160" cy="87120"/>
              <a:chOff x="2374920" y="3986280"/>
              <a:chExt cx="3692160" cy="87120"/>
            </a:xfrm>
          </p:grpSpPr>
          <p:sp>
            <p:nvSpPr>
              <p:cNvPr id="131" name=""/>
              <p:cNvSpPr/>
              <p:nvPr/>
            </p:nvSpPr>
            <p:spPr>
              <a:xfrm>
                <a:off x="237492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53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12200" y="3986280"/>
                <a:ext cx="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88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67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26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2309400" y="1911240"/>
              <a:ext cx="119160" cy="2684160"/>
              <a:chOff x="2309400" y="1911240"/>
              <a:chExt cx="119160" cy="268416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2309400" y="19112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2309400" y="2985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309400" y="2447280"/>
                <a:ext cx="1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2309400" y="35204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2309400" y="459540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2309400" y="4056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2325600" y="1004760"/>
              <a:ext cx="0" cy="395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53000" y="3848040"/>
              <a:ext cx="65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917800" y="4043520"/>
              <a:ext cx="3426120" cy="400320"/>
              <a:chOff x="2917800" y="4043520"/>
              <a:chExt cx="3426120" cy="400320"/>
            </a:xfrm>
          </p:grpSpPr>
          <p:sp>
            <p:nvSpPr>
              <p:cNvPr id="147" name=""/>
              <p:cNvSpPr/>
              <p:nvPr/>
            </p:nvSpPr>
            <p:spPr>
              <a:xfrm>
                <a:off x="5167080" y="4043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44636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17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709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79880" y="404496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325600" y="4046400"/>
              <a:ext cx="418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782360" y="1673280"/>
              <a:ext cx="464040" cy="3069000"/>
              <a:chOff x="1782360" y="1673280"/>
              <a:chExt cx="464040" cy="3069000"/>
            </a:xfrm>
          </p:grpSpPr>
          <p:sp>
            <p:nvSpPr>
              <p:cNvPr id="154" name=""/>
              <p:cNvSpPr/>
              <p:nvPr/>
            </p:nvSpPr>
            <p:spPr>
              <a:xfrm>
                <a:off x="1888920" y="3860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901520" y="3338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903320" y="2800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782360" y="22464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782360" y="16732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03960" y="434340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979640" y="711360"/>
              <a:ext cx="182412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92360" y="5084640"/>
            <a:ext cx="63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论：图线的斜率表示加速度，图线的倾斜程度反映加速度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1905120"/>
            <a:ext cx="228600" cy="213336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3512880" y="2887560"/>
            <a:ext cx="609840" cy="2911320"/>
          </a:xfrm>
          <a:custGeom>
            <a:avLst/>
            <a:gdLst>
              <a:gd name="textAreaLeft" fmla="*/ 389520 w 609840"/>
              <a:gd name="textAreaRight" fmla="*/ 610200 w 609840"/>
              <a:gd name="textAreaTop" fmla="*/ 97920 h 2911320"/>
              <a:gd name="textAreaBottom" fmla="*/ 2813400 h 291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1"/>
                  <a:pt x="10800" y="2322"/>
                </a:cubicBezTo>
                <a:lnTo>
                  <a:pt x="10800" y="7074"/>
                </a:lnTo>
                <a:cubicBezTo>
                  <a:pt x="10800" y="8235"/>
                  <a:pt x="5400" y="9396"/>
                  <a:pt x="0" y="9396"/>
                </a:cubicBezTo>
                <a:cubicBezTo>
                  <a:pt x="5400" y="9396"/>
                  <a:pt x="10800" y="10557"/>
                  <a:pt x="10800" y="11718"/>
                </a:cubicBezTo>
                <a:lnTo>
                  <a:pt x="10800" y="19278"/>
                </a:lnTo>
                <a:cubicBezTo>
                  <a:pt x="10800" y="204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2590920"/>
            <a:ext cx="685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4495680"/>
            <a:ext cx="99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236000" y="1125360"/>
            <a:ext cx="1008000" cy="1034640"/>
            <a:chOff x="7236000" y="1125360"/>
            <a:chExt cx="1008000" cy="1034640"/>
          </a:xfrm>
        </p:grpSpPr>
        <p:sp>
          <p:nvSpPr>
            <p:cNvPr id="169" name=""/>
            <p:cNvSpPr/>
            <p:nvPr/>
          </p:nvSpPr>
          <p:spPr>
            <a:xfrm>
              <a:off x="7236000" y="1125360"/>
              <a:ext cx="720720" cy="649440"/>
            </a:xfrm>
            <a:prstGeom prst="downArrowCallout">
              <a:avLst>
                <a:gd name="adj1" fmla="val 19073"/>
                <a:gd name="adj2" fmla="val 27744"/>
                <a:gd name="adj3" fmla="val 21028"/>
                <a:gd name="adj4" fmla="val 52569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36000" y="17002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快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594560" y="595440"/>
            <a:ext cx="1585800" cy="459720"/>
            <a:chOff x="7594560" y="595440"/>
            <a:chExt cx="1585800" cy="459720"/>
          </a:xfrm>
        </p:grpSpPr>
        <p:sp>
          <p:nvSpPr>
            <p:cNvPr id="172" name=""/>
            <p:cNvSpPr/>
            <p:nvPr/>
          </p:nvSpPr>
          <p:spPr>
            <a:xfrm>
              <a:off x="7594560" y="620640"/>
              <a:ext cx="720720" cy="432000"/>
            </a:xfrm>
            <a:prstGeom prst="rightArrowCallout">
              <a:avLst>
                <a:gd name="adj1" fmla="val 25002"/>
                <a:gd name="adj2" fmla="val 25000"/>
                <a:gd name="adj3" fmla="val 27806"/>
                <a:gd name="adj4" fmla="val 49898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44000" y="5954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7020000" y="-52560"/>
            <a:ext cx="934920" cy="1105200"/>
            <a:chOff x="7020000" y="-52560"/>
            <a:chExt cx="934920" cy="1105200"/>
          </a:xfrm>
        </p:grpSpPr>
        <p:sp>
          <p:nvSpPr>
            <p:cNvPr id="175" name=""/>
            <p:cNvSpPr/>
            <p:nvPr/>
          </p:nvSpPr>
          <p:spPr>
            <a:xfrm>
              <a:off x="7234200" y="333360"/>
              <a:ext cx="360360" cy="719280"/>
            </a:xfrm>
            <a:prstGeom prst="upArrowCallout">
              <a:avLst>
                <a:gd name="adj1" fmla="val 25002"/>
                <a:gd name="adj2" fmla="val 25000"/>
                <a:gd name="adj3" fmla="val 33267"/>
                <a:gd name="adj4" fmla="val 80154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20000" y="-5256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Arial"/>
                </a:rPr>
                <a:t>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075280" y="811080"/>
            <a:ext cx="1657440" cy="459720"/>
            <a:chOff x="5075280" y="811080"/>
            <a:chExt cx="1657440" cy="459720"/>
          </a:xfrm>
        </p:grpSpPr>
        <p:sp>
          <p:nvSpPr>
            <p:cNvPr id="178" name=""/>
            <p:cNvSpPr/>
            <p:nvPr/>
          </p:nvSpPr>
          <p:spPr>
            <a:xfrm>
              <a:off x="6084720" y="836640"/>
              <a:ext cx="648000" cy="431640"/>
            </a:xfrm>
            <a:prstGeom prst="leftArrowCallout">
              <a:avLst>
                <a:gd name="adj1" fmla="val 25002"/>
                <a:gd name="adj2" fmla="val 25000"/>
                <a:gd name="adj3" fmla="val 25021"/>
                <a:gd name="adj4" fmla="val 59015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75280" y="81108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5050"/>
                  </a:solidFill>
                  <a:latin typeface="Arial"/>
                </a:rPr>
                <a:t>加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971640" y="811080"/>
            <a:ext cx="1368360" cy="459720"/>
            <a:chOff x="971640" y="811080"/>
            <a:chExt cx="1368360" cy="459720"/>
          </a:xfrm>
        </p:grpSpPr>
        <p:sp>
          <p:nvSpPr>
            <p:cNvPr id="181" name=""/>
            <p:cNvSpPr/>
            <p:nvPr/>
          </p:nvSpPr>
          <p:spPr>
            <a:xfrm>
              <a:off x="1692360" y="836640"/>
              <a:ext cx="647640" cy="431640"/>
            </a:xfrm>
            <a:prstGeom prst="leftArrowCallout">
              <a:avLst>
                <a:gd name="adj1" fmla="val 25002"/>
                <a:gd name="adj2" fmla="val 25000"/>
                <a:gd name="adj3" fmla="val 25007"/>
                <a:gd name="adj4" fmla="val 59015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71640" y="81108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43280" y="1125360"/>
            <a:ext cx="1008000" cy="1034640"/>
            <a:chOff x="2843280" y="1125360"/>
            <a:chExt cx="1008000" cy="1034640"/>
          </a:xfrm>
        </p:grpSpPr>
        <p:sp>
          <p:nvSpPr>
            <p:cNvPr id="184" name=""/>
            <p:cNvSpPr/>
            <p:nvPr/>
          </p:nvSpPr>
          <p:spPr>
            <a:xfrm>
              <a:off x="2843280" y="1125360"/>
              <a:ext cx="720720" cy="649440"/>
            </a:xfrm>
            <a:prstGeom prst="downArrowCallout">
              <a:avLst>
                <a:gd name="adj1" fmla="val 19073"/>
                <a:gd name="adj2" fmla="val 27744"/>
                <a:gd name="adj3" fmla="val 21028"/>
                <a:gd name="adj4" fmla="val 52569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43280" y="17002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快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203640" y="595440"/>
            <a:ext cx="1584360" cy="459720"/>
            <a:chOff x="3203640" y="595440"/>
            <a:chExt cx="1584360" cy="459720"/>
          </a:xfrm>
        </p:grpSpPr>
        <p:sp>
          <p:nvSpPr>
            <p:cNvPr id="187" name=""/>
            <p:cNvSpPr/>
            <p:nvPr/>
          </p:nvSpPr>
          <p:spPr>
            <a:xfrm>
              <a:off x="3203640" y="620640"/>
              <a:ext cx="720720" cy="432000"/>
            </a:xfrm>
            <a:prstGeom prst="rightArrowCallout">
              <a:avLst>
                <a:gd name="adj1" fmla="val 25002"/>
                <a:gd name="adj2" fmla="val 25000"/>
                <a:gd name="adj3" fmla="val 27806"/>
                <a:gd name="adj4" fmla="val 49898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52720" y="59544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cc"/>
                  </a:solidFill>
                  <a:latin typeface="Arial"/>
                </a:rPr>
                <a:t>位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629080" y="-52560"/>
            <a:ext cx="934920" cy="1105200"/>
            <a:chOff x="2629080" y="-52560"/>
            <a:chExt cx="934920" cy="1105200"/>
          </a:xfrm>
        </p:grpSpPr>
        <p:sp>
          <p:nvSpPr>
            <p:cNvPr id="190" name=""/>
            <p:cNvSpPr/>
            <p:nvPr/>
          </p:nvSpPr>
          <p:spPr>
            <a:xfrm>
              <a:off x="2843280" y="333360"/>
              <a:ext cx="360360" cy="719280"/>
            </a:xfrm>
            <a:prstGeom prst="upArrowCallout">
              <a:avLst>
                <a:gd name="adj1" fmla="val 25002"/>
                <a:gd name="adj2" fmla="val 25000"/>
                <a:gd name="adj3" fmla="val 33267"/>
                <a:gd name="adj4" fmla="val 80154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29080" y="-5256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Arial"/>
                </a:rPr>
                <a:t>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356000" y="2781360"/>
            <a:ext cx="3024360" cy="504720"/>
          </a:xfrm>
          <a:prstGeom prst="rightArrowCallout">
            <a:avLst>
              <a:gd name="adj1" fmla="val 0"/>
              <a:gd name="adj2" fmla="val 25000"/>
              <a:gd name="adj3" fmla="val 36813"/>
              <a:gd name="adj4" fmla="val 2635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51640" y="2781360"/>
            <a:ext cx="1152720" cy="5032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60360" y="2781360"/>
            <a:ext cx="3024360" cy="504720"/>
          </a:xfrm>
          <a:prstGeom prst="rightArrowCallout">
            <a:avLst>
              <a:gd name="adj1" fmla="val 0"/>
              <a:gd name="adj2" fmla="val 25000"/>
              <a:gd name="adj3" fmla="val 36813"/>
              <a:gd name="adj4" fmla="val 2635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58920" y="3716280"/>
            <a:ext cx="7200720" cy="581400"/>
          </a:xfrm>
          <a:prstGeom prst="rect">
            <a:avLst/>
          </a:prstGeom>
          <a:noFill/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速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述物体运动的快慢，即物体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位置变化的快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908000" y="423720"/>
            <a:ext cx="1872000" cy="1539720"/>
            <a:chOff x="1908000" y="423720"/>
            <a:chExt cx="1872000" cy="1539720"/>
          </a:xfrm>
        </p:grpSpPr>
        <p:sp>
          <p:nvSpPr>
            <p:cNvPr id="198" name=""/>
            <p:cNvSpPr/>
            <p:nvPr/>
          </p:nvSpPr>
          <p:spPr>
            <a:xfrm>
              <a:off x="2771640" y="423720"/>
              <a:ext cx="10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Monotype Corsiva"/>
                </a:rPr>
                <a:t>△</a:t>
              </a:r>
              <a:r>
                <a:rPr b="1" lang="zh-CN" sz="24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zh-CN" sz="4000" spc="-1" strike="noStrike">
                  <a:solidFill>
                    <a:srgbClr val="cc00ff"/>
                  </a:solidFill>
                  <a:latin typeface="Monotype Corsiva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8000" y="711360"/>
              <a:ext cx="18720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6ff"/>
                  </a:solidFill>
                  <a:latin typeface="Monotype Corsiva"/>
                </a:rPr>
                <a:t>v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=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—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71640" y="927000"/>
              <a:ext cx="7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△ </a:t>
              </a:r>
              <a:r>
                <a:rPr b="1" lang="zh-CN" sz="4000" spc="-1" strike="noStrike">
                  <a:solidFill>
                    <a:srgbClr val="00cc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187280" y="2764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ahoma"/>
              </a:rPr>
              <a:t>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84720" y="2764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ahoma"/>
              </a:rPr>
              <a:t>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25401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ahoma"/>
              </a:rPr>
              <a:t>变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cc00"/>
                </a:solidFill>
                <a:latin typeface="Tahoma"/>
              </a:rPr>
              <a:t>快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2720" y="25401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ahoma"/>
              </a:rPr>
              <a:t>变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cc00"/>
                </a:solidFill>
                <a:latin typeface="Tahoma"/>
              </a:rPr>
              <a:t>快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80360" y="276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加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300720" y="423720"/>
            <a:ext cx="1871640" cy="1539720"/>
            <a:chOff x="6300720" y="423720"/>
            <a:chExt cx="1871640" cy="1539720"/>
          </a:xfrm>
        </p:grpSpPr>
        <p:sp>
          <p:nvSpPr>
            <p:cNvPr id="207" name=""/>
            <p:cNvSpPr/>
            <p:nvPr/>
          </p:nvSpPr>
          <p:spPr>
            <a:xfrm>
              <a:off x="7164000" y="42372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Monotype Corsiva"/>
                </a:rPr>
                <a:t>△</a:t>
              </a:r>
              <a:r>
                <a:rPr b="1" lang="zh-CN" sz="24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zh-CN" sz="4000" spc="-1" strike="noStrike">
                  <a:solidFill>
                    <a:srgbClr val="3366ff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0720" y="711360"/>
              <a:ext cx="18716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Monotype Corsiva"/>
                </a:rPr>
                <a:t>a</a:t>
              </a:r>
              <a:r>
                <a:rPr b="1" lang="en-US" sz="40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=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—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4000" y="92700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△ </a:t>
              </a:r>
              <a:r>
                <a:rPr b="1" lang="zh-CN" sz="4000" spc="-1" strike="noStrike">
                  <a:solidFill>
                    <a:srgbClr val="00cc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258920" y="4954680"/>
            <a:ext cx="7200720" cy="581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加速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述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速度变化的快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即速度的变化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38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385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2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385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8" dur="385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0" dur="38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2" dur="38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</cp:lastModifiedBy>
  <dcterms:modified xsi:type="dcterms:W3CDTF">2011-09-26T00:55:4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