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D8F7-736C-4E76-A3A3-89C75CBEF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3B7F-0C75-4AC8-B059-DF21B940B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2D70-5915-4C6E-A0B4-844E163C0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4497-4CBF-4453-AE21-E025E472F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63EE-85D0-4CF1-B647-20A5CF80F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7093-56B4-4024-A49E-358CC7EB5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A9EA-C71A-4923-BD1D-A20A15A33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886D-F427-4D80-B53E-B52D32F38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E625-DB67-40CA-905A-777AD8554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D32D-BC6B-493B-ACC8-F2893D62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1CD3-DB2E-4964-BC25-EC8BF054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C678-7B52-4351-970B-D5484BCD8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EF417-0D51-4DB4-8D01-118027AE8FC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11160" y="907920"/>
            <a:ext cx="5657760" cy="72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990720"/>
            <a:ext cx="5472000" cy="461880"/>
          </a:xfrm>
          <a:prstGeom prst="rect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673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</a:rPr>
              <a:t>第一章  运动的描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2852280"/>
            <a:ext cx="7345440" cy="647640"/>
          </a:xfrm>
          <a:prstGeom prst="rect">
            <a:avLst/>
          </a:prstGeom>
          <a:solidFill>
            <a:srgbClr val="ffffff">
              <a:alpha val="49000"/>
            </a:srgbClr>
          </a:solidFill>
          <a:ln w="9360">
            <a:solidFill>
              <a:srgbClr val="99ccff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汉仪中隶书简"/>
                <a:ea typeface="汉仪中隶书简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汉仪中隶书简"/>
                <a:ea typeface="汉仪中隶书简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速度变化快慢的描述——加速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79280" y="0"/>
            <a:ext cx="576360" cy="6858000"/>
          </a:xfrm>
          <a:prstGeom prst="rect">
            <a:avLst/>
          </a:prstGeom>
          <a:gradFill rotWithShape="0">
            <a:gsLst>
              <a:gs pos="0">
                <a:srgbClr val="043f70"/>
              </a:gs>
              <a:gs pos="100000">
                <a:srgbClr val="011d33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速度 、速度的变化 量 、加速度的区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5840" y="907920"/>
            <a:ext cx="7418520" cy="27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速度是运动状态量，对应某一时刻（或某一位置）的运动快慢和方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速度的变化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lang="zh-CN" sz="4000" spc="-1" strike="noStrike">
                <a:solidFill>
                  <a:srgbClr val="000000"/>
                </a:solidFill>
                <a:latin typeface="Monotype Corsiva"/>
              </a:rPr>
              <a:t>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4000" spc="-1" strike="noStrike">
                <a:solidFill>
                  <a:srgbClr val="000000"/>
                </a:solidFill>
                <a:latin typeface="Monotype Corsiva"/>
              </a:rPr>
              <a:t>v</a:t>
            </a:r>
            <a:r>
              <a:rPr b="1" lang="zh-CN" sz="4000" spc="-1" strike="noStrike" baseline="-25000">
                <a:solidFill>
                  <a:srgbClr val="000000"/>
                </a:solidFill>
                <a:latin typeface="Monotype Corsiva"/>
              </a:rPr>
              <a:t>t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4000" spc="-1" strike="noStrike">
                <a:solidFill>
                  <a:srgbClr val="000000"/>
                </a:solidFill>
                <a:latin typeface="Monotype Corsiva"/>
              </a:rPr>
              <a:t>v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Monotype Corsiva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运动过程量，对应某一段时间（或某一段位移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加速度是反应速度变化快慢的物理量，因此也称为“速度的变化率”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加速度与速度无直接关系，与速度的变化量也无直接关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201680" y="135000"/>
            <a:ext cx="7402680" cy="703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速度</a:t>
            </a:r>
            <a:r>
              <a:rPr b="1" lang="zh-CN" sz="4000" spc="-1" strike="noStrike">
                <a:solidFill>
                  <a:srgbClr val="000000"/>
                </a:solidFill>
                <a:latin typeface="Monotype Corsiva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速度的变化量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lang="zh-CN" sz="4000" spc="-1" strike="noStrike">
                <a:solidFill>
                  <a:srgbClr val="000000"/>
                </a:solidFill>
                <a:latin typeface="Monotype Corsiva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加速度</a:t>
            </a:r>
            <a:r>
              <a:rPr b="1" lang="zh-CN" sz="4000" spc="-1" strike="noStrike">
                <a:solidFill>
                  <a:srgbClr val="000000"/>
                </a:solidFill>
                <a:latin typeface="Monotype Corsiva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16000" y="5300640"/>
            <a:ext cx="76327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注意：加速度是与速度的变化率或速度变化的快慢有关系，是由速度变化量和所用时间共同决定的，并不是单纯地与速度大小或速度的变化量的大小有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5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6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7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79280" y="0"/>
            <a:ext cx="576360" cy="6858000"/>
          </a:xfrm>
          <a:prstGeom prst="rect">
            <a:avLst/>
          </a:prstGeom>
          <a:gradFill rotWithShape="0">
            <a:gsLst>
              <a:gs pos="0">
                <a:srgbClr val="043f70"/>
              </a:gs>
              <a:gs pos="100000">
                <a:srgbClr val="011d33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小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116000" y="620640"/>
            <a:ext cx="7416720" cy="54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加速度是描述物体速度变化快慢的物理量，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lang="zh-CN" sz="4000" spc="-1" strike="noStrike">
                <a:solidFill>
                  <a:srgbClr val="000000"/>
                </a:solidFill>
                <a:latin typeface="Monotype Corsiva"/>
              </a:rPr>
              <a:t>v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Monotype Corsiva"/>
              </a:rPr>
              <a:t>v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Monotype Corsiva"/>
              </a:rPr>
              <a:t>0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Monotype Corsiva"/>
              </a:rPr>
              <a:t>v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无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加速度是矢量，其方向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lang="zh-CN" sz="4000" spc="-1" strike="noStrike">
                <a:solidFill>
                  <a:srgbClr val="000000"/>
                </a:solidFill>
                <a:latin typeface="Monotype Corsiva"/>
              </a:rPr>
              <a:t>v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相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加速度不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为</a:t>
            </a: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匀变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运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若</a:t>
            </a:r>
            <a:r>
              <a:rPr b="1" lang="zh-CN" sz="4000" spc="-1" strike="noStrike">
                <a:solidFill>
                  <a:srgbClr val="ff3300"/>
                </a:solidFill>
                <a:latin typeface="Monotype Corsiva"/>
              </a:rPr>
              <a:t>a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ff3300"/>
                </a:solidFill>
                <a:latin typeface="Monotype Corsiva"/>
              </a:rPr>
              <a:t>v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同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则为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加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运动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若</a:t>
            </a:r>
            <a:r>
              <a:rPr b="1" lang="zh-CN" sz="4000" spc="-1" strike="noStrike">
                <a:solidFill>
                  <a:srgbClr val="3366ff"/>
                </a:solidFill>
                <a:latin typeface="Monotype Corsiva"/>
              </a:rPr>
              <a:t>a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3366ff"/>
                </a:solidFill>
                <a:latin typeface="Monotype Corsiva"/>
              </a:rPr>
              <a:t>v 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反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则为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减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运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利用</a:t>
            </a:r>
            <a:r>
              <a:rPr b="1" lang="zh-CN" sz="3200" spc="-1" strike="noStrike">
                <a:solidFill>
                  <a:srgbClr val="000000"/>
                </a:solidFill>
                <a:latin typeface="Monotype Corsiva"/>
              </a:rPr>
              <a:t>v – t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图象求加速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0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5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5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79280" y="0"/>
            <a:ext cx="576360" cy="6858000"/>
          </a:xfrm>
          <a:prstGeom prst="rect">
            <a:avLst/>
          </a:prstGeom>
          <a:gradFill rotWithShape="0">
            <a:gsLst>
              <a:gs pos="0">
                <a:srgbClr val="043f70"/>
              </a:gs>
              <a:gs pos="100000">
                <a:srgbClr val="011d33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练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00000" y="1197000"/>
            <a:ext cx="7777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下列说法正确的是                 （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物体速度改变量大，其加速度一定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物体有加速度时，速度就增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物体的加速度大，速度一定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物体速度的变化率大，加速度一定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661080" y="1143000"/>
            <a:ext cx="9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Monotype Corsiva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50920" y="260280"/>
            <a:ext cx="8208720" cy="30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汽车的加速度方向与速度方向一致，当加速度减小时，则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汽车的速度也减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汽车的速度仍在增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当加速度减小到零时，汽车静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加速度减小到零时，汽车的速度达到最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04920" y="3733920"/>
            <a:ext cx="8470800" cy="26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列所说的运动情况，可能的是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　    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A.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物体的加速度增大，其速度也增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B.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物体的加速度减小，其速度也减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C.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物体的加速度增大，但速度减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D.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物体的加速度减小，但速度增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054920" y="711360"/>
            <a:ext cx="830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B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236000" y="3573360"/>
            <a:ext cx="108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ABC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6019920" y="4495680"/>
            <a:ext cx="2666880" cy="1600200"/>
            <a:chOff x="6019920" y="4495680"/>
            <a:chExt cx="2666880" cy="1600200"/>
          </a:xfrm>
        </p:grpSpPr>
        <p:sp>
          <p:nvSpPr>
            <p:cNvPr id="225" name=""/>
            <p:cNvSpPr/>
            <p:nvPr/>
          </p:nvSpPr>
          <p:spPr>
            <a:xfrm>
              <a:off x="6400800" y="5105520"/>
              <a:ext cx="6858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6019920" y="5409720"/>
              <a:ext cx="10666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162920" y="525780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v</a:t>
              </a: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与</a:t>
              </a: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反向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6019920" y="4800600"/>
              <a:ext cx="106668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324480" y="4495680"/>
              <a:ext cx="83844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238880" y="464832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V</a:t>
              </a: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与</a:t>
              </a: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同向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l"/>
  </p:transition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79280" y="0"/>
            <a:ext cx="576360" cy="6858000"/>
          </a:xfrm>
          <a:prstGeom prst="rect">
            <a:avLst/>
          </a:prstGeom>
          <a:gradFill rotWithShape="0">
            <a:gsLst>
              <a:gs pos="0">
                <a:srgbClr val="043f70"/>
              </a:gs>
              <a:gs pos="100000">
                <a:srgbClr val="011d33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练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187280" y="981000"/>
            <a:ext cx="720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足球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8m/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速度飞来，运动员把它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2m/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速度反方向踢出，踢球时间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0.2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设球飞来的方向为正方向，则足球在这段时间内的加速度是多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79280" y="0"/>
            <a:ext cx="576360" cy="6858000"/>
          </a:xfrm>
          <a:prstGeom prst="rect">
            <a:avLst/>
          </a:prstGeom>
          <a:gradFill rotWithShape="0">
            <a:gsLst>
              <a:gs pos="0">
                <a:srgbClr val="043f70"/>
              </a:gs>
              <a:gs pos="100000">
                <a:srgbClr val="011d33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回顾位移图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2374920" y="3986280"/>
            <a:ext cx="3692160" cy="87120"/>
            <a:chOff x="2374920" y="3986280"/>
            <a:chExt cx="3692160" cy="87120"/>
          </a:xfrm>
        </p:grpSpPr>
        <p:sp>
          <p:nvSpPr>
            <p:cNvPr id="235" name=""/>
            <p:cNvSpPr/>
            <p:nvPr/>
          </p:nvSpPr>
          <p:spPr>
            <a:xfrm>
              <a:off x="2374920" y="3986280"/>
              <a:ext cx="0" cy="8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853080" y="3986280"/>
              <a:ext cx="0" cy="8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12200" y="3986280"/>
              <a:ext cx="0" cy="87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88200" y="3986280"/>
              <a:ext cx="0" cy="8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067080" y="3986280"/>
              <a:ext cx="0" cy="8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326200" y="3986280"/>
              <a:ext cx="0" cy="8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2309400" y="1911240"/>
            <a:ext cx="119160" cy="2684160"/>
            <a:chOff x="2309400" y="1911240"/>
            <a:chExt cx="119160" cy="2684160"/>
          </a:xfrm>
        </p:grpSpPr>
        <p:sp>
          <p:nvSpPr>
            <p:cNvPr id="242" name=""/>
            <p:cNvSpPr/>
            <p:nvPr/>
          </p:nvSpPr>
          <p:spPr>
            <a:xfrm flipH="1">
              <a:off x="2309400" y="1911240"/>
              <a:ext cx="11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2309400" y="2985840"/>
              <a:ext cx="11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2309400" y="2447280"/>
              <a:ext cx="119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2309400" y="3520440"/>
              <a:ext cx="11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2309400" y="4595400"/>
              <a:ext cx="11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2309400" y="4056840"/>
              <a:ext cx="11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"/>
          <p:cNvSpPr/>
          <p:nvPr/>
        </p:nvSpPr>
        <p:spPr>
          <a:xfrm flipV="1">
            <a:off x="2357280" y="2761920"/>
            <a:ext cx="3527640" cy="127620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307120" y="1928520"/>
            <a:ext cx="1440" cy="21445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2356920" y="1916280"/>
            <a:ext cx="2955960" cy="14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2325600" y="1004760"/>
            <a:ext cx="0" cy="3951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888920" y="386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446520" y="3848040"/>
            <a:ext cx="73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168520" y="4068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447800" y="4070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982600" y="4070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774600" y="4070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880600" y="40705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902960" y="3363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903680" y="2825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783440" y="2271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783440" y="16984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325600" y="4046400"/>
            <a:ext cx="4187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2361240" y="1502280"/>
            <a:ext cx="3533760" cy="25232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803960" y="434340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2356920" y="3009960"/>
            <a:ext cx="2955960" cy="14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357280" y="2435400"/>
            <a:ext cx="352764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357280" y="1932120"/>
            <a:ext cx="2951280" cy="208728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3868560" y="3011400"/>
            <a:ext cx="0" cy="1008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908000" y="836640"/>
            <a:ext cx="1824120" cy="703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x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959800" y="10526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959800" y="198900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310720" y="34480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0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77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5" dur="770" fill="hold"/>
                                        <p:tgtEl>
                                          <p:spTgt spid="2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7" dur="77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49" dur="77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77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4" dur="770" fill="hold"/>
                                        <p:tgtEl>
                                          <p:spTgt spid="2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6" dur="77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58" dur="77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77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3" dur="770" fill="hold"/>
                                        <p:tgtEl>
                                          <p:spTgt spid="2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5" dur="77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7" dur="77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77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2" dur="770" fill="hold"/>
                                        <p:tgtEl>
                                          <p:spTgt spid="2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4" dur="77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6" dur="77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77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1" dur="770" fill="hold"/>
                                        <p:tgtEl>
                                          <p:spTgt spid="2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3" dur="77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5" dur="77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77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0" dur="770" fill="hold"/>
                                        <p:tgtEl>
                                          <p:spTgt spid="2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2" dur="77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4" dur="77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77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9" dur="770" fill="hold"/>
                                        <p:tgtEl>
                                          <p:spTgt spid="2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01" dur="77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3" dur="77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77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8" dur="770" fill="hold"/>
                                        <p:tgtEl>
                                          <p:spTgt spid="2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0" dur="77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12" dur="77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6" dur="77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7" dur="770" fill="hold"/>
                                        <p:tgtEl>
                                          <p:spTgt spid="2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9" dur="77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21" dur="77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77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6" dur="770" fill="hold"/>
                                        <p:tgtEl>
                                          <p:spTgt spid="2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28" dur="77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0" dur="77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77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5" dur="770" fill="hold"/>
                                        <p:tgtEl>
                                          <p:spTgt spid="2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7" dur="77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9" dur="77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77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4" dur="770" fill="hold"/>
                                        <p:tgtEl>
                                          <p:spTgt spid="2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46" dur="77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48" dur="77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2" dur="77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3" dur="770" fill="hold"/>
                                        <p:tgtEl>
                                          <p:spTgt spid="2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55" dur="77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7" dur="77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1" dur="77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2" dur="770" fill="hold"/>
                                        <p:tgtEl>
                                          <p:spTgt spid="2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64" dur="77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6" dur="77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77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1" dur="770" fill="hold"/>
                                        <p:tgtEl>
                                          <p:spTgt spid="2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73" dur="77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75" dur="77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77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0" dur="770" fill="hold"/>
                                        <p:tgtEl>
                                          <p:spTgt spid="2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82" dur="77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84" dur="77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77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9" dur="770" fill="hold"/>
                                        <p:tgtEl>
                                          <p:spTgt spid="2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1" dur="77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93" dur="77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7" dur="77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8" dur="770" fill="hold"/>
                                        <p:tgtEl>
                                          <p:spTgt spid="2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00" dur="77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02" dur="77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6" dur="77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7" dur="770" fill="hold"/>
                                        <p:tgtEl>
                                          <p:spTgt spid="2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09" dur="77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1" dur="77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5" dur="77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6" dur="770" fill="hold"/>
                                        <p:tgtEl>
                                          <p:spTgt spid="2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18" dur="77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20" dur="77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4" dur="77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5" dur="770" fill="hold"/>
                                        <p:tgtEl>
                                          <p:spTgt spid="2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27" dur="77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29" dur="77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77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4" dur="770" fill="hold"/>
                                        <p:tgtEl>
                                          <p:spTgt spid="2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36" dur="77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38" dur="77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2" dur="77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3" dur="770" fill="hold"/>
                                        <p:tgtEl>
                                          <p:spTgt spid="2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45" dur="77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47" dur="77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1" dur="77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2" dur="770" fill="hold"/>
                                        <p:tgtEl>
                                          <p:spTgt spid="2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4" dur="77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56" dur="77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0" dur="77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1" dur="770" fill="hold"/>
                                        <p:tgtEl>
                                          <p:spTgt spid="2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63" dur="77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65" dur="77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77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0" dur="770" fill="hold"/>
                                        <p:tgtEl>
                                          <p:spTgt spid="2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2" dur="77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8" dur="77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9" dur="770" fill="hold"/>
                                        <p:tgtEl>
                                          <p:spTgt spid="2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1" dur="77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7" dur="77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8" dur="770" fill="hold"/>
                                        <p:tgtEl>
                                          <p:spTgt spid="2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0" dur="77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79280" y="0"/>
            <a:ext cx="576360" cy="6858000"/>
          </a:xfrm>
          <a:prstGeom prst="rect">
            <a:avLst/>
          </a:prstGeom>
          <a:gradFill rotWithShape="0">
            <a:gsLst>
              <a:gs pos="0">
                <a:srgbClr val="043f70"/>
              </a:gs>
              <a:gs pos="100000">
                <a:srgbClr val="011d33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从速度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时间图象求加速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2357280" y="2761920"/>
            <a:ext cx="3527640" cy="127620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07120" y="1928520"/>
            <a:ext cx="1440" cy="21445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2356920" y="1916280"/>
            <a:ext cx="2955960" cy="14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2361240" y="1502280"/>
            <a:ext cx="3533760" cy="25232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2356920" y="3009960"/>
            <a:ext cx="2955960" cy="14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57280" y="2435400"/>
            <a:ext cx="352764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357280" y="1932120"/>
            <a:ext cx="2951280" cy="208728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3868560" y="3011400"/>
            <a:ext cx="0" cy="1008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1782360" y="711360"/>
            <a:ext cx="5326920" cy="4244760"/>
            <a:chOff x="1782360" y="711360"/>
            <a:chExt cx="5326920" cy="4244760"/>
          </a:xfrm>
        </p:grpSpPr>
        <p:grpSp>
          <p:nvGrpSpPr>
            <p:cNvPr id="284" name=""/>
            <p:cNvGrpSpPr/>
            <p:nvPr/>
          </p:nvGrpSpPr>
          <p:grpSpPr>
            <a:xfrm>
              <a:off x="2374920" y="3986280"/>
              <a:ext cx="3692160" cy="87120"/>
              <a:chOff x="2374920" y="3986280"/>
              <a:chExt cx="3692160" cy="87120"/>
            </a:xfrm>
          </p:grpSpPr>
          <p:sp>
            <p:nvSpPr>
              <p:cNvPr id="285" name=""/>
              <p:cNvSpPr/>
              <p:nvPr/>
            </p:nvSpPr>
            <p:spPr>
              <a:xfrm>
                <a:off x="2374920" y="398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853080" y="398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112200" y="3986280"/>
                <a:ext cx="0" cy="87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588200" y="398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067080" y="398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326200" y="398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2309400" y="1911240"/>
              <a:ext cx="119160" cy="2684160"/>
              <a:chOff x="2309400" y="1911240"/>
              <a:chExt cx="119160" cy="2684160"/>
            </a:xfrm>
          </p:grpSpPr>
          <p:sp>
            <p:nvSpPr>
              <p:cNvPr id="292" name=""/>
              <p:cNvSpPr/>
              <p:nvPr/>
            </p:nvSpPr>
            <p:spPr>
              <a:xfrm flipH="1">
                <a:off x="2309400" y="1911240"/>
                <a:ext cx="11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H="1">
                <a:off x="2309400" y="2985840"/>
                <a:ext cx="11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>
                <a:off x="2309400" y="2447280"/>
                <a:ext cx="119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>
                <a:off x="2309400" y="3520440"/>
                <a:ext cx="11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2309400" y="4595400"/>
                <a:ext cx="11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2309400" y="4056840"/>
                <a:ext cx="11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 flipV="1">
              <a:off x="2325600" y="1004760"/>
              <a:ext cx="0" cy="3951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53000" y="3848040"/>
              <a:ext cx="656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/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0" name=""/>
            <p:cNvGrpSpPr/>
            <p:nvPr/>
          </p:nvGrpSpPr>
          <p:grpSpPr>
            <a:xfrm>
              <a:off x="2917800" y="4043520"/>
              <a:ext cx="3426120" cy="400320"/>
              <a:chOff x="2917800" y="4043520"/>
              <a:chExt cx="3426120" cy="400320"/>
            </a:xfrm>
          </p:grpSpPr>
          <p:sp>
            <p:nvSpPr>
              <p:cNvPr id="301" name=""/>
              <p:cNvSpPr/>
              <p:nvPr/>
            </p:nvSpPr>
            <p:spPr>
              <a:xfrm>
                <a:off x="5167080" y="404352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446360" y="404496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917800" y="404496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709800" y="404496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879880" y="4044960"/>
                <a:ext cx="46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"/>
            <p:cNvSpPr/>
            <p:nvPr/>
          </p:nvSpPr>
          <p:spPr>
            <a:xfrm>
              <a:off x="2325600" y="4046400"/>
              <a:ext cx="4187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7" name=""/>
            <p:cNvGrpSpPr/>
            <p:nvPr/>
          </p:nvGrpSpPr>
          <p:grpSpPr>
            <a:xfrm>
              <a:off x="1782360" y="1673280"/>
              <a:ext cx="464040" cy="3069000"/>
              <a:chOff x="1782360" y="1673280"/>
              <a:chExt cx="464040" cy="3069000"/>
            </a:xfrm>
          </p:grpSpPr>
          <p:sp>
            <p:nvSpPr>
              <p:cNvPr id="308" name=""/>
              <p:cNvSpPr/>
              <p:nvPr/>
            </p:nvSpPr>
            <p:spPr>
              <a:xfrm>
                <a:off x="1888920" y="386064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901520" y="333864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903320" y="280044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782360" y="2246400"/>
                <a:ext cx="46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782360" y="1673280"/>
                <a:ext cx="46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803960" y="4343400"/>
                <a:ext cx="407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-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4" name=""/>
            <p:cNvSpPr/>
            <p:nvPr/>
          </p:nvSpPr>
          <p:spPr>
            <a:xfrm>
              <a:off x="1979640" y="711360"/>
              <a:ext cx="182412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875b0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Monotype Corsiva"/>
                </a:rPr>
                <a:t>v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m/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5959800" y="10526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959800" y="198900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310720" y="34480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692360" y="5084640"/>
            <a:ext cx="633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结论：图线的斜率表示加速度，图线的倾斜程度反映加速度的大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715000" y="274320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4" dur="indefinite" restart="never" nodeType="tmRoot">
          <p:childTnLst>
            <p:seq>
              <p:cTn id="995" dur="indefinite" nodeType="mainSeq">
                <p:childTnLst>
                  <p:par>
                    <p:cTn id="996" fill="hold">
                      <p:stCondLst>
                        <p:cond delay="0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2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0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3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6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9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4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"/>
          <p:cNvGrpSpPr/>
          <p:nvPr/>
        </p:nvGrpSpPr>
        <p:grpSpPr>
          <a:xfrm>
            <a:off x="4788000" y="1052640"/>
            <a:ext cx="3975120" cy="3239640"/>
            <a:chOff x="4788000" y="1052640"/>
            <a:chExt cx="3975120" cy="3239640"/>
          </a:xfrm>
        </p:grpSpPr>
        <p:sp>
          <p:nvSpPr>
            <p:cNvPr id="321" name=""/>
            <p:cNvSpPr/>
            <p:nvPr/>
          </p:nvSpPr>
          <p:spPr>
            <a:xfrm flipV="1">
              <a:off x="6883560" y="2087640"/>
              <a:ext cx="0" cy="15336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5348520" y="2087640"/>
              <a:ext cx="1481040" cy="1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5337360" y="1283760"/>
              <a:ext cx="0" cy="3008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830840" y="33116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Monotype Corsiva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361360" y="3448080"/>
              <a:ext cx="40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337360" y="3622680"/>
              <a:ext cx="3189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639480" y="3522600"/>
              <a:ext cx="500760" cy="71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5319720" y="2087640"/>
              <a:ext cx="1563840" cy="89064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883560" y="2087640"/>
              <a:ext cx="822240" cy="0"/>
            </a:xfrm>
            <a:prstGeom prst="line">
              <a:avLst/>
            </a:prstGeom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705800" y="2087640"/>
              <a:ext cx="603360" cy="1535040"/>
            </a:xfrm>
            <a:prstGeom prst="line">
              <a:avLst/>
            </a:prstGeom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7704360" y="2087640"/>
              <a:ext cx="1440" cy="15336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476120" y="3522600"/>
              <a:ext cx="500760" cy="71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435640" y="1052640"/>
              <a:ext cx="43200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875b0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v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788000" y="1716120"/>
              <a:ext cx="647640" cy="71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v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179280" y="0"/>
            <a:ext cx="576360" cy="6858000"/>
          </a:xfrm>
          <a:prstGeom prst="rect">
            <a:avLst/>
          </a:prstGeom>
          <a:gradFill rotWithShape="0">
            <a:gsLst>
              <a:gs pos="0">
                <a:srgbClr val="043f70"/>
              </a:gs>
              <a:gs pos="100000">
                <a:srgbClr val="011d33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区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755640" y="1052640"/>
            <a:ext cx="3988080" cy="3239640"/>
            <a:chOff x="755640" y="1052640"/>
            <a:chExt cx="3988080" cy="3239640"/>
          </a:xfrm>
        </p:grpSpPr>
        <p:sp>
          <p:nvSpPr>
            <p:cNvPr id="337" name=""/>
            <p:cNvSpPr/>
            <p:nvPr/>
          </p:nvSpPr>
          <p:spPr>
            <a:xfrm>
              <a:off x="1403280" y="1052640"/>
              <a:ext cx="50796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875b0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x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55640" y="1717560"/>
              <a:ext cx="647640" cy="71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x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2849400" y="2087640"/>
              <a:ext cx="0" cy="15336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1314000" y="2087640"/>
              <a:ext cx="1481400" cy="1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1303200" y="1283760"/>
              <a:ext cx="0" cy="3008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01720" y="33004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Monotype Corsiva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341960" y="3429000"/>
              <a:ext cx="40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303200" y="3622680"/>
              <a:ext cx="3189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607120" y="3522600"/>
              <a:ext cx="500760" cy="71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1330200" y="2087640"/>
              <a:ext cx="1519200" cy="85392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849400" y="2087640"/>
              <a:ext cx="822600" cy="0"/>
            </a:xfrm>
            <a:prstGeom prst="line">
              <a:avLst/>
            </a:prstGeom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672000" y="2087640"/>
              <a:ext cx="603000" cy="1535040"/>
            </a:xfrm>
            <a:prstGeom prst="line">
              <a:avLst/>
            </a:prstGeom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3670200" y="2087640"/>
              <a:ext cx="1800" cy="15336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443760" y="3522600"/>
              <a:ext cx="500760" cy="71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410080" y="4648320"/>
            <a:ext cx="335304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Arial"/>
              </a:rPr>
              <a:t>v1=10m/s,t1=4s,t2=6s,t3=8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baseline="-25000">
                <a:solidFill>
                  <a:srgbClr val="000000"/>
                </a:solidFill>
                <a:latin typeface="Arial"/>
              </a:rPr>
              <a:t>求加速度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Arial"/>
              </a:rPr>
              <a:t>a1,a2,a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27432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077320" y="3595680"/>
            <a:ext cx="685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15000" y="22096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086600" y="167652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8077320" y="251460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1" dur="indefinite" restart="never" nodeType="tmRoot">
          <p:childTnLst>
            <p:seq>
              <p:cTn id="1102" dur="indefinite" nodeType="mainSeq">
                <p:childTnLst>
                  <p:par>
                    <p:cTn id="1103" fill="hold">
                      <p:stCondLst>
                        <p:cond delay="0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6" dur="77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7" dur="770" fill="hold"/>
                                        <p:tgtEl>
                                          <p:spTgt spid="3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1" dur="77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5" dur="77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6" dur="770" fill="hold"/>
                                        <p:tgtEl>
                                          <p:spTgt spid="3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0" dur="77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-324000" y="1125360"/>
            <a:ext cx="9144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个物体的加速度为零，则该物体一定是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 </a:t>
            </a:r>
            <a:r>
              <a:rPr b="0" lang="zh-CN" sz="2800" spc="-1" strike="noStrike">
                <a:solidFill>
                  <a:srgbClr val="333399"/>
                </a:solidFill>
                <a:latin typeface="宋体"/>
                <a:ea typeface="Times New Roman"/>
              </a:rPr>
              <a:t>(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、静止不动            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、匀速直线运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、静止或匀速直线运动  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D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、做速度大小不变的运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3200400"/>
            <a:ext cx="9144000" cy="32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列关于速度和加速度的叙述中，结论正确的是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333399"/>
                </a:solidFill>
                <a:latin typeface="宋体"/>
              </a:rPr>
              <a:t>(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、物体的速度越大，它的加速度也一定越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、物体运动的加速度为零，它的速度也为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、物体运动的速度改变越大，它的加速度也一定越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D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、加速度的大小就是速度对时间的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变化率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的大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286000" y="115920"/>
            <a:ext cx="3222720" cy="838080"/>
          </a:xfrm>
          <a:custGeom>
            <a:avLst/>
            <a:gdLst>
              <a:gd name="textAreaLeft" fmla="*/ 98640 w 3222720"/>
              <a:gd name="textAreaRight" fmla="*/ 3124080 w 3222720"/>
              <a:gd name="textAreaTop" fmla="*/ 98640 h 838080"/>
              <a:gd name="textAreaBottom" fmla="*/ 739440 h 838080"/>
            </a:gdLst>
            <a:ahLst/>
            <a:rect l="textAreaLeft" t="textAreaTop" r="textAreaRight" b="textAreaBottom"/>
            <a:pathLst>
              <a:path w="8303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79433" y="21600"/>
                </a:lnTo>
                <a:arcTo wR="3600" hR="3600" stAng="10800000" swAng="5400000"/>
                <a:lnTo>
                  <a:pt x="83033" y="3600"/>
                </a:lnTo>
                <a:arcTo wR="3600" hR="3600" stAng="5400000" swAng="5400000"/>
                <a:close/>
              </a:path>
            </a:pathLst>
          </a:custGeom>
          <a:solidFill>
            <a:srgbClr val="f81f08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c00"/>
                </a:solidFill>
                <a:latin typeface="Times New Roman"/>
              </a:rPr>
              <a:t>扩展练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494480" y="101124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  <a:ea typeface="Times New Roman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8244000" y="302724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8" dur="indefinite" restart="never" nodeType="tmRoot">
          <p:childTnLst>
            <p:seq>
              <p:cTn id="1159" dur="indefinite" nodeType="mainSeq">
                <p:childTnLst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4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1371600" y="638316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甲                                              乙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12016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甲图中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OA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AB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BC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段表示质点在作什么运动？试求各段时间内质点的加速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152280" y="3030480"/>
            <a:ext cx="4434120" cy="3504960"/>
            <a:chOff x="152280" y="3030480"/>
            <a:chExt cx="4434120" cy="3504960"/>
          </a:xfrm>
        </p:grpSpPr>
        <p:sp>
          <p:nvSpPr>
            <p:cNvPr id="365" name=""/>
            <p:cNvSpPr/>
            <p:nvPr/>
          </p:nvSpPr>
          <p:spPr>
            <a:xfrm>
              <a:off x="3429000" y="5697360"/>
              <a:ext cx="1157400" cy="8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t/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6" name=""/>
            <p:cNvGrpSpPr/>
            <p:nvPr/>
          </p:nvGrpSpPr>
          <p:grpSpPr>
            <a:xfrm>
              <a:off x="152280" y="3030480"/>
              <a:ext cx="3272040" cy="3504960"/>
              <a:chOff x="152280" y="3030480"/>
              <a:chExt cx="3272040" cy="3504960"/>
            </a:xfrm>
          </p:grpSpPr>
          <p:sp>
            <p:nvSpPr>
              <p:cNvPr id="367" name=""/>
              <p:cNvSpPr/>
              <p:nvPr/>
            </p:nvSpPr>
            <p:spPr>
              <a:xfrm>
                <a:off x="250920" y="5717880"/>
                <a:ext cx="682560" cy="81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8" name=""/>
              <p:cNvGrpSpPr/>
              <p:nvPr/>
            </p:nvGrpSpPr>
            <p:grpSpPr>
              <a:xfrm>
                <a:off x="660240" y="5873400"/>
                <a:ext cx="2764080" cy="133560"/>
                <a:chOff x="660240" y="5873400"/>
                <a:chExt cx="2764080" cy="13356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660240" y="5928840"/>
                  <a:ext cx="2764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2787120" y="5873400"/>
                  <a:ext cx="0" cy="133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2433960" y="5873400"/>
                  <a:ext cx="0" cy="133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2080800" y="5873400"/>
                  <a:ext cx="0" cy="133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1727640" y="5873400"/>
                  <a:ext cx="0" cy="133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1374120" y="5873400"/>
                  <a:ext cx="0" cy="133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1020960" y="5873400"/>
                  <a:ext cx="0" cy="133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6" name=""/>
              <p:cNvSpPr/>
              <p:nvPr/>
            </p:nvSpPr>
            <p:spPr>
              <a:xfrm flipV="1">
                <a:off x="638280" y="3477960"/>
                <a:ext cx="0" cy="2454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82480" y="3806640"/>
                <a:ext cx="13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82480" y="4160520"/>
                <a:ext cx="13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82480" y="4516200"/>
                <a:ext cx="13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82480" y="4870440"/>
                <a:ext cx="13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82480" y="5224320"/>
                <a:ext cx="13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82480" y="5578200"/>
                <a:ext cx="13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19280" y="3030480"/>
                <a:ext cx="1490400" cy="81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v/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m·s</a:t>
                </a:r>
                <a:r>
                  <a:rPr b="0" lang="en-US" sz="3200" spc="-1" strike="noStrike" baseline="30000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832040" y="5891040"/>
                <a:ext cx="834840" cy="57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536920" y="5891040"/>
                <a:ext cx="815760" cy="57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15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109520" y="5891040"/>
                <a:ext cx="547920" cy="57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71360" y="4257360"/>
                <a:ext cx="547920" cy="57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52280" y="3514680"/>
                <a:ext cx="547920" cy="57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919400"/>
                <a:ext cx="547920" cy="57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V="1">
                <a:off x="628560" y="4859280"/>
                <a:ext cx="362160" cy="10620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986040" y="4864680"/>
                <a:ext cx="747720" cy="122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85800" y="4402080"/>
                <a:ext cx="60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295280" y="4402080"/>
                <a:ext cx="685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28560" y="4859280"/>
                <a:ext cx="362160" cy="105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35040" y="4859280"/>
                <a:ext cx="1066680" cy="1066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V="1">
                <a:off x="1676520" y="3792240"/>
                <a:ext cx="1066680" cy="10670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35040" y="3792240"/>
                <a:ext cx="2133720" cy="2133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666880" y="3487680"/>
                <a:ext cx="685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9" name=""/>
          <p:cNvSpPr/>
          <p:nvPr/>
        </p:nvSpPr>
        <p:spPr>
          <a:xfrm>
            <a:off x="4343400" y="112536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乙图中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OA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AB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BC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段表示质点在作什么运动？试求各段时间内质点的速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4572000" y="2954160"/>
            <a:ext cx="4205160" cy="3504960"/>
            <a:chOff x="4572000" y="2954160"/>
            <a:chExt cx="4205160" cy="3504960"/>
          </a:xfrm>
        </p:grpSpPr>
        <p:grpSp>
          <p:nvGrpSpPr>
            <p:cNvPr id="401" name=""/>
            <p:cNvGrpSpPr/>
            <p:nvPr/>
          </p:nvGrpSpPr>
          <p:grpSpPr>
            <a:xfrm>
              <a:off x="4572000" y="2954160"/>
              <a:ext cx="3271320" cy="3504960"/>
              <a:chOff x="4572000" y="2954160"/>
              <a:chExt cx="3271320" cy="3504960"/>
            </a:xfrm>
          </p:grpSpPr>
          <p:sp>
            <p:nvSpPr>
              <p:cNvPr id="402" name=""/>
              <p:cNvSpPr/>
              <p:nvPr/>
            </p:nvSpPr>
            <p:spPr>
              <a:xfrm>
                <a:off x="4670280" y="5641560"/>
                <a:ext cx="682200" cy="81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3" name=""/>
              <p:cNvGrpSpPr/>
              <p:nvPr/>
            </p:nvGrpSpPr>
            <p:grpSpPr>
              <a:xfrm>
                <a:off x="5079600" y="5797080"/>
                <a:ext cx="2763720" cy="133560"/>
                <a:chOff x="5079600" y="5797080"/>
                <a:chExt cx="2763720" cy="13356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5079600" y="5852520"/>
                  <a:ext cx="2763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7206120" y="5797080"/>
                  <a:ext cx="0" cy="133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6852600" y="5797080"/>
                  <a:ext cx="0" cy="133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6499440" y="5797080"/>
                  <a:ext cx="0" cy="133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6146280" y="5797080"/>
                  <a:ext cx="0" cy="133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5793120" y="5797080"/>
                  <a:ext cx="0" cy="133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5439960" y="5797080"/>
                  <a:ext cx="0" cy="133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1" name=""/>
              <p:cNvSpPr/>
              <p:nvPr/>
            </p:nvSpPr>
            <p:spPr>
              <a:xfrm flipV="1">
                <a:off x="5057640" y="3401640"/>
                <a:ext cx="0" cy="2454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001840" y="3730320"/>
                <a:ext cx="131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001840" y="4084200"/>
                <a:ext cx="131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001840" y="4439880"/>
                <a:ext cx="131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001840" y="4794120"/>
                <a:ext cx="131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001840" y="5148000"/>
                <a:ext cx="131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001840" y="5501880"/>
                <a:ext cx="131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138640" y="2954160"/>
                <a:ext cx="1490040" cy="81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s/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251400" y="5814720"/>
                <a:ext cx="834480" cy="57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956280" y="5814720"/>
                <a:ext cx="815400" cy="57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15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5528880" y="5814720"/>
                <a:ext cx="547560" cy="57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590720" y="4181040"/>
                <a:ext cx="547560" cy="57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572000" y="3438360"/>
                <a:ext cx="547560" cy="57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572000" y="4843080"/>
                <a:ext cx="547560" cy="57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V="1">
                <a:off x="5047920" y="4782960"/>
                <a:ext cx="361800" cy="10620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5405400" y="4788360"/>
                <a:ext cx="747360" cy="122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105160" y="4325760"/>
                <a:ext cx="609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5714640" y="4325760"/>
                <a:ext cx="685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5047920" y="4782960"/>
                <a:ext cx="361800" cy="105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5054400" y="4782960"/>
                <a:ext cx="1066320" cy="1066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V="1">
                <a:off x="6095880" y="3715920"/>
                <a:ext cx="1066320" cy="10670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054400" y="3715920"/>
                <a:ext cx="2133360" cy="2133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086240" y="3411360"/>
                <a:ext cx="685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"/>
            <p:cNvSpPr/>
            <p:nvPr/>
          </p:nvSpPr>
          <p:spPr>
            <a:xfrm>
              <a:off x="7620120" y="5316480"/>
              <a:ext cx="1157040" cy="8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t/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"/>
          <p:cNvSpPr/>
          <p:nvPr/>
        </p:nvSpPr>
        <p:spPr>
          <a:xfrm>
            <a:off x="971640" y="260280"/>
            <a:ext cx="756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隶书"/>
              </a:rPr>
              <a:t>思考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物体的位移多大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如何求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8" dur="indefinite" restart="never" nodeType="tmRoot">
          <p:childTnLst>
            <p:seq>
              <p:cTn id="1189" dur="indefinite" nodeType="mainSeq">
                <p:childTnLst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4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0"/>
            <a:ext cx="576360" cy="6858000"/>
          </a:xfrm>
          <a:prstGeom prst="rect">
            <a:avLst/>
          </a:prstGeom>
          <a:gradFill rotWithShape="0">
            <a:gsLst>
              <a:gs pos="0">
                <a:srgbClr val="043f70"/>
              </a:gs>
              <a:gs pos="100000">
                <a:srgbClr val="011d33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观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55640" y="18900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跑车加速性能的比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71640" y="765000"/>
            <a:ext cx="7848360" cy="582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71640" y="463680"/>
            <a:ext cx="3313080" cy="2460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79280" y="0"/>
            <a:ext cx="576360" cy="68580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f2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比较速度变化快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00000" y="260280"/>
            <a:ext cx="8244000" cy="2808360"/>
          </a:xfrm>
          <a:prstGeom prst="rect">
            <a:avLst/>
          </a:prstGeom>
          <a:noFill/>
          <a:ln w="57240">
            <a:solidFill>
              <a:srgbClr val="ff660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848720" y="333360"/>
            <a:ext cx="1403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相同的时间内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速度变化大的速度变化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8720" y="5516640"/>
            <a:ext cx="374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相同的速度变化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用时越少速度变化越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076720" y="4076640"/>
            <a:ext cx="3889440" cy="2087640"/>
          </a:xfrm>
          <a:prstGeom prst="cloudCallout">
            <a:avLst>
              <a:gd name="adj1" fmla="val -49592"/>
              <a:gd name="adj2" fmla="val -594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新宋体"/>
              </a:rPr>
              <a:t>如何比较１和３谁的速度变化快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427640" y="480960"/>
            <a:ext cx="3529080" cy="24433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826920" y="357120"/>
            <a:ext cx="3529080" cy="6120000"/>
          </a:xfrm>
          <a:prstGeom prst="rect">
            <a:avLst/>
          </a:prstGeom>
          <a:noFill/>
          <a:ln w="57240">
            <a:solidFill>
              <a:srgbClr val="ff000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971640" y="3213000"/>
            <a:ext cx="3313080" cy="23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385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385" fill="hold"/>
                                        <p:tgtEl>
                                          <p:spTgt spid="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" dur="385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" dur="385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385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385" fill="hold"/>
                                        <p:tgtEl>
                                          <p:spTgt spid="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" dur="385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" dur="385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385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" dur="385" fill="hold"/>
                                        <p:tgtEl>
                                          <p:spTgt spid="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4" dur="385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6" dur="385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095880" y="2819520"/>
            <a:ext cx="76320" cy="1522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</a:rPr>
              <a:t>第一章  运动的描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可以求出单位时间内速度的变化量来比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单位时间内速度的变化量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=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=100/4.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=25(km/s</a:t>
            </a:r>
            <a:r>
              <a:rPr b="0" lang="zh-CN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单位时间内速度的变化量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=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=60-0/3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=16.67(km/s</a:t>
            </a:r>
            <a:r>
              <a:rPr b="0" lang="zh-CN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334120" y="3809880"/>
            <a:ext cx="1584360" cy="1204920"/>
            <a:chOff x="5334120" y="3809880"/>
            <a:chExt cx="1584360" cy="1204920"/>
          </a:xfrm>
        </p:grpSpPr>
        <p:sp>
          <p:nvSpPr>
            <p:cNvPr id="60" name=""/>
            <p:cNvSpPr/>
            <p:nvPr/>
          </p:nvSpPr>
          <p:spPr>
            <a:xfrm>
              <a:off x="5910480" y="3809880"/>
              <a:ext cx="1008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Monotype Corsiva"/>
                </a:rPr>
                <a:t>△</a:t>
              </a:r>
              <a:r>
                <a:rPr b="1" lang="zh-CN" sz="4000" spc="-1" strike="noStrike">
                  <a:solidFill>
                    <a:srgbClr val="000000"/>
                  </a:solidFill>
                  <a:latin typeface="Monotype Corsiva"/>
                </a:rPr>
                <a:t>v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34120" y="4025880"/>
              <a:ext cx="158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Monotype Corsiva"/>
                </a:rPr>
                <a:t>     ——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982120" y="4311360"/>
              <a:ext cx="792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onotype Corsiva"/>
                </a:rPr>
                <a:t>△</a:t>
              </a: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5486400" y="2133720"/>
            <a:ext cx="1584360" cy="1204560"/>
            <a:chOff x="5486400" y="2133720"/>
            <a:chExt cx="1584360" cy="1204560"/>
          </a:xfrm>
        </p:grpSpPr>
        <p:sp>
          <p:nvSpPr>
            <p:cNvPr id="64" name=""/>
            <p:cNvSpPr/>
            <p:nvPr/>
          </p:nvSpPr>
          <p:spPr>
            <a:xfrm>
              <a:off x="6062760" y="2133720"/>
              <a:ext cx="1008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Monotype Corsiva"/>
                </a:rPr>
                <a:t>△</a:t>
              </a:r>
              <a:r>
                <a:rPr b="1" lang="zh-CN" sz="4000" spc="-1" strike="noStrike">
                  <a:solidFill>
                    <a:srgbClr val="000000"/>
                  </a:solidFill>
                  <a:latin typeface="Monotype Corsiva"/>
                </a:rPr>
                <a:t>v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486400" y="2349360"/>
              <a:ext cx="158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Monotype Corsiva"/>
                </a:rPr>
                <a:t>     ——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134400" y="2634840"/>
              <a:ext cx="792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onotype Corsiva"/>
                </a:rPr>
                <a:t>△</a:t>
              </a: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79280" y="0"/>
            <a:ext cx="576360" cy="6858000"/>
          </a:xfrm>
          <a:prstGeom prst="rect">
            <a:avLst/>
          </a:prstGeom>
          <a:gradFill rotWithShape="0">
            <a:gsLst>
              <a:gs pos="0">
                <a:srgbClr val="043f70"/>
              </a:gs>
              <a:gs pos="100000">
                <a:srgbClr val="011d33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加速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484360" y="547560"/>
            <a:ext cx="6046920" cy="10810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加速度是速度的变化量与发生这一变化所用时间的比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00000" y="54936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定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71640" y="299232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定义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132000" y="2779560"/>
            <a:ext cx="1584360" cy="1406880"/>
            <a:chOff x="3132000" y="2779560"/>
            <a:chExt cx="1584360" cy="1406880"/>
          </a:xfrm>
        </p:grpSpPr>
        <p:sp>
          <p:nvSpPr>
            <p:cNvPr id="72" name=""/>
            <p:cNvSpPr/>
            <p:nvPr/>
          </p:nvSpPr>
          <p:spPr>
            <a:xfrm>
              <a:off x="3708360" y="2779560"/>
              <a:ext cx="1008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Monotype Corsiva"/>
                </a:rPr>
                <a:t>△</a:t>
              </a:r>
              <a:r>
                <a:rPr b="1" lang="zh-CN" sz="4000" spc="-1" strike="noStrike">
                  <a:solidFill>
                    <a:srgbClr val="000000"/>
                  </a:solidFill>
                  <a:latin typeface="Monotype Corsiva"/>
                </a:rPr>
                <a:t>v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132000" y="2995560"/>
              <a:ext cx="1584360" cy="11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a</a:t>
              </a:r>
              <a:r>
                <a:rPr b="1" lang="en-US" sz="3200" spc="-1" strike="noStrike">
                  <a:solidFill>
                    <a:srgbClr val="000000"/>
                  </a:solidFill>
                  <a:latin typeface="Monotype Corsiva"/>
                </a:rPr>
                <a:t>= ——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780000" y="3281040"/>
              <a:ext cx="792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onotype Corsiva"/>
                </a:rPr>
                <a:t>△</a:t>
              </a: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4643280" y="2633760"/>
            <a:ext cx="2736720" cy="1013040"/>
            <a:chOff x="4643280" y="2633760"/>
            <a:chExt cx="2736720" cy="1013040"/>
          </a:xfrm>
        </p:grpSpPr>
        <p:sp>
          <p:nvSpPr>
            <p:cNvPr id="76" name=""/>
            <p:cNvSpPr/>
            <p:nvPr/>
          </p:nvSpPr>
          <p:spPr>
            <a:xfrm>
              <a:off x="5003640" y="2633760"/>
              <a:ext cx="2233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v</a:t>
              </a:r>
              <a:r>
                <a:rPr b="1" lang="en-US" sz="2000" spc="-1" strike="noStrike">
                  <a:solidFill>
                    <a:srgbClr val="000000"/>
                  </a:solidFill>
                  <a:latin typeface="Monotype Corsiva"/>
                </a:rPr>
                <a:t> </a:t>
              </a:r>
              <a:r>
                <a:rPr b="1" lang="en-US" sz="4800" spc="-1" strike="noStrike">
                  <a:solidFill>
                    <a:srgbClr val="000000"/>
                  </a:solidFill>
                  <a:latin typeface="Monotype Corsiva"/>
                </a:rPr>
                <a:t> </a:t>
              </a:r>
              <a:r>
                <a:rPr b="1" lang="en-US" sz="5400" spc="-1" strike="noStrike">
                  <a:solidFill>
                    <a:srgbClr val="000000"/>
                  </a:solidFill>
                  <a:latin typeface="Monotype Corsiva"/>
                </a:rPr>
                <a:t>-</a:t>
              </a:r>
              <a:r>
                <a:rPr b="1" lang="en-US" sz="4800" spc="-1" strike="noStrike">
                  <a:solidFill>
                    <a:srgbClr val="000000"/>
                  </a:solidFill>
                  <a:latin typeface="Monotype Corsiva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v</a:t>
              </a:r>
              <a:r>
                <a:rPr b="1" lang="en-US" sz="2000" spc="-1" strike="noStrike">
                  <a:solidFill>
                    <a:srgbClr val="000000"/>
                  </a:solidFill>
                  <a:latin typeface="Monotype Corsiv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43280" y="3065400"/>
              <a:ext cx="273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Monotype Corsiva"/>
                </a:rPr>
                <a:t>= ———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5219640" y="328464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△</a:t>
            </a: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71640" y="385776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单位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385776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米每二次方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5506920" y="3807000"/>
            <a:ext cx="1441440" cy="703440"/>
            <a:chOff x="5506920" y="3807000"/>
            <a:chExt cx="1441440" cy="703440"/>
          </a:xfrm>
        </p:grpSpPr>
        <p:sp>
          <p:nvSpPr>
            <p:cNvPr id="82" name=""/>
            <p:cNvSpPr/>
            <p:nvPr/>
          </p:nvSpPr>
          <p:spPr>
            <a:xfrm>
              <a:off x="5506920" y="3807000"/>
              <a:ext cx="1152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m/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372000" y="3807000"/>
              <a:ext cx="5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7093080" y="3645000"/>
            <a:ext cx="1439640" cy="851040"/>
            <a:chOff x="7093080" y="3645000"/>
            <a:chExt cx="1439640" cy="851040"/>
          </a:xfrm>
        </p:grpSpPr>
        <p:sp>
          <p:nvSpPr>
            <p:cNvPr id="85" name=""/>
            <p:cNvSpPr/>
            <p:nvPr/>
          </p:nvSpPr>
          <p:spPr>
            <a:xfrm>
              <a:off x="7956720" y="3645000"/>
              <a:ext cx="57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093080" y="3792600"/>
              <a:ext cx="1152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m 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24720" y="3665880"/>
              <a:ext cx="36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.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6588000" y="385776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71640" y="486576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矢量性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16360" y="4883040"/>
            <a:ext cx="5976720" cy="82512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加速度的方向与速度变化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lang="zh-CN" sz="4800" spc="-1" strike="noStrike">
                <a:solidFill>
                  <a:srgbClr val="000000"/>
                </a:solidFill>
                <a:latin typeface="Monotype Corsiva"/>
              </a:rPr>
              <a:t>v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的方向相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71640" y="206064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物理意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348000" y="2060640"/>
            <a:ext cx="5616720" cy="57636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表示速度</a:t>
            </a:r>
            <a:r>
              <a:rPr b="0" lang="zh-CN" sz="3200" spc="-1" strike="noStrike">
                <a:solidFill>
                  <a:srgbClr val="3366ff"/>
                </a:solidFill>
                <a:latin typeface="Arial"/>
              </a:rPr>
              <a:t>改变快慢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物理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52280" y="380880"/>
            <a:ext cx="8686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[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例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] 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匀加速运动的火车，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0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内速度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0m/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增加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0m/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求火车加速度的大小。汽车紧急刹车时做匀减速运动，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内速度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0m/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小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m/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求汽车的加速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析：由于速度、加速度都是矢量，所以我们计算的时候必须先选一个正方向。一般选初速度的方向为正方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析讨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火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0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秒内速度的改变量是多少，方向与初速度方向什么关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汽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内速度的改变量是多少？方向与其初速度方向有何关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两物体的运动加速度分别为多少？方向如何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79280" y="0"/>
            <a:ext cx="576360" cy="6858000"/>
          </a:xfrm>
          <a:prstGeom prst="rect">
            <a:avLst/>
          </a:prstGeom>
          <a:gradFill rotWithShape="0">
            <a:gsLst>
              <a:gs pos="0">
                <a:srgbClr val="043f70"/>
              </a:gs>
              <a:gs pos="100000">
                <a:srgbClr val="011d33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加速度的方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116000" y="981000"/>
            <a:ext cx="7775640" cy="2664000"/>
            <a:chOff x="1116000" y="981000"/>
            <a:chExt cx="7775640" cy="2664000"/>
          </a:xfrm>
        </p:grpSpPr>
        <p:sp>
          <p:nvSpPr>
            <p:cNvPr id="96" name=""/>
            <p:cNvSpPr/>
            <p:nvPr/>
          </p:nvSpPr>
          <p:spPr>
            <a:xfrm>
              <a:off x="1116000" y="981000"/>
              <a:ext cx="7775640" cy="2664000"/>
            </a:xfrm>
            <a:prstGeom prst="rect">
              <a:avLst/>
            </a:prstGeom>
            <a:noFill/>
            <a:ln w="38160">
              <a:solidFill>
                <a:srgbClr val="3366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932360" y="981000"/>
              <a:ext cx="0" cy="2664000"/>
            </a:xfrm>
            <a:prstGeom prst="line">
              <a:avLst/>
            </a:prstGeom>
            <a:ln w="38160">
              <a:solidFill>
                <a:srgbClr val="3366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3059280" y="1719360"/>
            <a:ext cx="1512720" cy="703440"/>
            <a:chOff x="3059280" y="1719360"/>
            <a:chExt cx="1512720" cy="703440"/>
          </a:xfrm>
        </p:grpSpPr>
        <p:sp>
          <p:nvSpPr>
            <p:cNvPr id="99" name=""/>
            <p:cNvSpPr/>
            <p:nvPr/>
          </p:nvSpPr>
          <p:spPr>
            <a:xfrm>
              <a:off x="3059280" y="2295720"/>
              <a:ext cx="1512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274920" y="1719360"/>
              <a:ext cx="936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△</a:t>
              </a:r>
              <a:r>
                <a:rPr b="1" lang="zh-CN" sz="4000" spc="-1" strike="noStrike">
                  <a:solidFill>
                    <a:srgbClr val="000000"/>
                  </a:solidFill>
                  <a:latin typeface="Monotype Corsiva"/>
                </a:rPr>
                <a:t>v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435640" y="1563840"/>
            <a:ext cx="3024000" cy="2084040"/>
            <a:chOff x="5435640" y="1563840"/>
            <a:chExt cx="3024000" cy="2084040"/>
          </a:xfrm>
        </p:grpSpPr>
        <p:sp>
          <p:nvSpPr>
            <p:cNvPr id="102" name=""/>
            <p:cNvSpPr/>
            <p:nvPr/>
          </p:nvSpPr>
          <p:spPr>
            <a:xfrm>
              <a:off x="5435640" y="2211120"/>
              <a:ext cx="3024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98920" y="1563840"/>
              <a:ext cx="576000" cy="94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v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35640" y="2787480"/>
              <a:ext cx="143964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651280" y="2860560"/>
              <a:ext cx="86328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Monotype Corsiva"/>
                </a:rPr>
                <a:t>v</a:t>
              </a:r>
              <a:r>
                <a:rPr b="1" lang="zh-CN" sz="4000" spc="-1" strike="noStrike" baseline="-25000">
                  <a:solidFill>
                    <a:srgbClr val="000000"/>
                  </a:solidFill>
                  <a:latin typeface="Monotype Corsiva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6857640" y="2819520"/>
            <a:ext cx="1584360" cy="703440"/>
            <a:chOff x="6857640" y="2819520"/>
            <a:chExt cx="1584360" cy="703440"/>
          </a:xfrm>
        </p:grpSpPr>
        <p:sp>
          <p:nvSpPr>
            <p:cNvPr id="107" name=""/>
            <p:cNvSpPr/>
            <p:nvPr/>
          </p:nvSpPr>
          <p:spPr>
            <a:xfrm flipH="1">
              <a:off x="6857640" y="2819520"/>
              <a:ext cx="15843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434000" y="2819520"/>
              <a:ext cx="863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△</a:t>
              </a:r>
              <a:r>
                <a:rPr b="1" lang="zh-CN" sz="4000" spc="-1" strike="noStrike">
                  <a:solidFill>
                    <a:srgbClr val="000000"/>
                  </a:solidFill>
                  <a:latin typeface="Monotype Corsiva"/>
                </a:rPr>
                <a:t>v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1474920" y="1719360"/>
            <a:ext cx="3097080" cy="1939680"/>
            <a:chOff x="1474920" y="1719360"/>
            <a:chExt cx="3097080" cy="1939680"/>
          </a:xfrm>
        </p:grpSpPr>
        <p:sp>
          <p:nvSpPr>
            <p:cNvPr id="110" name=""/>
            <p:cNvSpPr/>
            <p:nvPr/>
          </p:nvSpPr>
          <p:spPr>
            <a:xfrm>
              <a:off x="1474920" y="2295360"/>
              <a:ext cx="1657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474920" y="2798640"/>
              <a:ext cx="3097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49480" y="1719360"/>
              <a:ext cx="575640" cy="94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v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193840" y="2871720"/>
              <a:ext cx="72036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Monotype Corsiva"/>
                </a:rPr>
                <a:t>v</a:t>
              </a:r>
              <a:r>
                <a:rPr b="1" lang="zh-CN" sz="4000" spc="-1" strike="noStrike" baseline="-25000">
                  <a:solidFill>
                    <a:srgbClr val="000000"/>
                  </a:solidFill>
                  <a:latin typeface="Monotype Corsiva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1042920" y="12600"/>
            <a:ext cx="7921800" cy="8251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加速度的方向与速度变化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lang="zh-CN" sz="4800" spc="-1" strike="noStrike">
                <a:solidFill>
                  <a:srgbClr val="000000"/>
                </a:solidFill>
                <a:latin typeface="Monotype Corsiva"/>
              </a:rPr>
              <a:t>v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的方向相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2627280" y="981000"/>
            <a:ext cx="719280" cy="703440"/>
            <a:chOff x="2627280" y="981000"/>
            <a:chExt cx="719280" cy="703440"/>
          </a:xfrm>
        </p:grpSpPr>
        <p:sp>
          <p:nvSpPr>
            <p:cNvPr id="116" name=""/>
            <p:cNvSpPr/>
            <p:nvPr/>
          </p:nvSpPr>
          <p:spPr>
            <a:xfrm>
              <a:off x="2771640" y="981000"/>
              <a:ext cx="503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627280" y="1555560"/>
              <a:ext cx="7192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6661080" y="981000"/>
            <a:ext cx="1079280" cy="703440"/>
            <a:chOff x="6661080" y="981000"/>
            <a:chExt cx="1079280" cy="703440"/>
          </a:xfrm>
        </p:grpSpPr>
        <p:sp>
          <p:nvSpPr>
            <p:cNvPr id="119" name=""/>
            <p:cNvSpPr/>
            <p:nvPr/>
          </p:nvSpPr>
          <p:spPr>
            <a:xfrm flipH="1">
              <a:off x="6661080" y="1557000"/>
              <a:ext cx="7920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876720" y="981000"/>
              <a:ext cx="863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258920" y="4395960"/>
            <a:ext cx="7416720" cy="10688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当加速度与初速度方向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相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时，物体做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加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运动。当加速度与初速度方向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相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时，物体做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减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运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79280" y="0"/>
            <a:ext cx="576360" cy="6858000"/>
          </a:xfrm>
          <a:prstGeom prst="rect">
            <a:avLst/>
          </a:prstGeom>
          <a:gradFill rotWithShape="0">
            <a:gsLst>
              <a:gs pos="0">
                <a:srgbClr val="043f70"/>
              </a:gs>
              <a:gs pos="100000">
                <a:srgbClr val="011d33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从速度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时间图象求加速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357280" y="2761920"/>
            <a:ext cx="3527640" cy="127620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5307120" y="1928520"/>
            <a:ext cx="1440" cy="21445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2356920" y="1916280"/>
            <a:ext cx="2955960" cy="14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361240" y="1502280"/>
            <a:ext cx="3533760" cy="25232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2356920" y="3009960"/>
            <a:ext cx="2955960" cy="14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868560" y="3011400"/>
            <a:ext cx="0" cy="1008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782360" y="711360"/>
            <a:ext cx="5326920" cy="4244760"/>
            <a:chOff x="1782360" y="711360"/>
            <a:chExt cx="5326920" cy="4244760"/>
          </a:xfrm>
        </p:grpSpPr>
        <p:grpSp>
          <p:nvGrpSpPr>
            <p:cNvPr id="130" name=""/>
            <p:cNvGrpSpPr/>
            <p:nvPr/>
          </p:nvGrpSpPr>
          <p:grpSpPr>
            <a:xfrm>
              <a:off x="2374920" y="3986280"/>
              <a:ext cx="3692160" cy="87120"/>
              <a:chOff x="2374920" y="3986280"/>
              <a:chExt cx="3692160" cy="87120"/>
            </a:xfrm>
          </p:grpSpPr>
          <p:sp>
            <p:nvSpPr>
              <p:cNvPr id="131" name=""/>
              <p:cNvSpPr/>
              <p:nvPr/>
            </p:nvSpPr>
            <p:spPr>
              <a:xfrm>
                <a:off x="2374920" y="398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853080" y="398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112200" y="3986280"/>
                <a:ext cx="0" cy="87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588200" y="398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067080" y="398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326200" y="398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2309400" y="1911240"/>
              <a:ext cx="119160" cy="2684160"/>
              <a:chOff x="2309400" y="1911240"/>
              <a:chExt cx="119160" cy="2684160"/>
            </a:xfrm>
          </p:grpSpPr>
          <p:sp>
            <p:nvSpPr>
              <p:cNvPr id="138" name=""/>
              <p:cNvSpPr/>
              <p:nvPr/>
            </p:nvSpPr>
            <p:spPr>
              <a:xfrm flipH="1">
                <a:off x="2309400" y="1911240"/>
                <a:ext cx="11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>
                <a:off x="2309400" y="2985840"/>
                <a:ext cx="11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H="1">
                <a:off x="2309400" y="2447280"/>
                <a:ext cx="119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2309400" y="3520440"/>
                <a:ext cx="11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>
                <a:off x="2309400" y="4595400"/>
                <a:ext cx="11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>
                <a:off x="2309400" y="4056840"/>
                <a:ext cx="11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 flipV="1">
              <a:off x="2325600" y="1004760"/>
              <a:ext cx="0" cy="3951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53000" y="3848040"/>
              <a:ext cx="656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/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2917800" y="4043520"/>
              <a:ext cx="3426120" cy="400320"/>
              <a:chOff x="2917800" y="4043520"/>
              <a:chExt cx="3426120" cy="400320"/>
            </a:xfrm>
          </p:grpSpPr>
          <p:sp>
            <p:nvSpPr>
              <p:cNvPr id="147" name=""/>
              <p:cNvSpPr/>
              <p:nvPr/>
            </p:nvSpPr>
            <p:spPr>
              <a:xfrm>
                <a:off x="5167080" y="404352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446360" y="404496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917800" y="404496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709800" y="404496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879880" y="4044960"/>
                <a:ext cx="46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2325600" y="4046400"/>
              <a:ext cx="4187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1782360" y="1673280"/>
              <a:ext cx="464040" cy="3069000"/>
              <a:chOff x="1782360" y="1673280"/>
              <a:chExt cx="464040" cy="3069000"/>
            </a:xfrm>
          </p:grpSpPr>
          <p:sp>
            <p:nvSpPr>
              <p:cNvPr id="154" name=""/>
              <p:cNvSpPr/>
              <p:nvPr/>
            </p:nvSpPr>
            <p:spPr>
              <a:xfrm>
                <a:off x="1888920" y="386064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901520" y="333864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903320" y="280044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782360" y="2246400"/>
                <a:ext cx="46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782360" y="1673280"/>
                <a:ext cx="46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803960" y="4343400"/>
                <a:ext cx="407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-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1979640" y="711360"/>
              <a:ext cx="182412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875b0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Monotype Corsiva"/>
                </a:rPr>
                <a:t>v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m/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5959800" y="10526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959800" y="198900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692360" y="5084640"/>
            <a:ext cx="633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结论：图线的斜率表示加速度，图线的倾斜程度反映加速度的大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34120" y="1905120"/>
            <a:ext cx="228600" cy="2133360"/>
          </a:xfrm>
          <a:custGeom>
            <a:avLst/>
            <a:gdLst>
              <a:gd name="textAreaLeft" fmla="*/ 0 w 228600"/>
              <a:gd name="textAreaRight" fmla="*/ 82440 w 22860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16200000">
            <a:off x="3512880" y="2887560"/>
            <a:ext cx="609840" cy="2911320"/>
          </a:xfrm>
          <a:custGeom>
            <a:avLst/>
            <a:gdLst>
              <a:gd name="textAreaLeft" fmla="*/ 389520 w 609840"/>
              <a:gd name="textAreaRight" fmla="*/ 610200 w 609840"/>
              <a:gd name="textAreaTop" fmla="*/ 97920 h 2911320"/>
              <a:gd name="textAreaBottom" fmla="*/ 2813400 h 291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1"/>
                  <a:pt x="10800" y="2322"/>
                </a:cubicBezTo>
                <a:lnTo>
                  <a:pt x="10800" y="7074"/>
                </a:lnTo>
                <a:cubicBezTo>
                  <a:pt x="10800" y="8235"/>
                  <a:pt x="5400" y="9396"/>
                  <a:pt x="0" y="9396"/>
                </a:cubicBezTo>
                <a:cubicBezTo>
                  <a:pt x="5400" y="9396"/>
                  <a:pt x="10800" y="10557"/>
                  <a:pt x="10800" y="11718"/>
                </a:cubicBezTo>
                <a:lnTo>
                  <a:pt x="10800" y="19278"/>
                </a:lnTo>
                <a:cubicBezTo>
                  <a:pt x="10800" y="2043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562720" y="2590920"/>
            <a:ext cx="6858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lang="zh-CN" sz="4000" spc="-1" strike="noStrike">
                <a:solidFill>
                  <a:srgbClr val="000000"/>
                </a:solidFill>
                <a:latin typeface="Monotype Corsiva"/>
              </a:rPr>
              <a:t>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276720" y="4495680"/>
            <a:ext cx="990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lang="zh-CN" sz="4000" spc="-1" strike="noStrike">
                <a:solidFill>
                  <a:srgbClr val="000000"/>
                </a:solidFill>
                <a:latin typeface="Monotype Corsiva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77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5" dur="770" fill="hold"/>
                                        <p:tgtEl>
                                          <p:spTgt spid="12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7" dur="77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9" dur="77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7236000" y="1125360"/>
            <a:ext cx="1008000" cy="1034640"/>
            <a:chOff x="7236000" y="1125360"/>
            <a:chExt cx="1008000" cy="1034640"/>
          </a:xfrm>
        </p:grpSpPr>
        <p:sp>
          <p:nvSpPr>
            <p:cNvPr id="169" name=""/>
            <p:cNvSpPr/>
            <p:nvPr/>
          </p:nvSpPr>
          <p:spPr>
            <a:xfrm>
              <a:off x="7236000" y="1125360"/>
              <a:ext cx="720720" cy="649440"/>
            </a:xfrm>
            <a:prstGeom prst="downArrowCallout">
              <a:avLst>
                <a:gd name="adj1" fmla="val 19073"/>
                <a:gd name="adj2" fmla="val 27744"/>
                <a:gd name="adj3" fmla="val 21028"/>
                <a:gd name="adj4" fmla="val 52569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36000" y="1700280"/>
              <a:ext cx="10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cc00"/>
                  </a:solidFill>
                  <a:latin typeface="Arial"/>
                </a:rPr>
                <a:t>快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7594560" y="595440"/>
            <a:ext cx="1585800" cy="459720"/>
            <a:chOff x="7594560" y="595440"/>
            <a:chExt cx="1585800" cy="459720"/>
          </a:xfrm>
        </p:grpSpPr>
        <p:sp>
          <p:nvSpPr>
            <p:cNvPr id="172" name=""/>
            <p:cNvSpPr/>
            <p:nvPr/>
          </p:nvSpPr>
          <p:spPr>
            <a:xfrm>
              <a:off x="7594560" y="620640"/>
              <a:ext cx="720720" cy="432000"/>
            </a:xfrm>
            <a:prstGeom prst="rightArrowCallout">
              <a:avLst>
                <a:gd name="adj1" fmla="val 25002"/>
                <a:gd name="adj2" fmla="val 25000"/>
                <a:gd name="adj3" fmla="val 27806"/>
                <a:gd name="adj4" fmla="val 49898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244000" y="595440"/>
              <a:ext cx="93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66ff"/>
                  </a:solidFill>
                  <a:latin typeface="Arial"/>
                </a:rPr>
                <a:t>速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7020000" y="-52560"/>
            <a:ext cx="934920" cy="1105200"/>
            <a:chOff x="7020000" y="-52560"/>
            <a:chExt cx="934920" cy="1105200"/>
          </a:xfrm>
        </p:grpSpPr>
        <p:sp>
          <p:nvSpPr>
            <p:cNvPr id="175" name=""/>
            <p:cNvSpPr/>
            <p:nvPr/>
          </p:nvSpPr>
          <p:spPr>
            <a:xfrm>
              <a:off x="7234200" y="333360"/>
              <a:ext cx="360360" cy="719280"/>
            </a:xfrm>
            <a:prstGeom prst="upArrowCallout">
              <a:avLst>
                <a:gd name="adj1" fmla="val 25002"/>
                <a:gd name="adj2" fmla="val 25000"/>
                <a:gd name="adj3" fmla="val 33267"/>
                <a:gd name="adj4" fmla="val 80154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20000" y="-52560"/>
              <a:ext cx="93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9900"/>
                  </a:solidFill>
                  <a:latin typeface="Arial"/>
                </a:rPr>
                <a:t>变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5075280" y="811080"/>
            <a:ext cx="1657440" cy="459720"/>
            <a:chOff x="5075280" y="811080"/>
            <a:chExt cx="1657440" cy="459720"/>
          </a:xfrm>
        </p:grpSpPr>
        <p:sp>
          <p:nvSpPr>
            <p:cNvPr id="178" name=""/>
            <p:cNvSpPr/>
            <p:nvPr/>
          </p:nvSpPr>
          <p:spPr>
            <a:xfrm>
              <a:off x="6084720" y="836640"/>
              <a:ext cx="648000" cy="431640"/>
            </a:xfrm>
            <a:prstGeom prst="leftArrowCallout">
              <a:avLst>
                <a:gd name="adj1" fmla="val 25002"/>
                <a:gd name="adj2" fmla="val 25000"/>
                <a:gd name="adj3" fmla="val 25021"/>
                <a:gd name="adj4" fmla="val 59015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075280" y="811080"/>
              <a:ext cx="115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5050"/>
                  </a:solidFill>
                  <a:latin typeface="Arial"/>
                </a:rPr>
                <a:t>加速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971640" y="811080"/>
            <a:ext cx="1368360" cy="459720"/>
            <a:chOff x="971640" y="811080"/>
            <a:chExt cx="1368360" cy="459720"/>
          </a:xfrm>
        </p:grpSpPr>
        <p:sp>
          <p:nvSpPr>
            <p:cNvPr id="181" name=""/>
            <p:cNvSpPr/>
            <p:nvPr/>
          </p:nvSpPr>
          <p:spPr>
            <a:xfrm>
              <a:off x="1692360" y="836640"/>
              <a:ext cx="647640" cy="431640"/>
            </a:xfrm>
            <a:prstGeom prst="leftArrowCallout">
              <a:avLst>
                <a:gd name="adj1" fmla="val 25002"/>
                <a:gd name="adj2" fmla="val 25000"/>
                <a:gd name="adj3" fmla="val 25007"/>
                <a:gd name="adj4" fmla="val 59015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971640" y="811080"/>
              <a:ext cx="93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66ff"/>
                  </a:solidFill>
                  <a:latin typeface="Arial"/>
                </a:rPr>
                <a:t>速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843280" y="1125360"/>
            <a:ext cx="1008000" cy="1034640"/>
            <a:chOff x="2843280" y="1125360"/>
            <a:chExt cx="1008000" cy="1034640"/>
          </a:xfrm>
        </p:grpSpPr>
        <p:sp>
          <p:nvSpPr>
            <p:cNvPr id="184" name=""/>
            <p:cNvSpPr/>
            <p:nvPr/>
          </p:nvSpPr>
          <p:spPr>
            <a:xfrm>
              <a:off x="2843280" y="1125360"/>
              <a:ext cx="720720" cy="649440"/>
            </a:xfrm>
            <a:prstGeom prst="downArrowCallout">
              <a:avLst>
                <a:gd name="adj1" fmla="val 19073"/>
                <a:gd name="adj2" fmla="val 27744"/>
                <a:gd name="adj3" fmla="val 21028"/>
                <a:gd name="adj4" fmla="val 52569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843280" y="1700280"/>
              <a:ext cx="10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cc00"/>
                  </a:solidFill>
                  <a:latin typeface="Arial"/>
                </a:rPr>
                <a:t>快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3203640" y="595440"/>
            <a:ext cx="1584360" cy="459720"/>
            <a:chOff x="3203640" y="595440"/>
            <a:chExt cx="1584360" cy="459720"/>
          </a:xfrm>
        </p:grpSpPr>
        <p:sp>
          <p:nvSpPr>
            <p:cNvPr id="187" name=""/>
            <p:cNvSpPr/>
            <p:nvPr/>
          </p:nvSpPr>
          <p:spPr>
            <a:xfrm>
              <a:off x="3203640" y="620640"/>
              <a:ext cx="720720" cy="432000"/>
            </a:xfrm>
            <a:prstGeom prst="rightArrowCallout">
              <a:avLst>
                <a:gd name="adj1" fmla="val 25002"/>
                <a:gd name="adj2" fmla="val 25000"/>
                <a:gd name="adj3" fmla="val 27806"/>
                <a:gd name="adj4" fmla="val 49898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852720" y="595440"/>
              <a:ext cx="93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cc"/>
                  </a:solidFill>
                  <a:latin typeface="Arial"/>
                </a:rPr>
                <a:t>位置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629080" y="-52560"/>
            <a:ext cx="934920" cy="1105200"/>
            <a:chOff x="2629080" y="-52560"/>
            <a:chExt cx="934920" cy="1105200"/>
          </a:xfrm>
        </p:grpSpPr>
        <p:sp>
          <p:nvSpPr>
            <p:cNvPr id="190" name=""/>
            <p:cNvSpPr/>
            <p:nvPr/>
          </p:nvSpPr>
          <p:spPr>
            <a:xfrm>
              <a:off x="2843280" y="333360"/>
              <a:ext cx="360360" cy="719280"/>
            </a:xfrm>
            <a:prstGeom prst="upArrowCallout">
              <a:avLst>
                <a:gd name="adj1" fmla="val 25002"/>
                <a:gd name="adj2" fmla="val 25000"/>
                <a:gd name="adj3" fmla="val 33267"/>
                <a:gd name="adj4" fmla="val 80154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29080" y="-52560"/>
              <a:ext cx="93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9900"/>
                  </a:solidFill>
                  <a:latin typeface="Arial"/>
                </a:rPr>
                <a:t>变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4356000" y="2781360"/>
            <a:ext cx="3024360" cy="504720"/>
          </a:xfrm>
          <a:prstGeom prst="rightArrowCallout">
            <a:avLst>
              <a:gd name="adj1" fmla="val 0"/>
              <a:gd name="adj2" fmla="val 25000"/>
              <a:gd name="adj3" fmla="val 36813"/>
              <a:gd name="adj4" fmla="val 26352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451640" y="2781360"/>
            <a:ext cx="1152720" cy="50328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60360" y="2781360"/>
            <a:ext cx="3024360" cy="504720"/>
          </a:xfrm>
          <a:prstGeom prst="rightArrowCallout">
            <a:avLst>
              <a:gd name="adj1" fmla="val 0"/>
              <a:gd name="adj2" fmla="val 25000"/>
              <a:gd name="adj3" fmla="val 36813"/>
              <a:gd name="adj4" fmla="val 26352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79280" y="0"/>
            <a:ext cx="576360" cy="6858000"/>
          </a:xfrm>
          <a:prstGeom prst="rect">
            <a:avLst/>
          </a:prstGeom>
          <a:gradFill rotWithShape="0">
            <a:gsLst>
              <a:gs pos="0">
                <a:srgbClr val="043f70"/>
              </a:gs>
              <a:gs pos="100000">
                <a:srgbClr val="011d33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258920" y="3716280"/>
            <a:ext cx="7200720" cy="581400"/>
          </a:xfrm>
          <a:prstGeom prst="rect">
            <a:avLst/>
          </a:prstGeom>
          <a:noFill/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速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描述物体运动的快慢，即物体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位置变化的快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908000" y="423720"/>
            <a:ext cx="1872000" cy="1539720"/>
            <a:chOff x="1908000" y="423720"/>
            <a:chExt cx="1872000" cy="1539720"/>
          </a:xfrm>
        </p:grpSpPr>
        <p:sp>
          <p:nvSpPr>
            <p:cNvPr id="198" name=""/>
            <p:cNvSpPr/>
            <p:nvPr/>
          </p:nvSpPr>
          <p:spPr>
            <a:xfrm>
              <a:off x="2771640" y="423720"/>
              <a:ext cx="1008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9900"/>
                  </a:solidFill>
                  <a:latin typeface="Monotype Corsiva"/>
                </a:rPr>
                <a:t>△</a:t>
              </a:r>
              <a:r>
                <a:rPr b="1" lang="zh-CN" sz="2400" spc="-1" strike="noStrike">
                  <a:solidFill>
                    <a:srgbClr val="3366ff"/>
                  </a:solidFill>
                  <a:latin typeface="Monotype Corsiva"/>
                </a:rPr>
                <a:t> </a:t>
              </a:r>
              <a:r>
                <a:rPr b="1" lang="zh-CN" sz="4000" spc="-1" strike="noStrike">
                  <a:solidFill>
                    <a:srgbClr val="cc00ff"/>
                  </a:solidFill>
                  <a:latin typeface="Monotype Corsiva"/>
                </a:rPr>
                <a:t>x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908000" y="711360"/>
              <a:ext cx="187200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66ff"/>
                  </a:solidFill>
                  <a:latin typeface="Monotype Corsiva"/>
                </a:rPr>
                <a:t>v </a:t>
              </a:r>
              <a:r>
                <a:rPr b="1" lang="en-US" sz="3600" spc="-1" strike="noStrike">
                  <a:solidFill>
                    <a:srgbClr val="000000"/>
                  </a:solidFill>
                  <a:latin typeface="Monotype Corsiva"/>
                </a:rPr>
                <a:t>=</a:t>
              </a: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Monotype Corsiva"/>
                </a:rPr>
                <a:t>——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771640" y="927000"/>
              <a:ext cx="792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cc00"/>
                  </a:solidFill>
                  <a:latin typeface="Arial"/>
                </a:rPr>
                <a:t>△ </a:t>
              </a:r>
              <a:r>
                <a:rPr b="1" lang="zh-CN" sz="4000" spc="-1" strike="noStrike">
                  <a:solidFill>
                    <a:srgbClr val="00cc00"/>
                  </a:solidFill>
                  <a:latin typeface="Monotype Corsiva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1187280" y="276480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Tahoma"/>
              </a:rPr>
              <a:t>位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284720" y="276480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Tahoma"/>
              </a:rPr>
              <a:t>速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95640" y="25401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ahoma"/>
              </a:rPr>
              <a:t>变化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的</a:t>
            </a:r>
            <a:r>
              <a:rPr b="1" lang="zh-CN" sz="2400" spc="-1" strike="noStrike">
                <a:solidFill>
                  <a:srgbClr val="00cc00"/>
                </a:solidFill>
                <a:latin typeface="Tahoma"/>
              </a:rPr>
              <a:t>快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92720" y="25401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ahoma"/>
              </a:rPr>
              <a:t>变化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的</a:t>
            </a:r>
            <a:r>
              <a:rPr b="1" lang="zh-CN" sz="2400" spc="-1" strike="noStrike">
                <a:solidFill>
                  <a:srgbClr val="00cc00"/>
                </a:solidFill>
                <a:latin typeface="Tahoma"/>
              </a:rPr>
              <a:t>快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380360" y="27648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Tahoma"/>
              </a:rPr>
              <a:t>加速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6300720" y="423720"/>
            <a:ext cx="1871640" cy="1539720"/>
            <a:chOff x="6300720" y="423720"/>
            <a:chExt cx="1871640" cy="1539720"/>
          </a:xfrm>
        </p:grpSpPr>
        <p:sp>
          <p:nvSpPr>
            <p:cNvPr id="207" name=""/>
            <p:cNvSpPr/>
            <p:nvPr/>
          </p:nvSpPr>
          <p:spPr>
            <a:xfrm>
              <a:off x="7164000" y="423720"/>
              <a:ext cx="1008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9900"/>
                  </a:solidFill>
                  <a:latin typeface="Monotype Corsiva"/>
                </a:rPr>
                <a:t>△</a:t>
              </a:r>
              <a:r>
                <a:rPr b="1" lang="zh-CN" sz="2400" spc="-1" strike="noStrike">
                  <a:solidFill>
                    <a:srgbClr val="3366ff"/>
                  </a:solidFill>
                  <a:latin typeface="Monotype Corsiva"/>
                </a:rPr>
                <a:t> </a:t>
              </a:r>
              <a:r>
                <a:rPr b="1" lang="zh-CN" sz="4000" spc="-1" strike="noStrike">
                  <a:solidFill>
                    <a:srgbClr val="3366ff"/>
                  </a:solidFill>
                  <a:latin typeface="Monotype Corsiva"/>
                </a:rPr>
                <a:t>v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300720" y="711360"/>
              <a:ext cx="187164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Monotype Corsiva"/>
                </a:rPr>
                <a:t>a</a:t>
              </a:r>
              <a:r>
                <a:rPr b="1" lang="en-US" sz="4000" spc="-1" strike="noStrike">
                  <a:solidFill>
                    <a:srgbClr val="3366ff"/>
                  </a:solidFill>
                  <a:latin typeface="Monotype Corsiva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Monotype Corsiva"/>
                </a:rPr>
                <a:t>=</a:t>
              </a: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Monotype Corsiva"/>
                </a:rPr>
                <a:t>——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164000" y="927000"/>
              <a:ext cx="792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cc00"/>
                  </a:solidFill>
                  <a:latin typeface="Arial"/>
                </a:rPr>
                <a:t>△ </a:t>
              </a:r>
              <a:r>
                <a:rPr b="1" lang="zh-CN" sz="4000" spc="-1" strike="noStrike">
                  <a:solidFill>
                    <a:srgbClr val="00cc00"/>
                  </a:solidFill>
                  <a:latin typeface="Monotype Corsiva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1258920" y="4954680"/>
            <a:ext cx="7200720" cy="581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5050"/>
                </a:solidFill>
                <a:latin typeface="Arial"/>
              </a:rPr>
              <a:t>加速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描述</a:t>
            </a:r>
            <a:r>
              <a:rPr b="1" lang="zh-CN" sz="3200" spc="-1" strike="noStrike">
                <a:solidFill>
                  <a:srgbClr val="ff5050"/>
                </a:solidFill>
                <a:latin typeface="Arial"/>
              </a:rPr>
              <a:t>速度变化的快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即速度的变化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385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0" dur="385" fill="hold"/>
                                        <p:tgtEl>
                                          <p:spTgt spid="1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2" dur="385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4" dur="385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385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8" dur="385" fill="hold"/>
                                        <p:tgtEl>
                                          <p:spTgt spid="2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0" dur="385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2" dur="385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</cp:lastModifiedBy>
  <dcterms:modified xsi:type="dcterms:W3CDTF">2011-09-26T00:55:43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