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0669-9E72-4A3B-B167-2464BDF0D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DB2D-FEEB-4E38-82BE-479E01D7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1BB3-BFD8-441B-8BC8-201A300CC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9940-99C1-4F48-96EA-E85825BC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9F83-5D4D-4DF0-99CC-BBB468CD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A188-E263-4B47-9FC7-82E35057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AA19-6C5A-4B38-96ED-194E5792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9884-A32C-470C-851D-B118A079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62C7-4F05-4742-8EE9-08F3F9CA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FEDB-F773-4C09-9692-B330BCE8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1286-CAFF-49F2-813D-547FDF4E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D774-D9A5-41E0-A0C1-E3F12B4D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F3EC-E041-4F2D-B601-F6421EC3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6535-44CA-4403-9183-C7C39E89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7704-1F1B-4601-BC10-9625BF7A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365A-8E89-416F-B622-8090D6114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10AD-A72E-4287-B6ED-623B7D58D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B84C-1380-4B36-B076-7EC8ED34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23FF-2490-4DA3-AA5F-548604C2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4298-5B8B-433A-9DC5-867181DA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CD41-AB36-4184-BA5A-CDFF65F2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88D7-379D-4EF9-B855-C3F0982A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D522-7B0D-49C4-BDD5-1D305578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126A-7D44-4172-8EAC-FFC4E237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BE95-2BF5-4B8F-ACB5-7FFCE617C0F2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67C7-63E2-4D7C-BDEE-DDD50A6ADC25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56880" y="1613520"/>
            <a:ext cx="7684560" cy="13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《儒林外史》严监生 </a:t>
            </a:r>
            <a:br>
              <a:rPr sz="6000"/>
            </a:b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547640" y="2276640"/>
            <a:ext cx="670752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66"/>
                </a:solidFill>
                <a:latin typeface="Arial"/>
                <a:ea typeface="华文新魏"/>
              </a:rPr>
              <a:t>《看钱奴》  贾弘义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256500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１８２９年他发表历史小说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《朱安党人》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这是他的成名作。此后２０年是他创作的鼎盛时期，他集中精力，进行了规模宏大的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《人间喜剧》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的创作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580000" y="620640"/>
            <a:ext cx="1801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-324000" y="0"/>
            <a:ext cx="91440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巴尔扎克在艺术上取得了巨大成就，他善于将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集中概括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与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精确描摹相结合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以外形反映内心本质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等手法来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塑造人物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他还善于以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精细入微、生动逼真的环境描写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再现时代风貌。恩格斯称赞巴尔扎克的《人间喜剧》写出了贵族阶级的没落衰败和资产阶级的上升发展，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提供了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社会各个领域无比丰富的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生动细节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和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形象化的历史材料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 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2349000"/>
            <a:ext cx="914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“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甚至在经济的细节方面（如革命以后动产和不动产的重新分配），我学到的东西也要比从当时所有职业历史学家、经济学院和统计学家那里学到的全部东西还要多”。（恩格斯：《恩格斯致玛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·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哈克奈斯》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564000" y="0"/>
            <a:ext cx="230328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因劳累过度，巴尔扎克于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１８５０年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逝世。他的生命是短促的，但给人类留下了丰富的遗产。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雨果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在《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巴尔扎克葬词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》中说，他的“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作品比岁月还多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”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932360" y="0"/>
            <a:ext cx="23036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26370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100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多年来，他的作品传遍了全世界，对世界文学的发展和人类进步产生了巨大的影响。马克思、恩格斯称赞他“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是超群的小说家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”、“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现实主义大师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”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780000" y="0"/>
            <a:ext cx="2232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2361960"/>
            <a:ext cx="9144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在法国索漠城一所古老而荒凉的住宅里，住着城里最富有的葛朗台先生。他本是个箍桶匠，娶了一个有钱的木材商的女儿为妻。后来又四处钻营，做过市长，并继承了几笔遗产，于是跃居为首富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907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华文新魏"/>
              </a:rPr>
              <a:t>《欧也妮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华文新魏"/>
              </a:rPr>
              <a:t>·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华文新魏"/>
              </a:rPr>
              <a:t>葛朗台》故事梗概：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尽管葛朗台家财万贯，然而他的开销却很节省。他举止朴素，餐桌上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从来都是粗茶淡饭，从来不买肉、蔬菜和水果。他的家中只有妻子、女儿欧也妮和仆人拿侬。老葛朗台对待太太就像使唤奴隶一样，毫无感情可言。而仆人拿侬则是忠心耿耿，任劳任怨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对于葛朗台来说，最大的快乐就是占有别人的每个金币，然后珍藏起来。为了不浪费每个金币，除购买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十分必要的生活用品外，他对家中一切开支都非常吝啬，每顿吃的食物，每天点的蜡烛，他总是亲自定量分发；每年十一月初一堂屋里才生火，到３月３１日就得熄火，不管春寒和秋凉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索漠人都知道尽管葛朗台一毛不拔，但他手中有着万贯的家产，很多人盯着这份财产羡慕不已。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如果葛朗台去世，欧也妮将是惟一继承人。因此，城中少年都在追求她。其中有两个主要竞争对手：一个是克罗旭，是本地公证人的儿子。另一个是格拉桑，本地银行家的儿子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有一天适逢欧也妮过生日，这两人都赶往葛朗台家为欧也妮祝寿。葛朗台看在眼里，心里明白，嘀咕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道：“他们都看中我的钱，哼！休想！我利用这般人替我钓鱼！”正当他们一起兴致勃勃地玩牌时，传来一阵急促的敲门声，进来了一位十分漂亮的青年，他就是葛朗台的侄儿，２３岁的查理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Arial"/>
                <a:ea typeface="华文新魏"/>
              </a:rPr>
              <a:t>“</a:t>
            </a:r>
            <a:r>
              <a:rPr b="1" lang="zh-CN" sz="4400" spc="-1" strike="noStrike">
                <a:solidFill>
                  <a:srgbClr val="006666"/>
                </a:solidFill>
                <a:latin typeface="Arial"/>
                <a:ea typeface="华文新魏"/>
              </a:rPr>
              <a:t>四大吝啬鬼”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2420640"/>
            <a:ext cx="964872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夏洛克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莎士比亚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威尼斯商人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》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141720"/>
            <a:ext cx="79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阿巴贡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莫里哀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悭吝人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》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860640"/>
            <a:ext cx="8964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泼留希金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（果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戈里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死魂灵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》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724280"/>
            <a:ext cx="100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葛朗台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 （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巴尔扎克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《欧也妮葛朗台》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查理带给葛朗台一封信。信中其实是一封遗书，原来查理的父亲已经破产，并打算自杀，因此把查理托付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给葛朗台照顾。这一切查理并不知情。欧也妮被查理英俊的外表和不凡的谈吐所打动，暗暗爱上了他。甚至不顾家中的禁令，为查理燃起了火炉和蜡烛，还跑上跑下尽量使查理满意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2205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葛朗台知道查理在这里只能是一个生活负担，必须赶他走。第二天，葛朗台将载着查理父亲死讯的报纸递给查理，查理看完后痛不欲生，几日没有出门。欧也妮则在怜悯查理的同时，爱意愈深。查理此时也感到了欧也妮体贴入微的友谊。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　　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132000" y="0"/>
            <a:ext cx="3240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57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葛朗台决定将查理打发到印度去。欧也妮把自己全部积蓄六千法郎送给堂弟做盘缠。查理回赠给她一个家传的镶金首饰盒。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他们私订了终身。海誓山盟之后查理离开了索漠。葛朗台知道欧也妮将全部私房钱全给了查理后，变得像野兽一样凶残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他将欧也妮锁在房间里，罚女儿只吃冷水和面包。无论谁来讲情，他都置之不理。结果妻子吓病了。公证人以利害关系劝葛朗台和女儿讲和。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他说如果葛朗台的妻子死了，欧也妮可以以女儿的身份分走他的一半财产。葛朗台害怕了，才将女儿放了出来。　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64000" y="4724280"/>
            <a:ext cx="1872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66"/>
                </a:solidFill>
                <a:latin typeface="华文新魏"/>
                <a:ea typeface="华文新魏"/>
              </a:rPr>
              <a:t>通读课文，复述故事，理清情节 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156360" y="3357720"/>
            <a:ext cx="21607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朗读课文第一段，请</a:t>
            </a:r>
            <a:r>
              <a:rPr b="1" lang="zh-CN" sz="5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找出关键性语句来概括葛朗台的性格</a:t>
            </a:r>
            <a:r>
              <a:rPr b="0" lang="zh-CN" sz="5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。 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2852280"/>
            <a:ext cx="9144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66"/>
                </a:solidFill>
                <a:latin typeface="Arial"/>
                <a:ea typeface="华文新魏"/>
              </a:rPr>
              <a:t>从课文中找出你认为最精彩的一个片断或细节，作简要的分析，并说说它体现了葛朗台的什么性格特征</a:t>
            </a:r>
            <a:r>
              <a:rPr b="0" lang="zh-CN" sz="5400" spc="-1" strike="noStrike">
                <a:solidFill>
                  <a:srgbClr val="003366"/>
                </a:solidFill>
                <a:latin typeface="Arial"/>
              </a:rPr>
              <a:t> 。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219640" y="404640"/>
            <a:ext cx="18734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66"/>
                </a:solidFill>
                <a:latin typeface="Arial"/>
              </a:rPr>
              <a:t>环境：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课文中有没有环境描写？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00000" y="3500280"/>
            <a:ext cx="7993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如果有，在哪些地方？体现出人物生活的环境是怎样的？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小说中写了两个人的死，一是葛朗台的死，一是葛朗台太太的死。写两个人的死有许多相同之处。第一，两个人都有遗言，遗言都是对女儿说的，两个人的遗言都是他们人生哲学的直白。第二，作者对两个人的死都有评价性的话。请你从他们遗言的内容和作者的评价两个方面作比较，看看有什么不同之处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4292640"/>
            <a:ext cx="91440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根据课文中的有限线索，请你推断一下，欧也妮的结局会是怎样？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132000" y="333360"/>
            <a:ext cx="2808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Arial"/>
                <a:ea typeface="华文新魏"/>
              </a:rPr>
              <a:t>守财奴</a:t>
            </a:r>
            <a:endParaRPr b="1" lang="en-US" sz="9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492000" y="2927520"/>
            <a:ext cx="519444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Arial"/>
                <a:ea typeface="华文新魏"/>
              </a:rPr>
              <a:t>——</a:t>
            </a:r>
            <a:r>
              <a:rPr b="0" lang="zh-CN" sz="6000" spc="-1" strike="noStrike">
                <a:solidFill>
                  <a:srgbClr val="ff0066"/>
                </a:solidFill>
                <a:latin typeface="Arial"/>
                <a:ea typeface="华文新魏"/>
              </a:rPr>
              <a:t>巴尔扎克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66"/>
                </a:solidFill>
                <a:latin typeface="Arial"/>
                <a:ea typeface="华文新魏"/>
              </a:rPr>
              <a:t>原小说中欧也妮的结局：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葛朗台死后，欧也妮继承了价值１７００万的遗产。欧也妮虽有偌大家产，但她却感到十分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苦恼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。自从与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查理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分手后，７年来她总是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思念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着他。而查理呢，自离开索漠，就把全部精力用在生意上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他先在印度发了财，后又贩卖人口，放高利贷，倒卖海盗赃物赚了大钱。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开初他还记得欧也妮的情分，可当他跟各种颜色的女子到处荒唐胡闹之后，便把她忘得一干二净。　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21337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几年后，他带着百万家财返回法国。在船上他结识了一位侯爵。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为了高攀贵族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查理不顾侯爵女儿奇丑无比，和她订了终身，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他写信给欧也妮，告诉她他已结婚的消息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并汇来８０００法郎，希望能赎回首饰盒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欧也妮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最后的希望破灭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了。她精神上受到了很大刺激。最后，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欧也妮做了克罗旭名义上的妻子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，可是不久这个名义上的丈夫也死了，欧也妮成了寡妇。她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仍然偿还了查理父亲破产欠下的巨额债务，让查理过着幸福、名誉的生活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。她自己则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幽居独处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，依旧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过着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以前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俭朴的生活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。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896472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索漠那古老的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房子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，依然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没有阳光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，老是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阴森森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的。可是她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办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了许多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公益事业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：一所养老院，几处教会小学，一所藏书丰富的图书馆。　　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欧也妮如今只有一件事可做了，那就是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静静地等待死亡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，她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希望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自己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在天国中会得到人世间得不到的快乐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请同学们把你设想的葛朗台的结局作一下比较，探讨一下小说的结局是否合理？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Arial"/>
              </a:rPr>
              <a:t>学习目标：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50560" y="2361960"/>
            <a:ext cx="8893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通过作品中对人物细致入微的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细节刻画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分析把握“葛朗台”这一形象的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性格特征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认识葛朗台这一艺术形象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在世界文学史上的典型意义和价值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Arial"/>
              </a:rPr>
              <a:t>学习步骤：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000" y="2349360"/>
            <a:ext cx="769284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复习旧知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阅读感悟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交流分析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22050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巴尔扎克是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19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世纪</a:t>
            </a:r>
            <a:r>
              <a:rPr b="0" lang="zh-CN" sz="4400" spc="-1" strike="noStrike">
                <a:solidFill>
                  <a:srgbClr val="006666"/>
                </a:solidFill>
                <a:latin typeface="华文新魏"/>
                <a:ea typeface="华文新魏"/>
              </a:rPr>
              <a:t>法国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伟大的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批判现实主义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作家，欧洲批判现实主义文学的奠基人和杰出代表。一生创作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96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部长、中、短篇小说和随笔，总名为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《人间喜剧》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。其中代表作为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《欧也妮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·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葛朗台》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、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《高老头》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076720" y="0"/>
            <a:ext cx="2232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-252360" y="0"/>
            <a:ext cx="9648720" cy="71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巴尔扎克１７９９年出生于巴黎西南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图尔城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的一个中产阶级家庭。从小酷爱读书，十二、三岁时，从给他补习数学的艺术学院图书管理员那里借阅了大量书籍，并把它们看作是自己的救星：“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只有读书才能使我头脑活着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”，否则“这种制度将完全摧毁了我的生命”。通过阅读，他广泛地吸收了各种思想，学到很多知识，为他以后的创作打下坚实的基础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１８１４年迁居巴黎。１８１６年入法律学校攻读法律，曾在诉讼代理人事务所和公证人事务所当实习生，目睹了围绕财产而展开的形形色色的激烈斗争，接触到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金钱统治一切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的黑暗内幕，给他很多感触。毕业后没按父母希望从事法律工作，毅然走上文学创作的道路。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为了获得独立生活和从事创作的物质保障，他曾试笔并插足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商业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从事出版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印刷业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但都以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破产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告终。这一切都为他认识社会、描写社会提供了极为珍贵的第一手材料。他不断追求和探索，对哲学、经济学、历史、自然科学、神学等领域进行了深入研究，积累了极为广博的知识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11:12:30Z</dcterms:created>
  <dc:creator> </dc:creator>
  <dc:description/>
  <dc:language>en-US</dc:language>
  <cp:lastModifiedBy>User</cp:lastModifiedBy>
  <dcterms:modified xsi:type="dcterms:W3CDTF">2010-08-09T09:13:20Z</dcterms:modified>
  <cp:revision>7</cp:revision>
  <dc:subject/>
  <dc:title> </dc:title>
</cp:coreProperties>
</file>