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C5F-3D14-4C65-8A94-C0F24754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8DA-186A-4C2A-8FD6-1CC9F4C7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107-630A-4840-A35A-474F4896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CD5-7339-443B-A7C8-AFEBCAF2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ABCC-BC8F-4E4C-9532-887CC094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43ED-5DE5-4025-80A3-4E8E1429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380A-2202-4574-BC75-30958F3F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018C-BF01-4169-8476-197FD091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3E7F-970A-4CD7-B8B5-907BEC7D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1573-5555-4FFB-B3BB-26CC1ADC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4DEA-8C5E-40A0-94D4-15FA7456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0AA-139E-4452-BD66-547EC7E1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601E-7177-45C8-8DDE-A45C03D4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E037-AA89-4503-9D71-206FED4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A44C-7A00-482E-BA40-65C415ED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1B8E-CE9D-4732-8B74-938CF5E6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363D-2116-4C44-84FE-85630AFD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EC8-1F33-498F-A91E-FA62A13E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E07-FE1D-4C63-BD3E-CADAC4D6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1A3-A6F3-45D9-B19D-22C3BE5F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848-DD9B-40B4-B731-DAC611FD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84B-8EFB-498A-821B-A71C1EB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F98-CC5D-48FC-B2F9-42391B60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FB8-984F-4E32-94EF-84DE705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FA40-3257-4CC8-A035-CC03084798F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D3A1-7172-4FF3-80FE-060F4B20557E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56880" y="1613520"/>
            <a:ext cx="7684560" cy="13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《儒林外史》严监生 </a:t>
            </a:r>
            <a:br>
              <a:rPr sz="6000"/>
            </a:b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707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Arial"/>
                <a:ea typeface="华文新魏"/>
              </a:rPr>
              <a:t>《看钱奴》  贾弘义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１８２９年他发表历史小说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朱安党人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这是他的成名作。此后２０年是他创作的鼎盛时期，他集中精力，进行了规模宏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创作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在艺术上取得了巨大成就，他善于将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集中概括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确描摹相结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以外形反映内心本质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等手法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塑造人物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他还善于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细入微、生动逼真的环境描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再现时代风貌。恩格斯称赞巴尔扎克的《人间喜剧》写出了贵族阶级的没落衰败和资产阶级的上升发展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提供了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各个领域无比丰富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生动细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形象化的历史材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甚至在经济的细节方面（如革命以后动产和不动产的重新分配），我学到的东西也要比从当时所有职业历史学家、经济学院和统计学家那里学到的全部东西还要多”。（恩格斯：《恩格斯致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哈克奈斯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2303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因劳累过度，巴尔扎克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１８５０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逝世。他的生命是短促的，但给人类留下了丰富的遗产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雨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《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巴尔扎克葬词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》中说，他的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作品比岁月还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3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年来，他的作品传遍了全世界，对世界文学的发展和人类进步产生了巨大的影响。马克思、恩格斯称赞他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超群的小说家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、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现实主义大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在法国索漠城一所古老而荒凉的住宅里，住着城里最富有的葛朗台先生。他本是个箍桶匠，娶了一个有钱的木材商的女儿为妻。后来又四处钻营，做过市长，并继承了几笔遗产，于是跃居为首富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《欧也妮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葛朗台》故事梗概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尽管葛朗台家财万贯，然而他的开销却很节省。他举止朴素，餐桌上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从来都是粗茶淡饭，从来不买肉、蔬菜和水果。他的家中只有妻子、女儿欧也妮和仆人拿侬。老葛朗台对待太太就像使唤奴隶一样，毫无感情可言。而仆人拿侬则是忠心耿耿，任劳任怨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对于葛朗台来说，最大的快乐就是占有别人的每个金币，然后珍藏起来。为了不浪费每个金币，除购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十分必要的生活用品外，他对家中一切开支都非常吝啬，每顿吃的食物，每天点的蜡烛，他总是亲自定量分发；每年十一月初一堂屋里才生火，到３月３１日就得熄火，不管春寒和秋凉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索漠人都知道尽管葛朗台一毛不拔，但他手中有着万贯的家产，很多人盯着这份财产羡慕不已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葛朗台去世，欧也妮将是惟一继承人。因此，城中少年都在追求她。其中有两个主要竞争对手：一个是克罗旭，是本地公证人的儿子。另一个是格拉桑，本地银行家的儿子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一天适逢欧也妮过生日，这两人都赶往葛朗台家为欧也妮祝寿。葛朗台看在眼里，心里明白，嘀咕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道：“他们都看中我的钱，哼！休想！我利用这般人替我钓鱼！”正当他们一起兴致勃勃地玩牌时，传来一阵急促的敲门声，进来了一位十分漂亮的青年，他就是葛朗台的侄儿，２３岁的查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四大吝啬鬼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648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夏洛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莎士比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威尼斯商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417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阿巴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莫里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悭吝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6064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泼留希金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果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戈里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死魂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100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葛朗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巴尔扎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欧也妮葛朗台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查理带给葛朗台一封信。信中其实是一封遗书，原来查理的父亲已经破产，并打算自杀，因此把查理托付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葛朗台照顾。这一切查理并不知情。欧也妮被查理英俊的外表和不凡的谈吐所打动，暗暗爱上了他。甚至不顾家中的禁令，为查理燃起了火炉和蜡烛，还跑上跑下尽量使查理满意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知道查理在这里只能是一个生活负担，必须赶他走。第二天，葛朗台将载着查理父亲死讯的报纸递给查理，查理看完后痛不欲生，几日没有出门。欧也妮则在怜悯查理的同时，爱意愈深。查理此时也感到了欧也妮体贴入微的友谊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24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决定将查理打发到印度去。欧也妮把自己全部积蓄六千法郎送给堂弟做盘缠。查理回赠给她一个家传的镶金首饰盒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们私订了终身。海誓山盟之后查理离开了索漠。葛朗台知道欧也妮将全部私房钱全给了查理后，变得像野兽一样凶残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将欧也妮锁在房间里，罚女儿只吃冷水和面包。无论谁来讲情，他都置之不理。结果妻子吓病了。公证人以利害关系劝葛朗台和女儿讲和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说如果葛朗台的妻子死了，欧也妮可以以女儿的身份分走他的一半财产。葛朗台害怕了，才将女儿放了出来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18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读课文，复述故事，理清情节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160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朗读课文第一段，请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找出关键性语句来概括葛朗台的性格</a:t>
            </a: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  <a:ea typeface="华文新魏"/>
              </a:rPr>
              <a:t>从课文中找出你认为最精彩的一个片断或细节，作简要的分析，并说说它体现了葛朗台的什么性格特征</a:t>
            </a: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 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8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环境：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课文中有没有环境描写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500280"/>
            <a:ext cx="79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如果有，在哪些地方？体现出人物生活的环境是怎样的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小说中写了两个人的死，一是葛朗台的死，一是葛朗台太太的死。写两个人的死有许多相同之处。第一，两个人都有遗言，遗言都是对女儿说的，两个人的遗言都是他们人生哲学的直白。第二，作者对两个人的死都有评价性的话。请你从他们遗言的内容和作者的评价两个方面作比较，看看有什么不同之处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根据课文中的有限线索，请你推断一下，欧也妮的结局会是怎样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守财奴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492000" y="2927520"/>
            <a:ext cx="51944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——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巴尔扎克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华文新魏"/>
              </a:rPr>
              <a:t>原小说中欧也妮的结局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死后，欧也妮继承了价值１７００万的遗产。欧也妮虽有偌大家产，但她却感到十分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苦恼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自从与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查理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分手后，７年来她总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思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着他。而查理呢，自离开索漠，就把全部精力用在生意上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先在印度发了财，后又贩卖人口，放高利贷，倒卖海盗赃物赚了大钱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开初他还记得欧也妮的情分，可当他跟各种颜色的女子到处荒唐胡闹之后，便把她忘得一干二净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几年后，他带着百万家财返回法国。在船上他结识了一位侯爵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高攀贵族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查理不顾侯爵女儿奇丑无比，和她订了终身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写信给欧也妮，告诉她他已结婚的消息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并汇来８０００法郎，希望能赎回首饰盒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最后的希望破灭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。她精神上受到了很大刺激。最后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欧也妮做了克罗旭名义上的妻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可是不久这个名义上的丈夫也死了，欧也妮成了寡妇。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仍然偿还了查理父亲破产欠下的巨额债务，让查理过着幸福、名誉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她自己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幽居独处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旧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过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以前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俭朴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索漠那古老的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房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然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没有阳光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老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阴森森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。可是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办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许多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公益事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：一所养老院，几处教会小学，一所藏书丰富的图书馆。　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如今只有一件事可做了，那就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静静地等待死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希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自己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在天国中会得到人世间得不到的快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请同学们把你设想的葛朗台的结局作一下比较，探讨一下小说的结局是否合理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目标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2361960"/>
            <a:ext cx="88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过作品中对人物细致入微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细节刻画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分析把握“葛朗台”这一形象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性格特征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认识葛朗台这一艺术形象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世界文学史上的典型意义和价值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步骤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复习旧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阅读感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交流分析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是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9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纪</a:t>
            </a:r>
            <a:r>
              <a:rPr b="0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法国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伟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批判现实主义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作家，欧洲批判现实主义文学的奠基人和杰出代表。一生创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长、中、短篇小说和随笔，总名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其中代表作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欧也妮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高老头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22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648720" cy="71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１７９９年出生于巴黎西南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图尔城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一个中产阶级家庭。从小酷爱读书，十二、三岁时，从给他补习数学的艺术学院图书管理员那里借阅了大量书籍，并把它们看作是自己的救星：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只有读书才能使我头脑活着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，否则“这种制度将完全摧毁了我的生命”。通过阅读，他广泛地吸收了各种思想，学到很多知识，为他以后的创作打下坚实的基础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１８１４年迁居巴黎。１８１６年入法律学校攻读法律，曾在诉讼代理人事务所和公证人事务所当实习生，目睹了围绕财产而展开的形形色色的激烈斗争，接触到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金钱统治一切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黑暗内幕，给他很多感触。毕业后没按父母希望从事法律工作，毅然走上文学创作的道路。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了获得独立生活和从事创作的物质保障，他曾试笔并插足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商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从事出版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印刷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但都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破产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告终。这一切都为他认识社会、描写社会提供了极为珍贵的第一手材料。他不断追求和探索，对哲学、经济学、历史、自然科学、神学等领域进行了深入研究，积累了极为广博的知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1:12:30Z</dcterms:created>
  <dc:creator> </dc:creator>
  <dc:description/>
  <dc:language>en-US</dc:language>
  <cp:lastModifiedBy>User</cp:lastModifiedBy>
  <dcterms:modified xsi:type="dcterms:W3CDTF">2010-08-09T09:13:20Z</dcterms:modified>
  <cp:revision>7</cp:revision>
  <dc:subject/>
  <dc:title> </dc:title>
</cp:coreProperties>
</file>