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D54-3362-4895-9CAE-9494F40B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D25-2F1B-4043-9AAA-E5F8382F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364-6180-4DBA-8F19-EE3C00D4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133-0304-422C-BED6-966299AD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D196-582F-48E0-9079-E8775686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5952-F104-4698-A499-7D419178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8F70-D67B-4A99-B604-B9DC05F6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2631-5B03-4711-B32E-ADBBE19C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BB04-625D-4923-90CD-03CD8B3B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467F-146F-4A29-89B3-47C94A1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5FC0-EE53-4A2A-A4B8-D8F8990A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E63-580A-4280-93EF-01639AF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E3A3-2B87-4EEE-B9B8-DE0C9872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DB18-9078-4955-9FF2-3B0C838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8713-BC39-4462-BB15-BDD86EFF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B482-58BC-46EE-B1EC-385D4E09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342D-BA3B-4BF1-9BE6-E5CB9F0D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27A-6F38-4635-B994-4F692EB2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550-F774-49A9-8648-15F09003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CC4-10C0-4A78-9972-B0E4C58B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0EE-2DF2-4025-9DE3-A4D01DCD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1DE-1B9D-4EAA-842D-8BF78925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FF4-40D9-4B67-81C8-77C4EF20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68C-61B2-4A24-857E-B6429909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7218-F275-4931-A3A7-A20D2C78F5F6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D752-EEFD-4919-8EAB-BC456864CE6F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第  </a:t>
            </a: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5  </a:t>
            </a: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课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</a:rPr>
              <a:t>三  大  改  造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950400" y="214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隶书"/>
              </a:rPr>
              <a:t>中国历史八年级下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农业合作化"/>
          <p:cNvPicPr/>
          <p:nvPr/>
        </p:nvPicPr>
        <p:blipFill>
          <a:blip r:embed="rId1"/>
          <a:stretch/>
        </p:blipFill>
        <p:spPr>
          <a:xfrm>
            <a:off x="357120" y="1643040"/>
            <a:ext cx="8382240" cy="5214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0" y="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、公私合营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30000"/>
            <a:ext cx="86788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起，国家对资本主义工商业社会主义改造，形式采取公私合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出现全行业公私合营高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关于 “ 赎买政策 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国家对资本家占有的生产资料，进行赎买，发给定息。资本家不再占有和经营原来企业。这种赎买政策，实现了和平过渡，是中国社会主义改造的创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0" y="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857160" y="31431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取赎买的政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因为资本主义工商业保留着资本主义剥削，与人民民主国家、工人阶级存在着矛盾，必须进行改造；而它的所有者民族资产阶级又属人民的范畴，因此必须有所区别对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716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探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85880" y="27860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质：实现了生产资料由私有制转变为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928800" y="4143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意义：建立了社会主义基本制度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国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2571840" y="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评价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是前所未有的伟业，原先计划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完成，结果只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就完成，更是了不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胜利完成是因为政策对头、路线对头，人民对社会主义的向往，赢得人民的支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后期存在的缺点：要求过急、工作过粗、改变过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71476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89000" y="2421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66400" y="2637000"/>
            <a:ext cx="72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71720" y="1928880"/>
            <a:ext cx="285480" cy="3786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95040 h 3786120"/>
              <a:gd name="textAreaBottom" fmla="*/ 36910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5400" y="10800"/>
                  <a:pt x="0" y="10800"/>
                </a:cubicBezTo>
                <a:cubicBezTo>
                  <a:pt x="54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00120" y="1643040"/>
            <a:ext cx="720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任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国家对农业、手工业、资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义工商业的社会主义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430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843280" y="314172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357720" y="30718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合作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4800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796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赎买政策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059280" y="4869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私有制转变为社会主义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13200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初步建立社会主义基本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132000" y="609300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2771640" y="5157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5212800" y="10000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2500200" y="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620640" y="217800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右图是一本连环画的封面，该书讲述了孙家庄农民孙志刚的故事，图中的“社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生产的合作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公社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包产到组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00680" y="3286080"/>
            <a:ext cx="4243320" cy="250020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785880" y="414324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71680" y="2000160"/>
            <a:ext cx="766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中学历史兴趣小组要完成关于“农业、农村、农民”问题的调查报告，准备今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访问一位经历过“农业生产合作社”的农民，最适合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林大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7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谢伯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田大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杜阿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42960" y="4500720"/>
            <a:ext cx="2786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14240" y="1714680"/>
            <a:ext cx="766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我国基本上完成对农业的社会主义改造，土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农民所有转变为集体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国有转变为农民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国家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农民私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857160" y="3429000"/>
            <a:ext cx="5929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42960" y="164304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宁德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人问一位被称为“纺织大王”的资本家为什么要接受社会主义改造的时候，他说：“是的，我是一个资本家，但是我首先是一个中国人。”这里所说的“社会主义改造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农业的改造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手工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养殖业的改造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资本主义工商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85880" y="5643720"/>
            <a:ext cx="4857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14200" y="4643280"/>
            <a:ext cx="1800360" cy="7207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071800" y="3857760"/>
            <a:ext cx="433440" cy="2160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786040" y="3714840"/>
            <a:ext cx="1513080" cy="57600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786040" y="4643280"/>
            <a:ext cx="1513080" cy="576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工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714760" y="5500800"/>
            <a:ext cx="1512720" cy="86364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资本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商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500720" y="3929040"/>
            <a:ext cx="142560" cy="1152720"/>
          </a:xfrm>
          <a:custGeom>
            <a:avLst/>
            <a:gdLst>
              <a:gd name="textAreaLeft" fmla="*/ 0 w 142560"/>
              <a:gd name="textAreaRight" fmla="*/ 51480 w 142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929120" y="4143240"/>
            <a:ext cx="1297080" cy="360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作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857840" y="5715000"/>
            <a:ext cx="1439640" cy="5032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286160" y="5929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500880" y="4214880"/>
            <a:ext cx="144360" cy="1512720"/>
          </a:xfrm>
          <a:custGeom>
            <a:avLst/>
            <a:gdLst>
              <a:gd name="textAreaLeft" fmla="*/ 0 w 144360"/>
              <a:gd name="textAreaRight" fmla="*/ 5220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912000" y="3357720"/>
            <a:ext cx="2232000" cy="29509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资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私有制转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公有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国初步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社会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制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500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方法导航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16"/>
          <p:cNvSpPr/>
          <p:nvPr/>
        </p:nvSpPr>
        <p:spPr>
          <a:xfrm>
            <a:off x="104544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42960" y="928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68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陈云在一届人大上发言时说：“企业的私有制向社会主义公有制改变，这在世界上早就出现过，但采用这样一种和平方法，使全国工商界都兴高采烈来接受这种改变，是史无前例的第一次。”陈云所说的这种和平方法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开展土地改革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立生产合作社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制定一五计划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实行赎买政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786200" y="6215040"/>
            <a:ext cx="3214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1680" y="1643040"/>
            <a:ext cx="766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京模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图反映了某时期我国公私经济成分的比例情况，这种情况最早应出现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19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195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195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7227720" cy="224316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3500280" y="6643800"/>
            <a:ext cx="171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680" y="1928880"/>
            <a:ext cx="766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充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国进入社会主义初级阶段的标志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宣告成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宪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制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大改造的基本完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个五年计划开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642960" y="44290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85880" y="1785960"/>
            <a:ext cx="766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世纪以来，中国社会经历了三次历史性巨变。第二次巨变是中华人民共和国的成立和社会主义制度的建立，与这两件大事相关的年份分别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85880" y="62866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00040" y="1595520"/>
            <a:ext cx="59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图是中国民族资本主义曲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历程示意图。图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处相对应的历史事件正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鸦片战争  辛亥革命  新中国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三大改造完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人民公社化运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甲午中日战争  辛亥革命  土地改革完成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657520" cy="178092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571680" y="4214880"/>
            <a:ext cx="564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68240" y="752400"/>
            <a:ext cx="76629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识读下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回答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幅图片分别出现于哪一历史时期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图一到图二可以看出土地所有制经历了怎样的变化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图二中农民积极报名加入的是什么社？走的是什么道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代中期，我国农村土地实行由“分”到“合”政策的目的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608796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0" y="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4200" y="1571760"/>
            <a:ext cx="628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(2009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烟台学业考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荣毅仁，中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著名的民主人士，被陈毅副总理称为“红色资本家”。追溯荣氏家族企业的发展史，可归结为“创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衰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发展”的轨迹，这一轨迹也印证了中国近代民族工业的发展历程。阅读材料，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一    读右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判断，这幅示意图反映的史实应是荣氏家族企业发展的哪个时期？这一时期出现图片所示情况的主要原因是什么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6537240" y="1143000"/>
            <a:ext cx="2606760" cy="446868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00040" y="1071720"/>
            <a:ext cx="780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九一八事变后，北方面粉市场被日本侵占，日本的棉纺织品也在中国大量倾销。荣氏企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生产面粉和棉纺织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陷入困境，他们多次向国民政府请求帮助都没有结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氏企业损失了总资产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%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材料二，结合所学知识分析，中国近代民族工业有哪些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73200" y="633240"/>
            <a:ext cx="7662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毅仁接受了国家对资本主义工商业的社会主义改造，迎来了荣氏企业的再发展时期。国家对资本主义工商业进行社会主义改造的政策和方式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荣氏家族企业的发展轨迹，谈谈你对中国民族企业发展的认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786120" y="1285920"/>
            <a:ext cx="4791240" cy="2333520"/>
          </a:xfrm>
          <a:prstGeom prst="rect">
            <a:avLst/>
          </a:prstGeom>
          <a:ln w="0">
            <a:noFill/>
          </a:ln>
        </p:spPr>
      </p:pic>
      <p:sp>
        <p:nvSpPr>
          <p:cNvPr id="219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导入：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毛飞上天，比喻不可能的事。你听过“鸡毛飞上天”的事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71680" y="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1953"/>
          <p:cNvPicPr/>
          <p:nvPr/>
        </p:nvPicPr>
        <p:blipFill>
          <a:blip r:embed="rId1"/>
          <a:stretch/>
        </p:blipFill>
        <p:spPr>
          <a:xfrm>
            <a:off x="285840" y="2786040"/>
            <a:ext cx="8572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自学课文，探究问题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农业为什么必须走合作化道路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怎样评价三大改造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07240" cy="4619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00960" y="3786120"/>
            <a:ext cx="8874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43040" y="4286160"/>
            <a:ext cx="61920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0" y="4786200"/>
            <a:ext cx="15588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71760" y="5286240"/>
            <a:ext cx="658800" cy="3495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714760" y="5786280"/>
            <a:ext cx="914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257840" y="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8240" y="1928880"/>
            <a:ext cx="76089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41400" y="2514600"/>
            <a:ext cx="6192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38400"/>
            <a:ext cx="65880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30800" y="3994200"/>
            <a:ext cx="617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22600" y="4451400"/>
            <a:ext cx="23940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7647120" cy="4010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86000" y="3071880"/>
            <a:ext cx="579600" cy="295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143160" y="3071880"/>
            <a:ext cx="64476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500720" y="3571920"/>
            <a:ext cx="127764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929280" y="4572000"/>
            <a:ext cx="126396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86040" y="5072040"/>
            <a:ext cx="2003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57720" y="5572080"/>
            <a:ext cx="563400" cy="308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7666200" cy="288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5880" y="5000760"/>
            <a:ext cx="7643880" cy="147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286000" y="2286000"/>
            <a:ext cx="6048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215040" y="3214800"/>
            <a:ext cx="2271600" cy="363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29040" y="4214880"/>
            <a:ext cx="12366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14680" y="5000760"/>
            <a:ext cx="1250640" cy="334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286680" y="5500800"/>
            <a:ext cx="119664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143080" y="6000840"/>
            <a:ext cx="12240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85840" y="2858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建国后农村已经完成土改，为什么还要对农业进行社会主义改造？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4981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分散。当时我国农业是一家一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体经营，缺乏工具和资金，难以解决水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问题，难以抵御自然灾害，难以合理使用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地，并且出现新的贫富分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落后。不能使用先进的农业机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国家工业化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走共同富裕的社会主义道路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39:27Z</dcterms:created>
  <dc:creator>MS User</dc:creator>
  <dc:description/>
  <dc:language>en-US</dc:language>
  <cp:lastModifiedBy>SUDA</cp:lastModifiedBy>
  <dcterms:modified xsi:type="dcterms:W3CDTF">2011-02-27T13:16:05Z</dcterms:modified>
  <cp:revision>82</cp:revision>
  <dc:subject/>
  <dc:title>第 2 课</dc:title>
</cp:coreProperties>
</file>