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531-D691-43CE-9F93-59DEAE12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DF3-952C-469B-B051-457C382D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FDB-1D53-4EC9-A816-FFE1E4B8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145-8B92-4FFC-98CE-49735C10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F84E-72C2-40F4-8CF9-E4BCD299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92B4-67BE-4992-9FAA-04BBA06C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A62A-CA31-4D75-A6D2-5CBEFC76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53B4-B6F7-4EB4-9681-BBB97BB2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CFDD-8A58-4660-AE71-C3514A89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FE42-2A52-406A-B9F8-8DBE3307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CD22-1EA0-4589-8652-54C84988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EE58-1C7C-4553-8163-8B85A53F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B688-30DF-4417-B3F9-D84E3ECE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F536-AD84-4D3F-8D7D-7A263B86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25D8-A225-4FDE-9EEA-5A72CBCE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1288-39B0-4B91-A5FC-C4C0E283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E0BE-F6EA-4104-AF13-B142FD8B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7CA0-4829-46E1-850D-753C7B91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4A5B-1630-40D6-89DB-CD3D7D31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F55-AE44-45CA-8E21-D07A2A07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EAF2-9233-4A24-B176-BDB76CA5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A58-8B07-495B-A7C2-FA2CED03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A23-E6F9-45C3-8C43-710F0CC0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A8F-EA13-4CA8-BED3-9DB45CB4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4A05-F3C3-4144-B387-1B348DA4FE02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473040" y="3159000"/>
              <a:ext cx="866952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25B1-836F-47B7-A0CA-FC7342C58742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00"/>
                </a:solidFill>
                <a:latin typeface="Arial"/>
              </a:rPr>
              <a:t>第  </a:t>
            </a: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5  </a:t>
            </a:r>
            <a:r>
              <a:rPr b="1" i="1" lang="zh-CN" sz="6600" spc="-1" strike="noStrike">
                <a:solidFill>
                  <a:srgbClr val="ffff00"/>
                </a:solidFill>
                <a:latin typeface="Arial"/>
              </a:rPr>
              <a:t>课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05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</a:rPr>
              <a:t>三  大  改  造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950400" y="2142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隶书"/>
              </a:rPr>
              <a:t>中国历史八年级下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农业合作化"/>
          <p:cNvPicPr/>
          <p:nvPr/>
        </p:nvPicPr>
        <p:blipFill>
          <a:blip r:embed="rId1"/>
          <a:stretch/>
        </p:blipFill>
        <p:spPr>
          <a:xfrm>
            <a:off x="357120" y="1643040"/>
            <a:ext cx="8382240" cy="52149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0" y="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7772400" cy="8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二、公私合营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4200" y="1530000"/>
            <a:ext cx="867888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起，国家对资本主义工商业社会主义改造，形式采取公私合营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出现全行业公私合营高潮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关于 “ 赎买政策 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国家对资本家占有的生产资料，进行赎买，发给定息。资本家不再占有和经营原来企业。这种赎买政策，实现了和平过渡，是中国社会主义改造的创举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0" y="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</a:rPr>
              <a:t>动脑筋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资本主义工商业社会主义改造采取什么政策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0" y="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857160" y="314316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采取赎买的政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是因为资本主义工商业保留着资本主义剥削，与人民民主国家、工人阶级存在着矛盾，必须进行改造；而它的所有者民族资产阶级又属人民的范畴，因此必须有所区别对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57168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探究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大改造的实质和意义是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785880" y="278604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实质：实现了生产资料由私有制转变为公有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928800" y="414324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意义：建立了社会主义基本制度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我国进入社会主义初级阶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2571840" y="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429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评价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造是前所未有的伟业，原先计划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时间完成，结果只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时间就完成，更是了不起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大改造胜利完成是因为政策对头、路线对头，人民对社会主义的向往，赢得人民的支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造后期存在的缺点：要求过急、工作过粗、改变过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矩形 4"/>
          <p:cNvSpPr/>
          <p:nvPr/>
        </p:nvSpPr>
        <p:spPr>
          <a:xfrm>
            <a:off x="2714760" y="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本课小结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089000" y="2421000"/>
            <a:ext cx="4586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66400" y="2637000"/>
            <a:ext cx="729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大改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1071720" y="1928880"/>
            <a:ext cx="285480" cy="3786120"/>
          </a:xfrm>
          <a:custGeom>
            <a:avLst/>
            <a:gdLst>
              <a:gd name="textAreaLeft" fmla="*/ 182520 w 285480"/>
              <a:gd name="textAreaRight" fmla="*/ 285840 w 285480"/>
              <a:gd name="textAreaTop" fmla="*/ 95040 h 3786120"/>
              <a:gd name="textAreaBottom" fmla="*/ 369108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9"/>
                  <a:pt x="10800" y="1737"/>
                </a:cubicBezTo>
                <a:lnTo>
                  <a:pt x="10800" y="9063"/>
                </a:lnTo>
                <a:cubicBezTo>
                  <a:pt x="10800" y="9932"/>
                  <a:pt x="5400" y="10800"/>
                  <a:pt x="0" y="10800"/>
                </a:cubicBezTo>
                <a:cubicBezTo>
                  <a:pt x="5400" y="10800"/>
                  <a:pt x="10800" y="11669"/>
                  <a:pt x="10800" y="12537"/>
                </a:cubicBezTo>
                <a:lnTo>
                  <a:pt x="10800" y="19863"/>
                </a:lnTo>
                <a:cubicBezTo>
                  <a:pt x="10800" y="207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500120" y="1643040"/>
            <a:ext cx="7201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要任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国家对农业、手工业、资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义工商业的社会主义改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643040" y="3429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方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2843280" y="3141720"/>
            <a:ext cx="73080" cy="100800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357720" y="307188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农业合作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348000" y="3716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公私合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796000" y="378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赎买政策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1619280" y="5229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意义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3059280" y="486900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私有制转变为社会主义公有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132000" y="55166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初步建立社会主义基本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3132000" y="6093000"/>
            <a:ext cx="53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进入社会主义初级阶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9"/>
          <p:cNvSpPr/>
          <p:nvPr/>
        </p:nvSpPr>
        <p:spPr>
          <a:xfrm>
            <a:off x="2771640" y="515772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矩形 16"/>
          <p:cNvSpPr/>
          <p:nvPr/>
        </p:nvSpPr>
        <p:spPr>
          <a:xfrm>
            <a:off x="5212800" y="100008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矩形 17"/>
          <p:cNvSpPr/>
          <p:nvPr/>
        </p:nvSpPr>
        <p:spPr>
          <a:xfrm>
            <a:off x="2500200" y="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620640" y="2178000"/>
            <a:ext cx="766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右图是一本连环画的封面，该书讲述了孙家庄农民孙志刚的故事，图中的“社”指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农业生产的合作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公私合营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人民公社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包产到组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4900680" y="3286080"/>
            <a:ext cx="4243320" cy="2500200"/>
          </a:xfrm>
          <a:prstGeom prst="rect">
            <a:avLst/>
          </a:prstGeom>
          <a:ln w="0">
            <a:noFill/>
          </a:ln>
        </p:spPr>
      </p:pic>
      <p:sp>
        <p:nvSpPr>
          <p:cNvPr id="181" name="Line 5"/>
          <p:cNvSpPr/>
          <p:nvPr/>
        </p:nvSpPr>
        <p:spPr>
          <a:xfrm>
            <a:off x="785880" y="414324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矩形 5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571680" y="2000160"/>
            <a:ext cx="7662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希望中学历史兴趣小组要完成关于“农业、农村、农民”问题的调查报告，准备今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月访问一位经历过“农业生产合作社”的农民，最适合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林大爷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7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           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谢伯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5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田大叔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           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杜阿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642960" y="4500720"/>
            <a:ext cx="2786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0" y="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714240" y="1714680"/>
            <a:ext cx="7662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我国基本上完成对农业的社会主义改造，土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农民所有转变为集体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国有转变为农民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集体所有转变为国家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集体所有转变为农民私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857160" y="3429000"/>
            <a:ext cx="5929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矩形 3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642960" y="1643040"/>
            <a:ext cx="766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宁德中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人问一位被称为“纺织大王”的资本家为什么要接受社会主义改造的时候，他说：“是的，我是一个资本家，但是我首先是一个中国人。”这里所说的“社会主义改造”指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农业的改造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手工业的改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养殖业的改造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资本主义工商业的改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785880" y="5643720"/>
            <a:ext cx="4857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214200" y="4643280"/>
            <a:ext cx="1800360" cy="72072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大改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2071800" y="3857760"/>
            <a:ext cx="433440" cy="2160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786040" y="3714840"/>
            <a:ext cx="1513080" cy="57600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农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786040" y="4643280"/>
            <a:ext cx="1513080" cy="57636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手工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714760" y="5500800"/>
            <a:ext cx="1512720" cy="86364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资本主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工商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4500720" y="3929040"/>
            <a:ext cx="142560" cy="1152720"/>
          </a:xfrm>
          <a:custGeom>
            <a:avLst/>
            <a:gdLst>
              <a:gd name="textAreaLeft" fmla="*/ 0 w 142560"/>
              <a:gd name="textAreaRight" fmla="*/ 51480 w 1425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4929120" y="4143240"/>
            <a:ext cx="1297080" cy="36036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合作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4857840" y="5715000"/>
            <a:ext cx="1439640" cy="5032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公私合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4286160" y="59292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500880" y="4214880"/>
            <a:ext cx="144360" cy="1512720"/>
          </a:xfrm>
          <a:custGeom>
            <a:avLst/>
            <a:gdLst>
              <a:gd name="textAreaLeft" fmla="*/ 0 w 144360"/>
              <a:gd name="textAreaRight" fmla="*/ 52200 w 14436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912000" y="3357720"/>
            <a:ext cx="2232000" cy="295092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产资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私有制转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公有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国初步建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社会主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基本制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Box 15"/>
          <p:cNvSpPr/>
          <p:nvPr/>
        </p:nvSpPr>
        <p:spPr>
          <a:xfrm>
            <a:off x="500040" y="271476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方法导航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矩形 16"/>
          <p:cNvSpPr/>
          <p:nvPr/>
        </p:nvSpPr>
        <p:spPr>
          <a:xfrm>
            <a:off x="1045440" y="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习目标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矩形 17"/>
          <p:cNvSpPr/>
          <p:nvPr/>
        </p:nvSpPr>
        <p:spPr>
          <a:xfrm>
            <a:off x="642960" y="92880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571680" y="171468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陈云在一届人大上发言时说：“企业的私有制向社会主义公有制改变，这在世界上早就出现过，但采用这样一种和平方法，使全国工商界都兴高采烈来接受这种改变，是史无前例的第一次。”陈云所说的这种和平方法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开展土地改革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建立生产合作社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制定一五计划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实行赎买政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4786200" y="6215040"/>
            <a:ext cx="3214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571680" y="1643040"/>
            <a:ext cx="7662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南京模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下图反映了某时期我国公私经济成分的比例情况，这种情况最早应出现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  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1949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195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195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195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71720" y="3286080"/>
            <a:ext cx="7227720" cy="2243160"/>
          </a:xfrm>
          <a:prstGeom prst="rect">
            <a:avLst/>
          </a:prstGeom>
          <a:ln w="0">
            <a:noFill/>
          </a:ln>
        </p:spPr>
      </p:pic>
      <p:sp>
        <p:nvSpPr>
          <p:cNvPr id="197" name="Line 5"/>
          <p:cNvSpPr/>
          <p:nvPr/>
        </p:nvSpPr>
        <p:spPr>
          <a:xfrm>
            <a:off x="3500280" y="6643800"/>
            <a:ext cx="1714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矩形 4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571680" y="1928880"/>
            <a:ext cx="7662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南充中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国进入社会主义初级阶段的标志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华人民共和国宣告成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华人民共和国宪法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制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三大改造的基本完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个五年计划开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5"/>
          <p:cNvSpPr/>
          <p:nvPr/>
        </p:nvSpPr>
        <p:spPr>
          <a:xfrm>
            <a:off x="642960" y="442908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矩形 3"/>
          <p:cNvSpPr/>
          <p:nvPr/>
        </p:nvSpPr>
        <p:spPr>
          <a:xfrm>
            <a:off x="0" y="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785880" y="1785960"/>
            <a:ext cx="7662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.2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世纪以来，中国社会经历了三次历史性巨变。第二次巨变是中华人民共和国的成立和社会主义制度的建立，与这两件大事相关的年份分别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785880" y="628668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矩形 3"/>
          <p:cNvSpPr/>
          <p:nvPr/>
        </p:nvSpPr>
        <p:spPr>
          <a:xfrm>
            <a:off x="0" y="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00040" y="1595520"/>
            <a:ext cx="592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右图是中国民族资本主义曲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展历程示意图。图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处相对应的历史事件正确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鸦片战争  辛亥革命  新中国成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洋务运动  第一次世界大战  三大改造完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洋务运动  第一次世界大战  人民公社化运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甲午中日战争  辛亥革命  土地改革完成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6072120" y="1571760"/>
            <a:ext cx="2657520" cy="1780920"/>
          </a:xfrm>
          <a:prstGeom prst="rect">
            <a:avLst/>
          </a:prstGeom>
          <a:ln w="0">
            <a:noFill/>
          </a:ln>
        </p:spPr>
      </p:pic>
      <p:sp>
        <p:nvSpPr>
          <p:cNvPr id="207" name="Line 5"/>
          <p:cNvSpPr/>
          <p:nvPr/>
        </p:nvSpPr>
        <p:spPr>
          <a:xfrm>
            <a:off x="571680" y="4214880"/>
            <a:ext cx="5643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矩形 5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768240" y="752400"/>
            <a:ext cx="766296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识读下图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请回答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两幅图片分别出现于哪一历史时期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由图一到图二可以看出土地所有制经历了怎样的变化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图二中农民积极报名加入的是什么社？走的是什么道路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)2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世纪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代中期，我国农村土地实行由“分”到“合”政策的目的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2857680" y="1000080"/>
            <a:ext cx="6087960" cy="2241720"/>
          </a:xfrm>
          <a:prstGeom prst="rect">
            <a:avLst/>
          </a:prstGeom>
          <a:ln w="0">
            <a:noFill/>
          </a:ln>
        </p:spPr>
      </p:pic>
      <p:sp>
        <p:nvSpPr>
          <p:cNvPr id="211" name="矩形 3"/>
          <p:cNvSpPr/>
          <p:nvPr/>
        </p:nvSpPr>
        <p:spPr>
          <a:xfrm>
            <a:off x="0" y="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14200" y="1571760"/>
            <a:ext cx="6286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.(2009·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烟台学业考试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荣毅仁，中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著名的民主人士，被陈毅副总理称为“红色资本家”。追溯荣氏家族企业的发展史，可归结为“创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展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衰落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再发展”的轨迹，这一轨迹也印证了中国近代民族工业的发展历程。阅读材料，回答问题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材料一    读右图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你判断，这幅示意图反映的史实应是荣氏家族企业发展的哪个时期？这一时期出现图片所示情况的主要原因是什么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6537240" y="1143000"/>
            <a:ext cx="2606760" cy="4468680"/>
          </a:xfrm>
          <a:prstGeom prst="rect">
            <a:avLst/>
          </a:prstGeom>
          <a:ln w="0">
            <a:noFill/>
          </a:ln>
        </p:spPr>
      </p:pic>
      <p:sp>
        <p:nvSpPr>
          <p:cNvPr id="214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500040" y="1071720"/>
            <a:ext cx="7805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材料二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九一八事变后，北方面粉市场被日本侵占，日本的棉纺织品也在中国大量倾销。荣氏企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要生产面粉和棉纺织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陷入困境，他们多次向国民政府请求帮助都没有结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荣氏企业损失了总资产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5%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依据材料二，结合所学知识分析，中国近代民族工业有哪些特点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673200" y="633240"/>
            <a:ext cx="76626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材料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荣毅仁接受了国家对资本主义工商业的社会主义改造，迎来了荣氏企业的再发展时期。国家对资本主义工商业进行社会主义改造的政策和方式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通过荣氏家族企业的发展轨迹，谈谈你对中国民族企业发展的认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3786120" y="1285920"/>
            <a:ext cx="4791240" cy="2333520"/>
          </a:xfrm>
          <a:prstGeom prst="rect">
            <a:avLst/>
          </a:prstGeom>
          <a:ln w="0">
            <a:noFill/>
          </a:ln>
        </p:spPr>
      </p:pic>
      <p:sp>
        <p:nvSpPr>
          <p:cNvPr id="219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导入：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7772400" cy="136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鸡毛飞上天，比喻不可能的事。你听过“鸡毛飞上天”的事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571680" y="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1953"/>
          <p:cNvPicPr/>
          <p:nvPr/>
        </p:nvPicPr>
        <p:blipFill>
          <a:blip r:embed="rId1"/>
          <a:stretch/>
        </p:blipFill>
        <p:spPr>
          <a:xfrm>
            <a:off x="285840" y="2786040"/>
            <a:ext cx="8572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772400" cy="11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自学课文，探究问题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农业为什么必须走合作化道路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资本主义工商业社会主义改造采取什么政策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大改造的实质和意义是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怎样评价三大改造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0" y="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7707240" cy="46195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7500960" y="3786120"/>
            <a:ext cx="8874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643040" y="4286160"/>
            <a:ext cx="619200" cy="349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6858000" y="4786200"/>
            <a:ext cx="155880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71760" y="5286240"/>
            <a:ext cx="658800" cy="3495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714760" y="5786280"/>
            <a:ext cx="914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1257840" y="0"/>
            <a:ext cx="43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768240" y="1928880"/>
            <a:ext cx="7608960" cy="30002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841400" y="2514600"/>
            <a:ext cx="6192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828800" y="3038400"/>
            <a:ext cx="658800" cy="282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330800" y="3994200"/>
            <a:ext cx="617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522600" y="4451400"/>
            <a:ext cx="23940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0" y="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7647120" cy="40100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2286000" y="3071880"/>
            <a:ext cx="579600" cy="295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143160" y="3071880"/>
            <a:ext cx="644760" cy="282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500720" y="3571920"/>
            <a:ext cx="127764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929280" y="4572000"/>
            <a:ext cx="126396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786040" y="5072040"/>
            <a:ext cx="2003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357720" y="5572080"/>
            <a:ext cx="563400" cy="3081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714240" y="1785960"/>
            <a:ext cx="7666200" cy="2886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785880" y="5000760"/>
            <a:ext cx="7643880" cy="14763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2286000" y="2286000"/>
            <a:ext cx="6048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215040" y="3214800"/>
            <a:ext cx="2271600" cy="363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929040" y="4214880"/>
            <a:ext cx="12366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14680" y="5000760"/>
            <a:ext cx="1250640" cy="3348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286680" y="5500800"/>
            <a:ext cx="1196640" cy="349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143080" y="6000840"/>
            <a:ext cx="122400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285840" y="2858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建国后农村已经完成土改，为什么还要对农业进行社会主义改造？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4200" y="1642680"/>
            <a:ext cx="849816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农业合作化的原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、分散。当时我国农业是一家一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个体经营，缺乏工具和资金，难以解决水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问题，难以抵御自然灾害，难以合理使用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地，并且出现新的贫富分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二、落后。不能使用先进的农业机械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农业合作化的必要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、国家工业化的需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二、走共同富裕的社会主义道路需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1:39:27Z</dcterms:created>
  <dc:creator>MS User</dc:creator>
  <dc:description/>
  <dc:language>en-US</dc:language>
  <cp:lastModifiedBy>SUDA</cp:lastModifiedBy>
  <dcterms:modified xsi:type="dcterms:W3CDTF">2011-02-27T13:16:05Z</dcterms:modified>
  <cp:revision>82</cp:revision>
  <dc:subject/>
  <dc:title>第 2 课</dc:title>
</cp:coreProperties>
</file>