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278-032B-4F09-BCD5-B5A1CDAF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534-4323-4BD4-B493-F7C557F7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C69-4FF7-4DCC-BFCB-A4F05A7C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4EA-2110-430C-B0C4-446D9BA3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0D5C-6B59-46FB-97BE-EDE25A70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06D4-1C76-4AD3-9C19-146C78F2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E911-B149-473F-941D-78F6B190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53DC-D71E-46B2-AC45-57FA4471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46CD-444C-4D69-B8D4-097D3531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F746-B4F0-4D6E-B0FD-4A7BB8C3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5815-7F59-4E07-B8A5-97DBC2A8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3FA-A38A-4588-8A6B-D8DD190B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2621-37D1-4720-BB5C-D7335CF9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96B2-972C-429C-889C-A2597740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8C3A-224C-4B83-AC72-81EE05FF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5AFC-7214-493D-BC8C-1EB02784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361B-0BF1-4D8D-89C3-F2E64006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CE7-407E-4238-B756-5043731E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ED7-C8F0-4338-B731-B20870C9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804-0CA1-44C5-AD38-4799B5B0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302-BDCE-4F17-A1AB-8E8ADD82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41A-E683-47F1-957C-44B1A348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3189-5969-4BC4-8FF7-9DD64534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1BA-A1FA-467F-BECC-9D629E61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333333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52FE-60BA-462B-BD7C-A0E5E6B968F4}" type="slidenum">
              <a:rPr b="1" lang="zh-CN" sz="10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8103-E6F1-4266-B6EE-70E1B522E36E}" type="slidenum"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6e8e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06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6e8e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1057320" y="685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93240" y="9446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4674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8:54:39Z</dcterms:created>
  <dc:creator>微软用户</dc:creator>
  <dc:description/>
  <dc:language>en-US</dc:language>
  <cp:lastModifiedBy>未知用户</cp:lastModifiedBy>
  <dcterms:modified xsi:type="dcterms:W3CDTF">2015-11-24T09:28:37Z</dcterms:modified>
  <cp:revision>3</cp:revision>
  <dc:subject/>
  <dc:title>droobah</dc:title>
</cp:coreProperties>
</file>