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746-060C-4910-8A65-FDDF00FC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0279-5440-4C7D-AC5B-8080F1AF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347-7471-4F40-9D3F-3C74D610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A82-496B-4DD2-88F8-7B3C21A6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0135-15A5-4AD9-8554-B59E76A5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4ED5-E66A-4E70-903C-1121AEFD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44D6-B329-4A5B-B95B-C3696356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7E24-835A-4B1A-AF0D-AFA777A6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428F-FAF9-4581-8B5B-BAE3264C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0A04-26FF-47F2-9FC4-8031F257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3674-7F81-4941-9CE9-71E0D357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E92-8720-425D-9C11-DFBACC08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D7C0-66F0-45FF-94C1-36C95FFB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DF0B-F944-44F2-B1C3-3BCE0A50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6C32-DF51-4B64-998A-C4EE2579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86BE-6AAE-42A4-9F47-626D3BED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FEDC-1C01-4F04-B138-0AD34F4C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72B4-D002-4207-9F34-FD090FEC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37B-4954-40F9-B0FF-32FD0998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755-AD2E-4A37-A651-662491DE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A18-5591-48D8-B85C-2E093B3B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163-0763-4ABB-95F0-A3FB183B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051-FEC6-48F1-90BB-18EC26A2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6AD-A9B5-4D73-B786-53A731D2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333333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CF52-E1D2-45B4-B212-317E2C422601}" type="slidenum">
              <a:rPr b="1" lang="zh-CN" sz="10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8785-B7D1-43AB-9D2C-90B1474F56BE}" type="slidenum"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6e8e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06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6e8e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1057320" y="685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93240" y="9446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4674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8:54:39Z</dcterms:created>
  <dc:creator>微软用户</dc:creator>
  <dc:description/>
  <dc:language>en-US</dc:language>
  <cp:lastModifiedBy>未知用户</cp:lastModifiedBy>
  <dcterms:modified xsi:type="dcterms:W3CDTF">2015-11-24T09:28:37Z</dcterms:modified>
  <cp:revision>3</cp:revision>
  <dc:subject/>
  <dc:title>droobah</dc:title>
</cp:coreProperties>
</file>