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06F-508A-4CDD-A4BC-9F60E608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E72-BBFF-4F23-874A-5D5A5A01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0B5-AE70-4F73-B871-2460C582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E26-9472-461B-A9F1-05D0D03A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84C-D46E-4FE5-AF49-92351814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EB8B-D4DB-47A1-BFDA-471D52E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6FBE-C218-466A-83E7-40870BD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DE69-E730-4B28-AC9D-F4D1F13B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38A-0D43-4CFB-AE61-89D2048A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52BA-E2C9-4FFA-A1E3-E5AC0D52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3C44-C3EC-410D-A7E6-05A82B41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D59-030A-41BB-AEDD-296FE73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901-C301-4861-A94F-DAAAAF6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FCF5-D466-4E7B-AE7A-FB6D2E5A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C19D-6DA7-4F0E-97B4-8BD830F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119-6FD9-4389-A8DF-5A564599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90512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20642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A55E-90E1-4117-98FD-7E93891C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C942-31C9-4B43-B7C3-3DA278D6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F2D-C131-41BA-9DBA-3ADAAAEC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A6C-51BE-41B9-94FB-38E374A1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549-EB74-4E27-AE89-72D4F6BF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F25-6CFB-4D5E-8E8F-7F71C1F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20642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522-0639-4372-B248-94E9446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90512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20642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11F-1F8B-49CC-AFC0-4AB34DEF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442-0192-44FD-B446-8A4E90CD8C96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9BB-D18E-47CB-BC16-0903DF0A1FF8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微软用户</dc:creator>
  <dc:description/>
  <dc:language>en-US</dc:language>
  <cp:lastModifiedBy>未知用户</cp:lastModifiedBy>
  <dcterms:modified xsi:type="dcterms:W3CDTF">2015-11-24T09:28:37Z</dcterms:modified>
  <cp:revision>3</cp:revision>
  <dc:subject/>
  <dc:title>droobah</dc:title>
</cp:coreProperties>
</file>