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CF0-27A1-4E41-BBE1-5C4FA1BE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CD7-6CED-46D6-9569-5A3363CE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2A8-EF1E-4E46-BAF6-5A671AC9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3EF-A1CB-44E8-B24D-B78E21C4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34E5-D0B9-424E-9FE5-5B594ACF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A669-5C60-40D8-9893-4671E160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266B-3DDE-4F5A-8DE5-F49C7444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2723-9712-4625-B0B7-5DE0FEC9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95DD-9326-4305-B8F8-F2D7455F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065B-0168-47BA-9553-3916D562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10F5-7F34-4B0C-B9DC-F96A06E0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05B-5991-43CE-B539-CF6F2C16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3DE0-11B2-4343-B0C1-F6428EBD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949E-F8E4-4725-969C-D0C2FCF3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3F00-46A5-413E-B0B6-722ADBE3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D5E4-EF75-483E-BA53-9FA531AD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0898-5FF5-47AB-ABEF-2392A35D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055-1946-4149-86E2-FBDDCBAC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04B-D9BE-42D9-A335-CE51CD63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EBA-7D43-44F9-B880-4BBD125B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8C1-791F-49B3-87FE-B378C332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2FC-1D4D-4E8E-9F6F-EF93BACC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B12-0FAB-4644-B1C4-2B1D6E2F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C6A-1FBC-4865-A553-A36DD369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82CF-09CE-4769-98EA-FB8EFF6F5830}" type="slidenum">
              <a:rPr b="1" lang="zh-CN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867A-E801-422F-A115-DEBC88C64487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6e8e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6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6e8e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057320" y="685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8:54:39Z</dcterms:created>
  <dc:creator>微软用户</dc:creator>
  <dc:description/>
  <dc:language>en-US</dc:language>
  <cp:lastModifiedBy>未知用户</cp:lastModifiedBy>
  <dcterms:modified xsi:type="dcterms:W3CDTF">2015-11-24T09:28:37Z</dcterms:modified>
  <cp:revision>3</cp:revision>
  <dc:subject/>
  <dc:title>droobah</dc:title>
</cp:coreProperties>
</file>