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572E-EF57-4F8E-8B36-D8DC3976D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2064240"/>
            <a:ext cx="91440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0354-0605-4EB6-90A8-B7A625F69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190512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206424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206424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2226-E9B3-4D21-B1DC-B6997B380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190512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3360" y="190512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206424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206424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3360" y="206424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A582-C73D-4E39-8571-C318A4305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48828-FE1A-4FE0-BE0F-17D846D3D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0" y="1905120"/>
            <a:ext cx="9144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A3879-181B-4687-904F-E9B469C57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F6F7B-9FF5-4B89-A00A-B818B4DCF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44622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5760" y="1905120"/>
            <a:ext cx="44622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6AE2C-0D08-478C-A26D-54DAD8EDB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4E2BF-B1DA-425D-B3B9-A98B3D88A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1371240"/>
            <a:ext cx="9144000" cy="28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B6AEA-0A33-44D5-A33E-F1A2FF696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760" y="1905120"/>
            <a:ext cx="44622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0" y="206424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50D36-41D1-428F-B654-1DF6FF6B9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1905120"/>
            <a:ext cx="9144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9E71-5AF2-4A9E-981E-88EEEABBF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44622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760" y="190512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5760" y="206424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3F9C0-7B53-4620-BFF0-599A0CC3F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760" y="190512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0" y="2064240"/>
            <a:ext cx="91440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20729-3584-46C6-B222-6229F1A80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0" y="2064240"/>
            <a:ext cx="91440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28A55-538D-4F4F-89DD-77267E9F1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760" y="190512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0" y="206424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5760" y="206424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85D75-98D5-4AB4-9765-06D8D27F3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91680" y="190512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3360" y="190512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0" y="206424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91680" y="206424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3360" y="206424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E2F41-211F-4F94-9FAF-B80941D6A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FA8D-AC82-448A-8C2B-E7E4C0DA4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44622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1905120"/>
            <a:ext cx="44622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A837-D4DC-4F43-A41F-D6CD45925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E52B-4955-4CB5-B1B7-B74152302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1371240"/>
            <a:ext cx="9144000" cy="28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4C93-5413-4FCD-8F8C-B09EB5C8F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1905120"/>
            <a:ext cx="44622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206424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A5DD-7D96-4166-8EF0-16A1D5040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44622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190512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206424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4A9F-AD35-474E-8621-DF953C5F0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190512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2064240"/>
            <a:ext cx="91440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775B-875F-4B66-B65B-49579806A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960" y="609480"/>
            <a:ext cx="8915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705360"/>
            <a:ext cx="28958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333333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FB3A9-79A8-43DE-98F0-1D442568A58A}" type="slidenum">
              <a:rPr b="1" lang="zh-CN" sz="1000" spc="-1" strike="noStrike">
                <a:solidFill>
                  <a:srgbClr val="333333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705360"/>
            <a:ext cx="28958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3888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82F3A-4D0E-4B58-B1B0-120F2FE63C6C}" type="slidenum">
              <a:rPr b="1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nimationfactory.com/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image" Target="../media/image1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  <a:ea typeface="宋体"/>
              </a:rPr>
              <a:t>Your Topic Goes Here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5960" y="609480"/>
            <a:ext cx="8915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subtopic goes he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Impact"/>
                <a:ea typeface="宋体"/>
              </a:rPr>
              <a:t>Transitional Page</a:t>
            </a: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0" y="1905120"/>
            <a:ext cx="9144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6e8e"/>
                </a:solidFill>
                <a:latin typeface="Impact"/>
                <a:ea typeface="宋体"/>
              </a:rPr>
              <a:t>Your Topic Goes Here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960" y="609480"/>
            <a:ext cx="8915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406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6e8e"/>
                </a:solidFill>
                <a:latin typeface="Arial"/>
                <a:ea typeface="宋体"/>
              </a:rPr>
              <a:t>Your subtopic goes he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52280" y="944640"/>
            <a:ext cx="2438640" cy="12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宋体"/>
              </a:rPr>
              <a:t>Backdrop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These are full sized backdrops, just scale them up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Can be Copy-Pasted out of Templates for use anywher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753280" y="93816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itle Backdr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43760" y="938160"/>
            <a:ext cx="129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lide Backdr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887080" y="938160"/>
            <a:ext cx="127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rint Backdr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rId1"/>
          </p:cNvPr>
          <p:cNvSpPr/>
          <p:nvPr/>
        </p:nvSpPr>
        <p:spPr>
          <a:xfrm>
            <a:off x="1057320" y="68580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259092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2637000"/>
            <a:ext cx="2362320" cy="21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宋体"/>
              </a:rPr>
              <a:t>Additional Graphic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cale them up or dow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.GIF clipart is anim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.JPG clipart can be scaled up and take up little file sp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.PNG clipart can be scaled unusually large without distor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293240" y="944640"/>
            <a:ext cx="179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ransitional Backdr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867280" y="1219320"/>
            <a:ext cx="1447920" cy="108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666880" y="1219320"/>
            <a:ext cx="1447920" cy="108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4267080" y="1219320"/>
            <a:ext cx="1447920" cy="108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7467480" y="1219320"/>
            <a:ext cx="1447920" cy="108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9T08:54:39Z</dcterms:created>
  <dc:creator>微软用户</dc:creator>
  <dc:description/>
  <dc:language>en-US</dc:language>
  <cp:lastModifiedBy>未知用户</cp:lastModifiedBy>
  <dcterms:modified xsi:type="dcterms:W3CDTF">2015-11-24T09:28:37Z</dcterms:modified>
  <cp:revision>3</cp:revision>
  <dc:subject/>
  <dc:title>droobah</dc:title>
</cp:coreProperties>
</file>