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DF5-FB75-4BD7-9458-0DE2C34B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188-D8BC-473D-BF6F-FE8E2B72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8F3-CDD0-4FC9-A2CE-E5160FF8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E90-E6CF-41B4-B353-4E38F5F1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E2CA-EC24-4B9E-89D3-D1F409E3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DE61-60D3-4695-8479-3805AECF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706-DDBB-47B9-940F-C1EAFA2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D04B-80BD-4E69-AF81-CAB7324A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D9D9-5EDE-4E37-8C3D-402BA10E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EB62-9839-4F1C-8329-F2268C7E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137F-77E6-47A7-B7F7-E482A39C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96A-DA7B-4F87-91FA-3429CE37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2EAB-1F61-41E5-81A4-130286C4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1142-AD5F-4F04-AFBD-7CA5EC6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37EE-BEEB-40F1-B7C9-0E19D74E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C87F-1053-43DF-B8BB-0B752D15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898E-8A9D-4F20-9F20-B2ADCAC1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F35-6059-4166-A8D6-97380BB1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475-9A96-488A-B6DB-829F8D54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464-552F-4AFA-9243-73A361F3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D9C-14DF-439D-8F95-B85B7C3E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CB5-F5BA-4387-927C-77D7DB71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CC7-2E61-4E77-B63F-A7E492E2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91E-8207-477D-A6AF-D58A969B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397-9D0B-458B-96F2-65316A727132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A413-8EA1-46CB-B903-EB4399C98E03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微软用户</dc:creator>
  <dc:description/>
  <dc:language>en-US</dc:language>
  <cp:lastModifiedBy>未知用户</cp:lastModifiedBy>
  <dcterms:modified xsi:type="dcterms:W3CDTF">2015-11-24T09:28:37Z</dcterms:modified>
  <cp:revision>3</cp:revision>
  <dc:subject/>
  <dc:title>droobah</dc:title>
</cp:coreProperties>
</file>