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.jpeg" ContentType="image/jpeg"/>
  <Override PartName="/ppt/media/image23.jpeg" ContentType="image/jpeg"/>
  <Override PartName="/ppt/media/image4.png" ContentType="image/png"/>
  <Override PartName="/ppt/media/image11.gif" ContentType="image/gif"/>
  <Override PartName="/ppt/media/image7.gif" ContentType="image/gif"/>
  <Override PartName="/ppt/media/image26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8.gif" ContentType="image/gif"/>
  <Override PartName="/ppt/media/image10.gif" ContentType="image/gif"/>
  <Override PartName="/ppt/media/image5.png" ContentType="image/png"/>
  <Override PartName="/ppt/media/image30.gif" ContentType="image/gif"/>
  <Override PartName="/ppt/media/image14.jpeg" ContentType="image/jpeg"/>
  <Override PartName="/ppt/media/image1.jpeg" ContentType="image/jpeg"/>
  <Override PartName="/ppt/media/image22.jpeg" ContentType="image/jpeg"/>
  <Override PartName="/ppt/media/image29.gif" ContentType="image/gif"/>
  <Override PartName="/ppt/media/image15.jpeg" ContentType="image/jpeg"/>
  <Override PartName="/ppt/media/image9.gif" ContentType="image/gif"/>
  <Override PartName="/ppt/media/image16.jpeg" ContentType="image/jpeg"/>
  <Override PartName="/ppt/media/image12.gif" ContentType="image/gif"/>
  <Override PartName="/ppt/media/image17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5.jpeg" ContentType="image/jpeg"/>
  <Override PartName="/ppt/media/image13.wmf" ContentType="image/x-wmf"/>
  <Override PartName="/ppt/media/image2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D71C-89ED-4730-A7A2-FAC92780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5AA-A14E-4AB4-9B13-EC77C258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67D-40C0-47EA-8C92-739CBD80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1B3-5F7C-4707-B747-76C60F13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003-EA50-4BF9-8274-67E9B7FD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9C47-7BBF-4948-B84A-AA6AC6AC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DC65-B8F0-4D06-B810-A116D87E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5BF-5CE9-4D93-BE93-98A35C07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717-E25F-4814-BA37-BC287B28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136-6A35-4D62-BEA3-57094429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03B-60B8-4D81-9F20-51F0E852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3AE2-26E9-4B57-BEBC-6909421B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6F8B-AAD2-4FA9-882C-F8F6C7DDAF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71600" y="533520"/>
            <a:ext cx="75438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To be NO.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175280" y="5334120"/>
            <a:ext cx="451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5486400"/>
            <a:ext cx="4800600" cy="6426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———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七五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头想一下，拿到成绩后的感受和刚刚考完的感受肯定是有差距的，大家也许已经自己把考试总结写了下来。其实，最了解你的人就是你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考试不是为了别人，是为了自己，对自己负责的前提下剖析一下我们的心情。相信在没有作弊的前提下，考试后心态变化大概有这样几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不露声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春风得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懊恼不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伤心欲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埋怨愤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满不在乎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看看你属于哪一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8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300" spc="-1" strike="noStrike">
                <a:solidFill>
                  <a:srgbClr val="6600cc"/>
                </a:solidFill>
                <a:latin typeface="Arial"/>
                <a:ea typeface="幼圆"/>
              </a:rPr>
              <a:t>下面，咱们共同来对这些心理现象进行分析：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629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i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不露声色”者 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归纳如下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学得扎实，考得好。自信心强，胜不骄，败不馁。入学以来，成绩稳定，始终保持优良的成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良药苦口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我们还是要肯定自己，不断鼓励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915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春风得意”者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归纳如下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考好后，往往会沾沾自喜，甚至会自我吹嘘。这样虽然能增加信心，但也会导致自满自足，给以后的学习带来浮躁，导致成绩一上一下，不稳定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们应该明确学习是一个长期的任务，需要有韧性，需要有高目标，知道山外山、楼外楼，做到胜不骄，败不馁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懊恼不已”者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每次考试之后都会对自己的失误忏悔不已，不是说看错题目，就是说计算失误；不是说漏做了，就是说抄错答案。总是存在着侥幸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仿宋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从平时的每次作业开始克服粗心大意的毛病，平时学习要认真、扎实、细心和一丝不苟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12193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伤心欲绝”者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对自己认识不够准确。考前往往盲目自信，准备不足。所以考试的成绩和自己的预料往往相差很大，心理上不能接受眼前的现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认真分析试卷，对自己有一个较为客观的认识。既要克服盲目自信的心理，又要正确认识自己的能力，鼓起前进的勇气。</a:t>
            </a:r>
            <a:br>
              <a:rPr sz="2800"/>
            </a:br>
            <a:br>
              <a:rPr sz="800"/>
            </a:br>
            <a:r>
              <a:rPr b="1" lang="zh-CN" sz="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6600"/>
                </a:solidFill>
                <a:latin typeface="Arial"/>
                <a:ea typeface="幼圆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9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埋怨愤怒”者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考试后不检查自己平时学习上存在的问题。不是埋怨老师试卷出得不好，就是埋怨老师没有复习到考题。不是埋怨考试题目太难，就是埋怨老师改卷太严。甚至抱怨没有作弊成功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好好反省，端正学习态度，明确学习是为什么？为谁学？学习基础较差的同学，要在学习方法加以改进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仿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“满不在乎”者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考试后，瞄一下分数，试卷也不看一下，便扬长而去，表现的满不在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有的甚至破罐子破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我们应该对自己负责，这种现象我们班恐怕不多，相信每一个同学都想考出好成绩，实现自己的自我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cc0000"/>
                </a:solidFill>
                <a:latin typeface="Arial"/>
                <a:ea typeface="黑体"/>
              </a:rPr>
              <a:t>我们应该怎么做呢？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做学生真的好难，考试前为那个未知的结果紧张焦虑，考完以后也不轻松，因为没有交出满意的试卷，不知道如何去面对老师、面对家长、面对同学，更不知道如何面对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彩云"/>
              </a:rPr>
              <a:t>那么我们考后是不是还需要掌握一些从容大计，以便能够更好地去迎接下一次的挑战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934320" y="3808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57400" y="1447920"/>
            <a:ext cx="1295280" cy="761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14479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面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fc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057400" y="533520"/>
            <a:ext cx="4800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首先请大家做个游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2280" y="30481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Arial"/>
                <a:ea typeface="方正姚体"/>
              </a:rPr>
              <a:t>其实，他人怎么看你对你并不是很重要，关键是你会怎么看自己。如果你能够在不幸的事件发生以后还对自己充满信心的话，那你总会有一天会达到自己的期望和要求的，而他们对你的看法也会随着你的变化而变化。可如果你自己都看不起自己，让自己失去信心而自暴自弃，那他人怎么看你都是没有任何意义的，因为你已经彻底地输给自己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黑体"/>
              </a:rPr>
              <a:t>．关键你怎样看自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新宋体"/>
              </a:rPr>
              <a:t>看看你对考试失利的反应、感受、想法。除了害怕自己的父母对待自己的态度和方式外，有没有对自己很消极的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黑体"/>
              </a:rPr>
              <a:t>2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黑体"/>
              </a:rPr>
              <a:t>．重要的是寻根究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59092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宋体"/>
              </a:rPr>
              <a:t>是什么造成现在的问题呢？如果真的是很努力了，那会不会是没有瞄准目标，或是力气用的不是地方。所以，好好查查发生事故的原因到底在什么地方。首先看看试题都错在哪儿？分析一下出错的原因是粗心？是没有记住公式？是不能融会贯通与灵活应变，还是没有真正理解和掌握知识点？然后和老师同学们沟通交流，看看是不是自己学习方法有问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990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很多同学只重视考前复习，而忽视考后总结，不明白考试既是对前一阶段学习的总结，又是对以后学习的指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．必须立即行动起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2971440"/>
            <a:ext cx="86868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新宋体"/>
              </a:rPr>
              <a:t>其次是好好分析一下什么地方是可以努力和改变的，该改的改、该补的补。同时对以后的学习要重新作出合理的安排和计划，然后依旧认真努力地付出，相信你用辛勤的汗水灌溉的“大树”总会有枝繁叶茂、果实累累的那一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9907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幼圆"/>
              </a:rPr>
              <a:t>首先是宣泄掉失利带给自己的消极情绪。如果能够让自己哭出来并不是一件坏事情，所以，泪水并不是软弱的象征，更不会影响你的形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6600"/>
                </a:solidFill>
                <a:latin typeface="Arial"/>
                <a:ea typeface="黑体"/>
              </a:rPr>
              <a:t>学生要有“自反馈”过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657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古人讲“吾日三省吾身”，学生要经常检查和反思自己的学习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天要将各科的课堂笔记复看一遍的习惯，理科的较难的例题还应该复做一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周要把本周的学习内容回顾一遍的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一章学过后，要有归纳总结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考试过后要有分析试卷失分情况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周都要查一查自己有没有完成自己定下的学习计划。还有没有留下疑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53341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相信通过同学们的努力，在平时的学习、考试中不断进取，一定能在下次考试中取得骄人的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228600"/>
            <a:ext cx="8305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凿壁借光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西汉时，有个叫匡衡的人，非常勤奋好学，但家境贫困，买不起蜡烛。匡衡的邻居，家境富裕，夜间烛火通明。匡衡请求晚上去他家读书，但邻居不允许。不得已，匡衡想了一个办法，偷偷地在墙壁上凿了一个小洞，让邻居的亮光透过来，借着这点亮光读书。 用这种方法，匡衡读完了一些书，但他买不起新书。有一天，他发现一个财主家里藏着许多书，于是他向财主提出，愿意帮助干活，不要工钱。财主很奇怪，问其原因，匡衡说：“我给你干活，不要工钱，只是想借你家里的书看看。”财主听说只借书看而不要工钱，很是高兴。匡衡就这样读了很多书，因而成为一个很有学问的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3808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鲁迅嚼辣椒驱寒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鲁迅先生从小认真学习。少年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江南水师学堂读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学期成绩优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校奖一枚金质奖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立即拿到南京鼓楼街头卖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然后买了几本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买了一串红辣椒。每当晚上寒冷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夜读难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便摘下一颗辣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放在嘴里嚼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直辣得额头冒汗。他就用这种办法驱寒坚持读书。由于苦读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来终于成为我国著名的文学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亚南苦读成才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亚南小时候胸有大志，酷爱读书。他在读中学时，为了争取更多的时间读书，特意把自己睡的木板床的一条脚锯短半尺，成为三脚床。每天读到深夜，疲劳时上床去睡一觉后迷糊中一翻身，床向短脚方向倾斜过去，他一下子被惊醒过来，便立刻下床，伏案夜读。天天如此，从未间断。结果他年年都取得优异的成绩，被誉为班内的三杰之一。他由于少年时勤奋刻苦读书，后来，终于成为我国杰出的经济学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5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66880" y="855360"/>
            <a:ext cx="8277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盛年不再来，一日难再晨，及时当勉励，岁月不待人——晋 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命是以时间为单位的，浪费别人的时间等于谋财害命；浪费自己的时间，等于慢性自杀——鲁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是较有成就的科学工作者，毫无例外地都是利用时间的能手，也都是在大量时间中投入大量劳动的人——华罗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更灯火五更鸡，正是男儿读书时，黑发不知勤学早，白首方悔读书迟——颜真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景不待人，须臾发成丝——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，就像海绵里的水，只要愿挤，总还是有的——鲁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热爱生命吗？那么别浪费时间，因为是组成生命的材料——富兰克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弃时间的人，时间也放弃他——莎士比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874160"/>
            <a:ext cx="78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人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你们很少见到的一些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默默地看下列的图片，与你们自己现在的生活对比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5516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76360" y="55958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们的教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667040" cy="7316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6560" y="0"/>
            <a:ext cx="8677440" cy="6097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48120" y="609588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我们的宿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08720" y="4508640"/>
            <a:ext cx="1752840" cy="1676160"/>
          </a:xfrm>
          <a:custGeom>
            <a:avLst/>
            <a:gdLst>
              <a:gd name="textAreaLeft" fmla="*/ 713880 w 1752840"/>
              <a:gd name="textAreaRight" fmla="*/ 1038960 w 1752840"/>
              <a:gd name="textAreaTop" fmla="*/ 682920 h 1676160"/>
              <a:gd name="textAreaBottom" fmla="*/ 99324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05840" y="4508640"/>
            <a:ext cx="1752480" cy="1676160"/>
          </a:xfrm>
          <a:custGeom>
            <a:avLst/>
            <a:gdLst>
              <a:gd name="textAreaLeft" fmla="*/ 713880 w 1752480"/>
              <a:gd name="textAreaRight" fmla="*/ 1038600 w 1752480"/>
              <a:gd name="textAreaTop" fmla="*/ 682920 h 1676160"/>
              <a:gd name="textAreaBottom" fmla="*/ 99324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83808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4221000"/>
            <a:ext cx="1143000" cy="1143000"/>
          </a:xfrm>
          <a:custGeom>
            <a:avLst/>
            <a:gdLst>
              <a:gd name="textAreaLeft" fmla="*/ 465480 w 1143000"/>
              <a:gd name="textAreaRight" fmla="*/ 677520 w 1143000"/>
              <a:gd name="textAreaTop" fmla="*/ 465480 h 1143000"/>
              <a:gd name="textAreaBottom" fmla="*/ 67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9933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733920"/>
            <a:ext cx="846000" cy="831600"/>
          </a:xfrm>
          <a:custGeom>
            <a:avLst/>
            <a:gdLst>
              <a:gd name="textAreaLeft" fmla="*/ 313560 w 846000"/>
              <a:gd name="textAreaRight" fmla="*/ 532440 w 846000"/>
              <a:gd name="textAreaTop" fmla="*/ 308160 h 831600"/>
              <a:gd name="textAreaBottom" fmla="*/ 523440 h 83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864" y="11144"/>
                </a:lnTo>
                <a:lnTo>
                  <a:pt x="198" y="12861"/>
                </a:lnTo>
                <a:lnTo>
                  <a:pt x="7002" y="11889"/>
                </a:lnTo>
                <a:lnTo>
                  <a:pt x="786" y="14846"/>
                </a:lnTo>
                <a:lnTo>
                  <a:pt x="7311" y="12655"/>
                </a:lnTo>
                <a:lnTo>
                  <a:pt x="1742" y="16682"/>
                </a:lnTo>
                <a:lnTo>
                  <a:pt x="7729" y="13286"/>
                </a:lnTo>
                <a:lnTo>
                  <a:pt x="3163" y="18437"/>
                </a:lnTo>
                <a:lnTo>
                  <a:pt x="8260" y="13827"/>
                </a:lnTo>
                <a:lnTo>
                  <a:pt x="4761" y="19754"/>
                </a:lnTo>
                <a:lnTo>
                  <a:pt x="8885" y="14256"/>
                </a:lnTo>
                <a:lnTo>
                  <a:pt x="6580" y="20741"/>
                </a:lnTo>
                <a:lnTo>
                  <a:pt x="9645" y="14578"/>
                </a:lnTo>
                <a:lnTo>
                  <a:pt x="8555" y="21364"/>
                </a:lnTo>
                <a:lnTo>
                  <a:pt x="10387" y="14729"/>
                </a:lnTo>
                <a:lnTo>
                  <a:pt x="10800" y="21600"/>
                </a:lnTo>
                <a:lnTo>
                  <a:pt x="11144" y="14736"/>
                </a:lnTo>
                <a:lnTo>
                  <a:pt x="12861" y="21402"/>
                </a:lnTo>
                <a:lnTo>
                  <a:pt x="11889" y="14598"/>
                </a:lnTo>
                <a:lnTo>
                  <a:pt x="14846" y="20814"/>
                </a:lnTo>
                <a:lnTo>
                  <a:pt x="12655" y="14289"/>
                </a:lnTo>
                <a:lnTo>
                  <a:pt x="16682" y="19858"/>
                </a:lnTo>
                <a:lnTo>
                  <a:pt x="13286" y="13871"/>
                </a:lnTo>
                <a:lnTo>
                  <a:pt x="18437" y="18437"/>
                </a:lnTo>
                <a:lnTo>
                  <a:pt x="13827" y="13340"/>
                </a:lnTo>
                <a:lnTo>
                  <a:pt x="19754" y="16839"/>
                </a:lnTo>
                <a:lnTo>
                  <a:pt x="14256" y="12715"/>
                </a:lnTo>
                <a:lnTo>
                  <a:pt x="20741" y="15020"/>
                </a:lnTo>
                <a:lnTo>
                  <a:pt x="14578" y="11955"/>
                </a:lnTo>
                <a:lnTo>
                  <a:pt x="21364" y="13045"/>
                </a:lnTo>
                <a:lnTo>
                  <a:pt x="14729" y="11213"/>
                </a:lnTo>
                <a:lnTo>
                  <a:pt x="21600" y="10800"/>
                </a:lnTo>
                <a:lnTo>
                  <a:pt x="14736" y="10456"/>
                </a:lnTo>
                <a:lnTo>
                  <a:pt x="21402" y="8739"/>
                </a:lnTo>
                <a:lnTo>
                  <a:pt x="14598" y="9711"/>
                </a:lnTo>
                <a:lnTo>
                  <a:pt x="20814" y="6754"/>
                </a:lnTo>
                <a:lnTo>
                  <a:pt x="14289" y="8945"/>
                </a:lnTo>
                <a:lnTo>
                  <a:pt x="19858" y="4918"/>
                </a:lnTo>
                <a:lnTo>
                  <a:pt x="13871" y="8314"/>
                </a:lnTo>
                <a:lnTo>
                  <a:pt x="18437" y="3163"/>
                </a:lnTo>
                <a:lnTo>
                  <a:pt x="13340" y="7773"/>
                </a:lnTo>
                <a:lnTo>
                  <a:pt x="16839" y="1846"/>
                </a:lnTo>
                <a:lnTo>
                  <a:pt x="12715" y="7344"/>
                </a:lnTo>
                <a:lnTo>
                  <a:pt x="15020" y="859"/>
                </a:lnTo>
                <a:lnTo>
                  <a:pt x="11955" y="7022"/>
                </a:lnTo>
                <a:lnTo>
                  <a:pt x="13045" y="236"/>
                </a:lnTo>
                <a:lnTo>
                  <a:pt x="11213" y="6871"/>
                </a:lnTo>
                <a:lnTo>
                  <a:pt x="10800" y="0"/>
                </a:lnTo>
                <a:lnTo>
                  <a:pt x="10456" y="6864"/>
                </a:lnTo>
                <a:lnTo>
                  <a:pt x="8739" y="198"/>
                </a:lnTo>
                <a:lnTo>
                  <a:pt x="9711" y="7002"/>
                </a:lnTo>
                <a:lnTo>
                  <a:pt x="6754" y="786"/>
                </a:lnTo>
                <a:lnTo>
                  <a:pt x="8945" y="7311"/>
                </a:lnTo>
                <a:lnTo>
                  <a:pt x="4918" y="1742"/>
                </a:lnTo>
                <a:lnTo>
                  <a:pt x="8314" y="7729"/>
                </a:lnTo>
                <a:lnTo>
                  <a:pt x="3163" y="3163"/>
                </a:lnTo>
                <a:lnTo>
                  <a:pt x="7773" y="8260"/>
                </a:lnTo>
                <a:lnTo>
                  <a:pt x="1846" y="4761"/>
                </a:lnTo>
                <a:lnTo>
                  <a:pt x="7344" y="8885"/>
                </a:lnTo>
                <a:lnTo>
                  <a:pt x="859" y="6580"/>
                </a:lnTo>
                <a:lnTo>
                  <a:pt x="7022" y="9645"/>
                </a:lnTo>
                <a:lnTo>
                  <a:pt x="236" y="8555"/>
                </a:lnTo>
                <a:lnTo>
                  <a:pt x="6871" y="1038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5791320"/>
            <a:ext cx="846360" cy="831600"/>
          </a:xfrm>
          <a:custGeom>
            <a:avLst/>
            <a:gdLst>
              <a:gd name="textAreaLeft" fmla="*/ 376200 w 846360"/>
              <a:gd name="textAreaRight" fmla="*/ 470160 w 846360"/>
              <a:gd name="textAreaTop" fmla="*/ 369720 h 831600"/>
              <a:gd name="textAreaBottom" fmla="*/ 461880 h 83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1905120"/>
            <a:ext cx="1292400" cy="1143000"/>
          </a:xfrm>
          <a:custGeom>
            <a:avLst/>
            <a:gdLst>
              <a:gd name="textAreaLeft" fmla="*/ 589680 w 1292400"/>
              <a:gd name="textAreaRight" fmla="*/ 702720 w 1292400"/>
              <a:gd name="textAreaTop" fmla="*/ 521640 h 1143000"/>
              <a:gd name="textAreaBottom" fmla="*/ 621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472" y="10916"/>
                </a:lnTo>
                <a:lnTo>
                  <a:pt x="198" y="12861"/>
                </a:lnTo>
                <a:lnTo>
                  <a:pt x="9519" y="11167"/>
                </a:lnTo>
                <a:lnTo>
                  <a:pt x="786" y="14846"/>
                </a:lnTo>
                <a:lnTo>
                  <a:pt x="9623" y="11426"/>
                </a:lnTo>
                <a:lnTo>
                  <a:pt x="1742" y="16682"/>
                </a:lnTo>
                <a:lnTo>
                  <a:pt x="9764" y="11639"/>
                </a:lnTo>
                <a:lnTo>
                  <a:pt x="3163" y="18437"/>
                </a:lnTo>
                <a:lnTo>
                  <a:pt x="9943" y="11821"/>
                </a:lnTo>
                <a:lnTo>
                  <a:pt x="4761" y="19754"/>
                </a:lnTo>
                <a:lnTo>
                  <a:pt x="10154" y="11966"/>
                </a:lnTo>
                <a:lnTo>
                  <a:pt x="6580" y="20741"/>
                </a:lnTo>
                <a:lnTo>
                  <a:pt x="10410" y="12075"/>
                </a:lnTo>
                <a:lnTo>
                  <a:pt x="8555" y="21364"/>
                </a:lnTo>
                <a:lnTo>
                  <a:pt x="10661" y="12126"/>
                </a:lnTo>
                <a:lnTo>
                  <a:pt x="10800" y="21600"/>
                </a:lnTo>
                <a:lnTo>
                  <a:pt x="10916" y="12128"/>
                </a:lnTo>
                <a:lnTo>
                  <a:pt x="12861" y="21402"/>
                </a:lnTo>
                <a:lnTo>
                  <a:pt x="11167" y="12081"/>
                </a:lnTo>
                <a:lnTo>
                  <a:pt x="14846" y="20814"/>
                </a:lnTo>
                <a:lnTo>
                  <a:pt x="11426" y="11977"/>
                </a:lnTo>
                <a:lnTo>
                  <a:pt x="16682" y="19858"/>
                </a:lnTo>
                <a:lnTo>
                  <a:pt x="11639" y="11836"/>
                </a:lnTo>
                <a:lnTo>
                  <a:pt x="18437" y="18437"/>
                </a:lnTo>
                <a:lnTo>
                  <a:pt x="11821" y="11657"/>
                </a:lnTo>
                <a:lnTo>
                  <a:pt x="19754" y="16839"/>
                </a:lnTo>
                <a:lnTo>
                  <a:pt x="11966" y="11446"/>
                </a:lnTo>
                <a:lnTo>
                  <a:pt x="20741" y="15020"/>
                </a:lnTo>
                <a:lnTo>
                  <a:pt x="12075" y="11190"/>
                </a:lnTo>
                <a:lnTo>
                  <a:pt x="21364" y="13045"/>
                </a:lnTo>
                <a:lnTo>
                  <a:pt x="12126" y="10939"/>
                </a:lnTo>
                <a:lnTo>
                  <a:pt x="21600" y="10800"/>
                </a:lnTo>
                <a:lnTo>
                  <a:pt x="12128" y="10684"/>
                </a:lnTo>
                <a:lnTo>
                  <a:pt x="21402" y="8739"/>
                </a:lnTo>
                <a:lnTo>
                  <a:pt x="12081" y="10433"/>
                </a:lnTo>
                <a:lnTo>
                  <a:pt x="20814" y="6754"/>
                </a:lnTo>
                <a:lnTo>
                  <a:pt x="11977" y="10174"/>
                </a:lnTo>
                <a:lnTo>
                  <a:pt x="19858" y="4918"/>
                </a:lnTo>
                <a:lnTo>
                  <a:pt x="11836" y="9961"/>
                </a:lnTo>
                <a:lnTo>
                  <a:pt x="18437" y="3163"/>
                </a:lnTo>
                <a:lnTo>
                  <a:pt x="11657" y="9779"/>
                </a:lnTo>
                <a:lnTo>
                  <a:pt x="16839" y="1846"/>
                </a:lnTo>
                <a:lnTo>
                  <a:pt x="11446" y="9634"/>
                </a:lnTo>
                <a:lnTo>
                  <a:pt x="15020" y="859"/>
                </a:lnTo>
                <a:lnTo>
                  <a:pt x="11190" y="9525"/>
                </a:lnTo>
                <a:lnTo>
                  <a:pt x="13045" y="236"/>
                </a:lnTo>
                <a:lnTo>
                  <a:pt x="10939" y="9474"/>
                </a:lnTo>
                <a:lnTo>
                  <a:pt x="10800" y="0"/>
                </a:lnTo>
                <a:lnTo>
                  <a:pt x="10684" y="9472"/>
                </a:lnTo>
                <a:lnTo>
                  <a:pt x="8739" y="198"/>
                </a:lnTo>
                <a:lnTo>
                  <a:pt x="10433" y="9519"/>
                </a:lnTo>
                <a:lnTo>
                  <a:pt x="6754" y="786"/>
                </a:lnTo>
                <a:lnTo>
                  <a:pt x="10174" y="9623"/>
                </a:lnTo>
                <a:lnTo>
                  <a:pt x="4918" y="1742"/>
                </a:lnTo>
                <a:lnTo>
                  <a:pt x="9961" y="9764"/>
                </a:lnTo>
                <a:lnTo>
                  <a:pt x="3163" y="3163"/>
                </a:lnTo>
                <a:lnTo>
                  <a:pt x="9779" y="9943"/>
                </a:lnTo>
                <a:lnTo>
                  <a:pt x="1846" y="4761"/>
                </a:lnTo>
                <a:lnTo>
                  <a:pt x="9634" y="10154"/>
                </a:lnTo>
                <a:lnTo>
                  <a:pt x="859" y="6580"/>
                </a:lnTo>
                <a:lnTo>
                  <a:pt x="9525" y="10410"/>
                </a:lnTo>
                <a:lnTo>
                  <a:pt x="236" y="8555"/>
                </a:lnTo>
                <a:lnTo>
                  <a:pt x="9474" y="1066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484280"/>
            <a:ext cx="846000" cy="831960"/>
          </a:xfrm>
          <a:custGeom>
            <a:avLst/>
            <a:gdLst>
              <a:gd name="textAreaLeft" fmla="*/ 360000 w 846000"/>
              <a:gd name="textAreaRight" fmla="*/ 486000 w 846000"/>
              <a:gd name="textAreaTop" fmla="*/ 353880 h 831960"/>
              <a:gd name="textAreaBottom" fmla="*/ 478080 h 83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5300640"/>
            <a:ext cx="846000" cy="831960"/>
          </a:xfrm>
          <a:custGeom>
            <a:avLst/>
            <a:gdLst>
              <a:gd name="textAreaLeft" fmla="*/ 376200 w 846000"/>
              <a:gd name="textAreaRight" fmla="*/ 469800 w 846000"/>
              <a:gd name="textAreaTop" fmla="*/ 369720 h 831960"/>
              <a:gd name="textAreaBottom" fmla="*/ 462240 h 83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333360"/>
            <a:ext cx="1295640" cy="1219320"/>
          </a:xfrm>
          <a:custGeom>
            <a:avLst/>
            <a:gdLst>
              <a:gd name="textAreaLeft" fmla="*/ 500040 w 1295640"/>
              <a:gd name="textAreaRight" fmla="*/ 795600 w 1295640"/>
              <a:gd name="textAreaTop" fmla="*/ 470520 h 1219320"/>
              <a:gd name="textAreaBottom" fmla="*/ 74880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326" y="11104"/>
                </a:lnTo>
                <a:lnTo>
                  <a:pt x="198" y="12861"/>
                </a:lnTo>
                <a:lnTo>
                  <a:pt x="7448" y="11761"/>
                </a:lnTo>
                <a:lnTo>
                  <a:pt x="786" y="14846"/>
                </a:lnTo>
                <a:lnTo>
                  <a:pt x="7721" y="12437"/>
                </a:lnTo>
                <a:lnTo>
                  <a:pt x="1742" y="16682"/>
                </a:lnTo>
                <a:lnTo>
                  <a:pt x="8090" y="12994"/>
                </a:lnTo>
                <a:lnTo>
                  <a:pt x="3163" y="18437"/>
                </a:lnTo>
                <a:lnTo>
                  <a:pt x="8559" y="13471"/>
                </a:lnTo>
                <a:lnTo>
                  <a:pt x="4761" y="19754"/>
                </a:lnTo>
                <a:lnTo>
                  <a:pt x="9109" y="13850"/>
                </a:lnTo>
                <a:lnTo>
                  <a:pt x="6580" y="20741"/>
                </a:lnTo>
                <a:lnTo>
                  <a:pt x="9780" y="14135"/>
                </a:lnTo>
                <a:lnTo>
                  <a:pt x="8555" y="21364"/>
                </a:lnTo>
                <a:lnTo>
                  <a:pt x="10436" y="14268"/>
                </a:lnTo>
                <a:lnTo>
                  <a:pt x="10800" y="21600"/>
                </a:lnTo>
                <a:lnTo>
                  <a:pt x="11104" y="14274"/>
                </a:lnTo>
                <a:lnTo>
                  <a:pt x="12861" y="21402"/>
                </a:lnTo>
                <a:lnTo>
                  <a:pt x="11761" y="14152"/>
                </a:lnTo>
                <a:lnTo>
                  <a:pt x="14846" y="20814"/>
                </a:lnTo>
                <a:lnTo>
                  <a:pt x="12437" y="13879"/>
                </a:lnTo>
                <a:lnTo>
                  <a:pt x="16682" y="19858"/>
                </a:lnTo>
                <a:lnTo>
                  <a:pt x="12994" y="13510"/>
                </a:lnTo>
                <a:lnTo>
                  <a:pt x="18437" y="18437"/>
                </a:lnTo>
                <a:lnTo>
                  <a:pt x="13471" y="13041"/>
                </a:lnTo>
                <a:lnTo>
                  <a:pt x="19754" y="16839"/>
                </a:lnTo>
                <a:lnTo>
                  <a:pt x="13850" y="12491"/>
                </a:lnTo>
                <a:lnTo>
                  <a:pt x="20741" y="15020"/>
                </a:lnTo>
                <a:lnTo>
                  <a:pt x="14135" y="11820"/>
                </a:lnTo>
                <a:lnTo>
                  <a:pt x="21364" y="13045"/>
                </a:lnTo>
                <a:lnTo>
                  <a:pt x="14268" y="11164"/>
                </a:lnTo>
                <a:lnTo>
                  <a:pt x="21600" y="10800"/>
                </a:lnTo>
                <a:lnTo>
                  <a:pt x="14274" y="10496"/>
                </a:lnTo>
                <a:lnTo>
                  <a:pt x="21402" y="8739"/>
                </a:lnTo>
                <a:lnTo>
                  <a:pt x="14152" y="9839"/>
                </a:lnTo>
                <a:lnTo>
                  <a:pt x="20814" y="6754"/>
                </a:lnTo>
                <a:lnTo>
                  <a:pt x="13879" y="9163"/>
                </a:lnTo>
                <a:lnTo>
                  <a:pt x="19858" y="4918"/>
                </a:lnTo>
                <a:lnTo>
                  <a:pt x="13510" y="8606"/>
                </a:lnTo>
                <a:lnTo>
                  <a:pt x="18437" y="3163"/>
                </a:lnTo>
                <a:lnTo>
                  <a:pt x="13041" y="8129"/>
                </a:lnTo>
                <a:lnTo>
                  <a:pt x="16839" y="1846"/>
                </a:lnTo>
                <a:lnTo>
                  <a:pt x="12491" y="7750"/>
                </a:lnTo>
                <a:lnTo>
                  <a:pt x="15020" y="859"/>
                </a:lnTo>
                <a:lnTo>
                  <a:pt x="11820" y="7465"/>
                </a:lnTo>
                <a:lnTo>
                  <a:pt x="13045" y="236"/>
                </a:lnTo>
                <a:lnTo>
                  <a:pt x="11164" y="7332"/>
                </a:lnTo>
                <a:lnTo>
                  <a:pt x="10800" y="0"/>
                </a:lnTo>
                <a:lnTo>
                  <a:pt x="10496" y="7326"/>
                </a:lnTo>
                <a:lnTo>
                  <a:pt x="8739" y="198"/>
                </a:lnTo>
                <a:lnTo>
                  <a:pt x="9839" y="7448"/>
                </a:lnTo>
                <a:lnTo>
                  <a:pt x="6754" y="786"/>
                </a:lnTo>
                <a:lnTo>
                  <a:pt x="9163" y="7721"/>
                </a:lnTo>
                <a:lnTo>
                  <a:pt x="4918" y="1742"/>
                </a:lnTo>
                <a:lnTo>
                  <a:pt x="8606" y="8090"/>
                </a:lnTo>
                <a:lnTo>
                  <a:pt x="3163" y="3163"/>
                </a:lnTo>
                <a:lnTo>
                  <a:pt x="8129" y="8559"/>
                </a:lnTo>
                <a:lnTo>
                  <a:pt x="1846" y="4761"/>
                </a:lnTo>
                <a:lnTo>
                  <a:pt x="7750" y="9109"/>
                </a:lnTo>
                <a:lnTo>
                  <a:pt x="859" y="6580"/>
                </a:lnTo>
                <a:lnTo>
                  <a:pt x="7465" y="9780"/>
                </a:lnTo>
                <a:lnTo>
                  <a:pt x="236" y="8555"/>
                </a:lnTo>
                <a:lnTo>
                  <a:pt x="7332" y="10436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49228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6000" y="333360"/>
            <a:ext cx="1565280" cy="1582920"/>
          </a:xfrm>
          <a:custGeom>
            <a:avLst/>
            <a:gdLst>
              <a:gd name="textAreaLeft" fmla="*/ 714240 w 1565280"/>
              <a:gd name="textAreaRight" fmla="*/ 851040 w 1565280"/>
              <a:gd name="textAreaTop" fmla="*/ 722520 h 1582920"/>
              <a:gd name="textAreaBottom" fmla="*/ 860400 h 158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472" y="10916"/>
                </a:lnTo>
                <a:lnTo>
                  <a:pt x="198" y="12861"/>
                </a:lnTo>
                <a:lnTo>
                  <a:pt x="9519" y="11167"/>
                </a:lnTo>
                <a:lnTo>
                  <a:pt x="786" y="14846"/>
                </a:lnTo>
                <a:lnTo>
                  <a:pt x="9623" y="11426"/>
                </a:lnTo>
                <a:lnTo>
                  <a:pt x="1742" y="16682"/>
                </a:lnTo>
                <a:lnTo>
                  <a:pt x="9764" y="11639"/>
                </a:lnTo>
                <a:lnTo>
                  <a:pt x="3163" y="18437"/>
                </a:lnTo>
                <a:lnTo>
                  <a:pt x="9943" y="11821"/>
                </a:lnTo>
                <a:lnTo>
                  <a:pt x="4761" y="19754"/>
                </a:lnTo>
                <a:lnTo>
                  <a:pt x="10154" y="11966"/>
                </a:lnTo>
                <a:lnTo>
                  <a:pt x="6580" y="20741"/>
                </a:lnTo>
                <a:lnTo>
                  <a:pt x="10410" y="12075"/>
                </a:lnTo>
                <a:lnTo>
                  <a:pt x="8555" y="21364"/>
                </a:lnTo>
                <a:lnTo>
                  <a:pt x="10661" y="12126"/>
                </a:lnTo>
                <a:lnTo>
                  <a:pt x="10800" y="21600"/>
                </a:lnTo>
                <a:lnTo>
                  <a:pt x="10916" y="12128"/>
                </a:lnTo>
                <a:lnTo>
                  <a:pt x="12861" y="21402"/>
                </a:lnTo>
                <a:lnTo>
                  <a:pt x="11167" y="12081"/>
                </a:lnTo>
                <a:lnTo>
                  <a:pt x="14846" y="20814"/>
                </a:lnTo>
                <a:lnTo>
                  <a:pt x="11426" y="11977"/>
                </a:lnTo>
                <a:lnTo>
                  <a:pt x="16682" y="19858"/>
                </a:lnTo>
                <a:lnTo>
                  <a:pt x="11639" y="11836"/>
                </a:lnTo>
                <a:lnTo>
                  <a:pt x="18437" y="18437"/>
                </a:lnTo>
                <a:lnTo>
                  <a:pt x="11821" y="11657"/>
                </a:lnTo>
                <a:lnTo>
                  <a:pt x="19754" y="16839"/>
                </a:lnTo>
                <a:lnTo>
                  <a:pt x="11966" y="11446"/>
                </a:lnTo>
                <a:lnTo>
                  <a:pt x="20741" y="15020"/>
                </a:lnTo>
                <a:lnTo>
                  <a:pt x="12075" y="11190"/>
                </a:lnTo>
                <a:lnTo>
                  <a:pt x="21364" y="13045"/>
                </a:lnTo>
                <a:lnTo>
                  <a:pt x="12126" y="10939"/>
                </a:lnTo>
                <a:lnTo>
                  <a:pt x="21600" y="10800"/>
                </a:lnTo>
                <a:lnTo>
                  <a:pt x="12128" y="10684"/>
                </a:lnTo>
                <a:lnTo>
                  <a:pt x="21402" y="8739"/>
                </a:lnTo>
                <a:lnTo>
                  <a:pt x="12081" y="10433"/>
                </a:lnTo>
                <a:lnTo>
                  <a:pt x="20814" y="6754"/>
                </a:lnTo>
                <a:lnTo>
                  <a:pt x="11977" y="10174"/>
                </a:lnTo>
                <a:lnTo>
                  <a:pt x="19858" y="4918"/>
                </a:lnTo>
                <a:lnTo>
                  <a:pt x="11836" y="9961"/>
                </a:lnTo>
                <a:lnTo>
                  <a:pt x="18437" y="3163"/>
                </a:lnTo>
                <a:lnTo>
                  <a:pt x="11657" y="9779"/>
                </a:lnTo>
                <a:lnTo>
                  <a:pt x="16839" y="1846"/>
                </a:lnTo>
                <a:lnTo>
                  <a:pt x="11446" y="9634"/>
                </a:lnTo>
                <a:lnTo>
                  <a:pt x="15020" y="859"/>
                </a:lnTo>
                <a:lnTo>
                  <a:pt x="11190" y="9525"/>
                </a:lnTo>
                <a:lnTo>
                  <a:pt x="13045" y="236"/>
                </a:lnTo>
                <a:lnTo>
                  <a:pt x="10939" y="9474"/>
                </a:lnTo>
                <a:lnTo>
                  <a:pt x="10800" y="0"/>
                </a:lnTo>
                <a:lnTo>
                  <a:pt x="10684" y="9472"/>
                </a:lnTo>
                <a:lnTo>
                  <a:pt x="8739" y="198"/>
                </a:lnTo>
                <a:lnTo>
                  <a:pt x="10433" y="9519"/>
                </a:lnTo>
                <a:lnTo>
                  <a:pt x="6754" y="786"/>
                </a:lnTo>
                <a:lnTo>
                  <a:pt x="10174" y="9623"/>
                </a:lnTo>
                <a:lnTo>
                  <a:pt x="4918" y="1742"/>
                </a:lnTo>
                <a:lnTo>
                  <a:pt x="9961" y="9764"/>
                </a:lnTo>
                <a:lnTo>
                  <a:pt x="3163" y="3163"/>
                </a:lnTo>
                <a:lnTo>
                  <a:pt x="9779" y="9943"/>
                </a:lnTo>
                <a:lnTo>
                  <a:pt x="1846" y="4761"/>
                </a:lnTo>
                <a:lnTo>
                  <a:pt x="9634" y="10154"/>
                </a:lnTo>
                <a:lnTo>
                  <a:pt x="859" y="6580"/>
                </a:lnTo>
                <a:lnTo>
                  <a:pt x="9525" y="10410"/>
                </a:lnTo>
                <a:lnTo>
                  <a:pt x="236" y="8555"/>
                </a:lnTo>
                <a:lnTo>
                  <a:pt x="9474" y="1066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234936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2060640"/>
            <a:ext cx="1295280" cy="1218960"/>
          </a:xfrm>
          <a:custGeom>
            <a:avLst/>
            <a:gdLst>
              <a:gd name="textAreaLeft" fmla="*/ 499680 w 1295280"/>
              <a:gd name="textAreaRight" fmla="*/ 795600 w 1295280"/>
              <a:gd name="textAreaTop" fmla="*/ 470160 h 1218960"/>
              <a:gd name="textAreaBottom" fmla="*/ 748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326" y="11104"/>
                </a:lnTo>
                <a:lnTo>
                  <a:pt x="198" y="12861"/>
                </a:lnTo>
                <a:lnTo>
                  <a:pt x="7448" y="11761"/>
                </a:lnTo>
                <a:lnTo>
                  <a:pt x="786" y="14846"/>
                </a:lnTo>
                <a:lnTo>
                  <a:pt x="7721" y="12437"/>
                </a:lnTo>
                <a:lnTo>
                  <a:pt x="1742" y="16682"/>
                </a:lnTo>
                <a:lnTo>
                  <a:pt x="8090" y="12994"/>
                </a:lnTo>
                <a:lnTo>
                  <a:pt x="3163" y="18437"/>
                </a:lnTo>
                <a:lnTo>
                  <a:pt x="8559" y="13471"/>
                </a:lnTo>
                <a:lnTo>
                  <a:pt x="4761" y="19754"/>
                </a:lnTo>
                <a:lnTo>
                  <a:pt x="9109" y="13850"/>
                </a:lnTo>
                <a:lnTo>
                  <a:pt x="6580" y="20741"/>
                </a:lnTo>
                <a:lnTo>
                  <a:pt x="9780" y="14135"/>
                </a:lnTo>
                <a:lnTo>
                  <a:pt x="8555" y="21364"/>
                </a:lnTo>
                <a:lnTo>
                  <a:pt x="10436" y="14268"/>
                </a:lnTo>
                <a:lnTo>
                  <a:pt x="10800" y="21600"/>
                </a:lnTo>
                <a:lnTo>
                  <a:pt x="11104" y="14274"/>
                </a:lnTo>
                <a:lnTo>
                  <a:pt x="12861" y="21402"/>
                </a:lnTo>
                <a:lnTo>
                  <a:pt x="11761" y="14152"/>
                </a:lnTo>
                <a:lnTo>
                  <a:pt x="14846" y="20814"/>
                </a:lnTo>
                <a:lnTo>
                  <a:pt x="12437" y="13879"/>
                </a:lnTo>
                <a:lnTo>
                  <a:pt x="16682" y="19858"/>
                </a:lnTo>
                <a:lnTo>
                  <a:pt x="12994" y="13510"/>
                </a:lnTo>
                <a:lnTo>
                  <a:pt x="18437" y="18437"/>
                </a:lnTo>
                <a:lnTo>
                  <a:pt x="13471" y="13041"/>
                </a:lnTo>
                <a:lnTo>
                  <a:pt x="19754" y="16839"/>
                </a:lnTo>
                <a:lnTo>
                  <a:pt x="13850" y="12491"/>
                </a:lnTo>
                <a:lnTo>
                  <a:pt x="20741" y="15020"/>
                </a:lnTo>
                <a:lnTo>
                  <a:pt x="14135" y="11820"/>
                </a:lnTo>
                <a:lnTo>
                  <a:pt x="21364" y="13045"/>
                </a:lnTo>
                <a:lnTo>
                  <a:pt x="14268" y="11164"/>
                </a:lnTo>
                <a:lnTo>
                  <a:pt x="21600" y="10800"/>
                </a:lnTo>
                <a:lnTo>
                  <a:pt x="14274" y="10496"/>
                </a:lnTo>
                <a:lnTo>
                  <a:pt x="21402" y="8739"/>
                </a:lnTo>
                <a:lnTo>
                  <a:pt x="14152" y="9839"/>
                </a:lnTo>
                <a:lnTo>
                  <a:pt x="20814" y="6754"/>
                </a:lnTo>
                <a:lnTo>
                  <a:pt x="13879" y="9163"/>
                </a:lnTo>
                <a:lnTo>
                  <a:pt x="19858" y="4918"/>
                </a:lnTo>
                <a:lnTo>
                  <a:pt x="13510" y="8606"/>
                </a:lnTo>
                <a:lnTo>
                  <a:pt x="18437" y="3163"/>
                </a:lnTo>
                <a:lnTo>
                  <a:pt x="13041" y="8129"/>
                </a:lnTo>
                <a:lnTo>
                  <a:pt x="16839" y="1846"/>
                </a:lnTo>
                <a:lnTo>
                  <a:pt x="12491" y="7750"/>
                </a:lnTo>
                <a:lnTo>
                  <a:pt x="15020" y="859"/>
                </a:lnTo>
                <a:lnTo>
                  <a:pt x="11820" y="7465"/>
                </a:lnTo>
                <a:lnTo>
                  <a:pt x="13045" y="236"/>
                </a:lnTo>
                <a:lnTo>
                  <a:pt x="11164" y="7332"/>
                </a:lnTo>
                <a:lnTo>
                  <a:pt x="10800" y="0"/>
                </a:lnTo>
                <a:lnTo>
                  <a:pt x="10496" y="7326"/>
                </a:lnTo>
                <a:lnTo>
                  <a:pt x="8739" y="198"/>
                </a:lnTo>
                <a:lnTo>
                  <a:pt x="9839" y="7448"/>
                </a:lnTo>
                <a:lnTo>
                  <a:pt x="6754" y="786"/>
                </a:lnTo>
                <a:lnTo>
                  <a:pt x="9163" y="7721"/>
                </a:lnTo>
                <a:lnTo>
                  <a:pt x="4918" y="1742"/>
                </a:lnTo>
                <a:lnTo>
                  <a:pt x="8606" y="8090"/>
                </a:lnTo>
                <a:lnTo>
                  <a:pt x="3163" y="3163"/>
                </a:lnTo>
                <a:lnTo>
                  <a:pt x="8129" y="8559"/>
                </a:lnTo>
                <a:lnTo>
                  <a:pt x="1846" y="4761"/>
                </a:lnTo>
                <a:lnTo>
                  <a:pt x="7750" y="9109"/>
                </a:lnTo>
                <a:lnTo>
                  <a:pt x="859" y="6580"/>
                </a:lnTo>
                <a:lnTo>
                  <a:pt x="7465" y="9780"/>
                </a:lnTo>
                <a:lnTo>
                  <a:pt x="236" y="8555"/>
                </a:lnTo>
                <a:lnTo>
                  <a:pt x="7332" y="10436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342900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34936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137160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31960" y="121932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8098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573408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602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58672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30492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33526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686800" y="42670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551664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3526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458200" y="182880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51814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260280"/>
            <a:ext cx="1295640" cy="1219320"/>
          </a:xfrm>
          <a:custGeom>
            <a:avLst/>
            <a:gdLst>
              <a:gd name="textAreaLeft" fmla="*/ 551160 w 1295640"/>
              <a:gd name="textAreaRight" fmla="*/ 744480 w 129564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4648320"/>
            <a:ext cx="1295280" cy="121896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8960"/>
              <a:gd name="textAreaBottom" fmla="*/ 7002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342900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0F0D-E82E-4E46-973A-0BFCE611E9C3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E5379-BFFE-4075-9FA5-B574A372B67E}" type="datetime2">
              <a:rPr lang="en-US"/>
              <a:t>Thursday, July 30, 20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500"/>
                            </p:stCondLst>
                            <p:childTnLst>
                              <p:par>
                                <p:cTn id="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" nodeType="afterEffect" fill="hold" presetClass="entr" presetID="23" presetSubtype="16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0" nodeType="afterEffect" fill="hold" presetClass="entr" presetID="23" presetSubtype="32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3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38080" y="47520"/>
            <a:ext cx="7848720" cy="5591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28800" y="579132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们的食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5120" cy="7245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017120" y="692280"/>
            <a:ext cx="11552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我很穷，但我很刻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77080" cy="4532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276720" y="544500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渴望知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993080" cy="5256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95640" y="60958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回 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488360" cy="4642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00000" y="5124600"/>
            <a:ext cx="82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们都想读书！可是，我们背负的却是硕大的箩筐、幼小的妹妹而不是书包！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249120" y="-384120"/>
            <a:ext cx="9861480" cy="784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8675640" cy="4749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59500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好想读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209080" cy="5089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19280" y="56610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好饿！妈妈，你在哪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7200720" cy="3357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33544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岁的刘小环为了能上学，每天去给一家窑厂背砖坯，她每次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块，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公斤，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米，能够得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厘的工钱。要知道，她才是一个只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岁的孩子啊！知道她为什么把目光投向了地面？因为生活的重负已经压得她瘦小的身躯直不起脊背！尽管如此，她仍旧守望着一个信念－－我要去上学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看到这些，大家在想些什么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228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些学生虽条件艰苦却仍努力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看到这些你还有时间玩乐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迟到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上课睡觉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不完成作业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看到这些，我们还有理由懈怠吗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9480" y="990720"/>
            <a:ext cx="792504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我们的生活，真的苦吗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5715000" y="152280"/>
            <a:ext cx="3429000" cy="670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0" y="0"/>
            <a:ext cx="5638680" cy="363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十年寒窗为山已九仞岂能功亏于一篑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三载勤学贮才方七斗还须鸡鸣在五更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6891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9480" y="2286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同学们，就让我们从现在开始，分秒必争，努力学习，永争第一，从容面对即将到来的期末考试。为自己，为父母，为学校，交一份满意的答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876920" y="4343400"/>
            <a:ext cx="3138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！！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57240" y="0"/>
            <a:ext cx="9201240" cy="6891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707000" y="841320"/>
            <a:ext cx="1366920" cy="133848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8120" y="2816280"/>
            <a:ext cx="9144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00">
                    <a:alpha val="90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be</a:t>
            </a:r>
            <a:endParaRPr b="0" lang="en-US" sz="7200" spc="-1" strike="noStrike">
              <a:ln w="9360">
                <a:solidFill>
                  <a:srgbClr val="800080"/>
                </a:solidFill>
                <a:miter/>
              </a:ln>
              <a:solidFill>
                <a:srgbClr val="ff9900">
                  <a:alpha val="90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1" name=""/>
          <p:cNvSpPr/>
          <p:nvPr/>
        </p:nvSpPr>
        <p:spPr>
          <a:xfrm>
            <a:off x="6794640" y="841320"/>
            <a:ext cx="1369800" cy="1309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143000" y="2819520"/>
            <a:ext cx="9144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>
                    <a:alpha val="9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o</a:t>
            </a:r>
            <a:endParaRPr b="0" lang="en-US" sz="7200" spc="-1" strike="noStrike">
              <a:ln w="9360">
                <a:solidFill>
                  <a:srgbClr val="ff0000"/>
                </a:solidFill>
                <a:miter/>
              </a:ln>
              <a:solidFill>
                <a:srgbClr val="800000">
                  <a:alpha val="9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"/>
          <p:cNvSpPr/>
          <p:nvPr/>
        </p:nvSpPr>
        <p:spPr>
          <a:xfrm>
            <a:off x="2906640" y="914400"/>
            <a:ext cx="1368360" cy="136836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2644920" cy="2668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43000" y="914400"/>
            <a:ext cx="1368360" cy="136836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76920" y="2971800"/>
            <a:ext cx="1371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NO.1</a:t>
            </a:r>
            <a:endParaRPr b="0" lang="en-US" sz="7200" spc="-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086600" y="3048120"/>
            <a:ext cx="114300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!!!</a:t>
            </a:r>
            <a:endParaRPr b="0" lang="en-US" sz="7200" spc="-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9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5434E-006 L -3.88889E-006 0.3933 E">
                                      <p:cBhvr>
                                        <p:cTn id="593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03 0.00602 L 0.00903 0.29365 E">
                                      <p:cBhvr>
                                        <p:cTn id="599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0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5434E-006 L -3.88889E-006 0.3933 E">
                                      <p:cBhvr>
                                        <p:cTn id="605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59 -0.00439 L -0.01059 0.28324 E">
                                      <p:cBhvr>
                                        <p:cTn id="611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1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0277 L 2.77778E-007 0.3933 E">
                                      <p:cBhvr>
                                        <p:cTn id="617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2246 L 0.00278 0.25926 E">
                                      <p:cBhvr>
                                        <p:cTn id="623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7000"/>
                            </p:stCondLst>
                            <p:childTnLst>
                              <p:par>
                                <p:cTn id="625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2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069 L -0.00382 0.3926 E">
                                      <p:cBhvr>
                                        <p:cTn id="629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8000"/>
                            </p:stCondLst>
                            <p:childTnLst>
                              <p:par>
                                <p:cTn id="6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741E-007 L -3.33333E-006 0.24421 E">
                                      <p:cBhvr>
                                        <p:cTn id="635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9000"/>
                            </p:stCondLst>
                            <p:childTnLst>
                              <p:par>
                                <p:cTn id="6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79246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看到它的时候它一定是在动的吧？其实，它是一张静止的图片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看到它是什么状态和你的心理压力有关，心理压力越大，图片就转动越快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   美国人曾以此作为犯罪嫌疑人的心理测试，他看到的图片是高速旋转的，而大部分儿童看到的这幅图片却是静止的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深呼吸以后让自己静下心再看它的时候，它的运动就慢了一些了。你尝试一下吧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85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6600ff"/>
                </a:solidFill>
                <a:latin typeface="Arial"/>
              </a:rPr>
              <a:t>对于刚刚结束的知识竞赛考试</a:t>
            </a:r>
            <a:r>
              <a:rPr b="1" lang="en-US" sz="34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6600ff"/>
                </a:solidFill>
                <a:latin typeface="Arial"/>
              </a:rPr>
              <a:t>不知道同学们的心情怎么样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1981080" cy="358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1523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是不是有的同学认为自己考的还可以，心情不错；但大多数同学还是认为自己考的不理想，比较伤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2514600"/>
            <a:ext cx="678168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专家提醒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考试结束了，大家都有一种如释重负的感觉。然而，此时的精神状态仍然是不能忽视的，因为考试结束并不意味着心理压力的自然消失。相反，随之而来的对考试结果的预测和获知，会让许多考生有不同程度的突发性心理冲突和出现生理紊乱现象。因此，此时的心理调适，与考试之前以及考试之中同样重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5-31T06:33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