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22F-AA75-43B6-AC11-47945B65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6F7-A8F6-46FE-866B-45627F19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38D-CC62-4106-95DE-DE39EF68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545-3FAB-48FD-92E9-07E0572F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91F-3161-418C-9AE4-D77CC4A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4AF-1B92-4532-A999-2014786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4BC-0CDE-4A02-AD5E-A4460D5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846-CC17-4985-A982-8611009A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CFE-811B-4CD6-98C0-AC967E4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0DD-EF8B-43D7-B773-6C679C2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41F-03EF-4C2A-A842-EA3328B8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EF2-ACE6-4562-A409-D6FE1B66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17A-CE02-4043-A243-03672E2CF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9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3D3-D1B6-4948-AA26-589CD036273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F1CA4-7619-4DA7-BCD7-ABB7851A79BD}" type="datetime2">
              <a:rPr lang="en-US"/>
              <a:t>Thursday, July 30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12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18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24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30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36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48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8000"/>
                            </p:stCondLst>
                            <p:childTnLst>
                              <p:par>
                                <p:cTn id="6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54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