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457B-8253-4877-B2A5-0DCF7EFA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1AA6-E235-4E36-AD66-F4F3700E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A73E-71B5-48AD-913C-E8968349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7365-D58F-4EB9-8FAD-B2ED7BCC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7498-DCA9-498B-984B-5CE21232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C18C-ABF1-4E39-A5E8-73C019B6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D73F-55D0-417A-888C-7C779C72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3F32-A257-46EB-88A2-196EF685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E884-FAE5-4A1B-B19F-68658570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B389-90AD-496A-B41D-964B53B7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265B-43CB-4008-A5C7-0D49C7ED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AFE0-0F53-4041-90AC-06F4ED59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6B63-05D4-41D9-ADDC-AF6EFB2494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1773360"/>
            <a:ext cx="72741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>
                        <a:alpha val="99215"/>
                      </a:srgbClr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无规矩不成方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>
                      <a:alpha val="99215"/>
                    </a:srgbClr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1341360"/>
            <a:ext cx="8353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自主自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静专思主，安静、专心、思考、自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170028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勿以恶小而为之，勿以善小而不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言行决定心态，细节决定成败，过程决定结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41300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如果说自由是高翔蓝天的风筝，那么规矩便是手中那根线；如果说自由是穿梭峡谷的河流，那么规矩就是流经的航道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76500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你为班集体做了什么，尽力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你认真的度过每一分钟了吗？认真的上好每一堂课了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家长对我们学习何等重视，你的行为对自己和父母负责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从自己的角度看，你认为：这是对自己负责吗？个人得到了什么？将来有什么受益？集体受益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从他人的角度看，与学校规定的学生行为常规协调吗？其他同学以何种眼光看待自己？是否可称之为精神骚扰？对得起辛劳的父母吗？如果社会多些这类人，社会将变成什么样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67640" y="5734080"/>
            <a:ext cx="1476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62064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迟到、旷课―是因为你不想严格要求自己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打架、破坏公物—是因为你不控制自己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没有给别人留下好印象―是因为你不想让别人喜欢你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00000" y="4869000"/>
            <a:ext cx="720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让别人因我们的存在而幸福快乐！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67640" y="5589720"/>
            <a:ext cx="14763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55640" y="1125360"/>
          <a:ext cx="7129440" cy="70020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11280" y="1268280"/>
            <a:ext cx="791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案例分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教师拖堂，下课拖延，学生跑步上厕所，回来已上自主自习课，在走廊里大声说话，被值周生记下名字，心中不服，拒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126828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早操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不迟到，排队迅速、安静，队伍整齐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要有良好的精神面貌，昂首挺胸，步子正确，口号响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1341360"/>
            <a:ext cx="777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早读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按时进入教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认真完成教师布置的朗读、背诵的任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学习委员结合小组长监督到位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692280"/>
            <a:ext cx="8136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按时进入课堂，坚决不迟到，做好课前准备，做到铃响人静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发言积极，声音洪亮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独立思考，认真完成作业，不能抄袭和拖欠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讨论问题时，人人参与，声音不要太大，以免影响他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1341360"/>
            <a:ext cx="777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按时擦黑板，做好课前准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积极参加有意义的课间活动，不能在走廊内追逐打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6:53:07Z</dcterms:created>
  <dc:creator>雨林木风</dc:creator>
  <dc:description/>
  <cp:keywords/>
  <dc:language>en-US</dc:language>
  <cp:lastModifiedBy>User</cp:lastModifiedBy>
  <cp:lastPrinted>1899-12-30T00:00:00Z</cp:lastPrinted>
  <dcterms:modified xsi:type="dcterms:W3CDTF">2012-12-26T13:08:49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