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32.jpeg" ContentType="image/jpeg"/>
  <Override PartName="/ppt/media/image9.jpeg" ContentType="image/jpeg"/>
  <Override PartName="/ppt/media/image29.wmf" ContentType="image/x-wmf"/>
  <Override PartName="/ppt/media/image26.png" ContentType="image/png"/>
  <Override PartName="/ppt/media/image11.wmf" ContentType="image/x-wmf"/>
  <Override PartName="/ppt/media/image3.png" ContentType="image/png"/>
  <Override PartName="/ppt/media/image33.png" ContentType="image/png"/>
  <Override PartName="/ppt/media/image14.jpeg" ContentType="image/jpeg"/>
  <Override PartName="/ppt/media/image16.wmf" ContentType="image/x-wmf"/>
  <Override PartName="/ppt/media/image8.jpeg" ContentType="image/jpeg"/>
  <Override PartName="/ppt/media/image10.jpeg" ContentType="image/jpeg"/>
  <Override PartName="/ppt/media/image13.wmf" ContentType="image/x-wmf"/>
  <Override PartName="/ppt/media/image34.jpeg" ContentType="image/jpeg"/>
  <Override PartName="/ppt/media/image31.wmf" ContentType="image/x-wmf"/>
  <Override PartName="/ppt/media/image7.jpeg" ContentType="image/jpeg"/>
  <Override PartName="/ppt/media/image35.png" ContentType="image/png"/>
  <Override PartName="/ppt/media/image36.gif" ContentType="image/gif"/>
  <Override PartName="/ppt/media/image6.png" ContentType="image/png"/>
  <Override PartName="/ppt/media/image5.wmf" ContentType="image/x-wmf"/>
  <Override PartName="/ppt/media/image30.png" ContentType="image/png"/>
  <Override PartName="/ppt/media/image28.wmf" ContentType="image/x-wmf"/>
  <Override PartName="/ppt/media/image12.jpeg" ContentType="image/jpeg"/>
  <Override PartName="/ppt/media/image4.png" ContentType="image/png"/>
  <Override PartName="/ppt/media/image23.jpeg" ContentType="image/jpeg"/>
  <Override PartName="/ppt/media/image18.wmf" ContentType="image/x-wmf"/>
  <Override PartName="/ppt/media/REMINDR3.WAV" ContentType="audio/x-wav"/>
  <Override PartName="/ppt/media/image2.jpeg" ContentType="image/jpeg"/>
  <Override PartName="/ppt/media/image1.jpeg" ContentType="image/jpeg"/>
  <Override PartName="/ppt/media/image25.wmf" ContentType="image/x-wmf"/>
  <Override PartName="/ppt/media/image15.jpeg" ContentType="image/jpe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1FF7-3AC3-4BCE-8D3A-23D2FDC12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5215-379E-40A1-A98D-7A2B75BA3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E6D5-117D-45DC-BDCF-C427C0950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7B5E-5429-44FD-9C73-DB70C7FBE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BD3B0-DCC2-4B78-90BD-514227C4F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9CD4F-AB0B-4E98-A267-FFC37429B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8C664-5845-49FE-B9CD-6B7C22A0A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89B6B-7A31-49E6-B34D-51F63DF26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07F6F-DD55-4053-B008-DA0906C64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11D4B-1407-42EE-A7B6-4DAECEAFF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ED462-2754-4D3A-A60A-A78AE5ED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6757-E944-4D5B-B683-73585D367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B60F4-DFE4-47D9-AAF9-39B5648B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74E95-496B-4812-9C22-84F7A6C9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2BAE1-CB6F-488A-B99E-E329E826E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58B50-91F7-4C9F-856B-AC17C0775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7F629-2800-4792-8D34-26652B179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8884-773B-4887-BA9F-D1AEEDA90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D01D-62E1-4A39-82DE-CF3E2D999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0BFC-81A2-44BA-A4AA-778E291D8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C548-C934-4715-B30C-7CC1CD41C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8A46-97BB-4BFD-8674-706038E7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691F-4AE4-4BDB-B2D1-81AD9982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4B06-359A-4EFD-AE67-25874491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91A22-6A97-4AAB-AF0E-B882132FA79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F2399-68F0-48C1-809C-9CFF9ED90D4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image" Target="../media/image22.wmf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4.png"/><Relationship Id="rId5" Type="http://schemas.openxmlformats.org/officeDocument/2006/relationships/audio" Target="../media/REMINDR3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9.wmf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wmf"/><Relationship Id="rId3" Type="http://schemas.openxmlformats.org/officeDocument/2006/relationships/image" Target="../media/image4.png"/><Relationship Id="rId4" Type="http://schemas.openxmlformats.org/officeDocument/2006/relationships/audio" Target="../media/REMINDR3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6.gi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" Target="slide8.xml"/><Relationship Id="rId4" Type="http://schemas.openxmlformats.org/officeDocument/2006/relationships/slide" Target="slide13.xm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png"/><Relationship Id="rId3" Type="http://schemas.openxmlformats.org/officeDocument/2006/relationships/audio" Target="../media/REMINDR3.WAV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  <a:ea typeface="楷体_GB2312"/>
              </a:rPr>
              <a:t>母亲的账单</a:t>
            </a:r>
            <a:endParaRPr b="0" lang="en-US" sz="6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40464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教科版 三年级 语文 上册 第一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835280" y="476280"/>
            <a:ext cx="67690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、内容不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一份是母亲欠他儿子彼得的帐单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一份是彼得欠他母亲的帐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2637000"/>
            <a:ext cx="7129440" cy="14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二、时间不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妈妈为彼得付出了十年的辛苦劳动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而彼得也许是一天或两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4640400"/>
            <a:ext cx="7416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三、报酬不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妈妈为彼得付出了很多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却要彼得支付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美分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而彼得一共向妈妈索取了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60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美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20234400">
            <a:off x="566640" y="691920"/>
            <a:ext cx="1079640" cy="1571400"/>
          </a:xfrm>
          <a:prstGeom prst="irregularSeal2">
            <a:avLst/>
          </a:prstGeom>
          <a:gradFill rotWithShape="0">
            <a:gsLst>
              <a:gs pos="0">
                <a:srgbClr val="5b2400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第一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848720" y="3429000"/>
            <a:ext cx="852480" cy="20844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038480"/>
            <a:ext cx="873360" cy="16257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6000"/>
                            </p:stCondLst>
                            <p:childTnLst>
                              <p:par>
                                <p:cTn id="14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0" y="1828800"/>
          <a:ext cx="9144000" cy="502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28800"/>
                    <a:ext cx="9144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3124080" y="5052960"/>
            <a:ext cx="1600200" cy="12384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228600" y="3886200"/>
            <a:ext cx="1427040" cy="2614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8229600" y="4572000"/>
            <a:ext cx="673200" cy="12002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7"/>
          <a:stretch/>
        </p:blipFill>
        <p:spPr>
          <a:xfrm>
            <a:off x="2971800" y="6095880"/>
            <a:ext cx="457200" cy="1270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124000" y="304920"/>
            <a:ext cx="702000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妈妈读了彼得的账单后</a:t>
            </a: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有什么反应为什么什么话也没有说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404640"/>
            <a:ext cx="2133720" cy="838440"/>
          </a:xfrm>
          <a:prstGeom prst="ellipse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问题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8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1844640"/>
            <a:ext cx="6948360" cy="27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她期待小彼得能够自己醒悟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而且她相信小彼得看了她的帐单会向她期待的那样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明白事理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改正自己的不当行为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749800">
            <a:off x="457200" y="380880"/>
            <a:ext cx="2489040" cy="1219320"/>
          </a:xfrm>
          <a:prstGeom prst="irregularSeal2">
            <a:avLst/>
          </a:prstGeom>
          <a:gradFill rotWithShape="0">
            <a:gsLst>
              <a:gs pos="0">
                <a:srgbClr val="24245b"/>
              </a:gs>
              <a:gs pos="100000">
                <a:srgbClr val="66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第二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8077320" y="3886200"/>
            <a:ext cx="814320" cy="17398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6934320" y="4648320"/>
            <a:ext cx="838080" cy="7952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EMINDR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7740720" y="5300640"/>
            <a:ext cx="1166760" cy="1295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611280" y="3860640"/>
            <a:ext cx="1503360" cy="24465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95280" y="2492280"/>
            <a:ext cx="2664000" cy="1224000"/>
          </a:xfrm>
          <a:prstGeom prst="wedgeEllipseCallout">
            <a:avLst>
              <a:gd name="adj1" fmla="val 14421"/>
              <a:gd name="adj2" fmla="val 99805"/>
            </a:avLst>
          </a:prstGeom>
          <a:gradFill rotWithShape="0">
            <a:gsLst>
              <a:gs pos="0">
                <a:srgbClr val="ff6600"/>
              </a:gs>
              <a:gs pos="100000">
                <a:srgbClr val="8e38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3280" y="4653000"/>
            <a:ext cx="2143440" cy="647640"/>
          </a:xfrm>
          <a:prstGeom prst="cloudCallout">
            <a:avLst>
              <a:gd name="adj1" fmla="val 87407"/>
              <a:gd name="adj2" fmla="val 53921"/>
            </a:avLst>
          </a:prstGeom>
          <a:gradFill rotWithShape="0">
            <a:gsLst>
              <a:gs pos="0">
                <a:srgbClr val="e4e4e4"/>
              </a:gs>
              <a:gs pos="100000">
                <a:srgbClr val="96969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684360" y="2565360"/>
          <a:ext cx="2057400" cy="1163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4360" y="2565360"/>
                    <a:ext cx="2057400" cy="11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0" y="0"/>
            <a:ext cx="2133720" cy="83808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问题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735280" y="260280"/>
            <a:ext cx="6408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     </a:t>
            </a:r>
            <a:r>
              <a:rPr b="1" lang="zh-CN" sz="44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你们说母亲十年来为彼得的辛勤付出，就仅仅只有这四条款项吗 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如果我请你把这份母亲的帐单再列详细点</a:t>
            </a:r>
            <a:r>
              <a:rPr b="1" lang="zh-CN" sz="44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还可以列举什么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500"/>
                            </p:stCondLst>
                            <p:childTnLst>
                              <p:par>
                                <p:cTn id="19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755640" y="2421000"/>
            <a:ext cx="813744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800080"/>
                </a:solidFill>
                <a:latin typeface="Times New Roman"/>
              </a:rPr>
              <a:t>从小到大</a:t>
            </a:r>
            <a:r>
              <a:rPr b="1" lang="zh-CN" sz="4800" spc="-1" strike="noStrike">
                <a:solidFill>
                  <a:srgbClr val="800080"/>
                </a:solidFill>
                <a:latin typeface="Times New Roman"/>
              </a:rPr>
              <a:t>,</a:t>
            </a:r>
            <a:r>
              <a:rPr b="1" lang="zh-CN" sz="4800" spc="-1" strike="noStrike">
                <a:solidFill>
                  <a:srgbClr val="800080"/>
                </a:solidFill>
                <a:latin typeface="Times New Roman"/>
              </a:rPr>
              <a:t>已经为他洗了数不清的衣服</a:t>
            </a:r>
            <a:r>
              <a:rPr b="1" lang="zh-CN" sz="4800" spc="-1" strike="noStrike">
                <a:solidFill>
                  <a:srgbClr val="800080"/>
                </a:solidFill>
                <a:latin typeface="Times New Roman"/>
              </a:rPr>
              <a:t>,</a:t>
            </a:r>
            <a:r>
              <a:rPr b="1" lang="zh-CN" sz="4800" spc="-1" strike="noStrike">
                <a:solidFill>
                  <a:srgbClr val="800080"/>
                </a:solidFill>
                <a:latin typeface="Times New Roman"/>
              </a:rPr>
              <a:t>生病时……</a:t>
            </a:r>
            <a:r>
              <a:rPr b="1" lang="zh-CN" sz="4800" spc="-1" strike="noStrike">
                <a:solidFill>
                  <a:srgbClr val="800080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20749800">
            <a:off x="484200" y="375840"/>
            <a:ext cx="2489040" cy="1447920"/>
          </a:xfrm>
          <a:prstGeom prst="irregularSeal2">
            <a:avLst/>
          </a:prstGeom>
          <a:gradFill rotWithShape="0">
            <a:gsLst>
              <a:gs pos="0">
                <a:srgbClr val="005e2f"/>
              </a:gs>
              <a:gs pos="100000">
                <a:srgbClr val="00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99"/>
                </a:solidFill>
                <a:latin typeface="Times New Roman"/>
                <a:ea typeface="黑体"/>
              </a:rPr>
              <a:t>第三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740720" y="4292640"/>
            <a:ext cx="839880" cy="147960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00099"/>
            </a:outerShdw>
          </a:effectLst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EMINDR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16000" y="-1717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你还能提出哪些问题？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691920"/>
            <a:ext cx="8842320" cy="35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如果妈妈的帐单上不写“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0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美分”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你认为该写多少 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既然妈妈付出了这么多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为什么妈妈的账单上写得都是“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0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美分” 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对比这两份账单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你感受到了什么 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那小彼得体会到妈妈的爱了吗？ 从哪儿看出来的 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彼得刚才说的这些话就是彼得羞愧万分的表现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你知道什么是羞愧万分了吗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作  业</a:t>
            </a:r>
            <a:endParaRPr b="0" lang="en-US" sz="6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6560" y="2420640"/>
            <a:ext cx="74250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谈谈你帮父母做过什么事当时怎么想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写一段话或一封信</a:t>
            </a: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把你对妈妈的爱</a:t>
            </a: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感激</a:t>
            </a: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承诺</a:t>
            </a: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感恩……写在里面</a:t>
            </a: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当作是一份迟到的母亲节礼物送给她们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2700360" y="1844640"/>
            <a:ext cx="34765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楷体_GB2312"/>
              </a:rPr>
              <a:t>下课了</a:t>
            </a:r>
            <a:endParaRPr b="0" lang="en-US" sz="5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0" y="3716280"/>
            <a:ext cx="2039760" cy="2448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游子吟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63280" y="1557360"/>
            <a:ext cx="576108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                    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孟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慈母 手 中 线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游子 身 上 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临行 密 密 缝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意恐 迟 迟 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谁言 寸 草 心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报得 三 春 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还记得诗中的“报”是什么意思吗？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834920" y="1844640"/>
            <a:ext cx="68403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我突然想到了另一个和“报”有关的词</a:t>
            </a: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这又是什么意思 ，今天我们就一起来学习一个关于“报酬”的故事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报酬”：付出劳动后得到酬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什么是账单 ？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4607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11280" y="907920"/>
            <a:ext cx="4319640" cy="30816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611280" y="4005360"/>
            <a:ext cx="4680000" cy="25272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1320" y="549360"/>
            <a:ext cx="8302680" cy="54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母亲欠她儿子彼得的帐单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为取回生活用品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美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为把信件送往邮局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美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为他一直是个听话的好孩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美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共计：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60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美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475920"/>
            <a:ext cx="91440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彼得欠他母亲的帐单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为在她家里过的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年幸福生活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美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为他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年中的吃喝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美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为在他生病时的护理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美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为他一直有个慈爱的母亲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美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共计：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美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876920" y="1371600"/>
            <a:ext cx="3352680" cy="44956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1143000" y="1219320"/>
            <a:ext cx="2276640" cy="83808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8e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问题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2514600"/>
            <a:ext cx="2349360" cy="838080"/>
          </a:xfrm>
          <a:prstGeom prst="ellipse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问题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4" action="ppaction://hlinksldjump"/>
          </p:cNvPr>
          <p:cNvSpPr/>
          <p:nvPr/>
        </p:nvSpPr>
        <p:spPr>
          <a:xfrm>
            <a:off x="1143000" y="3886200"/>
            <a:ext cx="2276640" cy="83808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问题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228600"/>
            <a:ext cx="1524240" cy="838080"/>
          </a:xfrm>
          <a:prstGeom prst="cloudCallout">
            <a:avLst>
              <a:gd name="adj1" fmla="val 35416"/>
              <a:gd name="adj2" fmla="val 833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96080" y="685800"/>
            <a:ext cx="838440" cy="685800"/>
          </a:xfrm>
          <a:prstGeom prst="cloudCallout">
            <a:avLst>
              <a:gd name="adj1" fmla="val -96782"/>
              <a:gd name="adj2" fmla="val 9305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495680" y="762120"/>
            <a:ext cx="3981600" cy="3870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79280" y="2349360"/>
            <a:ext cx="440856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幼圆"/>
                <a:ea typeface="幼圆"/>
              </a:rPr>
              <a:t>  </a:t>
            </a:r>
            <a:r>
              <a:rPr b="1" lang="zh-CN" sz="4800" spc="-1" strike="noStrike">
                <a:solidFill>
                  <a:srgbClr val="0000ff"/>
                </a:solidFill>
                <a:latin typeface="幼圆"/>
                <a:ea typeface="幼圆"/>
              </a:rPr>
              <a:t>对比两份账单</a:t>
            </a:r>
            <a:r>
              <a:rPr b="1" lang="zh-CN" sz="4800" spc="-1" strike="noStrike">
                <a:solidFill>
                  <a:srgbClr val="0000ff"/>
                </a:solidFill>
                <a:latin typeface="幼圆"/>
                <a:ea typeface="幼圆"/>
              </a:rPr>
              <a:t>,</a:t>
            </a:r>
            <a:r>
              <a:rPr b="1" lang="zh-CN" sz="4800" spc="-1" strike="noStrike">
                <a:solidFill>
                  <a:srgbClr val="0000ff"/>
                </a:solidFill>
                <a:latin typeface="幼圆"/>
                <a:ea typeface="幼圆"/>
              </a:rPr>
              <a:t>让我们仔细看看它们有哪些区别 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533520"/>
            <a:ext cx="2738520" cy="13827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8e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问题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5406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cc"/>
                </a:solidFill>
                <a:latin typeface="Arial"/>
              </a:rPr>
              <a:t>两份账单</a:t>
            </a:r>
            <a:endParaRPr b="0" lang="en-US" sz="5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836640"/>
            <a:ext cx="46432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母亲欠她儿子彼得的帐单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为取回生活用品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20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美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为把信件送往邮局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20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美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为他一直是个听话的好孩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20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美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共计：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60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美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817560"/>
            <a:ext cx="4572000" cy="46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彼得欠他母亲的帐单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为在她家里过的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0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年幸福生活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0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美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为他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0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年中的吃喝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0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美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为在他生病时的护理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0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美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为他一直有个慈爱的母亲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0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美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共计：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0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美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EMINDR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3:22:57Z</dcterms:created>
  <dc:creator>User</dc:creator>
  <dc:description/>
  <dc:language>en-US</dc:language>
  <cp:lastModifiedBy>微软用户</cp:lastModifiedBy>
  <dcterms:modified xsi:type="dcterms:W3CDTF">2012-09-04T13:41:32Z</dcterms:modified>
  <cp:revision>26</cp:revision>
  <dc:subject/>
  <dc:title>妈妈的账单</dc:title>
</cp:coreProperties>
</file>