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9.jpeg" ContentType="image/jpeg"/>
  <Override PartName="/ppt/media/image29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14.jpeg" ContentType="image/jpeg"/>
  <Override PartName="/ppt/media/image16.wmf" ContentType="image/x-wmf"/>
  <Override PartName="/ppt/media/image8.jpeg" ContentType="image/jpeg"/>
  <Override PartName="/ppt/media/image10.jpeg" ContentType="image/jpeg"/>
  <Override PartName="/ppt/media/image13.wmf" ContentType="image/x-wmf"/>
  <Override PartName="/ppt/media/image34.jpeg" ContentType="image/jpeg"/>
  <Override PartName="/ppt/media/image31.wmf" ContentType="image/x-wmf"/>
  <Override PartName="/ppt/media/image7.jpeg" ContentType="image/jpeg"/>
  <Override PartName="/ppt/media/image35.png" ContentType="image/png"/>
  <Override PartName="/ppt/media/image36.gif" ContentType="image/gif"/>
  <Override PartName="/ppt/media/image6.png" ContentType="image/png"/>
  <Override PartName="/ppt/media/image5.wmf" ContentType="image/x-wmf"/>
  <Override PartName="/ppt/media/image30.png" ContentType="image/png"/>
  <Override PartName="/ppt/media/image28.wmf" ContentType="image/x-wmf"/>
  <Override PartName="/ppt/media/image12.jpeg" ContentType="image/jpeg"/>
  <Override PartName="/ppt/media/image4.png" ContentType="image/png"/>
  <Override PartName="/ppt/media/image23.jpeg" ContentType="image/jpeg"/>
  <Override PartName="/ppt/media/image18.wmf" ContentType="image/x-wmf"/>
  <Override PartName="/ppt/media/REMINDR3.WAV" ContentType="audio/x-wav"/>
  <Override PartName="/ppt/media/image2.jpeg" ContentType="image/jpeg"/>
  <Override PartName="/ppt/media/image1.jpeg" ContentType="image/jpeg"/>
  <Override PartName="/ppt/media/image25.wmf" ContentType="image/x-wmf"/>
  <Override PartName="/ppt/media/image15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37FC-CC79-4B2A-B098-244C7A9A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6FCA-D78E-40B0-97D2-A8AC5BD9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DE0D-1E35-4094-8EE8-CEA85BEE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0918-240C-4186-A109-6C0EE710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9AF4-2721-435F-8B1A-4743AA41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E376-D017-4552-A6D4-947BD043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825A-D7A5-4F47-937F-BB327215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3D95-1213-4054-862B-807B083A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E82B-EE88-4E82-8982-4CAC58C6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9709-A091-45D8-B8B0-0BFDEEFC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48B8-A41A-421F-B653-29B5E43B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692-A720-40B5-8E88-A5A9124E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C857-DB2D-4B7D-8FE3-9A0E4E3B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58A5-4326-4206-86EF-9D40889C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774A-5294-49C0-BD3F-EF298757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8805-09AB-4F89-9A8B-77ACA9DA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71D0-4AF8-4F4C-9EE1-87DD71D2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2A0-018D-43B1-B3E1-CFEE3D8A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554-7753-42BF-B93F-6B4026FD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10E-9C56-4795-A878-4004EF85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24A2-9344-42EB-8792-4E150C73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03A2-618F-496F-84E0-0D0CB855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AF4-C48A-46BA-B580-27F4D934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6FEB-9CFF-4636-A1EF-4A6A91D9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65EC-F742-4A45-AE66-6196334ADC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5C5C-1993-4350-8570-C39CCDE15F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audio" Target="../media/REMINDR3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4.png"/><Relationship Id="rId4" Type="http://schemas.openxmlformats.org/officeDocument/2006/relationships/audio" Target="../media/REMINDR3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" Target="slide8.xml"/><Relationship Id="rId4" Type="http://schemas.openxmlformats.org/officeDocument/2006/relationships/slide" Target="slide13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audio" Target="../media/REMINDR3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母亲的账单</a:t>
            </a:r>
            <a:endParaRPr b="0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教科版 三年级 语文 上册 第一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35280" y="476280"/>
            <a:ext cx="6769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、内容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份是母亲欠他儿子彼得的帐单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份是彼得欠他母亲的帐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637000"/>
            <a:ext cx="712944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、时间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妈妈为彼得付出了十年的辛苦劳动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而彼得也许是一天或两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640400"/>
            <a:ext cx="741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、报酬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妈妈为彼得付出了很多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却要彼得支付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美分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而彼得一共向妈妈索取了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美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0234400">
            <a:off x="566640" y="691920"/>
            <a:ext cx="1079640" cy="1571400"/>
          </a:xfrm>
          <a:prstGeom prst="irregularSeal2">
            <a:avLst/>
          </a:prstGeom>
          <a:gradFill rotWithShape="0">
            <a:gsLst>
              <a:gs pos="0">
                <a:srgbClr val="5b24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一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848720" y="3429000"/>
            <a:ext cx="852480" cy="2084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038480"/>
            <a:ext cx="873360" cy="1625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124080" y="5052960"/>
            <a:ext cx="1600200" cy="1238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228600" y="3886200"/>
            <a:ext cx="1427040" cy="261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8229600" y="4572000"/>
            <a:ext cx="673200" cy="1200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2971800" y="6095880"/>
            <a:ext cx="457200" cy="127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24000" y="304920"/>
            <a:ext cx="7020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妈妈读了彼得的账单后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什么反应为什么什么话也没有说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04640"/>
            <a:ext cx="2133720" cy="83844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44640"/>
            <a:ext cx="694836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她期待小彼得能够自己醒悟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且她相信小彼得看了她的帐单会向她期待的那样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白事理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改正自己的不当行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749800">
            <a:off x="457200" y="380880"/>
            <a:ext cx="2489040" cy="1219320"/>
          </a:xfrm>
          <a:prstGeom prst="irregularSeal2">
            <a:avLst/>
          </a:prstGeom>
          <a:gradFill rotWithShape="0">
            <a:gsLst>
              <a:gs pos="0">
                <a:srgbClr val="24245b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第二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077320" y="3886200"/>
            <a:ext cx="814320" cy="1739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934320" y="4648320"/>
            <a:ext cx="838080" cy="795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1166760" cy="129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1503360" cy="2446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5280" y="2492280"/>
            <a:ext cx="2664000" cy="1224000"/>
          </a:xfrm>
          <a:prstGeom prst="wedgeEllipseCallout">
            <a:avLst>
              <a:gd name="adj1" fmla="val 14421"/>
              <a:gd name="adj2" fmla="val 99805"/>
            </a:avLst>
          </a:prstGeom>
          <a:gradFill rotWithShape="0">
            <a:gsLst>
              <a:gs pos="0">
                <a:srgbClr val="ff6600"/>
              </a:gs>
              <a:gs pos="100000">
                <a:srgbClr val="8e38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4653000"/>
            <a:ext cx="2143440" cy="647640"/>
          </a:xfrm>
          <a:prstGeom prst="cloudCallout">
            <a:avLst>
              <a:gd name="adj1" fmla="val 87407"/>
              <a:gd name="adj2" fmla="val 53921"/>
            </a:avLst>
          </a:prstGeom>
          <a:gradFill rotWithShape="0">
            <a:gsLst>
              <a:gs pos="0">
                <a:srgbClr val="e4e4e4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2565360"/>
          <a:ext cx="2057400" cy="116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2565360"/>
                    <a:ext cx="205740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0"/>
            <a:ext cx="2133720" cy="838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35280" y="260280"/>
            <a:ext cx="640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你们说母亲十年来为彼得的辛勤付出，就仅仅只有这四条款项吗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如果我请你把这份母亲的帐单再列详细点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还可以列举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2421000"/>
            <a:ext cx="8137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从小到大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已经为他洗了数不清的衣服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生病时……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749800">
            <a:off x="484200" y="375840"/>
            <a:ext cx="2489040" cy="1447920"/>
          </a:xfrm>
          <a:prstGeom prst="irregularSeal2">
            <a:avLst/>
          </a:prstGeom>
          <a:gradFill rotWithShape="0">
            <a:gsLst>
              <a:gs pos="0">
                <a:srgbClr val="005e2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黑体"/>
              </a:rPr>
              <a:t>第三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740720" y="4292640"/>
            <a:ext cx="839880" cy="14796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你还能提出哪些问题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842320" cy="35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如果妈妈的帐单上不写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美分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认为该写多少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既然妈妈付出了这么多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为什么妈妈的账单上写得都是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美分”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对比这两份账单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感受到了什么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那小彼得体会到妈妈的爱了吗？ 从哪儿看出来的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彼得刚才说的这些话就是彼得羞愧万分的表现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知道什么是羞愧万分了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作  业</a:t>
            </a:r>
            <a:endParaRPr b="0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560" y="2420640"/>
            <a:ext cx="7425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谈谈你帮父母做过什么事当时怎么想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写一段话或一封信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把你对妈妈的爱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感激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承诺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感恩……写在里面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当作是一份迟到的母亲节礼物送给她们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700360" y="1844640"/>
            <a:ext cx="34765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下课了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039760" cy="244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游子吟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63280" y="1557360"/>
            <a:ext cx="57610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孟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慈母 手 中 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游子 身 上 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临行 密 密 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意恐 迟 迟 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谁言 寸 草 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报得 三 春 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还记得诗中的“报”是什么意思吗？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834920" y="1844640"/>
            <a:ext cx="684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我突然想到了另一个和“报”有关的词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这又是什么意思 ，今天我们就一起来学习一个关于“报酬”的故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报酬”：付出劳动后得到酬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什么是账单 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460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11280" y="907920"/>
            <a:ext cx="4319640" cy="3081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11280" y="4005360"/>
            <a:ext cx="4680000" cy="2527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1320" y="549360"/>
            <a:ext cx="83026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母亲欠她儿子彼得的帐单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取回生活用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把信件送往邮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他一直是个听话的好孩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共计：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彼得欠他母亲的帐单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在她家里过的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年幸福生活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他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年中的吃喝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在他生病时的护理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他一直有个慈爱的母亲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共计：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3352680" cy="4495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1143000" y="1219320"/>
            <a:ext cx="2276640" cy="838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8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514600"/>
            <a:ext cx="2349360" cy="83808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1143000" y="3886200"/>
            <a:ext cx="2276640" cy="838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28600"/>
            <a:ext cx="1524240" cy="838080"/>
          </a:xfrm>
          <a:prstGeom prst="cloudCallout">
            <a:avLst>
              <a:gd name="adj1" fmla="val 35416"/>
              <a:gd name="adj2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685800"/>
            <a:ext cx="838440" cy="685800"/>
          </a:xfrm>
          <a:prstGeom prst="cloudCallout">
            <a:avLst>
              <a:gd name="adj1" fmla="val -96782"/>
              <a:gd name="adj2" fmla="val 930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95680" y="762120"/>
            <a:ext cx="3981600" cy="3870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9280" y="2349360"/>
            <a:ext cx="44085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对比两份账单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让我们仔细看看它们有哪些区别 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2738520" cy="1382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8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Arial"/>
              </a:rPr>
              <a:t>两份账单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36640"/>
            <a:ext cx="46432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母亲欠她儿子彼得的帐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取回生活用品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把信件送往邮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一直是个听话的好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共计：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817560"/>
            <a:ext cx="4572000" cy="46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彼得欠他母亲的帐单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在她家里过的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幸福生活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中的吃喝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在他生病时的护理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一直有个慈爱的母亲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共计：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3:22:57Z</dcterms:created>
  <dc:creator>User</dc:creator>
  <dc:description/>
  <dc:language>en-US</dc:language>
  <cp:lastModifiedBy>微软用户</cp:lastModifiedBy>
  <dcterms:modified xsi:type="dcterms:W3CDTF">2012-09-04T13:41:32Z</dcterms:modified>
  <cp:revision>26</cp:revision>
  <dc:subject/>
  <dc:title>妈妈的账单</dc:title>
</cp:coreProperties>
</file>