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9.jpeg" ContentType="image/jpeg"/>
  <Override PartName="/ppt/media/image29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4.jpeg" ContentType="image/jpeg"/>
  <Override PartName="/ppt/media/image16.wmf" ContentType="image/x-wmf"/>
  <Override PartName="/ppt/media/image8.jpeg" ContentType="image/jpeg"/>
  <Override PartName="/ppt/media/image10.jpeg" ContentType="image/jpeg"/>
  <Override PartName="/ppt/media/image13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35.png" ContentType="image/png"/>
  <Override PartName="/ppt/media/image36.gif" ContentType="image/gif"/>
  <Override PartName="/ppt/media/image6.png" ContentType="image/png"/>
  <Override PartName="/ppt/media/image5.wmf" ContentType="image/x-wmf"/>
  <Override PartName="/ppt/media/image30.png" ContentType="image/png"/>
  <Override PartName="/ppt/media/image28.wmf" ContentType="image/x-wmf"/>
  <Override PartName="/ppt/media/image12.jpeg" ContentType="image/jpeg"/>
  <Override PartName="/ppt/media/image4.png" ContentType="image/png"/>
  <Override PartName="/ppt/media/image23.jpeg" ContentType="image/jpeg"/>
  <Override PartName="/ppt/media/image18.wmf" ContentType="image/x-wmf"/>
  <Override PartName="/ppt/media/REMINDR3.WAV" ContentType="audio/x-wav"/>
  <Override PartName="/ppt/media/image2.jpeg" ContentType="image/jpeg"/>
  <Override PartName="/ppt/media/image1.jpeg" ContentType="image/jpeg"/>
  <Override PartName="/ppt/media/image25.wmf" ContentType="image/x-wmf"/>
  <Override PartName="/ppt/media/image15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5CC-BB76-46EF-A55E-207882E4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9AE-07D3-4FDD-80B2-F214DA40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28B-4673-46CA-9D25-37F87C31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47E8-7FE7-4157-A4D5-E2B381BB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40AE-C785-4F02-84B1-7C65E378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34B3-58A4-4C33-95E6-BE849DF2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8F71-5044-48FD-8B71-88AD9977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88B7-342E-4739-A9E1-9B06CCE9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3B48-FF71-40CD-AF3A-D3AFB2C7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1AB0-E7FF-4001-BE8B-B8CBE260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EFA2-D44B-4658-B324-A5E341E8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0AB-FF81-484D-BA3A-B4B69FB7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52D4-478D-43DC-85EE-018A3977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E686-55D5-4850-859C-5C196D9B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8609-0D6B-4E26-B1DC-56E0201D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A9C6-7AC7-4643-B519-FD2BB149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061C-B0DF-443F-86FD-63249E97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EF5-D2C2-427C-8655-E2ACD400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73B-A7AE-4788-93A8-A22A66C3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BD1-B3EA-44DE-A4D7-1DDBD96A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7FE-5163-48D9-AB37-B2E9CBE7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ABD-E3FF-400E-9F48-BB1ECBC7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AA9-B5D5-452D-8FAD-A8DFED8E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0A4-3342-46B3-8800-AFCFFCA8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A7CF-C2D9-4E5C-9400-3014ABC523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7BD6-4A71-4C2D-8A53-8B7F6CCA40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audio" Target="../media/REMINDR3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4.png"/><Relationship Id="rId4" Type="http://schemas.openxmlformats.org/officeDocument/2006/relationships/audio" Target="../media/REMINDR3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6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audio" Target="../media/REMINDR3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楷体_GB2312"/>
              </a:rPr>
              <a:t>母亲的账单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教科版 三年级 语文 上册 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35280" y="476280"/>
            <a:ext cx="6769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内容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母亲欠他儿子彼得的帐单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一份是彼得欠他母亲的帐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637000"/>
            <a:ext cx="712944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、时间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十年的辛苦劳动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也许是一天或两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4640400"/>
            <a:ext cx="741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、报酬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妈妈为彼得付出了很多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却要彼得支付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彼得一共向妈妈索取了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美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234400">
            <a:off x="566640" y="691920"/>
            <a:ext cx="1079640" cy="1571400"/>
          </a:xfrm>
          <a:prstGeom prst="irregularSeal2">
            <a:avLst/>
          </a:prstGeom>
          <a:gradFill rotWithShape="0">
            <a:gsLst>
              <a:gs pos="0">
                <a:srgbClr val="5b24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一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848720" y="3429000"/>
            <a:ext cx="852480" cy="208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038480"/>
            <a:ext cx="873360" cy="1625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24080" y="5052960"/>
            <a:ext cx="1600200" cy="1238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1427040" cy="2614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229600" y="4572000"/>
            <a:ext cx="673200" cy="120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2971800" y="6095880"/>
            <a:ext cx="457200" cy="12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304920"/>
            <a:ext cx="7020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妈妈读了彼得的账单后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什么反应为什么什么话也没有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04640"/>
            <a:ext cx="2133720" cy="8384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844640"/>
            <a:ext cx="6948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期待小彼得能够自己醒悟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且她相信小彼得看了她的帐单会向她期待的那样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白事理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改正自己的不当行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749800">
            <a:off x="457200" y="380880"/>
            <a:ext cx="2489040" cy="1219320"/>
          </a:xfrm>
          <a:prstGeom prst="irregularSeal2">
            <a:avLst/>
          </a:prstGeom>
          <a:gradFill rotWithShape="0">
            <a:gsLst>
              <a:gs pos="0">
                <a:srgbClr val="24245b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第二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077320" y="3886200"/>
            <a:ext cx="814320" cy="173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934320" y="4648320"/>
            <a:ext cx="838080" cy="795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1503360" cy="2446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5280" y="2492280"/>
            <a:ext cx="2664000" cy="1224000"/>
          </a:xfrm>
          <a:prstGeom prst="wedgeEllipseCallout">
            <a:avLst>
              <a:gd name="adj1" fmla="val 14421"/>
              <a:gd name="adj2" fmla="val 99805"/>
            </a:avLst>
          </a:pr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653000"/>
            <a:ext cx="2143440" cy="647640"/>
          </a:xfrm>
          <a:prstGeom prst="cloudCallout">
            <a:avLst>
              <a:gd name="adj1" fmla="val 87407"/>
              <a:gd name="adj2" fmla="val 53921"/>
            </a:avLst>
          </a:prstGeom>
          <a:gradFill rotWithShape="0">
            <a:gsLst>
              <a:gs pos="0">
                <a:srgbClr val="e4e4e4"/>
              </a:gs>
              <a:gs pos="100000">
                <a:srgbClr val="96969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4360" y="2565360"/>
          <a:ext cx="2057400" cy="116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4360" y="2565360"/>
                    <a:ext cx="205740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0"/>
            <a:ext cx="213372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35280" y="260280"/>
            <a:ext cx="64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你们说母亲十年来为彼得的辛勤付出，就仅仅只有这四条款项吗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如果我请你把这份母亲的帐单再列详细点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还可以列举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2421000"/>
            <a:ext cx="813744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从小到大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已经为他洗了数不清的衣服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生病时……</a:t>
            </a:r>
            <a:r>
              <a:rPr b="1" lang="zh-CN" sz="4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749800">
            <a:off x="484200" y="375840"/>
            <a:ext cx="2489040" cy="1447920"/>
          </a:xfrm>
          <a:prstGeom prst="irregularSeal2">
            <a:avLst/>
          </a:prstGeom>
          <a:gradFill rotWithShape="0">
            <a:gsLst>
              <a:gs pos="0">
                <a:srgbClr val="005e2f"/>
              </a:gs>
              <a:gs pos="100000">
                <a:srgbClr val="00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黑体"/>
              </a:rPr>
              <a:t>第三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740720" y="4292640"/>
            <a:ext cx="839880" cy="1479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-171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你还能提出哪些问题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691920"/>
            <a:ext cx="8842320" cy="35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如果妈妈的帐单上不写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认为该写多少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既然妈妈付出了这么多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为什么妈妈的账单上写得都是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美分”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比这两份账单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感受到了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那小彼得体会到妈妈的爱了吗？ 从哪儿看出来的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彼得刚才说的这些话就是彼得羞愧万分的表现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知道什么是羞愧万分了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作  业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560" y="2420640"/>
            <a:ext cx="7425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谈谈你帮父母做过什么事当时怎么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写一段话或一封信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把你对妈妈的爱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激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承诺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感恩……写在里面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当作是一份迟到的母亲节礼物送给她们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700360" y="1844640"/>
            <a:ext cx="34765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下课了</a:t>
            </a:r>
            <a:endParaRPr b="0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039760" cy="244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游子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557360"/>
            <a:ext cx="576108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孟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慈母 手 中 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游子 身 上 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临行 密 密 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意恐 迟 迟 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谁言 寸 草 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报得 三 春 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还记得诗中的“报”是什么意思吗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34920" y="1844640"/>
            <a:ext cx="6840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我突然想到了另一个和“报”有关的词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又是什么意思 ，今天我们就一起来学习一个关于“报酬”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报酬”：付出劳动后得到酬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什么是账单 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4607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4319640" cy="3081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11280" y="4005360"/>
            <a:ext cx="4680000" cy="2527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1320" y="549360"/>
            <a:ext cx="830268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取回生活用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把信件送往邮局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为他一直是个听话的好孩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彼得欠他母亲的帐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她家里过的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幸福生活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年中的吃喝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在他生病时的护理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他一直有个慈爱的母亲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共计：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美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352680" cy="4495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1143000" y="1219320"/>
            <a:ext cx="2276640" cy="8380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514600"/>
            <a:ext cx="2349360" cy="8380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886200"/>
            <a:ext cx="2276640" cy="838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228600"/>
            <a:ext cx="1524240" cy="838080"/>
          </a:xfrm>
          <a:prstGeom prst="cloudCallout">
            <a:avLst>
              <a:gd name="adj1" fmla="val 35416"/>
              <a:gd name="adj2" fmla="val 83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685800"/>
            <a:ext cx="838440" cy="685800"/>
          </a:xfrm>
          <a:prstGeom prst="cloudCallout">
            <a:avLst>
              <a:gd name="adj1" fmla="val -96782"/>
              <a:gd name="adj2" fmla="val 930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3981600" cy="387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2349360"/>
            <a:ext cx="44085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对比两份账单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幼圆"/>
                <a:ea typeface="幼圆"/>
              </a:rPr>
              <a:t>让我们仔细看看它们有哪些区别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2738520" cy="1382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8e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问题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幼圆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两份账单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36640"/>
            <a:ext cx="46432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母亲欠她儿子彼得的帐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取回生活用品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把信件送往邮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是个听话的好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817560"/>
            <a:ext cx="457200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彼得欠他母亲的帐单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她家里过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幸福生活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年中的吃喝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在他生病时的护理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为他一直有个慈爱的母亲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共计：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3320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R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3:22:57Z</dcterms:created>
  <dc:creator>User</dc:creator>
  <dc:description/>
  <dc:language>en-US</dc:language>
  <cp:lastModifiedBy>微软用户</cp:lastModifiedBy>
  <dcterms:modified xsi:type="dcterms:W3CDTF">2012-09-04T13:41:32Z</dcterms:modified>
  <cp:revision>26</cp:revision>
  <dc:subject/>
  <dc:title>妈妈的账单</dc:title>
</cp:coreProperties>
</file>