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4.png" ContentType="image/png"/>
  <Override PartName="/ppt/media/image11.gif" ContentType="image/gif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8CDE-FC6B-4D45-9243-B95D12C2C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2E5E-9371-4EA0-89B6-7F45A83FD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0AE1-6D62-4273-96A6-37AC4B969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C143-63B4-456E-95A7-A1DF3C94D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62A3-D030-41D8-8831-34E509455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F352-FC2A-4E17-BF51-83C9210A7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E236-71D8-47FA-9A31-E969864ED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E136-776F-4EE9-93FA-A75E53F15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9CFC-1957-4340-818B-3B9512C0C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3C35-ECDF-43EF-82CF-FF316A284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A058-D241-41BE-9076-0DCD3A63D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CBDE-B0F2-452C-A89C-2FD00727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5817-F85B-4023-B200-72863919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2177-2550-4BE9-A0C3-A20965D4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99E6-518F-4EA1-B8A4-EA0A85ED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10D1-617B-4968-A04B-633C07B3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19C8-53D0-4102-8551-723402B9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40B7-FB1A-4459-A448-DA6E8ECF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2E32-DAEB-4003-A4D8-536DC438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B31-06B5-4814-B8C0-CB1DB703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B850-4A44-4B63-8B11-72A693D5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AEA2-22D5-47A2-AAF7-6B9FC8C9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70C1-884E-4665-9B02-373254DE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1403-5496-475F-AA29-491A65FD6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1"/>
          <p:cNvPicPr/>
          <p:nvPr/>
        </p:nvPicPr>
        <p:blipFill>
          <a:blip r:embed="rId1"/>
          <a:stretch/>
        </p:blipFill>
        <p:spPr>
          <a:xfrm>
            <a:off x="21337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0" y="1523880"/>
            <a:ext cx="9144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一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一对相对性状的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杂交实验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144792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性状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74" name="Oval 4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WordArt 5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76" name="Text Box 6"/>
          <p:cNvSpPr/>
          <p:nvPr/>
        </p:nvSpPr>
        <p:spPr>
          <a:xfrm>
            <a:off x="0" y="2590920"/>
            <a:ext cx="899172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生物体的形态、结构、生理特征。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性状的形成的生物体内的遗传物质和它的生活环境相互作用的结果。人们可以根据性状的差异鉴别各种生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648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相对性状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6_15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4130640" y="116676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同一种生物的同一性状的不同表现类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81" name="Oval 6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WordArt 7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100332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下列各对性状中，属于相对性状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狗的长毛和卷毛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棉花的掌状叶和鸡脚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玉米叶梢的紫色和叶片的绿色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豌豆的高茎和蚕豆的矮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2514600" y="0"/>
            <a:ext cx="34290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8eb2">
                  <a:alpha val="52156"/>
                </a:srgbClr>
              </a:gs>
              <a:gs pos="100000">
                <a:srgbClr val="ffccff">
                  <a:alpha val="51372"/>
                </a:srgbClr>
              </a:gs>
            </a:gsLst>
            <a:lin ang="18900000"/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a1"/>
          <p:cNvPicPr/>
          <p:nvPr/>
        </p:nvPicPr>
        <p:blipFill>
          <a:blip r:embed="rId1"/>
          <a:stretch/>
        </p:blipFill>
        <p:spPr>
          <a:xfrm>
            <a:off x="457200" y="251460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09480" y="152280"/>
            <a:ext cx="731520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遗传图谱中的符号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:                  ♀:                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523880" y="1203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亲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419720" y="11811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母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7391520" y="1219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父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625760" y="1981080"/>
            <a:ext cx="7518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杂交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遗传因子组成不同的个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交配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219320" y="3505320"/>
            <a:ext cx="761976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自交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 （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自花传粉；遗传因子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同的雌雄个体交配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0200" y="48769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杂种子一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523880" y="57913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杂种子二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762120" y="350532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96" name="Oval 16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WordArt 17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8288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2438280" y="592200"/>
            <a:ext cx="1185480" cy="1217160"/>
            <a:chOff x="2438280" y="592200"/>
            <a:chExt cx="1185480" cy="1217160"/>
          </a:xfrm>
        </p:grpSpPr>
        <p:sp>
          <p:nvSpPr>
            <p:cNvPr id="100" name="Text Box 6"/>
            <p:cNvSpPr/>
            <p:nvPr/>
          </p:nvSpPr>
          <p:spPr>
            <a:xfrm>
              <a:off x="313308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7" descr="6-16"/>
            <p:cNvPicPr/>
            <p:nvPr/>
          </p:nvPicPr>
          <p:blipFill>
            <a:blip r:embed="rId1"/>
            <a:srcRect l="70600" t="7959" r="13566" b="73278"/>
            <a:stretch/>
          </p:blipFill>
          <p:spPr>
            <a:xfrm>
              <a:off x="243828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Group 8"/>
          <p:cNvGrpSpPr/>
          <p:nvPr/>
        </p:nvGrpSpPr>
        <p:grpSpPr>
          <a:xfrm>
            <a:off x="228600" y="380880"/>
            <a:ext cx="1584000" cy="1700280"/>
            <a:chOff x="228600" y="380880"/>
            <a:chExt cx="1584000" cy="1700280"/>
          </a:xfrm>
        </p:grpSpPr>
        <p:sp>
          <p:nvSpPr>
            <p:cNvPr id="103" name="Text Box 9"/>
            <p:cNvSpPr/>
            <p:nvPr/>
          </p:nvSpPr>
          <p:spPr>
            <a:xfrm>
              <a:off x="22860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10" descr="6-16"/>
            <p:cNvPicPr/>
            <p:nvPr/>
          </p:nvPicPr>
          <p:blipFill>
            <a:blip r:embed="rId2"/>
            <a:srcRect l="20168" t="1704" r="61101" b="68050"/>
            <a:stretch/>
          </p:blipFill>
          <p:spPr>
            <a:xfrm>
              <a:off x="91728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Text Box 11"/>
          <p:cNvSpPr/>
          <p:nvPr/>
        </p:nvSpPr>
        <p:spPr>
          <a:xfrm>
            <a:off x="1066680" y="2133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438280" y="2087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612936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6738840" y="592200"/>
            <a:ext cx="1185480" cy="1217160"/>
            <a:chOff x="6738840" y="592200"/>
            <a:chExt cx="1185480" cy="1217160"/>
          </a:xfrm>
        </p:grpSpPr>
        <p:sp>
          <p:nvSpPr>
            <p:cNvPr id="109" name="Text Box 15"/>
            <p:cNvSpPr/>
            <p:nvPr/>
          </p:nvSpPr>
          <p:spPr>
            <a:xfrm>
              <a:off x="743364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16" descr="6-16"/>
            <p:cNvPicPr/>
            <p:nvPr/>
          </p:nvPicPr>
          <p:blipFill>
            <a:blip r:embed="rId3"/>
            <a:srcRect l="70600" t="7959" r="13566" b="73278"/>
            <a:stretch/>
          </p:blipFill>
          <p:spPr>
            <a:xfrm>
              <a:off x="673884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Group 17"/>
          <p:cNvGrpSpPr/>
          <p:nvPr/>
        </p:nvGrpSpPr>
        <p:grpSpPr>
          <a:xfrm>
            <a:off x="4529160" y="380880"/>
            <a:ext cx="1584000" cy="1700280"/>
            <a:chOff x="4529160" y="380880"/>
            <a:chExt cx="1584000" cy="1700280"/>
          </a:xfrm>
        </p:grpSpPr>
        <p:sp>
          <p:nvSpPr>
            <p:cNvPr id="112" name="Text Box 18"/>
            <p:cNvSpPr/>
            <p:nvPr/>
          </p:nvSpPr>
          <p:spPr>
            <a:xfrm>
              <a:off x="452916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19" descr="6-16"/>
            <p:cNvPicPr/>
            <p:nvPr/>
          </p:nvPicPr>
          <p:blipFill>
            <a:blip r:embed="rId4"/>
            <a:srcRect l="20168" t="1704" r="61101" b="68050"/>
            <a:stretch/>
          </p:blipFill>
          <p:spPr>
            <a:xfrm>
              <a:off x="521784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Text Box 20"/>
          <p:cNvSpPr/>
          <p:nvPr/>
        </p:nvSpPr>
        <p:spPr>
          <a:xfrm>
            <a:off x="7010280" y="1981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502920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1295280" y="3200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b8"/>
                </a:solidFill>
                <a:latin typeface="Arial"/>
                <a:ea typeface="黑体"/>
              </a:rPr>
              <a:t>正  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5486400" y="3200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b8"/>
                </a:solidFill>
                <a:latin typeface="Arial"/>
                <a:ea typeface="黑体"/>
              </a:rPr>
              <a:t>反  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21932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1292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295280" y="2514600"/>
            <a:ext cx="1297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519360" y="2666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295280" y="4267080"/>
            <a:ext cx="1067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200400" y="62784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9"/>
          <p:cNvGrpSpPr/>
          <p:nvPr/>
        </p:nvGrpSpPr>
        <p:grpSpPr>
          <a:xfrm>
            <a:off x="5062680" y="592200"/>
            <a:ext cx="1185480" cy="1217160"/>
            <a:chOff x="5062680" y="592200"/>
            <a:chExt cx="1185480" cy="1217160"/>
          </a:xfrm>
        </p:grpSpPr>
        <p:sp>
          <p:nvSpPr>
            <p:cNvPr id="125" name="Text Box 10"/>
            <p:cNvSpPr/>
            <p:nvPr/>
          </p:nvSpPr>
          <p:spPr>
            <a:xfrm>
              <a:off x="575748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11" descr="6-16"/>
            <p:cNvPicPr/>
            <p:nvPr/>
          </p:nvPicPr>
          <p:blipFill>
            <a:blip r:embed="rId1"/>
            <a:srcRect l="70600" t="7959" r="13566" b="73278"/>
            <a:stretch/>
          </p:blipFill>
          <p:spPr>
            <a:xfrm>
              <a:off x="506268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Picture 12" descr="6-16"/>
          <p:cNvPicPr/>
          <p:nvPr/>
        </p:nvPicPr>
        <p:blipFill>
          <a:blip r:embed="rId2"/>
          <a:srcRect l="20168" t="648" r="61101" b="68050"/>
          <a:stretch/>
        </p:blipFill>
        <p:spPr>
          <a:xfrm>
            <a:off x="4052880" y="1905120"/>
            <a:ext cx="781200" cy="1800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6-16"/>
          <p:cNvPicPr/>
          <p:nvPr/>
        </p:nvPicPr>
        <p:blipFill>
          <a:blip r:embed="rId3"/>
          <a:srcRect l="20168" t="1033" r="61101" b="68050"/>
          <a:stretch/>
        </p:blipFill>
        <p:spPr>
          <a:xfrm>
            <a:off x="4510080" y="3962520"/>
            <a:ext cx="75888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14"/>
          <p:cNvGrpSpPr/>
          <p:nvPr/>
        </p:nvGrpSpPr>
        <p:grpSpPr>
          <a:xfrm>
            <a:off x="2133720" y="380880"/>
            <a:ext cx="1584000" cy="1700280"/>
            <a:chOff x="2133720" y="380880"/>
            <a:chExt cx="1584000" cy="1700280"/>
          </a:xfrm>
        </p:grpSpPr>
        <p:sp>
          <p:nvSpPr>
            <p:cNvPr id="130" name="Text Box 15"/>
            <p:cNvSpPr/>
            <p:nvPr/>
          </p:nvSpPr>
          <p:spPr>
            <a:xfrm>
              <a:off x="213372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16" descr="6-16"/>
            <p:cNvPicPr/>
            <p:nvPr/>
          </p:nvPicPr>
          <p:blipFill>
            <a:blip r:embed="rId4"/>
            <a:srcRect l="20168" t="1704" r="61101" b="68050"/>
            <a:stretch/>
          </p:blipFill>
          <p:spPr>
            <a:xfrm>
              <a:off x="282240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17" descr="6-16"/>
          <p:cNvPicPr/>
          <p:nvPr/>
        </p:nvPicPr>
        <p:blipFill>
          <a:blip r:embed="rId5"/>
          <a:srcRect l="20168" t="1033" r="61101" b="68050"/>
          <a:stretch/>
        </p:blipFill>
        <p:spPr>
          <a:xfrm>
            <a:off x="5729400" y="4038480"/>
            <a:ext cx="758880" cy="1729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6-16"/>
          <p:cNvPicPr/>
          <p:nvPr/>
        </p:nvPicPr>
        <p:blipFill>
          <a:blip r:embed="rId6"/>
          <a:srcRect l="20200" t="1033" r="61101" b="68050"/>
          <a:stretch/>
        </p:blipFill>
        <p:spPr>
          <a:xfrm>
            <a:off x="3214800" y="3962520"/>
            <a:ext cx="75888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6-16"/>
          <p:cNvPicPr/>
          <p:nvPr/>
        </p:nvPicPr>
        <p:blipFill>
          <a:blip r:embed="rId7"/>
          <a:srcRect l="70600" t="7959" r="13566" b="73278"/>
          <a:stretch/>
        </p:blipFill>
        <p:spPr>
          <a:xfrm>
            <a:off x="6872400" y="4267080"/>
            <a:ext cx="633240" cy="10350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20"/>
          <p:cNvSpPr/>
          <p:nvPr/>
        </p:nvSpPr>
        <p:spPr>
          <a:xfrm>
            <a:off x="4357800" y="129528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972480" y="586728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3"/>
          <p:cNvSpPr/>
          <p:nvPr/>
        </p:nvSpPr>
        <p:spPr>
          <a:xfrm flipH="1" rot="5400000">
            <a:off x="5242680" y="1933920"/>
            <a:ext cx="144360" cy="3743280"/>
          </a:xfrm>
          <a:custGeom>
            <a:avLst/>
            <a:gdLst>
              <a:gd name="textAreaLeft" fmla="*/ 0 w 144360"/>
              <a:gd name="textAreaRight" fmla="*/ 52200 w 14436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64"/>
                </a:lnTo>
                <a:cubicBezTo>
                  <a:pt x="10800" y="10364"/>
                  <a:pt x="16200" y="11264"/>
                  <a:pt x="21600" y="11264"/>
                </a:cubicBezTo>
                <a:cubicBezTo>
                  <a:pt x="16200" y="11264"/>
                  <a:pt x="10800" y="12164"/>
                  <a:pt x="10800" y="1306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3567240" y="5778360"/>
            <a:ext cx="41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87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茎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7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5"/>
          <p:cNvSpPr/>
          <p:nvPr/>
        </p:nvSpPr>
        <p:spPr>
          <a:xfrm>
            <a:off x="5119560" y="2286000"/>
            <a:ext cx="38124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1295280" y="3124080"/>
            <a:ext cx="20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7543800" y="4267080"/>
            <a:ext cx="212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隐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0"/>
          <p:cNvSpPr/>
          <p:nvPr/>
        </p:nvSpPr>
        <p:spPr>
          <a:xfrm>
            <a:off x="5181480" y="2819520"/>
            <a:ext cx="144720" cy="761760"/>
          </a:xfrm>
          <a:prstGeom prst="downArrow">
            <a:avLst>
              <a:gd name="adj1" fmla="val 50000"/>
              <a:gd name="adj2" fmla="val 131592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1"/>
          <p:cNvSpPr/>
          <p:nvPr/>
        </p:nvSpPr>
        <p:spPr>
          <a:xfrm>
            <a:off x="6781680" y="4267080"/>
            <a:ext cx="685800" cy="1067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3"/>
          <p:cNvSpPr/>
          <p:nvPr/>
        </p:nvSpPr>
        <p:spPr>
          <a:xfrm rot="16200000">
            <a:off x="4572000" y="4419360"/>
            <a:ext cx="304560" cy="2590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4"/>
          <p:cNvSpPr/>
          <p:nvPr/>
        </p:nvSpPr>
        <p:spPr>
          <a:xfrm>
            <a:off x="2133720" y="1523880"/>
            <a:ext cx="3733560" cy="1143000"/>
          </a:xfrm>
          <a:prstGeom prst="wedgeRectCallout">
            <a:avLst>
              <a:gd name="adj1" fmla="val -45236"/>
              <a:gd name="adj2" fmla="val 96388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Arial"/>
                <a:ea typeface="黑体"/>
              </a:rPr>
              <a:t>子一代所显现出来的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5"/>
          <p:cNvSpPr/>
          <p:nvPr/>
        </p:nvSpPr>
        <p:spPr>
          <a:xfrm>
            <a:off x="5105520" y="2209680"/>
            <a:ext cx="3733560" cy="1143000"/>
          </a:xfrm>
          <a:prstGeom prst="wedgeRectCallout">
            <a:avLst>
              <a:gd name="adj1" fmla="val 29592"/>
              <a:gd name="adj2" fmla="val 129722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Arial"/>
                <a:ea typeface="黑体"/>
              </a:rPr>
              <a:t>子一代未显现出来的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21932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1292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295280" y="2514600"/>
            <a:ext cx="1297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519360" y="2666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295280" y="4267080"/>
            <a:ext cx="1067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052880" y="62784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8"/>
          <p:cNvGrpSpPr/>
          <p:nvPr/>
        </p:nvGrpSpPr>
        <p:grpSpPr>
          <a:xfrm>
            <a:off x="5062680" y="592200"/>
            <a:ext cx="1185480" cy="1217160"/>
            <a:chOff x="5062680" y="592200"/>
            <a:chExt cx="1185480" cy="1217160"/>
          </a:xfrm>
        </p:grpSpPr>
        <p:sp>
          <p:nvSpPr>
            <p:cNvPr id="154" name="Text Box 9"/>
            <p:cNvSpPr/>
            <p:nvPr/>
          </p:nvSpPr>
          <p:spPr>
            <a:xfrm>
              <a:off x="575748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10" descr="6-16"/>
            <p:cNvPicPr/>
            <p:nvPr/>
          </p:nvPicPr>
          <p:blipFill>
            <a:blip r:embed="rId1"/>
            <a:srcRect l="70600" t="7959" r="13566" b="73278"/>
            <a:stretch/>
          </p:blipFill>
          <p:spPr>
            <a:xfrm>
              <a:off x="506268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Picture 11" descr="6-16"/>
          <p:cNvPicPr/>
          <p:nvPr/>
        </p:nvPicPr>
        <p:blipFill>
          <a:blip r:embed="rId2"/>
          <a:srcRect l="20168" t="648" r="61101" b="68050"/>
          <a:stretch/>
        </p:blipFill>
        <p:spPr>
          <a:xfrm>
            <a:off x="4052880" y="1905120"/>
            <a:ext cx="781200" cy="180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6-16"/>
          <p:cNvPicPr/>
          <p:nvPr/>
        </p:nvPicPr>
        <p:blipFill>
          <a:blip r:embed="rId3"/>
          <a:srcRect l="20168" t="1033" r="61101" b="68050"/>
          <a:stretch/>
        </p:blipFill>
        <p:spPr>
          <a:xfrm>
            <a:off x="4510080" y="3962520"/>
            <a:ext cx="75888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13"/>
          <p:cNvGrpSpPr/>
          <p:nvPr/>
        </p:nvGrpSpPr>
        <p:grpSpPr>
          <a:xfrm>
            <a:off x="2133720" y="380880"/>
            <a:ext cx="1584000" cy="1700280"/>
            <a:chOff x="2133720" y="380880"/>
            <a:chExt cx="1584000" cy="1700280"/>
          </a:xfrm>
        </p:grpSpPr>
        <p:sp>
          <p:nvSpPr>
            <p:cNvPr id="159" name="Text Box 14"/>
            <p:cNvSpPr/>
            <p:nvPr/>
          </p:nvSpPr>
          <p:spPr>
            <a:xfrm>
              <a:off x="213372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Picture 15" descr="6-16"/>
            <p:cNvPicPr/>
            <p:nvPr/>
          </p:nvPicPr>
          <p:blipFill>
            <a:blip r:embed="rId4"/>
            <a:srcRect l="20168" t="1704" r="61101" b="68050"/>
            <a:stretch/>
          </p:blipFill>
          <p:spPr>
            <a:xfrm>
              <a:off x="282240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1" name="Picture 16" descr="6-16"/>
          <p:cNvPicPr/>
          <p:nvPr/>
        </p:nvPicPr>
        <p:blipFill>
          <a:blip r:embed="rId5"/>
          <a:srcRect l="20168" t="1033" r="61101" b="68050"/>
          <a:stretch/>
        </p:blipFill>
        <p:spPr>
          <a:xfrm>
            <a:off x="5729400" y="4038480"/>
            <a:ext cx="758880" cy="1729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6-16"/>
          <p:cNvPicPr/>
          <p:nvPr/>
        </p:nvPicPr>
        <p:blipFill>
          <a:blip r:embed="rId6"/>
          <a:srcRect l="20200" t="1033" r="61101" b="68050"/>
          <a:stretch/>
        </p:blipFill>
        <p:spPr>
          <a:xfrm>
            <a:off x="3214800" y="3962520"/>
            <a:ext cx="758880" cy="1728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8" descr="6-16"/>
          <p:cNvPicPr/>
          <p:nvPr/>
        </p:nvPicPr>
        <p:blipFill>
          <a:blip r:embed="rId7"/>
          <a:srcRect l="70600" t="7959" r="13566" b="73278"/>
          <a:stretch/>
        </p:blipFill>
        <p:spPr>
          <a:xfrm>
            <a:off x="6872400" y="4267080"/>
            <a:ext cx="633240" cy="10350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9"/>
          <p:cNvSpPr/>
          <p:nvPr/>
        </p:nvSpPr>
        <p:spPr>
          <a:xfrm>
            <a:off x="4357800" y="129528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7315200" y="586728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1"/>
          <p:cNvSpPr/>
          <p:nvPr/>
        </p:nvSpPr>
        <p:spPr>
          <a:xfrm flipH="1" rot="5400000">
            <a:off x="5242680" y="1933920"/>
            <a:ext cx="144360" cy="3743280"/>
          </a:xfrm>
          <a:custGeom>
            <a:avLst/>
            <a:gdLst>
              <a:gd name="textAreaLeft" fmla="*/ 0 w 144360"/>
              <a:gd name="textAreaRight" fmla="*/ 52200 w 14436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64"/>
                </a:lnTo>
                <a:cubicBezTo>
                  <a:pt x="10800" y="10364"/>
                  <a:pt x="16200" y="11264"/>
                  <a:pt x="21600" y="11264"/>
                </a:cubicBezTo>
                <a:cubicBezTo>
                  <a:pt x="16200" y="11264"/>
                  <a:pt x="10800" y="12164"/>
                  <a:pt x="10800" y="1306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3657600" y="5778360"/>
            <a:ext cx="41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87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茎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7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3"/>
          <p:cNvSpPr/>
          <p:nvPr/>
        </p:nvSpPr>
        <p:spPr>
          <a:xfrm>
            <a:off x="5119560" y="2286000"/>
            <a:ext cx="38124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4"/>
          <p:cNvSpPr/>
          <p:nvPr/>
        </p:nvSpPr>
        <p:spPr>
          <a:xfrm>
            <a:off x="1295280" y="3124080"/>
            <a:ext cx="20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5"/>
          <p:cNvSpPr/>
          <p:nvPr/>
        </p:nvSpPr>
        <p:spPr>
          <a:xfrm>
            <a:off x="7543800" y="4267080"/>
            <a:ext cx="212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隐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6"/>
          <p:cNvSpPr/>
          <p:nvPr/>
        </p:nvSpPr>
        <p:spPr>
          <a:xfrm>
            <a:off x="914400" y="5029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性状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7"/>
          <p:cNvSpPr/>
          <p:nvPr/>
        </p:nvSpPr>
        <p:spPr>
          <a:xfrm>
            <a:off x="5181480" y="2819520"/>
            <a:ext cx="144720" cy="761760"/>
          </a:xfrm>
          <a:prstGeom prst="downArrow">
            <a:avLst>
              <a:gd name="adj1" fmla="val 50000"/>
              <a:gd name="adj2" fmla="val 131592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8"/>
          <p:cNvSpPr/>
          <p:nvPr/>
        </p:nvSpPr>
        <p:spPr>
          <a:xfrm>
            <a:off x="6781680" y="4267080"/>
            <a:ext cx="685800" cy="1067040"/>
          </a:xfrm>
          <a:prstGeom prst="ellips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1066680" y="60958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性状分离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4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176" name="Oval 5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WordArt 6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78" name="Text Box 7"/>
          <p:cNvSpPr/>
          <p:nvPr/>
        </p:nvSpPr>
        <p:spPr>
          <a:xfrm>
            <a:off x="380880" y="838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性状分离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0" y="17524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在同一代个体中，显性性状与隐性性状个体同时出现的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57200" y="3124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稳定遗传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0" y="40384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后代个体的性状彼此相同，而且与亲本的性状也相同的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52280" y="272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七对相对性状的遗传试验数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6872400" y="1731960"/>
            <a:ext cx="1280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84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419720" y="1731960"/>
            <a:ext cx="2371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77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矮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354400" y="1684440"/>
            <a:ext cx="2165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787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（高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95280" y="1684440"/>
            <a:ext cx="1959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茎的高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6738840" y="1052640"/>
            <a:ext cx="1567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4519440" y="1052640"/>
            <a:ext cx="2372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隐性性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2354400" y="1052640"/>
            <a:ext cx="2165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显性性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95280" y="1052640"/>
            <a:ext cx="19591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性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395280" y="105264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395280" y="1684440"/>
            <a:ext cx="777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395280" y="231444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"/>
          <p:cNvSpPr/>
          <p:nvPr/>
        </p:nvSpPr>
        <p:spPr>
          <a:xfrm>
            <a:off x="395280" y="1052640"/>
            <a:ext cx="0" cy="126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2354400" y="1052640"/>
            <a:ext cx="0" cy="12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4519440" y="1052640"/>
            <a:ext cx="0" cy="12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6891480" y="1052640"/>
            <a:ext cx="0" cy="12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8172360" y="1052640"/>
            <a:ext cx="0" cy="126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9"/>
          <p:cNvSpPr/>
          <p:nvPr/>
        </p:nvSpPr>
        <p:spPr>
          <a:xfrm>
            <a:off x="6891480" y="5533920"/>
            <a:ext cx="12808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82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0"/>
          <p:cNvSpPr/>
          <p:nvPr/>
        </p:nvSpPr>
        <p:spPr>
          <a:xfrm>
            <a:off x="4519440" y="5533920"/>
            <a:ext cx="2372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152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黄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1"/>
          <p:cNvSpPr/>
          <p:nvPr/>
        </p:nvSpPr>
        <p:spPr>
          <a:xfrm>
            <a:off x="2354400" y="5533920"/>
            <a:ext cx="2165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428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绿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395280" y="5533920"/>
            <a:ext cx="19591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豆荚颜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3"/>
          <p:cNvSpPr/>
          <p:nvPr/>
        </p:nvSpPr>
        <p:spPr>
          <a:xfrm>
            <a:off x="395280" y="553392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"/>
          <p:cNvSpPr/>
          <p:nvPr/>
        </p:nvSpPr>
        <p:spPr>
          <a:xfrm>
            <a:off x="395280" y="616572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"/>
          <p:cNvSpPr/>
          <p:nvPr/>
        </p:nvSpPr>
        <p:spPr>
          <a:xfrm>
            <a:off x="395280" y="5533920"/>
            <a:ext cx="0" cy="63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6"/>
          <p:cNvSpPr/>
          <p:nvPr/>
        </p:nvSpPr>
        <p:spPr>
          <a:xfrm>
            <a:off x="2354400" y="55339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7"/>
          <p:cNvSpPr/>
          <p:nvPr/>
        </p:nvSpPr>
        <p:spPr>
          <a:xfrm>
            <a:off x="4519440" y="55339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8"/>
          <p:cNvSpPr/>
          <p:nvPr/>
        </p:nvSpPr>
        <p:spPr>
          <a:xfrm>
            <a:off x="6891480" y="55339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9"/>
          <p:cNvSpPr/>
          <p:nvPr/>
        </p:nvSpPr>
        <p:spPr>
          <a:xfrm>
            <a:off x="8172360" y="5533920"/>
            <a:ext cx="0" cy="63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0"/>
          <p:cNvSpPr/>
          <p:nvPr/>
        </p:nvSpPr>
        <p:spPr>
          <a:xfrm>
            <a:off x="6891480" y="4871880"/>
            <a:ext cx="1280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95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1"/>
          <p:cNvSpPr/>
          <p:nvPr/>
        </p:nvSpPr>
        <p:spPr>
          <a:xfrm>
            <a:off x="4519440" y="4871880"/>
            <a:ext cx="2372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99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不饱满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2"/>
          <p:cNvSpPr/>
          <p:nvPr/>
        </p:nvSpPr>
        <p:spPr>
          <a:xfrm>
            <a:off x="2354400" y="4871880"/>
            <a:ext cx="2165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882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饱满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3"/>
          <p:cNvSpPr/>
          <p:nvPr/>
        </p:nvSpPr>
        <p:spPr>
          <a:xfrm>
            <a:off x="395280" y="4871880"/>
            <a:ext cx="1959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豆荚的形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4"/>
          <p:cNvSpPr/>
          <p:nvPr/>
        </p:nvSpPr>
        <p:spPr>
          <a:xfrm>
            <a:off x="395280" y="487188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5"/>
          <p:cNvSpPr/>
          <p:nvPr/>
        </p:nvSpPr>
        <p:spPr>
          <a:xfrm>
            <a:off x="395280" y="487188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6"/>
          <p:cNvSpPr/>
          <p:nvPr/>
        </p:nvSpPr>
        <p:spPr>
          <a:xfrm>
            <a:off x="2354400" y="487188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7"/>
          <p:cNvSpPr/>
          <p:nvPr/>
        </p:nvSpPr>
        <p:spPr>
          <a:xfrm>
            <a:off x="4519440" y="487188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8"/>
          <p:cNvSpPr/>
          <p:nvPr/>
        </p:nvSpPr>
        <p:spPr>
          <a:xfrm>
            <a:off x="6891480" y="487188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9"/>
          <p:cNvSpPr/>
          <p:nvPr/>
        </p:nvSpPr>
        <p:spPr>
          <a:xfrm>
            <a:off x="8172360" y="487188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0"/>
          <p:cNvSpPr/>
          <p:nvPr/>
        </p:nvSpPr>
        <p:spPr>
          <a:xfrm>
            <a:off x="6891480" y="2978280"/>
            <a:ext cx="12808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3.01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4519440" y="2978280"/>
            <a:ext cx="237204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001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绿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2"/>
          <p:cNvSpPr/>
          <p:nvPr/>
        </p:nvSpPr>
        <p:spPr>
          <a:xfrm>
            <a:off x="2354400" y="2978280"/>
            <a:ext cx="244620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6022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黄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3"/>
          <p:cNvSpPr/>
          <p:nvPr/>
        </p:nvSpPr>
        <p:spPr>
          <a:xfrm>
            <a:off x="395280" y="2978280"/>
            <a:ext cx="19591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子叶的颜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4"/>
          <p:cNvSpPr/>
          <p:nvPr/>
        </p:nvSpPr>
        <p:spPr>
          <a:xfrm>
            <a:off x="395280" y="297828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5"/>
          <p:cNvSpPr/>
          <p:nvPr/>
        </p:nvSpPr>
        <p:spPr>
          <a:xfrm>
            <a:off x="395280" y="354636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6"/>
          <p:cNvSpPr/>
          <p:nvPr/>
        </p:nvSpPr>
        <p:spPr>
          <a:xfrm>
            <a:off x="395280" y="2978280"/>
            <a:ext cx="0" cy="568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7"/>
          <p:cNvSpPr/>
          <p:nvPr/>
        </p:nvSpPr>
        <p:spPr>
          <a:xfrm>
            <a:off x="2354400" y="29782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8"/>
          <p:cNvSpPr/>
          <p:nvPr/>
        </p:nvSpPr>
        <p:spPr>
          <a:xfrm>
            <a:off x="4519440" y="29782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9"/>
          <p:cNvSpPr/>
          <p:nvPr/>
        </p:nvSpPr>
        <p:spPr>
          <a:xfrm>
            <a:off x="6891480" y="29782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0"/>
          <p:cNvSpPr/>
          <p:nvPr/>
        </p:nvSpPr>
        <p:spPr>
          <a:xfrm>
            <a:off x="8172360" y="2978280"/>
            <a:ext cx="0" cy="568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6891480" y="4208400"/>
            <a:ext cx="12808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3.15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2"/>
          <p:cNvSpPr/>
          <p:nvPr/>
        </p:nvSpPr>
        <p:spPr>
          <a:xfrm>
            <a:off x="4519440" y="4208400"/>
            <a:ext cx="23720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24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白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3"/>
          <p:cNvSpPr/>
          <p:nvPr/>
        </p:nvSpPr>
        <p:spPr>
          <a:xfrm>
            <a:off x="2354400" y="4208400"/>
            <a:ext cx="21650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705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灰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395280" y="4208400"/>
            <a:ext cx="1959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种皮的颜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5"/>
          <p:cNvSpPr/>
          <p:nvPr/>
        </p:nvSpPr>
        <p:spPr>
          <a:xfrm>
            <a:off x="395280" y="420840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6"/>
          <p:cNvSpPr/>
          <p:nvPr/>
        </p:nvSpPr>
        <p:spPr>
          <a:xfrm>
            <a:off x="395280" y="487188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>
            <a:off x="395280" y="4208400"/>
            <a:ext cx="0" cy="663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2354400" y="420840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>
            <a:off x="4519440" y="420840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>
            <a:off x="6891480" y="420840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>
            <a:off x="8172360" y="4208400"/>
            <a:ext cx="0" cy="663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2"/>
          <p:cNvSpPr/>
          <p:nvPr/>
        </p:nvSpPr>
        <p:spPr>
          <a:xfrm>
            <a:off x="6891480" y="3546360"/>
            <a:ext cx="1280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3.14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3"/>
          <p:cNvSpPr/>
          <p:nvPr/>
        </p:nvSpPr>
        <p:spPr>
          <a:xfrm>
            <a:off x="4519440" y="3546360"/>
            <a:ext cx="2372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07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茎顶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4"/>
          <p:cNvSpPr/>
          <p:nvPr/>
        </p:nvSpPr>
        <p:spPr>
          <a:xfrm>
            <a:off x="2354400" y="3546360"/>
            <a:ext cx="2165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651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叶腋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5"/>
          <p:cNvSpPr/>
          <p:nvPr/>
        </p:nvSpPr>
        <p:spPr>
          <a:xfrm>
            <a:off x="395280" y="3546360"/>
            <a:ext cx="1959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花的位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>
            <a:off x="395280" y="354636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>
            <a:off x="395280" y="354636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8"/>
          <p:cNvSpPr/>
          <p:nvPr/>
        </p:nvSpPr>
        <p:spPr>
          <a:xfrm>
            <a:off x="2354400" y="354636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9"/>
          <p:cNvSpPr/>
          <p:nvPr/>
        </p:nvSpPr>
        <p:spPr>
          <a:xfrm>
            <a:off x="4519440" y="354636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0"/>
          <p:cNvSpPr/>
          <p:nvPr/>
        </p:nvSpPr>
        <p:spPr>
          <a:xfrm>
            <a:off x="6891480" y="354636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1"/>
          <p:cNvSpPr/>
          <p:nvPr/>
        </p:nvSpPr>
        <p:spPr>
          <a:xfrm>
            <a:off x="8172360" y="354636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2"/>
          <p:cNvSpPr/>
          <p:nvPr/>
        </p:nvSpPr>
        <p:spPr>
          <a:xfrm>
            <a:off x="6781680" y="2314440"/>
            <a:ext cx="1463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96: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3"/>
          <p:cNvSpPr/>
          <p:nvPr/>
        </p:nvSpPr>
        <p:spPr>
          <a:xfrm>
            <a:off x="4419720" y="2314440"/>
            <a:ext cx="270972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1850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皱缩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4"/>
          <p:cNvSpPr/>
          <p:nvPr/>
        </p:nvSpPr>
        <p:spPr>
          <a:xfrm>
            <a:off x="2325600" y="2314440"/>
            <a:ext cx="24750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5474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圆滑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5"/>
          <p:cNvSpPr/>
          <p:nvPr/>
        </p:nvSpPr>
        <p:spPr>
          <a:xfrm>
            <a:off x="304920" y="2314440"/>
            <a:ext cx="223992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种子的形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6"/>
          <p:cNvSpPr/>
          <p:nvPr/>
        </p:nvSpPr>
        <p:spPr>
          <a:xfrm flipV="1">
            <a:off x="566640" y="2971800"/>
            <a:ext cx="7586640" cy="6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7"/>
          <p:cNvSpPr/>
          <p:nvPr/>
        </p:nvSpPr>
        <p:spPr>
          <a:xfrm>
            <a:off x="395280" y="2314440"/>
            <a:ext cx="0" cy="663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8"/>
          <p:cNvSpPr/>
          <p:nvPr/>
        </p:nvSpPr>
        <p:spPr>
          <a:xfrm>
            <a:off x="2354400" y="2314440"/>
            <a:ext cx="0" cy="6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9"/>
          <p:cNvSpPr/>
          <p:nvPr/>
        </p:nvSpPr>
        <p:spPr>
          <a:xfrm>
            <a:off x="4519440" y="2314440"/>
            <a:ext cx="0" cy="6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0"/>
          <p:cNvSpPr/>
          <p:nvPr/>
        </p:nvSpPr>
        <p:spPr>
          <a:xfrm>
            <a:off x="6891480" y="2314440"/>
            <a:ext cx="0" cy="6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1"/>
          <p:cNvSpPr/>
          <p:nvPr/>
        </p:nvSpPr>
        <p:spPr>
          <a:xfrm>
            <a:off x="8172360" y="2314440"/>
            <a:ext cx="0" cy="663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04920" y="838080"/>
            <a:ext cx="434340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孟德尔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豌豆杂交实验（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2-2-m孟得尔杂交实验"/>
          <p:cNvPicPr/>
          <p:nvPr/>
        </p:nvPicPr>
        <p:blipFill>
          <a:blip r:embed="rId1"/>
          <a:stretch/>
        </p:blipFill>
        <p:spPr>
          <a:xfrm>
            <a:off x="5181480" y="152280"/>
            <a:ext cx="3392640" cy="62485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609480" y="765000"/>
            <a:ext cx="7562880" cy="55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下列有关孟德尔豌豆杂交实验的叙述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正确的是 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在豌豆开花时进行去雄和授粉，实现亲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杂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研究豌豆花的构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但无需考虑雌蕊、雄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发育程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根据亲本中不同个体表现型来判断亲本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否纯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利用了豌豆自花传粉、闭花受粉的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7696080" y="838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"/>
          <p:cNvSpPr/>
          <p:nvPr/>
        </p:nvSpPr>
        <p:spPr>
          <a:xfrm>
            <a:off x="2514600" y="0"/>
            <a:ext cx="34290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8eb2">
                  <a:alpha val="52156"/>
                </a:srgbClr>
              </a:gs>
              <a:gs pos="100000">
                <a:srgbClr val="ffccff">
                  <a:alpha val="51372"/>
                </a:srgbClr>
              </a:gs>
            </a:gsLst>
            <a:lin ang="18900000"/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974880" y="1486080"/>
            <a:ext cx="71974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豌豆是严格的自花传粉、闭花受粉植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开花前去雄和授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现杂交；花的主要结构是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蕊和雌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雄蕊和雌蕊发育不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影响受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孟德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据子代不同个体的表现型来判断亲本是否纯合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32911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实验结果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468360" y="2133720"/>
            <a:ext cx="6237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1. F</a:t>
            </a:r>
            <a:r>
              <a:rPr b="1" lang="en-US" sz="4000" spc="-1" strike="noStrike" baseline="-25000">
                <a:solidFill>
                  <a:srgbClr val="0000cc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都表现出显性性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457200" y="3276720"/>
            <a:ext cx="5442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2. F</a:t>
            </a:r>
            <a:r>
              <a:rPr b="1" lang="en-US" sz="4000" spc="-1" strike="noStrike" baseline="-25000">
                <a:solidFill>
                  <a:srgbClr val="0000cc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出现了性状分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533520" y="4343400"/>
            <a:ext cx="7007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3. F</a:t>
            </a:r>
            <a:r>
              <a:rPr b="1" lang="en-US" sz="4000" spc="-1" strike="noStrike" baseline="-25000">
                <a:solidFill>
                  <a:srgbClr val="0000cc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中出现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3:1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的性状分离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"/>
          <p:cNvSpPr/>
          <p:nvPr/>
        </p:nvSpPr>
        <p:spPr>
          <a:xfrm>
            <a:off x="533520" y="1600200"/>
            <a:ext cx="82296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1371600" y="5410080"/>
            <a:ext cx="655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F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中的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是不是巧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13"/>
          <p:cNvSpPr txBox="1"/>
          <p:nvPr/>
        </p:nvSpPr>
        <p:spPr>
          <a:xfrm>
            <a:off x="304920" y="1523880"/>
            <a:ext cx="86104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二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对分离现象的解释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76320" y="1035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孟德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52280" y="26208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生物的性状是由遗传因子决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3276720" y="18288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38098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724280" y="1752480"/>
            <a:ext cx="3505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显性性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343400" y="1600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3276720" y="38098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9"/>
          <p:cNvSpPr/>
          <p:nvPr/>
        </p:nvSpPr>
        <p:spPr>
          <a:xfrm>
            <a:off x="3886200" y="4191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4267080" y="3581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304920" y="18288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显性遗传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04920" y="3809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隐性遗传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4724280" y="3809880"/>
            <a:ext cx="3505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隐性性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7"/>
          <p:cNvGrpSpPr/>
          <p:nvPr/>
        </p:nvGrpSpPr>
        <p:grpSpPr>
          <a:xfrm>
            <a:off x="152280" y="152280"/>
            <a:ext cx="2819520" cy="914400"/>
            <a:chOff x="152280" y="152280"/>
            <a:chExt cx="2819520" cy="914400"/>
          </a:xfrm>
        </p:grpSpPr>
        <p:sp>
          <p:nvSpPr>
            <p:cNvPr id="286" name="Oval 18"/>
            <p:cNvSpPr/>
            <p:nvPr/>
          </p:nvSpPr>
          <p:spPr>
            <a:xfrm>
              <a:off x="152280" y="152280"/>
              <a:ext cx="281952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WordArt 19"/>
            <p:cNvSpPr txBox="1"/>
            <p:nvPr/>
          </p:nvSpPr>
          <p:spPr>
            <a:xfrm>
              <a:off x="685800" y="282600"/>
              <a:ext cx="190512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0" y="23623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体细胞中遗传因子是成对存在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76320" y="8827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孟德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1371600" y="2514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3809880" y="25146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6248520" y="2514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1143000" y="3200400"/>
            <a:ext cx="2209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3581280" y="3276720"/>
            <a:ext cx="2210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矮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43600" y="3276720"/>
            <a:ext cx="2209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杂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 rot="5400000">
            <a:off x="3086280" y="647280"/>
            <a:ext cx="761760" cy="2819520"/>
          </a:xfrm>
          <a:custGeom>
            <a:avLst/>
            <a:gdLst>
              <a:gd name="textAreaLeft" fmla="*/ 486720 w 761760"/>
              <a:gd name="textAreaRight" fmla="*/ 762120 w 76176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2676600" y="990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纯合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 flipV="1">
            <a:off x="7162920" y="18284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6348240" y="1066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杂合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5"/>
          <p:cNvSpPr/>
          <p:nvPr/>
        </p:nvSpPr>
        <p:spPr>
          <a:xfrm>
            <a:off x="2514600" y="4800600"/>
            <a:ext cx="3733920" cy="1523880"/>
          </a:xfrm>
          <a:prstGeom prst="wedgeRectCallout">
            <a:avLst>
              <a:gd name="adj1" fmla="val 56120"/>
              <a:gd name="adj2" fmla="val -96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显性遗传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隐性遗传因子具有完全显性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8"/>
          <p:cNvGrpSpPr/>
          <p:nvPr/>
        </p:nvGrpSpPr>
        <p:grpSpPr>
          <a:xfrm>
            <a:off x="152280" y="152280"/>
            <a:ext cx="2819520" cy="914400"/>
            <a:chOff x="152280" y="152280"/>
            <a:chExt cx="2819520" cy="914400"/>
          </a:xfrm>
        </p:grpSpPr>
        <p:sp>
          <p:nvSpPr>
            <p:cNvPr id="302" name="Oval 19"/>
            <p:cNvSpPr/>
            <p:nvPr/>
          </p:nvSpPr>
          <p:spPr>
            <a:xfrm>
              <a:off x="152280" y="152280"/>
              <a:ext cx="281952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WordArt 20"/>
            <p:cNvSpPr txBox="1"/>
            <p:nvPr/>
          </p:nvSpPr>
          <p:spPr>
            <a:xfrm>
              <a:off x="685800" y="282600"/>
              <a:ext cx="190512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76320" y="228600"/>
            <a:ext cx="88390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显性基因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显性性状的基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大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英文字母表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在前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隐性基因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隐性性状的基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英文字母表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在后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等位基因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遗传学上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位于一对同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染色体的相同位置上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着相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状的基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叫做等位基因，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具有等位基因的个体一定是杂合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80880" y="5943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295280" y="19810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733920" y="1981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6172200" y="1981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066680" y="3808440"/>
            <a:ext cx="2210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3505320" y="3884760"/>
            <a:ext cx="2209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矮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867280" y="3884760"/>
            <a:ext cx="2210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杂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733920" y="762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基因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3809880" y="5715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表现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3"/>
          <p:cNvGrpSpPr/>
          <p:nvPr/>
        </p:nvGrpSpPr>
        <p:grpSpPr>
          <a:xfrm>
            <a:off x="152280" y="152280"/>
            <a:ext cx="2819520" cy="914400"/>
            <a:chOff x="152280" y="152280"/>
            <a:chExt cx="2819520" cy="914400"/>
          </a:xfrm>
        </p:grpSpPr>
        <p:sp>
          <p:nvSpPr>
            <p:cNvPr id="315" name="Oval 14"/>
            <p:cNvSpPr/>
            <p:nvPr/>
          </p:nvSpPr>
          <p:spPr>
            <a:xfrm>
              <a:off x="152280" y="152280"/>
              <a:ext cx="281952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WordArt 15"/>
            <p:cNvSpPr txBox="1"/>
            <p:nvPr/>
          </p:nvSpPr>
          <p:spPr>
            <a:xfrm>
              <a:off x="685800" y="282600"/>
              <a:ext cx="190512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17" name="AutoShape 16"/>
          <p:cNvSpPr/>
          <p:nvPr/>
        </p:nvSpPr>
        <p:spPr>
          <a:xfrm rot="16200000">
            <a:off x="4190760" y="3123720"/>
            <a:ext cx="762120" cy="41148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7"/>
          <p:cNvSpPr/>
          <p:nvPr/>
        </p:nvSpPr>
        <p:spPr>
          <a:xfrm rot="5400000">
            <a:off x="4419360" y="-533160"/>
            <a:ext cx="609480" cy="45720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228600" y="76320"/>
            <a:ext cx="590544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孟德尔生平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遗传学之父，是遗传学的奠基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孟德尔出生于奥地利的一个贫寒的农民家庭里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岁时他成为一名修道士。在修道院里他种植多种植物，进行杂交实验，潜心研究。经过多年的努力，他于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866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孟德尔"/>
          <p:cNvPicPr/>
          <p:nvPr/>
        </p:nvPicPr>
        <p:blipFill>
          <a:blip r:embed="rId1"/>
          <a:stretch/>
        </p:blipFill>
        <p:spPr>
          <a:xfrm>
            <a:off x="6094440" y="101520"/>
            <a:ext cx="3049560" cy="3886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1905120" y="451476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表了论文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植物杂交实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不过这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8600" y="50767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论文并未引起学术界的重视，直到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35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之后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位科学家同时发现了这篇论文，使学术界承认了孟德尔的研究成果，从而宣告了遗传学的诞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76320" y="3348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孟德尔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257800" y="103680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生物体在形成生殖细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配子时，成对的遗传因子彼此分离，分别进入不同的配子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80880" y="4724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配子中遗传因子成单存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6" descr="6-17[1]"/>
          <p:cNvPicPr/>
          <p:nvPr/>
        </p:nvPicPr>
        <p:blipFill>
          <a:blip r:embed="rId1"/>
          <a:stretch/>
        </p:blipFill>
        <p:spPr>
          <a:xfrm>
            <a:off x="0" y="990720"/>
            <a:ext cx="5029200" cy="57909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323" name="Picture 8" descr="图片1"/>
          <p:cNvPicPr/>
          <p:nvPr/>
        </p:nvPicPr>
        <p:blipFill>
          <a:blip r:embed="rId2"/>
          <a:stretch/>
        </p:blipFill>
        <p:spPr>
          <a:xfrm>
            <a:off x="457200" y="990720"/>
            <a:ext cx="3581280" cy="32763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9"/>
          <p:cNvSpPr/>
          <p:nvPr/>
        </p:nvSpPr>
        <p:spPr>
          <a:xfrm>
            <a:off x="0" y="4952880"/>
            <a:ext cx="4572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形成的配子种类、比值都相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1828800" y="41911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 :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8"/>
          <p:cNvSpPr/>
          <p:nvPr/>
        </p:nvSpPr>
        <p:spPr>
          <a:xfrm>
            <a:off x="1295280" y="2590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4572000" y="2590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6019920" y="2590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1"/>
          <p:cNvSpPr/>
          <p:nvPr/>
        </p:nvSpPr>
        <p:spPr>
          <a:xfrm>
            <a:off x="1523880" y="3124080"/>
            <a:ext cx="60984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2"/>
          <p:cNvSpPr/>
          <p:nvPr/>
        </p:nvSpPr>
        <p:spPr>
          <a:xfrm flipH="1">
            <a:off x="2362320" y="3124080"/>
            <a:ext cx="22860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3"/>
          <p:cNvSpPr/>
          <p:nvPr/>
        </p:nvSpPr>
        <p:spPr>
          <a:xfrm>
            <a:off x="1752480" y="3124080"/>
            <a:ext cx="175284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4"/>
          <p:cNvSpPr/>
          <p:nvPr/>
        </p:nvSpPr>
        <p:spPr>
          <a:xfrm flipH="1">
            <a:off x="3580920" y="3124080"/>
            <a:ext cx="259092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1828800" y="44956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3200400" y="4525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380880" y="990720"/>
            <a:ext cx="84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受精时，雌雄配子的结合是随机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9"/>
          <p:cNvSpPr/>
          <p:nvPr/>
        </p:nvSpPr>
        <p:spPr>
          <a:xfrm>
            <a:off x="76320" y="2588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孟德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0"/>
          <p:cNvSpPr/>
          <p:nvPr/>
        </p:nvSpPr>
        <p:spPr>
          <a:xfrm>
            <a:off x="2666880" y="2590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1"/>
          <p:cNvSpPr/>
          <p:nvPr/>
        </p:nvSpPr>
        <p:spPr>
          <a:xfrm rot="5400000">
            <a:off x="1980720" y="159984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2"/>
          <p:cNvSpPr/>
          <p:nvPr/>
        </p:nvSpPr>
        <p:spPr>
          <a:xfrm rot="5400000">
            <a:off x="5257800" y="1600200"/>
            <a:ext cx="457200" cy="167616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1600200" y="1676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雌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4"/>
          <p:cNvSpPr/>
          <p:nvPr/>
        </p:nvSpPr>
        <p:spPr>
          <a:xfrm>
            <a:off x="4724280" y="1676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雄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5"/>
          <p:cNvSpPr/>
          <p:nvPr/>
        </p:nvSpPr>
        <p:spPr>
          <a:xfrm>
            <a:off x="2971800" y="3124080"/>
            <a:ext cx="175248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6"/>
          <p:cNvSpPr/>
          <p:nvPr/>
        </p:nvSpPr>
        <p:spPr>
          <a:xfrm>
            <a:off x="4876920" y="31240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7"/>
          <p:cNvSpPr/>
          <p:nvPr/>
        </p:nvSpPr>
        <p:spPr>
          <a:xfrm>
            <a:off x="4419720" y="452124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8"/>
          <p:cNvSpPr/>
          <p:nvPr/>
        </p:nvSpPr>
        <p:spPr>
          <a:xfrm>
            <a:off x="5867280" y="4525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9"/>
          <p:cNvSpPr/>
          <p:nvPr/>
        </p:nvSpPr>
        <p:spPr>
          <a:xfrm>
            <a:off x="3200400" y="3124080"/>
            <a:ext cx="289548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0"/>
          <p:cNvSpPr/>
          <p:nvPr/>
        </p:nvSpPr>
        <p:spPr>
          <a:xfrm>
            <a:off x="6248520" y="31240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1"/>
          <p:cNvSpPr/>
          <p:nvPr/>
        </p:nvSpPr>
        <p:spPr>
          <a:xfrm>
            <a:off x="1824840" y="525780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32"/>
          <p:cNvSpPr/>
          <p:nvPr/>
        </p:nvSpPr>
        <p:spPr>
          <a:xfrm rot="16200000">
            <a:off x="4037040" y="4496760"/>
            <a:ext cx="223560" cy="1440000"/>
          </a:xfrm>
          <a:custGeom>
            <a:avLst/>
            <a:gdLst>
              <a:gd name="textAreaLeft" fmla="*/ 142920 w 223560"/>
              <a:gd name="textAreaRight" fmla="*/ 223920 w 2235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2"/>
          <p:cNvSpPr/>
          <p:nvPr/>
        </p:nvSpPr>
        <p:spPr>
          <a:xfrm rot="16200000">
            <a:off x="3501360" y="4423320"/>
            <a:ext cx="152280" cy="2887560"/>
          </a:xfrm>
          <a:custGeom>
            <a:avLst/>
            <a:gdLst>
              <a:gd name="textAreaLeft" fmla="*/ 97200 w 152280"/>
              <a:gd name="textAreaRight" fmla="*/ 152640 w 152280"/>
              <a:gd name="textAreaTop" fmla="*/ 75240 h 2887560"/>
              <a:gd name="textAreaBottom" fmla="*/ 2812320 h 288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6019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茎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562720" y="6019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矮茎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974880" y="1197000"/>
            <a:ext cx="7197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下面对有关概念之间关系的叙述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不正确的是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型决定了表现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位基因控制相对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自交后代没有纯合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分离是由于等位基因分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杂合子自交后代有纯合子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且纯合子的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随自交代数的增加而增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7539480" y="1355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380880" y="4876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304920" y="9907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显性遗传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380880" y="3581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隐性遗传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6"/>
          <p:cNvSpPr/>
          <p:nvPr/>
        </p:nvSpPr>
        <p:spPr>
          <a:xfrm>
            <a:off x="2286000" y="16002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7"/>
          <p:cNvSpPr/>
          <p:nvPr/>
        </p:nvSpPr>
        <p:spPr>
          <a:xfrm>
            <a:off x="2286000" y="41911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2852640" y="1295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2814480" y="3886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隐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533520" y="2590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对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685800" y="457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838080" y="4572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28195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高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2971800" y="4419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矮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6"/>
          <p:cNvSpPr/>
          <p:nvPr/>
        </p:nvSpPr>
        <p:spPr>
          <a:xfrm flipV="1">
            <a:off x="4724280" y="12193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7"/>
          <p:cNvSpPr/>
          <p:nvPr/>
        </p:nvSpPr>
        <p:spPr>
          <a:xfrm>
            <a:off x="4724280" y="16765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47242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5486400" y="914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5477040" y="1828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1"/>
          <p:cNvSpPr/>
          <p:nvPr/>
        </p:nvSpPr>
        <p:spPr>
          <a:xfrm>
            <a:off x="547704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2"/>
          <p:cNvSpPr/>
          <p:nvPr/>
        </p:nvSpPr>
        <p:spPr>
          <a:xfrm>
            <a:off x="6324480" y="1219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3"/>
          <p:cNvSpPr/>
          <p:nvPr/>
        </p:nvSpPr>
        <p:spPr>
          <a:xfrm>
            <a:off x="6324480" y="2133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4"/>
          <p:cNvSpPr/>
          <p:nvPr/>
        </p:nvSpPr>
        <p:spPr>
          <a:xfrm>
            <a:off x="6248520" y="4191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5"/>
          <p:cNvSpPr/>
          <p:nvPr/>
        </p:nvSpPr>
        <p:spPr>
          <a:xfrm>
            <a:off x="6605640" y="914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显性纯合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6"/>
          <p:cNvSpPr/>
          <p:nvPr/>
        </p:nvSpPr>
        <p:spPr>
          <a:xfrm>
            <a:off x="6634080" y="38862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隐性纯合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6553080" y="1828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杂合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8"/>
          <p:cNvSpPr/>
          <p:nvPr/>
        </p:nvSpPr>
        <p:spPr>
          <a:xfrm flipH="1">
            <a:off x="2437920" y="1981080"/>
            <a:ext cx="129564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9"/>
          <p:cNvSpPr/>
          <p:nvPr/>
        </p:nvSpPr>
        <p:spPr>
          <a:xfrm flipH="1" flipV="1">
            <a:off x="2437920" y="2971800"/>
            <a:ext cx="12193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0"/>
          <p:cNvSpPr/>
          <p:nvPr/>
        </p:nvSpPr>
        <p:spPr>
          <a:xfrm>
            <a:off x="2895480" y="457200"/>
            <a:ext cx="1905120" cy="46483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486400" y="685800"/>
            <a:ext cx="914400" cy="3962520"/>
          </a:xfrm>
          <a:prstGeom prst="rect">
            <a:avLst/>
          </a:prstGeom>
          <a:noFill/>
          <a:ln w="2844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2"/>
          <p:cNvSpPr/>
          <p:nvPr/>
        </p:nvSpPr>
        <p:spPr>
          <a:xfrm>
            <a:off x="3124080" y="52578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表现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5257800" y="4876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基因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4"/>
          <p:cNvSpPr/>
          <p:nvPr/>
        </p:nvSpPr>
        <p:spPr>
          <a:xfrm>
            <a:off x="685800" y="5943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本节内容概念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5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4"/>
          <p:cNvSpPr/>
          <p:nvPr/>
        </p:nvSpPr>
        <p:spPr>
          <a:xfrm>
            <a:off x="609480" y="1295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杂 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609480" y="3809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自 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 flipV="1">
            <a:off x="1676520" y="914040"/>
            <a:ext cx="8380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1676520" y="1676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1752480" y="1828800"/>
            <a:ext cx="609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 flipV="1">
            <a:off x="1676520" y="3352680"/>
            <a:ext cx="83808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1676520" y="41148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1676520" y="4267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2590920" y="609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590920" y="1371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4"/>
          <p:cNvSpPr/>
          <p:nvPr/>
        </p:nvSpPr>
        <p:spPr>
          <a:xfrm>
            <a:off x="3809880" y="21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2362320" y="2133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a5a29"/>
                </a:solidFill>
                <a:latin typeface="Arial"/>
                <a:ea typeface="黑体"/>
              </a:rPr>
              <a:t>测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3276720" y="2438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2666880" y="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8"/>
          <p:cNvSpPr/>
          <p:nvPr/>
        </p:nvSpPr>
        <p:spPr>
          <a:xfrm>
            <a:off x="2438280" y="152280"/>
            <a:ext cx="19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亲     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9"/>
          <p:cNvSpPr/>
          <p:nvPr/>
        </p:nvSpPr>
        <p:spPr>
          <a:xfrm>
            <a:off x="2666880" y="3048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0"/>
          <p:cNvSpPr/>
          <p:nvPr/>
        </p:nvSpPr>
        <p:spPr>
          <a:xfrm>
            <a:off x="2676600" y="3809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1"/>
          <p:cNvSpPr/>
          <p:nvPr/>
        </p:nvSpPr>
        <p:spPr>
          <a:xfrm>
            <a:off x="2666880" y="4495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4267080" y="91440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3"/>
          <p:cNvSpPr/>
          <p:nvPr/>
        </p:nvSpPr>
        <p:spPr>
          <a:xfrm flipV="1">
            <a:off x="4343400" y="1294920"/>
            <a:ext cx="11430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>
            <a:off x="5410080" y="251460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 flipV="1">
            <a:off x="4343400" y="2895480"/>
            <a:ext cx="2133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6"/>
          <p:cNvSpPr/>
          <p:nvPr/>
        </p:nvSpPr>
        <p:spPr>
          <a:xfrm>
            <a:off x="4495680" y="4114800"/>
            <a:ext cx="11430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7"/>
          <p:cNvSpPr/>
          <p:nvPr/>
        </p:nvSpPr>
        <p:spPr>
          <a:xfrm flipV="1">
            <a:off x="4267080" y="4419720"/>
            <a:ext cx="13716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8"/>
          <p:cNvSpPr/>
          <p:nvPr/>
        </p:nvSpPr>
        <p:spPr>
          <a:xfrm>
            <a:off x="5562720" y="914400"/>
            <a:ext cx="228600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黑体"/>
              </a:rPr>
              <a:t>无性状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9"/>
          <p:cNvSpPr/>
          <p:nvPr/>
        </p:nvSpPr>
        <p:spPr>
          <a:xfrm>
            <a:off x="5562720" y="152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子     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6477120" y="2438280"/>
            <a:ext cx="22860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a5a29"/>
                </a:solidFill>
                <a:latin typeface="Arial"/>
                <a:ea typeface="黑体"/>
              </a:rPr>
              <a:t>性状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1"/>
          <p:cNvSpPr/>
          <p:nvPr/>
        </p:nvSpPr>
        <p:spPr>
          <a:xfrm>
            <a:off x="5638680" y="3962520"/>
            <a:ext cx="228600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稳定遗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3"/>
          <p:cNvSpPr/>
          <p:nvPr/>
        </p:nvSpPr>
        <p:spPr>
          <a:xfrm>
            <a:off x="6477120" y="55627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3"/>
          <p:cNvSpPr/>
          <p:nvPr/>
        </p:nvSpPr>
        <p:spPr>
          <a:xfrm>
            <a:off x="60948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4934880" y="2565360"/>
            <a:ext cx="1653120" cy="592200"/>
            <a:chOff x="4934880" y="2565360"/>
            <a:chExt cx="1653120" cy="592200"/>
          </a:xfrm>
        </p:grpSpPr>
        <p:sp>
          <p:nvSpPr>
            <p:cNvPr id="417" name="Oval 3"/>
            <p:cNvSpPr/>
            <p:nvPr/>
          </p:nvSpPr>
          <p:spPr>
            <a:xfrm>
              <a:off x="6012000" y="2565360"/>
              <a:ext cx="57600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4"/>
            <p:cNvSpPr/>
            <p:nvPr/>
          </p:nvSpPr>
          <p:spPr>
            <a:xfrm>
              <a:off x="4934880" y="26370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5"/>
          <p:cNvGrpSpPr/>
          <p:nvPr/>
        </p:nvGrpSpPr>
        <p:grpSpPr>
          <a:xfrm>
            <a:off x="2771640" y="1125360"/>
            <a:ext cx="576360" cy="1006560"/>
            <a:chOff x="2771640" y="1125360"/>
            <a:chExt cx="576360" cy="1006560"/>
          </a:xfrm>
        </p:grpSpPr>
        <p:sp>
          <p:nvSpPr>
            <p:cNvPr id="420" name="Oval 6"/>
            <p:cNvSpPr/>
            <p:nvPr/>
          </p:nvSpPr>
          <p:spPr>
            <a:xfrm>
              <a:off x="2771640" y="1628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7"/>
            <p:cNvSpPr/>
            <p:nvPr/>
          </p:nvSpPr>
          <p:spPr>
            <a:xfrm>
              <a:off x="2987640" y="112536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8"/>
          <p:cNvGrpSpPr/>
          <p:nvPr/>
        </p:nvGrpSpPr>
        <p:grpSpPr>
          <a:xfrm>
            <a:off x="4356000" y="1125360"/>
            <a:ext cx="576360" cy="1006560"/>
            <a:chOff x="4356000" y="1125360"/>
            <a:chExt cx="576360" cy="1006560"/>
          </a:xfrm>
        </p:grpSpPr>
        <p:sp>
          <p:nvSpPr>
            <p:cNvPr id="423" name="Oval 9"/>
            <p:cNvSpPr/>
            <p:nvPr/>
          </p:nvSpPr>
          <p:spPr>
            <a:xfrm>
              <a:off x="4356000" y="1628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10"/>
            <p:cNvSpPr/>
            <p:nvPr/>
          </p:nvSpPr>
          <p:spPr>
            <a:xfrm>
              <a:off x="4643280" y="112536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1"/>
          <p:cNvGrpSpPr/>
          <p:nvPr/>
        </p:nvGrpSpPr>
        <p:grpSpPr>
          <a:xfrm>
            <a:off x="5796000" y="3141720"/>
            <a:ext cx="1657440" cy="1222200"/>
            <a:chOff x="5796000" y="3141720"/>
            <a:chExt cx="1657440" cy="1222200"/>
          </a:xfrm>
        </p:grpSpPr>
        <p:sp>
          <p:nvSpPr>
            <p:cNvPr id="426" name="Oval 12"/>
            <p:cNvSpPr/>
            <p:nvPr/>
          </p:nvSpPr>
          <p:spPr>
            <a:xfrm>
              <a:off x="5796000" y="3860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"/>
            <p:cNvSpPr/>
            <p:nvPr/>
          </p:nvSpPr>
          <p:spPr>
            <a:xfrm>
              <a:off x="6877080" y="3789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4"/>
            <p:cNvSpPr/>
            <p:nvPr/>
          </p:nvSpPr>
          <p:spPr>
            <a:xfrm flipH="1">
              <a:off x="6084720" y="3141720"/>
              <a:ext cx="21600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5"/>
            <p:cNvSpPr/>
            <p:nvPr/>
          </p:nvSpPr>
          <p:spPr>
            <a:xfrm>
              <a:off x="6516720" y="3141720"/>
              <a:ext cx="36036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16"/>
          <p:cNvGrpSpPr/>
          <p:nvPr/>
        </p:nvGrpSpPr>
        <p:grpSpPr>
          <a:xfrm>
            <a:off x="3203640" y="4292640"/>
            <a:ext cx="2592360" cy="1224000"/>
            <a:chOff x="3203640" y="4292640"/>
            <a:chExt cx="2592360" cy="1224000"/>
          </a:xfrm>
        </p:grpSpPr>
        <p:sp>
          <p:nvSpPr>
            <p:cNvPr id="431" name="Oval 17"/>
            <p:cNvSpPr/>
            <p:nvPr/>
          </p:nvSpPr>
          <p:spPr>
            <a:xfrm>
              <a:off x="320364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>
              <a:off x="3492360" y="443700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 flipH="1">
              <a:off x="3635280" y="4292640"/>
              <a:ext cx="216072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20"/>
          <p:cNvGrpSpPr/>
          <p:nvPr/>
        </p:nvGrpSpPr>
        <p:grpSpPr>
          <a:xfrm>
            <a:off x="3780000" y="4365720"/>
            <a:ext cx="3240000" cy="1150920"/>
            <a:chOff x="3780000" y="4365720"/>
            <a:chExt cx="3240000" cy="1150920"/>
          </a:xfrm>
        </p:grpSpPr>
        <p:sp>
          <p:nvSpPr>
            <p:cNvPr id="435" name="Oval 21"/>
            <p:cNvSpPr/>
            <p:nvPr/>
          </p:nvSpPr>
          <p:spPr>
            <a:xfrm>
              <a:off x="435600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22"/>
            <p:cNvSpPr/>
            <p:nvPr/>
          </p:nvSpPr>
          <p:spPr>
            <a:xfrm>
              <a:off x="3780000" y="4365720"/>
              <a:ext cx="72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 flipH="1">
              <a:off x="4859280" y="4365720"/>
              <a:ext cx="216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24"/>
          <p:cNvGrpSpPr/>
          <p:nvPr/>
        </p:nvGrpSpPr>
        <p:grpSpPr>
          <a:xfrm>
            <a:off x="4788000" y="4365720"/>
            <a:ext cx="1584360" cy="1150920"/>
            <a:chOff x="4788000" y="4365720"/>
            <a:chExt cx="1584360" cy="1150920"/>
          </a:xfrm>
        </p:grpSpPr>
        <p:sp>
          <p:nvSpPr>
            <p:cNvPr id="439" name="Oval 25"/>
            <p:cNvSpPr/>
            <p:nvPr/>
          </p:nvSpPr>
          <p:spPr>
            <a:xfrm>
              <a:off x="579600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26"/>
            <p:cNvSpPr/>
            <p:nvPr/>
          </p:nvSpPr>
          <p:spPr>
            <a:xfrm>
              <a:off x="4788000" y="4365720"/>
              <a:ext cx="1152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27"/>
            <p:cNvSpPr/>
            <p:nvPr/>
          </p:nvSpPr>
          <p:spPr>
            <a:xfrm>
              <a:off x="6084720" y="443700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28"/>
          <p:cNvGrpSpPr/>
          <p:nvPr/>
        </p:nvGrpSpPr>
        <p:grpSpPr>
          <a:xfrm>
            <a:off x="4932360" y="4292640"/>
            <a:ext cx="2664000" cy="1224000"/>
            <a:chOff x="4932360" y="4292640"/>
            <a:chExt cx="2664000" cy="1224000"/>
          </a:xfrm>
        </p:grpSpPr>
        <p:sp>
          <p:nvSpPr>
            <p:cNvPr id="443" name="Oval 29"/>
            <p:cNvSpPr/>
            <p:nvPr/>
          </p:nvSpPr>
          <p:spPr>
            <a:xfrm>
              <a:off x="702000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30"/>
            <p:cNvSpPr/>
            <p:nvPr/>
          </p:nvSpPr>
          <p:spPr>
            <a:xfrm>
              <a:off x="4932360" y="4292640"/>
              <a:ext cx="223200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31"/>
            <p:cNvSpPr/>
            <p:nvPr/>
          </p:nvSpPr>
          <p:spPr>
            <a:xfrm>
              <a:off x="7236000" y="436572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32"/>
          <p:cNvGrpSpPr/>
          <p:nvPr/>
        </p:nvGrpSpPr>
        <p:grpSpPr>
          <a:xfrm>
            <a:off x="1837080" y="0"/>
            <a:ext cx="3024000" cy="1069920"/>
            <a:chOff x="1837080" y="0"/>
            <a:chExt cx="3024000" cy="1069920"/>
          </a:xfrm>
        </p:grpSpPr>
        <p:sp>
          <p:nvSpPr>
            <p:cNvPr id="447" name="Oval 33"/>
            <p:cNvSpPr/>
            <p:nvPr/>
          </p:nvSpPr>
          <p:spPr>
            <a:xfrm>
              <a:off x="2700360" y="549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34"/>
            <p:cNvSpPr/>
            <p:nvPr/>
          </p:nvSpPr>
          <p:spPr>
            <a:xfrm>
              <a:off x="3639600" y="54936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35"/>
            <p:cNvSpPr/>
            <p:nvPr/>
          </p:nvSpPr>
          <p:spPr>
            <a:xfrm>
              <a:off x="4284720" y="549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2680920" y="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37"/>
            <p:cNvSpPr/>
            <p:nvPr/>
          </p:nvSpPr>
          <p:spPr>
            <a:xfrm>
              <a:off x="4265280" y="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38"/>
            <p:cNvSpPr/>
            <p:nvPr/>
          </p:nvSpPr>
          <p:spPr>
            <a:xfrm>
              <a:off x="1837080" y="549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39"/>
          <p:cNvSpPr/>
          <p:nvPr/>
        </p:nvSpPr>
        <p:spPr>
          <a:xfrm>
            <a:off x="1692360" y="155736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40"/>
          <p:cNvGrpSpPr/>
          <p:nvPr/>
        </p:nvGrpSpPr>
        <p:grpSpPr>
          <a:xfrm>
            <a:off x="1847520" y="2205000"/>
            <a:ext cx="2651040" cy="1011600"/>
            <a:chOff x="1847520" y="2205000"/>
            <a:chExt cx="2651040" cy="1011600"/>
          </a:xfrm>
        </p:grpSpPr>
        <p:sp>
          <p:nvSpPr>
            <p:cNvPr id="455" name="Oval 41"/>
            <p:cNvSpPr/>
            <p:nvPr/>
          </p:nvSpPr>
          <p:spPr>
            <a:xfrm>
              <a:off x="3635280" y="2637000"/>
              <a:ext cx="576360" cy="502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42"/>
            <p:cNvSpPr/>
            <p:nvPr/>
          </p:nvSpPr>
          <p:spPr>
            <a:xfrm>
              <a:off x="3203640" y="2205000"/>
              <a:ext cx="50472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43"/>
            <p:cNvSpPr/>
            <p:nvPr/>
          </p:nvSpPr>
          <p:spPr>
            <a:xfrm flipH="1">
              <a:off x="4066920" y="2205000"/>
              <a:ext cx="43164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44"/>
            <p:cNvSpPr/>
            <p:nvPr/>
          </p:nvSpPr>
          <p:spPr>
            <a:xfrm>
              <a:off x="1847520" y="2637000"/>
              <a:ext cx="511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45"/>
          <p:cNvGrpSpPr/>
          <p:nvPr/>
        </p:nvGrpSpPr>
        <p:grpSpPr>
          <a:xfrm>
            <a:off x="1866240" y="3213000"/>
            <a:ext cx="3054960" cy="1227240"/>
            <a:chOff x="1866240" y="3213000"/>
            <a:chExt cx="3054960" cy="1227240"/>
          </a:xfrm>
        </p:grpSpPr>
        <p:sp>
          <p:nvSpPr>
            <p:cNvPr id="460" name="Oval 46"/>
            <p:cNvSpPr/>
            <p:nvPr/>
          </p:nvSpPr>
          <p:spPr>
            <a:xfrm>
              <a:off x="3192480" y="3860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47"/>
            <p:cNvSpPr/>
            <p:nvPr/>
          </p:nvSpPr>
          <p:spPr>
            <a:xfrm>
              <a:off x="4344840" y="3860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48"/>
            <p:cNvSpPr/>
            <p:nvPr/>
          </p:nvSpPr>
          <p:spPr>
            <a:xfrm flipH="1">
              <a:off x="3552840" y="3213000"/>
              <a:ext cx="2872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9"/>
            <p:cNvSpPr/>
            <p:nvPr/>
          </p:nvSpPr>
          <p:spPr>
            <a:xfrm>
              <a:off x="4129200" y="3213000"/>
              <a:ext cx="433080" cy="57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50"/>
            <p:cNvSpPr/>
            <p:nvPr/>
          </p:nvSpPr>
          <p:spPr>
            <a:xfrm>
              <a:off x="1866240" y="3860640"/>
              <a:ext cx="1023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配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51"/>
          <p:cNvSpPr/>
          <p:nvPr/>
        </p:nvSpPr>
        <p:spPr>
          <a:xfrm>
            <a:off x="1920600" y="494172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2"/>
          <p:cNvSpPr/>
          <p:nvPr/>
        </p:nvSpPr>
        <p:spPr>
          <a:xfrm>
            <a:off x="318420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3"/>
          <p:cNvSpPr/>
          <p:nvPr/>
        </p:nvSpPr>
        <p:spPr>
          <a:xfrm>
            <a:off x="441000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4"/>
          <p:cNvSpPr/>
          <p:nvPr/>
        </p:nvSpPr>
        <p:spPr>
          <a:xfrm>
            <a:off x="584964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5"/>
          <p:cNvSpPr/>
          <p:nvPr/>
        </p:nvSpPr>
        <p:spPr>
          <a:xfrm>
            <a:off x="707364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6"/>
          <p:cNvSpPr/>
          <p:nvPr/>
        </p:nvSpPr>
        <p:spPr>
          <a:xfrm>
            <a:off x="3184560" y="6205680"/>
            <a:ext cx="48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57"/>
          <p:cNvSpPr/>
          <p:nvPr/>
        </p:nvSpPr>
        <p:spPr>
          <a:xfrm rot="16200000">
            <a:off x="4753800" y="4771080"/>
            <a:ext cx="77760" cy="2727360"/>
          </a:xfrm>
          <a:custGeom>
            <a:avLst/>
            <a:gdLst>
              <a:gd name="textAreaLeft" fmla="*/ 49680 w 77760"/>
              <a:gd name="textAreaRight" fmla="*/ 78120 w 77760"/>
              <a:gd name="textAreaTop" fmla="*/ 70920 h 2727360"/>
              <a:gd name="textAreaBottom" fmla="*/ 2656440 h 272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638320" y="22860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遗传图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1103400" y="812880"/>
            <a:ext cx="71974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下列关于遗传学的基本概念的叙述中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正确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   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 )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双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只要后代同时出现显性性状和隐性性状的现象就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分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纯合子杂交产生的子一代所表现的性状就是显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同环境下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型相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型不一定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兔的白毛和黑毛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狗的直毛和卷毛都是相对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2136600" y="1981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971640" y="1123920"/>
            <a:ext cx="7632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杂种后代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现不同与亲本性状的现象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称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分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错误；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具有相对性状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纯合亲本杂交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出来的亲本的性状称显性性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错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兔的白毛与黑毛是相对性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狗的卷毛与直毛是相对性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正确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物的表现型受基因型和环境的共同影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正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1042920" y="334800"/>
            <a:ext cx="7197840" cy="61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科学研究过程一般包括发现问题、提出假设、实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验验证、数据分析、得出结论等。在孟德尔探究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遗传规律的过程中，引起孟德尔发现问题的现象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是                                 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位基因随同源染色体分开而分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一对相对性状的亲本杂交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型之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∶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隐性亲本测交，后代表现型之比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∶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雌雄配子结合的机会均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具有一对相对性状的亲本杂交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比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: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现象是引起孟德尔发现问题的现象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位基因随同源染色体分开而分离及雌雄配子结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合的机会均等是孟德尔提出的假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7166520" y="1811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4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4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4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4"/>
          <p:cNvSpPr/>
          <p:nvPr/>
        </p:nvSpPr>
        <p:spPr>
          <a:xfrm>
            <a:off x="533520" y="12952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观察、分析的基础上提出问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2590920" y="434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1600200" y="2209680"/>
            <a:ext cx="731520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全部显现高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既有高茎又有矮茎（性状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离），分离比接近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: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7"/>
          <p:cNvSpPr/>
          <p:nvPr/>
        </p:nvSpPr>
        <p:spPr>
          <a:xfrm>
            <a:off x="1219320" y="243828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33120" y="2514600"/>
            <a:ext cx="1033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科学事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304920" y="4419720"/>
            <a:ext cx="8001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问题：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为什么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F</a:t>
            </a:r>
            <a:r>
              <a:rPr b="1" lang="en-US" sz="36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中性状分离比是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3:1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990720" y="1752480"/>
            <a:ext cx="7086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豌豆杂交实验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2590920" y="434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533520" y="1295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推理、想像，提出解决问题的假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685800" y="1828800"/>
            <a:ext cx="73152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生物性状是由遗传因子决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体细胞中遗传因子成对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形成配子时成对遗传因子分离，分别进入不同配子中，配子中遗传因子成单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受精时，雌雄配子随机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4"/>
          <p:cNvSpPr/>
          <p:nvPr/>
        </p:nvSpPr>
        <p:spPr>
          <a:xfrm>
            <a:off x="533520" y="914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根据假说进行演绎推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2590920" y="151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6" descr="复件 图片1"/>
          <p:cNvPicPr/>
          <p:nvPr/>
        </p:nvPicPr>
        <p:blipFill>
          <a:blip r:embed="rId1"/>
          <a:stretch/>
        </p:blipFill>
        <p:spPr>
          <a:xfrm>
            <a:off x="1523880" y="1600200"/>
            <a:ext cx="655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5"/>
          <p:cNvSpPr/>
          <p:nvPr/>
        </p:nvSpPr>
        <p:spPr>
          <a:xfrm>
            <a:off x="380880" y="990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通过实验来检验推理的结论是否正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2590920" y="151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测交实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Object 6"/>
          <p:cNvGraphicFramePr/>
          <p:nvPr/>
        </p:nvGraphicFramePr>
        <p:xfrm>
          <a:off x="914400" y="914400"/>
          <a:ext cx="51814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5181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AutoShape 8">
            <a:hlinkClick r:id="rId3" action="ppaction://hlinksldjump"/>
          </p:cNvPr>
          <p:cNvSpPr/>
          <p:nvPr/>
        </p:nvSpPr>
        <p:spPr>
          <a:xfrm>
            <a:off x="609480" y="609588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9894" y="10800"/>
                </a:moveTo>
                <a:lnTo>
                  <a:pt x="30399" y="3794"/>
                </a:lnTo>
                <a:lnTo>
                  <a:pt x="30399" y="17806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18049" y="3794"/>
                </a:lnTo>
                <a:lnTo>
                  <a:pt x="18049" y="17806"/>
                </a:lnTo>
                <a:lnTo>
                  <a:pt x="163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3"/>
          <p:cNvSpPr/>
          <p:nvPr/>
        </p:nvSpPr>
        <p:spPr>
          <a:xfrm>
            <a:off x="457200" y="380880"/>
            <a:ext cx="7772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测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隐性纯合子的杂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2"/>
          <p:cNvGrpSpPr/>
          <p:nvPr/>
        </p:nvGrpSpPr>
        <p:grpSpPr>
          <a:xfrm>
            <a:off x="3352320" y="1752480"/>
            <a:ext cx="1653120" cy="592200"/>
            <a:chOff x="3352320" y="1752480"/>
            <a:chExt cx="1653120" cy="592200"/>
          </a:xfrm>
        </p:grpSpPr>
        <p:sp>
          <p:nvSpPr>
            <p:cNvPr id="498" name="Oval 3"/>
            <p:cNvSpPr/>
            <p:nvPr/>
          </p:nvSpPr>
          <p:spPr>
            <a:xfrm>
              <a:off x="4429440" y="1752480"/>
              <a:ext cx="576000" cy="5032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4"/>
            <p:cNvSpPr/>
            <p:nvPr/>
          </p:nvSpPr>
          <p:spPr>
            <a:xfrm>
              <a:off x="3352320" y="182412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5"/>
          <p:cNvGrpSpPr/>
          <p:nvPr/>
        </p:nvGrpSpPr>
        <p:grpSpPr>
          <a:xfrm>
            <a:off x="4114800" y="2438280"/>
            <a:ext cx="1657440" cy="1222200"/>
            <a:chOff x="4114800" y="2438280"/>
            <a:chExt cx="1657440" cy="1222200"/>
          </a:xfrm>
        </p:grpSpPr>
        <p:sp>
          <p:nvSpPr>
            <p:cNvPr id="501" name="Oval 6"/>
            <p:cNvSpPr/>
            <p:nvPr/>
          </p:nvSpPr>
          <p:spPr>
            <a:xfrm>
              <a:off x="4114800" y="315720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7"/>
            <p:cNvSpPr/>
            <p:nvPr/>
          </p:nvSpPr>
          <p:spPr>
            <a:xfrm>
              <a:off x="5195880" y="308592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8"/>
            <p:cNvSpPr/>
            <p:nvPr/>
          </p:nvSpPr>
          <p:spPr>
            <a:xfrm flipH="1">
              <a:off x="4403520" y="2438280"/>
              <a:ext cx="21600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9"/>
            <p:cNvSpPr/>
            <p:nvPr/>
          </p:nvSpPr>
          <p:spPr>
            <a:xfrm>
              <a:off x="4835520" y="2438280"/>
              <a:ext cx="36036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0"/>
          <p:cNvGrpSpPr/>
          <p:nvPr/>
        </p:nvGrpSpPr>
        <p:grpSpPr>
          <a:xfrm>
            <a:off x="1752480" y="3733920"/>
            <a:ext cx="2592360" cy="1224000"/>
            <a:chOff x="1752480" y="3733920"/>
            <a:chExt cx="2592360" cy="1224000"/>
          </a:xfrm>
        </p:grpSpPr>
        <p:sp>
          <p:nvSpPr>
            <p:cNvPr id="506" name="Oval 11"/>
            <p:cNvSpPr/>
            <p:nvPr/>
          </p:nvSpPr>
          <p:spPr>
            <a:xfrm>
              <a:off x="1752480" y="4454640"/>
              <a:ext cx="576360" cy="5032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2"/>
            <p:cNvSpPr/>
            <p:nvPr/>
          </p:nvSpPr>
          <p:spPr>
            <a:xfrm>
              <a:off x="2041200" y="387828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3"/>
            <p:cNvSpPr/>
            <p:nvPr/>
          </p:nvSpPr>
          <p:spPr>
            <a:xfrm flipH="1">
              <a:off x="2184120" y="3733920"/>
              <a:ext cx="216072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14"/>
          <p:cNvGrpSpPr/>
          <p:nvPr/>
        </p:nvGrpSpPr>
        <p:grpSpPr>
          <a:xfrm>
            <a:off x="2286000" y="3809880"/>
            <a:ext cx="3240000" cy="1150920"/>
            <a:chOff x="2286000" y="3809880"/>
            <a:chExt cx="3240000" cy="1150920"/>
          </a:xfrm>
        </p:grpSpPr>
        <p:sp>
          <p:nvSpPr>
            <p:cNvPr id="510" name="Oval 15"/>
            <p:cNvSpPr/>
            <p:nvPr/>
          </p:nvSpPr>
          <p:spPr>
            <a:xfrm>
              <a:off x="2862000" y="4457520"/>
              <a:ext cx="576360" cy="5032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6"/>
            <p:cNvSpPr/>
            <p:nvPr/>
          </p:nvSpPr>
          <p:spPr>
            <a:xfrm>
              <a:off x="2286000" y="3809880"/>
              <a:ext cx="72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7"/>
            <p:cNvSpPr/>
            <p:nvPr/>
          </p:nvSpPr>
          <p:spPr>
            <a:xfrm flipH="1">
              <a:off x="3365280" y="3809880"/>
              <a:ext cx="216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8"/>
          <p:cNvGrpSpPr/>
          <p:nvPr/>
        </p:nvGrpSpPr>
        <p:grpSpPr>
          <a:xfrm>
            <a:off x="3200400" y="3809880"/>
            <a:ext cx="1584360" cy="1150920"/>
            <a:chOff x="3200400" y="3809880"/>
            <a:chExt cx="1584360" cy="1150920"/>
          </a:xfrm>
        </p:grpSpPr>
        <p:sp>
          <p:nvSpPr>
            <p:cNvPr id="514" name="Oval 19"/>
            <p:cNvSpPr/>
            <p:nvPr/>
          </p:nvSpPr>
          <p:spPr>
            <a:xfrm>
              <a:off x="4208400" y="4457520"/>
              <a:ext cx="576360" cy="503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0"/>
            <p:cNvSpPr/>
            <p:nvPr/>
          </p:nvSpPr>
          <p:spPr>
            <a:xfrm>
              <a:off x="3200400" y="3809880"/>
              <a:ext cx="1152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21"/>
            <p:cNvSpPr/>
            <p:nvPr/>
          </p:nvSpPr>
          <p:spPr>
            <a:xfrm>
              <a:off x="4497120" y="388116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22"/>
          <p:cNvGrpSpPr/>
          <p:nvPr/>
        </p:nvGrpSpPr>
        <p:grpSpPr>
          <a:xfrm>
            <a:off x="3276720" y="3733920"/>
            <a:ext cx="2663280" cy="1224000"/>
            <a:chOff x="3276720" y="3733920"/>
            <a:chExt cx="2663280" cy="1224000"/>
          </a:xfrm>
        </p:grpSpPr>
        <p:sp>
          <p:nvSpPr>
            <p:cNvPr id="518" name="Oval 23"/>
            <p:cNvSpPr/>
            <p:nvPr/>
          </p:nvSpPr>
          <p:spPr>
            <a:xfrm>
              <a:off x="5364000" y="4454640"/>
              <a:ext cx="576000" cy="503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4"/>
            <p:cNvSpPr/>
            <p:nvPr/>
          </p:nvSpPr>
          <p:spPr>
            <a:xfrm>
              <a:off x="3276720" y="3733920"/>
              <a:ext cx="223164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5"/>
            <p:cNvSpPr/>
            <p:nvPr/>
          </p:nvSpPr>
          <p:spPr>
            <a:xfrm>
              <a:off x="5580000" y="380700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26"/>
          <p:cNvGrpSpPr/>
          <p:nvPr/>
        </p:nvGrpSpPr>
        <p:grpSpPr>
          <a:xfrm>
            <a:off x="602640" y="2514600"/>
            <a:ext cx="3023280" cy="1168200"/>
            <a:chOff x="602640" y="2514600"/>
            <a:chExt cx="3023280" cy="1168200"/>
          </a:xfrm>
        </p:grpSpPr>
        <p:sp>
          <p:nvSpPr>
            <p:cNvPr id="522" name="Oval 27"/>
            <p:cNvSpPr/>
            <p:nvPr/>
          </p:nvSpPr>
          <p:spPr>
            <a:xfrm>
              <a:off x="1897200" y="31622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28"/>
            <p:cNvSpPr/>
            <p:nvPr/>
          </p:nvSpPr>
          <p:spPr>
            <a:xfrm>
              <a:off x="3049560" y="31622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9"/>
            <p:cNvSpPr/>
            <p:nvPr/>
          </p:nvSpPr>
          <p:spPr>
            <a:xfrm flipH="1">
              <a:off x="2257560" y="2514600"/>
              <a:ext cx="2872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30"/>
            <p:cNvSpPr/>
            <p:nvPr/>
          </p:nvSpPr>
          <p:spPr>
            <a:xfrm>
              <a:off x="2833920" y="2514600"/>
              <a:ext cx="433080" cy="57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31"/>
            <p:cNvSpPr/>
            <p:nvPr/>
          </p:nvSpPr>
          <p:spPr>
            <a:xfrm>
              <a:off x="602640" y="31622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配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32"/>
          <p:cNvSpPr/>
          <p:nvPr/>
        </p:nvSpPr>
        <p:spPr>
          <a:xfrm>
            <a:off x="612000" y="44956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3"/>
          <p:cNvSpPr/>
          <p:nvPr/>
        </p:nvSpPr>
        <p:spPr>
          <a:xfrm>
            <a:off x="1725480" y="510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4"/>
          <p:cNvSpPr/>
          <p:nvPr/>
        </p:nvSpPr>
        <p:spPr>
          <a:xfrm>
            <a:off x="2743200" y="510552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5"/>
          <p:cNvSpPr/>
          <p:nvPr/>
        </p:nvSpPr>
        <p:spPr>
          <a:xfrm>
            <a:off x="4114800" y="5105520"/>
            <a:ext cx="11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6"/>
          <p:cNvSpPr/>
          <p:nvPr/>
        </p:nvSpPr>
        <p:spPr>
          <a:xfrm>
            <a:off x="5181480" y="510552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7"/>
          <p:cNvSpPr/>
          <p:nvPr/>
        </p:nvSpPr>
        <p:spPr>
          <a:xfrm>
            <a:off x="533520" y="8380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d × 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8" descr="图片3"/>
          <p:cNvPicPr/>
          <p:nvPr/>
        </p:nvPicPr>
        <p:blipFill>
          <a:blip r:embed="rId1"/>
          <a:stretch/>
        </p:blipFill>
        <p:spPr>
          <a:xfrm>
            <a:off x="609480" y="1371600"/>
            <a:ext cx="2676600" cy="9619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41"/>
          <p:cNvSpPr/>
          <p:nvPr/>
        </p:nvSpPr>
        <p:spPr>
          <a:xfrm>
            <a:off x="6024600" y="1479600"/>
            <a:ext cx="311940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能产生一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配子，它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产生的配子结合时，不会掩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配子中遗传因子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5"/>
          <p:cNvSpPr/>
          <p:nvPr/>
        </p:nvSpPr>
        <p:spPr>
          <a:xfrm>
            <a:off x="380880" y="990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通过实验来检验推理的结论是否正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2590920" y="151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533520" y="1828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性状分离的根本原因在于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的分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990720" y="32767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实验结果与预期结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相符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说明了孟德尔的假说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正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3"/>
          <p:cNvSpPr/>
          <p:nvPr/>
        </p:nvSpPr>
        <p:spPr>
          <a:xfrm>
            <a:off x="152280" y="22096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在生物的体细胞中，控制同一性状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遗传因子成对存在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不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融合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在形成配子时，成对的遗传因子发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分离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分离后的遗传因子分别进入不同的配子中，随配子遗传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WordArt 9"/>
          <p:cNvSpPr txBox="1"/>
          <p:nvPr/>
        </p:nvSpPr>
        <p:spPr>
          <a:xfrm>
            <a:off x="2362320" y="304920"/>
            <a:ext cx="4114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五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分离定律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380880" y="1371600"/>
            <a:ext cx="838224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离定律的适用范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适用于真核生物有性生殖中的细胞核遗传，而不适用于细胞质遗传以及原核细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0" y="100332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下列几组杂交中，哪组属于纯合子之间的杂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Ａ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　　　　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Ｂ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Ｃ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　　　　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Ｄ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3"/>
          <p:cNvSpPr/>
          <p:nvPr/>
        </p:nvSpPr>
        <p:spPr>
          <a:xfrm>
            <a:off x="2514600" y="685800"/>
            <a:ext cx="34290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8eb2">
                  <a:alpha val="52156"/>
                </a:srgbClr>
              </a:gs>
              <a:gs pos="100000">
                <a:srgbClr val="ffccff">
                  <a:alpha val="51372"/>
                </a:srgbClr>
              </a:gs>
            </a:gsLst>
            <a:lin ang="18900000"/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5" descr="a1"/>
          <p:cNvPicPr/>
          <p:nvPr/>
        </p:nvPicPr>
        <p:blipFill>
          <a:blip r:embed="rId1"/>
          <a:stretch/>
        </p:blipFill>
        <p:spPr>
          <a:xfrm>
            <a:off x="4724280" y="326700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108000" y="114300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３、下列四组杂交组合中，能验证对分离现象的解释是否正确的一组是　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0" y="2666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　Ａ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　     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Ｂ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　Ｃ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　     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Ｄ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a1"/>
          <p:cNvPicPr/>
          <p:nvPr/>
        </p:nvPicPr>
        <p:blipFill>
          <a:blip r:embed="rId1"/>
          <a:stretch/>
        </p:blipFill>
        <p:spPr>
          <a:xfrm>
            <a:off x="4572000" y="320040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endou01"/>
          <p:cNvPicPr/>
          <p:nvPr/>
        </p:nvPicPr>
        <p:blipFill>
          <a:blip r:embed="rId1"/>
          <a:stretch/>
        </p:blipFill>
        <p:spPr>
          <a:xfrm>
            <a:off x="76320" y="152280"/>
            <a:ext cx="4190760" cy="28242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57" name="Picture 5" descr="0104004009002"/>
          <p:cNvPicPr/>
          <p:nvPr/>
        </p:nvPicPr>
        <p:blipFill>
          <a:blip r:embed="rId2"/>
          <a:stretch/>
        </p:blipFill>
        <p:spPr>
          <a:xfrm>
            <a:off x="4376880" y="1371600"/>
            <a:ext cx="4767120" cy="54864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58" name="Rectangle 6"/>
          <p:cNvSpPr/>
          <p:nvPr/>
        </p:nvSpPr>
        <p:spPr>
          <a:xfrm>
            <a:off x="228600" y="3657600"/>
            <a:ext cx="659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杂交实验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豌 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WordArt 2"/>
          <p:cNvSpPr txBox="1"/>
          <p:nvPr/>
        </p:nvSpPr>
        <p:spPr>
          <a:xfrm>
            <a:off x="304920" y="380880"/>
            <a:ext cx="86104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六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孟德尔获得成功的原因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228600" y="34290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对每一对相对性状的遗传分别进行研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80880" y="42670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用统计学方法对实验结果进行分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228600" y="251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选择了豌豆作为遗传实验材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遗传题的解题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4"/>
          <p:cNvSpPr/>
          <p:nvPr/>
        </p:nvSpPr>
        <p:spPr>
          <a:xfrm>
            <a:off x="4101840" y="22536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（一）判断显隐性性状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523800" y="1219320"/>
            <a:ext cx="823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相同性状的两个亲本交配，如果新出现了性状，则该性状为隐性性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2133720" y="2514600"/>
            <a:ext cx="396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红眼果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红眼果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"/>
          <p:cNvSpPr/>
          <p:nvPr/>
        </p:nvSpPr>
        <p:spPr>
          <a:xfrm>
            <a:off x="409572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3200400" y="4267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白眼果蝇（隐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71800" y="5715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2611080" y="22536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判断显隐性性状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2362320" y="2971800"/>
            <a:ext cx="327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：高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矮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7"/>
          <p:cNvSpPr/>
          <p:nvPr/>
        </p:nvSpPr>
        <p:spPr>
          <a:xfrm>
            <a:off x="4305240" y="3581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3225960" y="4038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茎  （显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838080" y="1523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具有一对相对性状的纯种亲本杂交，子一代所表现的性状即为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4"/>
          <p:cNvSpPr/>
          <p:nvPr/>
        </p:nvSpPr>
        <p:spPr>
          <a:xfrm>
            <a:off x="2611080" y="22536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判断显隐性性状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523800" y="1219320"/>
            <a:ext cx="77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具有一对相对性状的亲本杂交，子代性状分离比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: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则分离比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性状即为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62120" y="6019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9913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豌豆子叶黄色和绿色受一对遗传因子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控制。现将子叶黄色豌豆与子叶绿色豌豆杂交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为黄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＿＿＿＿＿＿为显性性状，＿＿＿＿＿为隐性性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亲本遗传因子组成是＿＿＿和＿＿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的遗传因子组成为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＿ ＿＿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， 比例是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＿＿             ＿＿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。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371600" y="2895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黄色子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095880" y="2895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绿色子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952880" y="4038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78168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724280" y="4648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066680" y="5135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4"/>
          <p:cNvSpPr/>
          <p:nvPr/>
        </p:nvSpPr>
        <p:spPr>
          <a:xfrm>
            <a:off x="1686240" y="225360"/>
            <a:ext cx="588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（二）确定个体遗传因子组成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0" y="12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某个体是隐性性状，则它一定是隐性纯合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0" y="249696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某个体是显性性状，则它可能是显性纯合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可能是杂合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让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显性性状个体与隐性纯合子测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如果子代中既有显性性状个体又有隐性性状个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性状分离），则该个体为杂合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如果子代全为显性性状，则该个体是显性纯合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143000" y="59436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4"/>
          <p:cNvSpPr/>
          <p:nvPr/>
        </p:nvSpPr>
        <p:spPr>
          <a:xfrm>
            <a:off x="0" y="2971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两个显性性状的亲本杂交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× 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代中出现了隐性性状个体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则双亲都是杂合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1219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亲代中有显性纯合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则子代一定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显性性状。如果亲代中有隐性纯合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则子代中一定含有隐性遗传因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4343400" y="5029200"/>
            <a:ext cx="0" cy="45720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3581280" y="5562720"/>
            <a:ext cx="1584360" cy="489960"/>
          </a:xfrm>
          <a:prstGeom prst="rect">
            <a:avLst/>
          </a:prstGeom>
          <a:solidFill>
            <a:srgbClr val="bbd2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黑色小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8"/>
          <p:cNvSpPr/>
          <p:nvPr/>
        </p:nvSpPr>
        <p:spPr>
          <a:xfrm>
            <a:off x="2590920" y="4419720"/>
            <a:ext cx="3733560" cy="4899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白色公羊 </a:t>
            </a:r>
            <a:r>
              <a:rPr b="1" lang="en-US" sz="2600" spc="-1" strike="noStrike">
                <a:solidFill>
                  <a:srgbClr val="ffffff"/>
                </a:solidFill>
                <a:latin typeface="黑体"/>
                <a:ea typeface="黑体"/>
              </a:rPr>
              <a:t>× 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白色母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4038480" y="5943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4952880" y="48909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3048120" y="4876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3"/>
          <p:cNvSpPr/>
          <p:nvPr/>
        </p:nvSpPr>
        <p:spPr>
          <a:xfrm>
            <a:off x="1171440" y="1782720"/>
            <a:ext cx="54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子代中 显性</a:t>
            </a:r>
            <a:r>
              <a:rPr b="1" lang="en-US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隐性＝</a:t>
            </a:r>
            <a:r>
              <a:rPr b="1" lang="en-US" sz="3200" spc="-1" strike="noStrike">
                <a:solidFill>
                  <a:srgbClr val="0000b8"/>
                </a:solidFill>
                <a:latin typeface="Arial Black"/>
                <a:ea typeface="华文新魏"/>
              </a:rPr>
              <a:t>1 : 1</a:t>
            </a: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5791320" y="2468520"/>
            <a:ext cx="20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a ×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1143000" y="342900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子代中 显性：隐性＝</a:t>
            </a:r>
            <a:r>
              <a:rPr b="1" lang="en-US" sz="3200" spc="-1" strike="noStrike">
                <a:solidFill>
                  <a:srgbClr val="0000b8"/>
                </a:solidFill>
                <a:latin typeface="Arial Black"/>
                <a:ea typeface="华文新魏"/>
              </a:rPr>
              <a:t>3 : 1</a:t>
            </a: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1143000" y="2468520"/>
            <a:ext cx="76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则亲本的遗传因子组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1143000" y="41148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则亲本的遗传因子组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5751360" y="41148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a ×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3"/>
          <p:cNvSpPr/>
          <p:nvPr/>
        </p:nvSpPr>
        <p:spPr>
          <a:xfrm>
            <a:off x="0" y="1081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根据杂交子代性状分离比判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76320" y="151920"/>
            <a:ext cx="89913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豌豆子叶黄色和绿色受一对遗传因子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控制。现将子叶黄色豌豆与子叶绿色豌豆杂交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为子叶黄色。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自交后结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种子，其中子叶绿色豌豆有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194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粒，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子叶黄色豌豆有＿＿＿＿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杂合子叶黄色豌豆有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＿＿   ＿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267080" y="2666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58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29200" y="3352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38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6"/>
          <p:cNvSpPr/>
          <p:nvPr/>
        </p:nvSpPr>
        <p:spPr>
          <a:xfrm>
            <a:off x="3687840" y="451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0" y="4572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豌豆是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自花传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且是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闭花受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植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04920" y="1066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保证了自然状态下豌豆是纯种，实验结果可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豌豆花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108000" y="3808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：采用下列哪组方法可以依次解决①～ ④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中的遗传问题：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0" y="39625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杂交、自交、测交、测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交、杂交、自交、测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Ｃ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交、测交、杂交、自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杂交、杂交、杂交、测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a1"/>
          <p:cNvPicPr/>
          <p:nvPr/>
        </p:nvPicPr>
        <p:blipFill>
          <a:blip r:embed="rId1"/>
          <a:stretch/>
        </p:blipFill>
        <p:spPr>
          <a:xfrm>
            <a:off x="457200" y="4495680"/>
            <a:ext cx="542880" cy="54288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108000" y="1600200"/>
            <a:ext cx="90360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鉴定一只白羊是否为纯种 ②在一对相对性状中区分显性和隐性 ③不断提高小麦抗病（显性）品种的纯合度 ④检验杂种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F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遗传因子的组成　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86600" y="5638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：豌豆种子的圆滑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对皱缩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是显性，现将其纯种亲本杂交，并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交后，所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皱缩的种子数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8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粒，试问圆滑种子数约为（   ）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A. 5550      B. 3700      C. 2400       D. 18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3733920" y="23623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228600" y="33336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7.    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黑体"/>
              </a:rPr>
              <a:t>大豆的花色是由一对遗传因子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  <a:ea typeface="黑体"/>
              </a:rPr>
              <a:t>P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黑体"/>
              </a:rPr>
              <a:t>、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  <a:ea typeface="黑体"/>
              </a:rPr>
              <a:t>p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黑体"/>
              </a:rPr>
              <a:t>控制着，下表是大豆的花色三个组合的遗传实验结果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68360" y="1523880"/>
          <a:ext cx="8136000" cy="3063960"/>
        </p:xfrm>
        <a:graphic>
          <a:graphicData uri="http://schemas.openxmlformats.org/drawingml/2006/table">
            <a:tbl>
              <a:tblPr/>
              <a:tblGrid>
                <a:gridCol w="1008000"/>
                <a:gridCol w="2381400"/>
                <a:gridCol w="2458800"/>
                <a:gridCol w="2287800"/>
              </a:tblGrid>
              <a:tr h="68472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组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亲本性状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的性状和植株数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白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×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白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×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白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×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2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Text Box 36"/>
          <p:cNvSpPr/>
          <p:nvPr/>
        </p:nvSpPr>
        <p:spPr>
          <a:xfrm>
            <a:off x="228600" y="472428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(1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根据哪个组合能够判断显性的花色类型？试说明理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7"/>
          <p:cNvSpPr/>
          <p:nvPr/>
        </p:nvSpPr>
        <p:spPr>
          <a:xfrm>
            <a:off x="228600" y="561672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(2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写出各个亲本组合中两个亲本的遗传因子组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38"/>
          <p:cNvSpPr/>
          <p:nvPr/>
        </p:nvSpPr>
        <p:spPr>
          <a:xfrm>
            <a:off x="228600" y="6093000"/>
            <a:ext cx="80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(3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哪一组为测交实验？给出其遗传图解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39"/>
          <p:cNvSpPr/>
          <p:nvPr/>
        </p:nvSpPr>
        <p:spPr>
          <a:xfrm>
            <a:off x="6858000" y="5943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（三）遗传题中概率的计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概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对某一可能发生事件的估计，是指特定事件与总事件的比例，其范围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4"/>
          <p:cNvSpPr/>
          <p:nvPr/>
        </p:nvSpPr>
        <p:spPr>
          <a:xfrm>
            <a:off x="-305280" y="260280"/>
            <a:ext cx="769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概率计算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76320" y="10177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例如，杂合子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自交，求自交后代中某一个体是杂合子的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若该个体性状为显性性状，它的遗传因子组成有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种可能性：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比例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: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因此它是杂合子的概率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/3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若该个体未知性状表现，则该个体遗传因子组成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种可能都有： 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比例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:2:1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因此它是杂合子的概率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/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-403200" y="260280"/>
            <a:ext cx="802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概率计算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0" y="106668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亲代的遗传因子组成未肯定的情况下，如何求其后代是某一性状的概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如，一对夫妇均肤色正常，且他们的双亲肤色也都正常，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夫妇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一个白化病的兄弟，求他们婚后生白化病孩子的概率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确定该夫妇的遗传因子组成及其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如果该夫妇均为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，后代患病的概率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/4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）将该夫妇均为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的概率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/3 ×2/3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）与该夫妇均为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的情况下生白化病孩子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的概率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/4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相乘，乘积即为该夫妇孩子中出现白化病患者的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-403200" y="260280"/>
            <a:ext cx="802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概率计算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0" y="1066680"/>
            <a:ext cx="91440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训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对肤色正常的夫妇，生下了一个白化病的孩子。如果他们再生一个孩子，肤色正常的概率是多少？患白化病的概率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提示：绘出遗传图解，用分离比直接推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3"/>
          <p:cNvSpPr/>
          <p:nvPr/>
        </p:nvSpPr>
        <p:spPr>
          <a:xfrm>
            <a:off x="0" y="1143000"/>
            <a:ext cx="914400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４、基因型为ＡＡ的个体与基因型为</a:t>
            </a:r>
            <a:r>
              <a:rPr b="1" lang="en-US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的个体杂交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的Ｆ</a:t>
            </a:r>
            <a:r>
              <a:rPr b="1" lang="zh-CN" sz="2800" spc="-1" strike="noStrike" baseline="-25000">
                <a:solidFill>
                  <a:srgbClr val="0000b8"/>
                </a:solidFill>
                <a:latin typeface="楷体_GB2312"/>
                <a:ea typeface="楷体_GB2312"/>
              </a:rPr>
              <a:t>１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进行自交，那么Ｆ</a:t>
            </a:r>
            <a:r>
              <a:rPr b="1" lang="zh-CN" sz="2800" spc="-1" strike="noStrike" baseline="-25000">
                <a:solidFill>
                  <a:srgbClr val="0000b8"/>
                </a:solidFill>
                <a:latin typeface="楷体_GB2312"/>
                <a:ea typeface="楷体_GB2312"/>
              </a:rPr>
              <a:t>２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中的纯合子占Ｆ</a:t>
            </a:r>
            <a:r>
              <a:rPr b="1" lang="zh-CN" sz="2800" spc="-1" strike="noStrike" baseline="-25000">
                <a:solidFill>
                  <a:srgbClr val="0000b8"/>
                </a:solidFill>
                <a:latin typeface="楷体_GB2312"/>
                <a:ea typeface="楷体_GB2312"/>
              </a:rPr>
              <a:t>２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中个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数的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２５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      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５０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７５％　　　      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１００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、在一对相对性状的遗传中，隐性亲本与杂合子亲本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交，其子代个体中与双亲遗传因子组成都不相同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　  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2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   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　　 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7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5" descr="a1"/>
          <p:cNvPicPr/>
          <p:nvPr/>
        </p:nvPicPr>
        <p:blipFill>
          <a:blip r:embed="rId1"/>
          <a:stretch/>
        </p:blipFill>
        <p:spPr>
          <a:xfrm>
            <a:off x="4267080" y="24382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a1"/>
          <p:cNvPicPr/>
          <p:nvPr/>
        </p:nvPicPr>
        <p:blipFill>
          <a:blip r:embed="rId2"/>
          <a:stretch/>
        </p:blipFill>
        <p:spPr>
          <a:xfrm>
            <a:off x="457200" y="495288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0" y="22860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番茄果实的红色对黄色为显性。现有两株红色番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杂交，其后代可能出现的的性状正确的一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是红果 ②全是黄果 ③红果∶黄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∶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果∶黄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3∶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①②      B.①④      C.②③     D.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株杂合的红花豌豆自花传粉共结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种子，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子生成的植株开红花，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种子长成的植株开红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的可能性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9/10       B.3/4       C.1/2      D.1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对杂合子的黑毛豚鼠交配，生出四只豚鼠。它们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状及数量可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部黑色或白色      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黑一白或一黑三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黑二白            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以上任何一种都有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3" descr="a1"/>
          <p:cNvPicPr/>
          <p:nvPr/>
        </p:nvPicPr>
        <p:blipFill>
          <a:blip r:embed="rId1"/>
          <a:stretch/>
        </p:blipFill>
        <p:spPr>
          <a:xfrm>
            <a:off x="1981080" y="1981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a1"/>
          <p:cNvPicPr/>
          <p:nvPr/>
        </p:nvPicPr>
        <p:blipFill>
          <a:blip r:embed="rId2"/>
          <a:stretch/>
        </p:blipFill>
        <p:spPr>
          <a:xfrm>
            <a:off x="2133720" y="41148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" descr="a1"/>
          <p:cNvPicPr/>
          <p:nvPr/>
        </p:nvPicPr>
        <p:blipFill>
          <a:blip r:embed="rId3"/>
          <a:stretch/>
        </p:blipFill>
        <p:spPr>
          <a:xfrm>
            <a:off x="4419720" y="631512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性状分离比的模拟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豌豆的相对性状图"/>
          <p:cNvPicPr/>
          <p:nvPr/>
        </p:nvPicPr>
        <p:blipFill>
          <a:blip r:embed="rId1"/>
          <a:stretch/>
        </p:blipFill>
        <p:spPr>
          <a:xfrm>
            <a:off x="1295280" y="838080"/>
            <a:ext cx="7848720" cy="6019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609480" y="1522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豌豆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相对性状易于区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-204480" y="1066680"/>
            <a:ext cx="140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475200" y="1143000"/>
            <a:ext cx="667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便于观察、分析实验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2313720" y="155520"/>
            <a:ext cx="44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3300"/>
                </a:solidFill>
                <a:latin typeface="Times New Roman"/>
                <a:ea typeface="隶书"/>
              </a:rPr>
              <a:t>基</a:t>
            </a:r>
            <a:r>
              <a:rPr b="1" i="1" lang="zh-CN" sz="4000" spc="-1" strike="noStrike">
                <a:solidFill>
                  <a:srgbClr val="663300"/>
                </a:solidFill>
                <a:latin typeface="Times New Roman"/>
                <a:ea typeface="隶书"/>
              </a:rPr>
              <a:t>因的分离规律在实践中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1752480" y="15238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杂交育种过程中如何选育显性性状和隐性性状的优良品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1857960" y="289548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要选育显性性状品种：应连续自交，直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确认得到不再发生分离的显性类型为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7"/>
          <p:cNvGrpSpPr/>
          <p:nvPr/>
        </p:nvGrpSpPr>
        <p:grpSpPr>
          <a:xfrm>
            <a:off x="738360" y="1066680"/>
            <a:ext cx="535680" cy="1341720"/>
            <a:chOff x="738360" y="1066680"/>
            <a:chExt cx="535680" cy="1341720"/>
          </a:xfrm>
        </p:grpSpPr>
        <p:sp>
          <p:nvSpPr>
            <p:cNvPr id="629" name="WordArt 8"/>
            <p:cNvSpPr txBox="1"/>
            <p:nvPr/>
          </p:nvSpPr>
          <p:spPr>
            <a:xfrm>
              <a:off x="741240" y="1066680"/>
              <a:ext cx="505080" cy="134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？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630" name="Rectangle 9"/>
            <p:cNvSpPr/>
            <p:nvPr/>
          </p:nvSpPr>
          <p:spPr>
            <a:xfrm>
              <a:off x="738360" y="1425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Arial"/>
                  <a:ea typeface="华文行楷"/>
                </a:rPr>
                <a:t>想一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Rectangle 13"/>
          <p:cNvSpPr/>
          <p:nvPr/>
        </p:nvSpPr>
        <p:spPr>
          <a:xfrm>
            <a:off x="1988640" y="4138560"/>
            <a:ext cx="533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要选育隐性性状品种：一但出现隐性性状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品种，就是选用的品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4"/>
          <p:cNvGrpSpPr/>
          <p:nvPr/>
        </p:nvGrpSpPr>
        <p:grpSpPr>
          <a:xfrm>
            <a:off x="966960" y="838080"/>
            <a:ext cx="535680" cy="1341720"/>
            <a:chOff x="966960" y="838080"/>
            <a:chExt cx="535680" cy="1341720"/>
          </a:xfrm>
        </p:grpSpPr>
        <p:sp>
          <p:nvSpPr>
            <p:cNvPr id="633" name="WordArt 5"/>
            <p:cNvSpPr txBox="1"/>
            <p:nvPr/>
          </p:nvSpPr>
          <p:spPr>
            <a:xfrm>
              <a:off x="969840" y="838080"/>
              <a:ext cx="505080" cy="134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？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634" name="Rectangle 6"/>
            <p:cNvSpPr/>
            <p:nvPr/>
          </p:nvSpPr>
          <p:spPr>
            <a:xfrm>
              <a:off x="966960" y="1197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Arial"/>
                  <a:ea typeface="华文行楷"/>
                </a:rPr>
                <a:t>想一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 Box 7"/>
          <p:cNvSpPr/>
          <p:nvPr/>
        </p:nvSpPr>
        <p:spPr>
          <a:xfrm>
            <a:off x="1981080" y="1752480"/>
            <a:ext cx="62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什么婚姻法禁止近亲结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585720" y="2819520"/>
            <a:ext cx="811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在人类，虽然由隐性基因控制的遗传病通常很少出现，但在近亲结婚（例如表兄妹结婚）的情况下，他们有可能从共同的祖先那里继承相同的基因，而使其后代出现病症的机会大大增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"/>
                            </p:stCondLst>
                            <p:childTnLst>
                              <p:par>
                                <p:cTn id="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3687840" y="451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>
            <a:hlinkClick r:id="rId1" action="ppaction://hlinksldjump"/>
          </p:cNvPr>
          <p:cNvSpPr/>
          <p:nvPr/>
        </p:nvSpPr>
        <p:spPr>
          <a:xfrm>
            <a:off x="609480" y="457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豌豆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花大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便于进行人工异花传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豌豆花2"/>
          <p:cNvPicPr/>
          <p:nvPr/>
        </p:nvPicPr>
        <p:blipFill>
          <a:blip r:embed="rId2"/>
          <a:stretch/>
        </p:blipFill>
        <p:spPr>
          <a:xfrm>
            <a:off x="838080" y="114300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图片1"/>
          <p:cNvPicPr/>
          <p:nvPr/>
        </p:nvPicPr>
        <p:blipFill>
          <a:blip r:embed="rId1"/>
          <a:stretch/>
        </p:blipFill>
        <p:spPr>
          <a:xfrm>
            <a:off x="1295280" y="0"/>
            <a:ext cx="626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2-29T01:23:10Z</dcterms:modified>
  <cp:revision>2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