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11.gif" ContentType="image/gif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BC3A-DFAF-4223-9C28-E6632161A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3BB8-F529-461E-B83E-F756C678E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1418-74CD-4571-B4B7-E3285D2BC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67CD-0DA5-4656-A189-C14CAA3C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8556-93EA-43B3-A1C4-B0EED3B2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BFD7-E162-4283-913B-07637435A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4240-5100-4D4C-B098-CE73136A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A9EE-AF5E-4BB7-809A-E443A917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094-D8FA-47A7-8485-AA7E0677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1E99-C165-43D6-84C6-90E17B5FC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9B8-813E-4D4D-9AC7-131C5FB6E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AEF-1F70-40F3-8027-D4A456FD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CC2-57B2-4A37-956C-6F2C292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411-57CB-4569-B1D9-86759FA5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74A-014F-4A95-A887-7324B10B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E86-68D4-4F4E-9BE7-17A79F92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B65-C1D2-4A78-BB97-17A43E6E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758-A8FD-4C0A-8DD5-8A5A518C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4B2-4932-47D4-9C2E-4B191746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09F-4449-47B9-B6E2-6D97A0C9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03B-7694-416A-B47C-AF2EAA0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6D0-2FE3-4DEC-B734-08762C6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A9F-9DDB-4B6E-8F31-F2F1332A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88FC-3CED-414D-A812-C44BE03D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对相对性状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14479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74" name="Oval 4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5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6" name="Text Box 6"/>
          <p:cNvSpPr/>
          <p:nvPr/>
        </p:nvSpPr>
        <p:spPr>
          <a:xfrm>
            <a:off x="0" y="2590920"/>
            <a:ext cx="8991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生物体的形态、结构、生理特征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性状的形成的生物体内的遗传物质和它的生活环境相互作用的结果。人们可以根据性状的差异鉴别各种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648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相对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6_15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30640" y="116676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同一种生物的同一性状的不同表现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81" name="Oval 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0033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下列各对性状中，属于相对性状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狗的长毛和卷毛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棉花的掌状叶和鸡脚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玉米叶梢的紫色和叶片的绿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豌豆的高茎和蚕豆的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1"/>
          <p:cNvPicPr/>
          <p:nvPr/>
        </p:nvPicPr>
        <p:blipFill>
          <a:blip r:embed="rId1"/>
          <a:stretch/>
        </p:blipFill>
        <p:spPr>
          <a:xfrm>
            <a:off x="457200" y="25146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152280"/>
            <a:ext cx="73152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遗传图谱中的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:                  ♀:                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203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亲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19720" y="11811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母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391520" y="1219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父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25760" y="1981080"/>
            <a:ext cx="7518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杂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遗传因子组成不同的个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19320" y="3505320"/>
            <a:ext cx="7619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自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花传粉；遗传因子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的雌雄个体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4876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一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523880" y="57913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二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762120" y="35053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96" name="Oval 1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WordArt 1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8288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2438280" y="592200"/>
            <a:ext cx="1185480" cy="1217160"/>
            <a:chOff x="2438280" y="592200"/>
            <a:chExt cx="1185480" cy="1217160"/>
          </a:xfrm>
        </p:grpSpPr>
        <p:sp>
          <p:nvSpPr>
            <p:cNvPr id="100" name="Text Box 6"/>
            <p:cNvSpPr/>
            <p:nvPr/>
          </p:nvSpPr>
          <p:spPr>
            <a:xfrm>
              <a:off x="31330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7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24382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8"/>
          <p:cNvGrpSpPr/>
          <p:nvPr/>
        </p:nvGrpSpPr>
        <p:grpSpPr>
          <a:xfrm>
            <a:off x="228600" y="380880"/>
            <a:ext cx="1584000" cy="1700280"/>
            <a:chOff x="228600" y="380880"/>
            <a:chExt cx="1584000" cy="1700280"/>
          </a:xfrm>
        </p:grpSpPr>
        <p:sp>
          <p:nvSpPr>
            <p:cNvPr id="103" name="Text Box 9"/>
            <p:cNvSpPr/>
            <p:nvPr/>
          </p:nvSpPr>
          <p:spPr>
            <a:xfrm>
              <a:off x="22860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0" descr="6-16"/>
            <p:cNvPicPr/>
            <p:nvPr/>
          </p:nvPicPr>
          <p:blipFill>
            <a:blip r:embed="rId2"/>
            <a:srcRect l="20168" t="1704" r="61101" b="68050"/>
            <a:stretch/>
          </p:blipFill>
          <p:spPr>
            <a:xfrm>
              <a:off x="91728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 Box 11"/>
          <p:cNvSpPr/>
          <p:nvPr/>
        </p:nvSpPr>
        <p:spPr>
          <a:xfrm>
            <a:off x="1066680" y="213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38280" y="2087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12936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6738840" y="592200"/>
            <a:ext cx="1185480" cy="1217160"/>
            <a:chOff x="6738840" y="592200"/>
            <a:chExt cx="1185480" cy="1217160"/>
          </a:xfrm>
        </p:grpSpPr>
        <p:sp>
          <p:nvSpPr>
            <p:cNvPr id="109" name="Text Box 15"/>
            <p:cNvSpPr/>
            <p:nvPr/>
          </p:nvSpPr>
          <p:spPr>
            <a:xfrm>
              <a:off x="743364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6" descr="6-16"/>
            <p:cNvPicPr/>
            <p:nvPr/>
          </p:nvPicPr>
          <p:blipFill>
            <a:blip r:embed="rId3"/>
            <a:srcRect l="70600" t="7959" r="13566" b="73278"/>
            <a:stretch/>
          </p:blipFill>
          <p:spPr>
            <a:xfrm>
              <a:off x="673884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7"/>
          <p:cNvGrpSpPr/>
          <p:nvPr/>
        </p:nvGrpSpPr>
        <p:grpSpPr>
          <a:xfrm>
            <a:off x="4529160" y="380880"/>
            <a:ext cx="1584000" cy="1700280"/>
            <a:chOff x="4529160" y="380880"/>
            <a:chExt cx="1584000" cy="1700280"/>
          </a:xfrm>
        </p:grpSpPr>
        <p:sp>
          <p:nvSpPr>
            <p:cNvPr id="112" name="Text Box 18"/>
            <p:cNvSpPr/>
            <p:nvPr/>
          </p:nvSpPr>
          <p:spPr>
            <a:xfrm>
              <a:off x="452916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9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521784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 Box 20"/>
          <p:cNvSpPr/>
          <p:nvPr/>
        </p:nvSpPr>
        <p:spPr>
          <a:xfrm>
            <a:off x="7010280" y="1981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50292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29528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正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48640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反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0040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25" name="Text Box 10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1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2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4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30" name="Text Box 15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6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17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0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97248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567240" y="577836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3"/>
          <p:cNvSpPr/>
          <p:nvPr/>
        </p:nvSpPr>
        <p:spPr>
          <a:xfrm rot="16200000">
            <a:off x="4572000" y="441936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4"/>
          <p:cNvSpPr/>
          <p:nvPr/>
        </p:nvSpPr>
        <p:spPr>
          <a:xfrm>
            <a:off x="2133720" y="1523880"/>
            <a:ext cx="3733560" cy="1143000"/>
          </a:xfrm>
          <a:prstGeom prst="wedgeRectCallout">
            <a:avLst>
              <a:gd name="adj1" fmla="val -45236"/>
              <a:gd name="adj2" fmla="val 96388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所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/>
          <p:cNvSpPr/>
          <p:nvPr/>
        </p:nvSpPr>
        <p:spPr>
          <a:xfrm>
            <a:off x="5105520" y="2209680"/>
            <a:ext cx="3733560" cy="1143000"/>
          </a:xfrm>
          <a:prstGeom prst="wedgeRectCallout">
            <a:avLst>
              <a:gd name="adj1" fmla="val 29592"/>
              <a:gd name="adj2" fmla="val 129722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未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05288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54" name="Text Box 9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0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1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3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59" name="Text Box 14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5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Picture 16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9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731520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657600" y="5778360"/>
            <a:ext cx="41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914400" y="502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8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1066680" y="6095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分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176" name="Oval 5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6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3808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1752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在同一代个体中，显性性状与隐性性状个体同时出现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57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稳定遗传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4038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后代个体的性状彼此相同，而且与亲本的性状也相同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280" y="27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七对相对性状的遗传试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872400" y="17319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1731960"/>
            <a:ext cx="2371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7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354400" y="1684440"/>
            <a:ext cx="2165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87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（高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95280" y="1684440"/>
            <a:ext cx="1959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茎的高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738840" y="1052640"/>
            <a:ext cx="1567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19440" y="105264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隐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354400" y="105264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显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95280" y="105264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95280" y="10526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95280" y="168444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95280" y="23144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39528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235440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451944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89148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17236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6891480" y="5533920"/>
            <a:ext cx="1280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2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519440" y="553392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5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2354400" y="553392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428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95280" y="553392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395280" y="55339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395280" y="61657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39528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235440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451944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689148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9"/>
          <p:cNvSpPr/>
          <p:nvPr/>
        </p:nvSpPr>
        <p:spPr>
          <a:xfrm>
            <a:off x="817236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6891480" y="487188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4519440" y="487188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99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不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2354400" y="487188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88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395280" y="487188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39528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235440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451944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689148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817236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6891480" y="2978280"/>
            <a:ext cx="12808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01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4519440" y="2978280"/>
            <a:ext cx="23720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0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2354400" y="2978280"/>
            <a:ext cx="24462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02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395280" y="2978280"/>
            <a:ext cx="1959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子叶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4"/>
          <p:cNvSpPr/>
          <p:nvPr/>
        </p:nvSpPr>
        <p:spPr>
          <a:xfrm>
            <a:off x="395280" y="29782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5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6"/>
          <p:cNvSpPr/>
          <p:nvPr/>
        </p:nvSpPr>
        <p:spPr>
          <a:xfrm>
            <a:off x="39528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235440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8"/>
          <p:cNvSpPr/>
          <p:nvPr/>
        </p:nvSpPr>
        <p:spPr>
          <a:xfrm>
            <a:off x="451944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689148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817236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6891480" y="4208400"/>
            <a:ext cx="1280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519440" y="4208400"/>
            <a:ext cx="237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2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白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2354400" y="4208400"/>
            <a:ext cx="2165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05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灰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395280" y="4208400"/>
            <a:ext cx="1959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皮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>
            <a:off x="395280" y="420840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9528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235440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451944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689148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817236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6891480" y="35463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4519440" y="354636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茎顶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2354400" y="354636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5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叶腋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395280" y="354636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花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>
            <a:off x="39528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8"/>
          <p:cNvSpPr/>
          <p:nvPr/>
        </p:nvSpPr>
        <p:spPr>
          <a:xfrm>
            <a:off x="235440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9"/>
          <p:cNvSpPr/>
          <p:nvPr/>
        </p:nvSpPr>
        <p:spPr>
          <a:xfrm>
            <a:off x="451944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689148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1"/>
          <p:cNvSpPr/>
          <p:nvPr/>
        </p:nvSpPr>
        <p:spPr>
          <a:xfrm>
            <a:off x="817236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"/>
          <p:cNvSpPr/>
          <p:nvPr/>
        </p:nvSpPr>
        <p:spPr>
          <a:xfrm>
            <a:off x="6781680" y="2314440"/>
            <a:ext cx="1463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6: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4419720" y="2314440"/>
            <a:ext cx="27097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850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皱缩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2325600" y="2314440"/>
            <a:ext cx="2475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547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圆滑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5"/>
          <p:cNvSpPr/>
          <p:nvPr/>
        </p:nvSpPr>
        <p:spPr>
          <a:xfrm>
            <a:off x="304920" y="2314440"/>
            <a:ext cx="22399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子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6"/>
          <p:cNvSpPr/>
          <p:nvPr/>
        </p:nvSpPr>
        <p:spPr>
          <a:xfrm flipV="1">
            <a:off x="566640" y="2971800"/>
            <a:ext cx="7586640" cy="6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7"/>
          <p:cNvSpPr/>
          <p:nvPr/>
        </p:nvSpPr>
        <p:spPr>
          <a:xfrm>
            <a:off x="39528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235440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>
            <a:off x="451944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0"/>
          <p:cNvSpPr/>
          <p:nvPr/>
        </p:nvSpPr>
        <p:spPr>
          <a:xfrm>
            <a:off x="689148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1"/>
          <p:cNvSpPr/>
          <p:nvPr/>
        </p:nvSpPr>
        <p:spPr>
          <a:xfrm>
            <a:off x="817236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838080"/>
            <a:ext cx="43434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孟德尔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豌豆杂交实验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-2-m孟得尔杂交实验"/>
          <p:cNvPicPr/>
          <p:nvPr/>
        </p:nvPicPr>
        <p:blipFill>
          <a:blip r:embed="rId1"/>
          <a:stretch/>
        </p:blipFill>
        <p:spPr>
          <a:xfrm>
            <a:off x="5181480" y="152280"/>
            <a:ext cx="3392640" cy="6248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09480" y="765000"/>
            <a:ext cx="756288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有关孟德尔豌豆杂交实验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在豌豆开花时进行去雄和授粉，实现亲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杂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研究豌豆花的构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无需考虑雌蕊、雄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发育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根据亲本中不同个体表现型来判断亲本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否纯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利用了豌豆自花传粉、闭花受粉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96080" y="838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974880" y="1486080"/>
            <a:ext cx="7197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豌豆是严格的自花传粉、闭花受粉植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开花前去雄和授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杂交；花的主要结构是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和雌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蕊和雌蕊发育不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影响受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德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据子代不同个体的表现型来判断亲本是否纯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3291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实验结果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68360" y="2133720"/>
            <a:ext cx="6237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1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都表现出显性性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57200" y="3276720"/>
            <a:ext cx="5442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2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出现了性状分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33520" y="4343400"/>
            <a:ext cx="700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3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出现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: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性状分离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33520" y="1600200"/>
            <a:ext cx="82296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371600" y="5410080"/>
            <a:ext cx="655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不是巧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13"/>
          <p:cNvSpPr txBox="1"/>
          <p:nvPr/>
        </p:nvSpPr>
        <p:spPr>
          <a:xfrm>
            <a:off x="304920" y="1523880"/>
            <a:ext cx="8610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二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对分离现象的解释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6320" y="1035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280" y="2620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的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276720" y="18288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98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724280" y="17524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显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343400" y="1600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276720" y="3809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3886200" y="4191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267080" y="3581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049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显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04920" y="3809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隐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724280" y="38098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隐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286" name="Oval 18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19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2362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细胞中遗传因子是成对存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320" y="8827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37160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8098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24852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143000" y="320040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327672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43600" y="327672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5400000">
            <a:off x="3086280" y="647280"/>
            <a:ext cx="761760" cy="2819520"/>
          </a:xfrm>
          <a:custGeom>
            <a:avLst/>
            <a:gdLst>
              <a:gd name="textAreaLeft" fmla="*/ 486720 w 761760"/>
              <a:gd name="textAreaRight" fmla="*/ 762120 w 7617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676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纯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7162920" y="1828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6348240" y="1066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杂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2514600" y="4800600"/>
            <a:ext cx="3733920" cy="1523880"/>
          </a:xfrm>
          <a:prstGeom prst="wedgeRectCallout">
            <a:avLst>
              <a:gd name="adj1" fmla="val 56120"/>
              <a:gd name="adj2" fmla="val -9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隐性遗传因子具有完全显性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02" name="Oval 19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WordArt 20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6320" y="228600"/>
            <a:ext cx="883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显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显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大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前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隐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隐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后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等位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遗传学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位于一对同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染色体的相同位置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着相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等位基因，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具有等位基因的个体一定是杂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808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295280" y="1981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73392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17220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066680" y="380844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3505320" y="388476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867280" y="388476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733920" y="762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因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38098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15" name="Oval 14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15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17" name="AutoShape 16"/>
          <p:cNvSpPr/>
          <p:nvPr/>
        </p:nvSpPr>
        <p:spPr>
          <a:xfrm rot="16200000">
            <a:off x="4190760" y="3123720"/>
            <a:ext cx="762120" cy="41148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7"/>
          <p:cNvSpPr/>
          <p:nvPr/>
        </p:nvSpPr>
        <p:spPr>
          <a:xfrm rot="5400000">
            <a:off x="4419360" y="-533160"/>
            <a:ext cx="609480" cy="4572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28600" y="76320"/>
            <a:ext cx="590544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德尔生平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遗传学之父，是遗传学的奠基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孟德尔出生于奥地利的一个贫寒的农民家庭里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岁时他成为一名修道士。在修道院里他种植多种植物，进行杂交实验，潜心研究。经过多年的努力，他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86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孟德尔"/>
          <p:cNvPicPr/>
          <p:nvPr/>
        </p:nvPicPr>
        <p:blipFill>
          <a:blip r:embed="rId1"/>
          <a:stretch/>
        </p:blipFill>
        <p:spPr>
          <a:xfrm>
            <a:off x="6094440" y="101520"/>
            <a:ext cx="304956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905120" y="45147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了论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植物杂交实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不过这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5076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论文并未引起学术界的重视，直到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之后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位科学家同时发现了这篇论文，使学术界承认了孟德尔的研究成果，从而宣告了遗传学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76320" y="334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孟德尔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257800" y="10368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体在形成生殖细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配子时，成对的遗传因子彼此分离，分别进入不同的配子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08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中遗传因子成单存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6-17[1]"/>
          <p:cNvPicPr/>
          <p:nvPr/>
        </p:nvPicPr>
        <p:blipFill>
          <a:blip r:embed="rId1"/>
          <a:stretch/>
        </p:blipFill>
        <p:spPr>
          <a:xfrm>
            <a:off x="0" y="990720"/>
            <a:ext cx="5029200" cy="5790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323" name="Picture 8" descr="图片1"/>
          <p:cNvPicPr/>
          <p:nvPr/>
        </p:nvPicPr>
        <p:blipFill>
          <a:blip r:embed="rId2"/>
          <a:stretch/>
        </p:blipFill>
        <p:spPr>
          <a:xfrm>
            <a:off x="457200" y="990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0" y="4952880"/>
            <a:ext cx="457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成的配子种类、比值都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828800" y="4191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2952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57200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019920" y="2590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1523880" y="3124080"/>
            <a:ext cx="6098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 flipH="1">
            <a:off x="2362320" y="3124080"/>
            <a:ext cx="2286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1752480" y="3124080"/>
            <a:ext cx="17528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 flipH="1">
            <a:off x="3580920" y="3124080"/>
            <a:ext cx="259092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82880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20040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80880" y="990720"/>
            <a:ext cx="84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受精时，雌雄配子的结合是随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76320" y="258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26668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 rot="5400000">
            <a:off x="1980720" y="15998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 rot="5400000">
            <a:off x="5257800" y="160020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16002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472428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雄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5"/>
          <p:cNvSpPr/>
          <p:nvPr/>
        </p:nvSpPr>
        <p:spPr>
          <a:xfrm>
            <a:off x="2971800" y="3124080"/>
            <a:ext cx="175248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6"/>
          <p:cNvSpPr/>
          <p:nvPr/>
        </p:nvSpPr>
        <p:spPr>
          <a:xfrm>
            <a:off x="48769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4419720" y="4521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86728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3200400" y="3124080"/>
            <a:ext cx="289548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62485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1824840" y="525780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2"/>
          <p:cNvSpPr/>
          <p:nvPr/>
        </p:nvSpPr>
        <p:spPr>
          <a:xfrm rot="16200000">
            <a:off x="4037040" y="4496760"/>
            <a:ext cx="223560" cy="1440000"/>
          </a:xfrm>
          <a:custGeom>
            <a:avLst/>
            <a:gdLst>
              <a:gd name="textAreaLeft" fmla="*/ 142920 w 223560"/>
              <a:gd name="textAreaRight" fmla="*/ 223920 w 223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2"/>
          <p:cNvSpPr/>
          <p:nvPr/>
        </p:nvSpPr>
        <p:spPr>
          <a:xfrm rot="16200000">
            <a:off x="3501360" y="4423320"/>
            <a:ext cx="152280" cy="288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5240 h 2887560"/>
              <a:gd name="textAreaBottom" fmla="*/ 2812320 h 28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627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74880" y="1197000"/>
            <a:ext cx="7197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面对有关概念之间关系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不正确的是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决定了表现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控制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自交后代没有纯合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是由于等位基因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杂合子自交后代有纯合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且纯合子的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随自交代数的增加而增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39480" y="1355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304920" y="990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808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隐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2286000" y="1600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2286000" y="4191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852640" y="1295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2814480" y="3886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3520" y="2590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对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685800" y="457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838080" y="4572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28195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高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971800" y="441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矮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4724280" y="12193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4724280" y="16765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47242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48640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5477040" y="1828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547704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6324480" y="2133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>
            <a:off x="6248520" y="4191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6605640" y="914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6634080" y="38862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655308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8"/>
          <p:cNvSpPr/>
          <p:nvPr/>
        </p:nvSpPr>
        <p:spPr>
          <a:xfrm flipH="1">
            <a:off x="2437920" y="1981080"/>
            <a:ext cx="1295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9"/>
          <p:cNvSpPr/>
          <p:nvPr/>
        </p:nvSpPr>
        <p:spPr>
          <a:xfrm flipH="1" flipV="1">
            <a:off x="2437920" y="2971800"/>
            <a:ext cx="1219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2895480" y="457200"/>
            <a:ext cx="1905120" cy="4648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486400" y="685800"/>
            <a:ext cx="914400" cy="3962520"/>
          </a:xfrm>
          <a:prstGeom prst="rect">
            <a:avLst/>
          </a:prstGeom>
          <a:noFill/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124080" y="5257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现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2578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基因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本节内容概念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609480" y="1295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杂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0948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1676520" y="91404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1676520" y="1676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1752480" y="182880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V="1">
            <a:off x="1676520" y="33526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676520" y="4114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1676520" y="4267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590920" y="609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59092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8098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3623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327672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66880" y="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438280" y="1522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266688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2676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266688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4267080" y="914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 flipV="1">
            <a:off x="4343400" y="129492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410080" y="251460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 flipV="1">
            <a:off x="4343400" y="2895480"/>
            <a:ext cx="2133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4495680" y="411480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 flipV="1">
            <a:off x="4267080" y="441972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5562720" y="91440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无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9"/>
          <p:cNvSpPr/>
          <p:nvPr/>
        </p:nvSpPr>
        <p:spPr>
          <a:xfrm>
            <a:off x="5562720" y="152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    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477120" y="2438280"/>
            <a:ext cx="22860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5638680" y="396252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稳定遗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3"/>
          <p:cNvSpPr/>
          <p:nvPr/>
        </p:nvSpPr>
        <p:spPr>
          <a:xfrm>
            <a:off x="6477120" y="55627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3"/>
          <p:cNvSpPr/>
          <p:nvPr/>
        </p:nvSpPr>
        <p:spPr>
          <a:xfrm>
            <a:off x="6094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4934880" y="2565360"/>
            <a:ext cx="1653120" cy="592200"/>
            <a:chOff x="4934880" y="2565360"/>
            <a:chExt cx="1653120" cy="592200"/>
          </a:xfrm>
        </p:grpSpPr>
        <p:sp>
          <p:nvSpPr>
            <p:cNvPr id="417" name="Oval 3"/>
            <p:cNvSpPr/>
            <p:nvPr/>
          </p:nvSpPr>
          <p:spPr>
            <a:xfrm>
              <a:off x="6012000" y="2565360"/>
              <a:ext cx="57600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4934880" y="2637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"/>
          <p:cNvGrpSpPr/>
          <p:nvPr/>
        </p:nvGrpSpPr>
        <p:grpSpPr>
          <a:xfrm>
            <a:off x="2771640" y="1125360"/>
            <a:ext cx="576360" cy="1006560"/>
            <a:chOff x="2771640" y="1125360"/>
            <a:chExt cx="576360" cy="1006560"/>
          </a:xfrm>
        </p:grpSpPr>
        <p:sp>
          <p:nvSpPr>
            <p:cNvPr id="420" name="Oval 6"/>
            <p:cNvSpPr/>
            <p:nvPr/>
          </p:nvSpPr>
          <p:spPr>
            <a:xfrm>
              <a:off x="277164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98764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8"/>
          <p:cNvGrpSpPr/>
          <p:nvPr/>
        </p:nvGrpSpPr>
        <p:grpSpPr>
          <a:xfrm>
            <a:off x="4356000" y="1125360"/>
            <a:ext cx="576360" cy="1006560"/>
            <a:chOff x="4356000" y="1125360"/>
            <a:chExt cx="576360" cy="1006560"/>
          </a:xfrm>
        </p:grpSpPr>
        <p:sp>
          <p:nvSpPr>
            <p:cNvPr id="423" name="Oval 9"/>
            <p:cNvSpPr/>
            <p:nvPr/>
          </p:nvSpPr>
          <p:spPr>
            <a:xfrm>
              <a:off x="435600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464328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1"/>
          <p:cNvGrpSpPr/>
          <p:nvPr/>
        </p:nvGrpSpPr>
        <p:grpSpPr>
          <a:xfrm>
            <a:off x="5796000" y="3141720"/>
            <a:ext cx="1657440" cy="1222200"/>
            <a:chOff x="5796000" y="3141720"/>
            <a:chExt cx="1657440" cy="1222200"/>
          </a:xfrm>
        </p:grpSpPr>
        <p:sp>
          <p:nvSpPr>
            <p:cNvPr id="426" name="Oval 12"/>
            <p:cNvSpPr/>
            <p:nvPr/>
          </p:nvSpPr>
          <p:spPr>
            <a:xfrm>
              <a:off x="579600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6877080" y="378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 flipH="1">
              <a:off x="6084720" y="314172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6516720" y="314172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6"/>
          <p:cNvGrpSpPr/>
          <p:nvPr/>
        </p:nvGrpSpPr>
        <p:grpSpPr>
          <a:xfrm>
            <a:off x="3203640" y="4292640"/>
            <a:ext cx="2592360" cy="1224000"/>
            <a:chOff x="3203640" y="4292640"/>
            <a:chExt cx="2592360" cy="1224000"/>
          </a:xfrm>
        </p:grpSpPr>
        <p:sp>
          <p:nvSpPr>
            <p:cNvPr id="431" name="Oval 17"/>
            <p:cNvSpPr/>
            <p:nvPr/>
          </p:nvSpPr>
          <p:spPr>
            <a:xfrm>
              <a:off x="320364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349236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 flipH="1">
              <a:off x="3635280" y="429264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0"/>
          <p:cNvGrpSpPr/>
          <p:nvPr/>
        </p:nvGrpSpPr>
        <p:grpSpPr>
          <a:xfrm>
            <a:off x="3780000" y="4365720"/>
            <a:ext cx="3240000" cy="1150920"/>
            <a:chOff x="3780000" y="4365720"/>
            <a:chExt cx="3240000" cy="1150920"/>
          </a:xfrm>
        </p:grpSpPr>
        <p:sp>
          <p:nvSpPr>
            <p:cNvPr id="435" name="Oval 21"/>
            <p:cNvSpPr/>
            <p:nvPr/>
          </p:nvSpPr>
          <p:spPr>
            <a:xfrm>
              <a:off x="435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>
              <a:off x="3780000" y="436572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4859280" y="436572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4"/>
          <p:cNvGrpSpPr/>
          <p:nvPr/>
        </p:nvGrpSpPr>
        <p:grpSpPr>
          <a:xfrm>
            <a:off x="4788000" y="4365720"/>
            <a:ext cx="1584360" cy="1150920"/>
            <a:chOff x="4788000" y="4365720"/>
            <a:chExt cx="1584360" cy="1150920"/>
          </a:xfrm>
        </p:grpSpPr>
        <p:sp>
          <p:nvSpPr>
            <p:cNvPr id="439" name="Oval 25"/>
            <p:cNvSpPr/>
            <p:nvPr/>
          </p:nvSpPr>
          <p:spPr>
            <a:xfrm>
              <a:off x="579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4788000" y="436572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608472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8"/>
          <p:cNvGrpSpPr/>
          <p:nvPr/>
        </p:nvGrpSpPr>
        <p:grpSpPr>
          <a:xfrm>
            <a:off x="4932360" y="4292640"/>
            <a:ext cx="2664000" cy="1224000"/>
            <a:chOff x="4932360" y="4292640"/>
            <a:chExt cx="2664000" cy="1224000"/>
          </a:xfrm>
        </p:grpSpPr>
        <p:sp>
          <p:nvSpPr>
            <p:cNvPr id="443" name="Oval 29"/>
            <p:cNvSpPr/>
            <p:nvPr/>
          </p:nvSpPr>
          <p:spPr>
            <a:xfrm>
              <a:off x="7020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4932360" y="4292640"/>
              <a:ext cx="223200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723600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2"/>
          <p:cNvGrpSpPr/>
          <p:nvPr/>
        </p:nvGrpSpPr>
        <p:grpSpPr>
          <a:xfrm>
            <a:off x="1837080" y="0"/>
            <a:ext cx="3024000" cy="1069920"/>
            <a:chOff x="1837080" y="0"/>
            <a:chExt cx="3024000" cy="1069920"/>
          </a:xfrm>
        </p:grpSpPr>
        <p:sp>
          <p:nvSpPr>
            <p:cNvPr id="447" name="Oval 33"/>
            <p:cNvSpPr/>
            <p:nvPr/>
          </p:nvSpPr>
          <p:spPr>
            <a:xfrm>
              <a:off x="270036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34"/>
            <p:cNvSpPr/>
            <p:nvPr/>
          </p:nvSpPr>
          <p:spPr>
            <a:xfrm>
              <a:off x="3639600" y="549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5"/>
            <p:cNvSpPr/>
            <p:nvPr/>
          </p:nvSpPr>
          <p:spPr>
            <a:xfrm>
              <a:off x="428472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268092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426528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1837080" y="54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39"/>
          <p:cNvSpPr/>
          <p:nvPr/>
        </p:nvSpPr>
        <p:spPr>
          <a:xfrm>
            <a:off x="1692360" y="155736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0"/>
          <p:cNvGrpSpPr/>
          <p:nvPr/>
        </p:nvGrpSpPr>
        <p:grpSpPr>
          <a:xfrm>
            <a:off x="1847520" y="2205000"/>
            <a:ext cx="2651040" cy="1011600"/>
            <a:chOff x="1847520" y="2205000"/>
            <a:chExt cx="2651040" cy="1011600"/>
          </a:xfrm>
        </p:grpSpPr>
        <p:sp>
          <p:nvSpPr>
            <p:cNvPr id="455" name="Oval 41"/>
            <p:cNvSpPr/>
            <p:nvPr/>
          </p:nvSpPr>
          <p:spPr>
            <a:xfrm>
              <a:off x="3635280" y="2637000"/>
              <a:ext cx="57636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3203640" y="2205000"/>
              <a:ext cx="504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3"/>
            <p:cNvSpPr/>
            <p:nvPr/>
          </p:nvSpPr>
          <p:spPr>
            <a:xfrm flipH="1">
              <a:off x="4066920" y="2205000"/>
              <a:ext cx="431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4"/>
            <p:cNvSpPr/>
            <p:nvPr/>
          </p:nvSpPr>
          <p:spPr>
            <a:xfrm>
              <a:off x="1847520" y="2637000"/>
              <a:ext cx="51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45"/>
          <p:cNvGrpSpPr/>
          <p:nvPr/>
        </p:nvGrpSpPr>
        <p:grpSpPr>
          <a:xfrm>
            <a:off x="1866240" y="3213000"/>
            <a:ext cx="3054960" cy="1227240"/>
            <a:chOff x="1866240" y="3213000"/>
            <a:chExt cx="3054960" cy="1227240"/>
          </a:xfrm>
        </p:grpSpPr>
        <p:sp>
          <p:nvSpPr>
            <p:cNvPr id="460" name="Oval 46"/>
            <p:cNvSpPr/>
            <p:nvPr/>
          </p:nvSpPr>
          <p:spPr>
            <a:xfrm>
              <a:off x="319248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7"/>
            <p:cNvSpPr/>
            <p:nvPr/>
          </p:nvSpPr>
          <p:spPr>
            <a:xfrm>
              <a:off x="434484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 flipH="1">
              <a:off x="3552840" y="32130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9"/>
            <p:cNvSpPr/>
            <p:nvPr/>
          </p:nvSpPr>
          <p:spPr>
            <a:xfrm>
              <a:off x="4129200" y="32130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0"/>
            <p:cNvSpPr/>
            <p:nvPr/>
          </p:nvSpPr>
          <p:spPr>
            <a:xfrm>
              <a:off x="1866240" y="3860640"/>
              <a:ext cx="102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1"/>
          <p:cNvSpPr/>
          <p:nvPr/>
        </p:nvSpPr>
        <p:spPr>
          <a:xfrm>
            <a:off x="1920600" y="49417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31842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3"/>
          <p:cNvSpPr/>
          <p:nvPr/>
        </p:nvSpPr>
        <p:spPr>
          <a:xfrm>
            <a:off x="44100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4"/>
          <p:cNvSpPr/>
          <p:nvPr/>
        </p:nvSpPr>
        <p:spPr>
          <a:xfrm>
            <a:off x="5849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5"/>
          <p:cNvSpPr/>
          <p:nvPr/>
        </p:nvSpPr>
        <p:spPr>
          <a:xfrm>
            <a:off x="7073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6"/>
          <p:cNvSpPr/>
          <p:nvPr/>
        </p:nvSpPr>
        <p:spPr>
          <a:xfrm>
            <a:off x="3184560" y="6205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57"/>
          <p:cNvSpPr/>
          <p:nvPr/>
        </p:nvSpPr>
        <p:spPr>
          <a:xfrm rot="16200000">
            <a:off x="4753800" y="4771080"/>
            <a:ext cx="77760" cy="2727360"/>
          </a:xfrm>
          <a:custGeom>
            <a:avLst/>
            <a:gdLst>
              <a:gd name="textAreaLeft" fmla="*/ 49680 w 77760"/>
              <a:gd name="textAreaRight" fmla="*/ 78120 w 77760"/>
              <a:gd name="textAreaTop" fmla="*/ 70920 h 2727360"/>
              <a:gd name="textAreaBottom" fmla="*/ 2656440 h 27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遗传图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103400" y="812880"/>
            <a:ext cx="71974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关于遗传学的基本概念的叙述中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双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要后代同时出现显性性状和隐性性状的现象就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子杂交产生的子一代所表现的性状就是显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同环境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相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不一定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和黑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直毛和卷毛都是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2136600" y="1981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71640" y="112392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杂种后代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现不同与亲本性状的现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有相对性状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亲本杂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出来的亲本的性状称显性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与黑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卷毛与直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物的表现型受基因型和环境的共同影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42920" y="334800"/>
            <a:ext cx="719784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科学研究过程一般包括发现问题、提出假设、实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验验证、数据分析、得出结论等。在孟德尔探究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遗传规律的过程中，引起孟德尔发现问题的现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是                            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之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隐性亲本测交，后代表现型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雌雄配子结合的机会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: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现象是引起孟德尔发现问题的现象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及雌雄配子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的机会均等是孟德尔提出的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166520" y="1811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533520" y="1295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观察、分析的基础上提出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600200" y="2209680"/>
            <a:ext cx="731520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全部显现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既有高茎又有矮茎（性状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离），分离比接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219320" y="24382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3120" y="2514600"/>
            <a:ext cx="103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304920" y="441972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为什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性状分离比是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: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990720" y="17524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豌豆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33520" y="1295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推理、想像，提出解决问题的假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85800" y="1828800"/>
            <a:ext cx="7315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生物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体细胞中遗传因子成对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形成配子时成对遗传因子分离，分别进入不同配子中，配子中遗传因子成单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受精时，雌雄配子随机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3520" y="914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根据假说进行演绎推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复件 图片1"/>
          <p:cNvPicPr/>
          <p:nvPr/>
        </p:nvPicPr>
        <p:blipFill>
          <a:blip r:embed="rId1"/>
          <a:stretch/>
        </p:blipFill>
        <p:spPr>
          <a:xfrm>
            <a:off x="1523880" y="1600200"/>
            <a:ext cx="655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测交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6"/>
          <p:cNvGraphicFramePr/>
          <p:nvPr/>
        </p:nvGraphicFramePr>
        <p:xfrm>
          <a:off x="914400" y="914400"/>
          <a:ext cx="5181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5181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AutoShape 8">
            <a:hlinkClick r:id="rId3" action="ppaction://hlinksldjump"/>
          </p:cNvPr>
          <p:cNvSpPr/>
          <p:nvPr/>
        </p:nvSpPr>
        <p:spPr>
          <a:xfrm>
            <a:off x="609480" y="60958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9894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18049" y="3794"/>
                </a:lnTo>
                <a:lnTo>
                  <a:pt x="18049" y="17806"/>
                </a:lnTo>
                <a:lnTo>
                  <a:pt x="16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3"/>
          <p:cNvSpPr/>
          <p:nvPr/>
        </p:nvSpPr>
        <p:spPr>
          <a:xfrm>
            <a:off x="457200" y="38088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测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隐性纯合子的杂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352320" y="1752480"/>
            <a:ext cx="1653120" cy="592200"/>
            <a:chOff x="3352320" y="1752480"/>
            <a:chExt cx="1653120" cy="592200"/>
          </a:xfrm>
        </p:grpSpPr>
        <p:sp>
          <p:nvSpPr>
            <p:cNvPr id="498" name="Oval 3"/>
            <p:cNvSpPr/>
            <p:nvPr/>
          </p:nvSpPr>
          <p:spPr>
            <a:xfrm>
              <a:off x="4429440" y="1752480"/>
              <a:ext cx="57600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"/>
            <p:cNvSpPr/>
            <p:nvPr/>
          </p:nvSpPr>
          <p:spPr>
            <a:xfrm>
              <a:off x="3352320" y="1824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5"/>
          <p:cNvGrpSpPr/>
          <p:nvPr/>
        </p:nvGrpSpPr>
        <p:grpSpPr>
          <a:xfrm>
            <a:off x="4114800" y="2438280"/>
            <a:ext cx="1657440" cy="1222200"/>
            <a:chOff x="4114800" y="2438280"/>
            <a:chExt cx="1657440" cy="1222200"/>
          </a:xfrm>
        </p:grpSpPr>
        <p:sp>
          <p:nvSpPr>
            <p:cNvPr id="501" name="Oval 6"/>
            <p:cNvSpPr/>
            <p:nvPr/>
          </p:nvSpPr>
          <p:spPr>
            <a:xfrm>
              <a:off x="4114800" y="315720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7"/>
            <p:cNvSpPr/>
            <p:nvPr/>
          </p:nvSpPr>
          <p:spPr>
            <a:xfrm>
              <a:off x="5195880" y="308592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8"/>
            <p:cNvSpPr/>
            <p:nvPr/>
          </p:nvSpPr>
          <p:spPr>
            <a:xfrm flipH="1">
              <a:off x="4403520" y="243828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"/>
            <p:cNvSpPr/>
            <p:nvPr/>
          </p:nvSpPr>
          <p:spPr>
            <a:xfrm>
              <a:off x="4835520" y="243828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1752480" y="3733920"/>
            <a:ext cx="2592360" cy="1224000"/>
            <a:chOff x="1752480" y="3733920"/>
            <a:chExt cx="2592360" cy="1224000"/>
          </a:xfrm>
        </p:grpSpPr>
        <p:sp>
          <p:nvSpPr>
            <p:cNvPr id="506" name="Oval 11"/>
            <p:cNvSpPr/>
            <p:nvPr/>
          </p:nvSpPr>
          <p:spPr>
            <a:xfrm>
              <a:off x="1752480" y="445464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2041200" y="3878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 flipH="1">
              <a:off x="2184120" y="373392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4"/>
          <p:cNvGrpSpPr/>
          <p:nvPr/>
        </p:nvGrpSpPr>
        <p:grpSpPr>
          <a:xfrm>
            <a:off x="2286000" y="3809880"/>
            <a:ext cx="3240000" cy="1150920"/>
            <a:chOff x="2286000" y="3809880"/>
            <a:chExt cx="3240000" cy="1150920"/>
          </a:xfrm>
        </p:grpSpPr>
        <p:sp>
          <p:nvSpPr>
            <p:cNvPr id="510" name="Oval 15"/>
            <p:cNvSpPr/>
            <p:nvPr/>
          </p:nvSpPr>
          <p:spPr>
            <a:xfrm>
              <a:off x="2862000" y="445752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6"/>
            <p:cNvSpPr/>
            <p:nvPr/>
          </p:nvSpPr>
          <p:spPr>
            <a:xfrm>
              <a:off x="2286000" y="380988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7"/>
            <p:cNvSpPr/>
            <p:nvPr/>
          </p:nvSpPr>
          <p:spPr>
            <a:xfrm flipH="1">
              <a:off x="3365280" y="380988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8"/>
          <p:cNvGrpSpPr/>
          <p:nvPr/>
        </p:nvGrpSpPr>
        <p:grpSpPr>
          <a:xfrm>
            <a:off x="3200400" y="3809880"/>
            <a:ext cx="1584360" cy="1150920"/>
            <a:chOff x="3200400" y="3809880"/>
            <a:chExt cx="1584360" cy="1150920"/>
          </a:xfrm>
        </p:grpSpPr>
        <p:sp>
          <p:nvSpPr>
            <p:cNvPr id="514" name="Oval 19"/>
            <p:cNvSpPr/>
            <p:nvPr/>
          </p:nvSpPr>
          <p:spPr>
            <a:xfrm>
              <a:off x="4208400" y="4457520"/>
              <a:ext cx="57636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>
              <a:off x="3200400" y="380988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>
              <a:off x="4497120" y="38811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3276720" y="3733920"/>
            <a:ext cx="2663280" cy="1224000"/>
            <a:chOff x="3276720" y="3733920"/>
            <a:chExt cx="2663280" cy="1224000"/>
          </a:xfrm>
        </p:grpSpPr>
        <p:sp>
          <p:nvSpPr>
            <p:cNvPr id="518" name="Oval 23"/>
            <p:cNvSpPr/>
            <p:nvPr/>
          </p:nvSpPr>
          <p:spPr>
            <a:xfrm>
              <a:off x="5364000" y="4454640"/>
              <a:ext cx="57600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>
              <a:off x="3276720" y="3733920"/>
              <a:ext cx="223164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>
              <a:off x="5580000" y="3807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6"/>
          <p:cNvGrpSpPr/>
          <p:nvPr/>
        </p:nvGrpSpPr>
        <p:grpSpPr>
          <a:xfrm>
            <a:off x="602640" y="2514600"/>
            <a:ext cx="3023280" cy="1168200"/>
            <a:chOff x="602640" y="2514600"/>
            <a:chExt cx="3023280" cy="1168200"/>
          </a:xfrm>
        </p:grpSpPr>
        <p:sp>
          <p:nvSpPr>
            <p:cNvPr id="522" name="Oval 27"/>
            <p:cNvSpPr/>
            <p:nvPr/>
          </p:nvSpPr>
          <p:spPr>
            <a:xfrm>
              <a:off x="189720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8"/>
            <p:cNvSpPr/>
            <p:nvPr/>
          </p:nvSpPr>
          <p:spPr>
            <a:xfrm>
              <a:off x="304956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2257560" y="25146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0"/>
            <p:cNvSpPr/>
            <p:nvPr/>
          </p:nvSpPr>
          <p:spPr>
            <a:xfrm>
              <a:off x="2833920" y="25146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1"/>
            <p:cNvSpPr/>
            <p:nvPr/>
          </p:nvSpPr>
          <p:spPr>
            <a:xfrm>
              <a:off x="602640" y="3162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32"/>
          <p:cNvSpPr/>
          <p:nvPr/>
        </p:nvSpPr>
        <p:spPr>
          <a:xfrm>
            <a:off x="61200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172548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743200" y="51055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4114800" y="510552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5181480" y="51055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53352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d × 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8" descr="图片3"/>
          <p:cNvPicPr/>
          <p:nvPr/>
        </p:nvPicPr>
        <p:blipFill>
          <a:blip r:embed="rId1"/>
          <a:stretch/>
        </p:blipFill>
        <p:spPr>
          <a:xfrm>
            <a:off x="609480" y="1371600"/>
            <a:ext cx="2676600" cy="9619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1"/>
          <p:cNvSpPr/>
          <p:nvPr/>
        </p:nvSpPr>
        <p:spPr>
          <a:xfrm>
            <a:off x="6024600" y="1479600"/>
            <a:ext cx="311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能产生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，它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的配子结合时，不会掩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中遗传因子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3520" y="1828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性状分离的根本原因在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的分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90720" y="3276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结果与预期结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相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明了孟德尔的假说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正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152280" y="22096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生物的体细胞中，控制同一性状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遗传因子成对存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不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融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在形成配子时，成对的遗传因子发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分离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分离后的遗传因子分别进入不同的配子中，随配子遗传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9"/>
          <p:cNvSpPr txBox="1"/>
          <p:nvPr/>
        </p:nvSpPr>
        <p:spPr>
          <a:xfrm>
            <a:off x="2362320" y="3049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五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分离定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80880" y="1371600"/>
            <a:ext cx="83822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离定律的适用范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适用于真核生物有性生殖中的细胞核遗传，而不适用于细胞质遗传以及原核细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100332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几组杂交中，哪组属于纯合子之间的杂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2514600" y="68580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a1"/>
          <p:cNvPicPr/>
          <p:nvPr/>
        </p:nvPicPr>
        <p:blipFill>
          <a:blip r:embed="rId1"/>
          <a:stretch/>
        </p:blipFill>
        <p:spPr>
          <a:xfrm>
            <a:off x="4724280" y="32670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08000" y="1143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、下列四组杂交组合中，能验证对分离现象的解释是否正确的一组是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0" y="2666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a1"/>
          <p:cNvPicPr/>
          <p:nvPr/>
        </p:nvPicPr>
        <p:blipFill>
          <a:blip r:embed="rId1"/>
          <a:stretch/>
        </p:blipFill>
        <p:spPr>
          <a:xfrm>
            <a:off x="4572000" y="32004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ndou01"/>
          <p:cNvPicPr/>
          <p:nvPr/>
        </p:nvPicPr>
        <p:blipFill>
          <a:blip r:embed="rId1"/>
          <a:stretch/>
        </p:blipFill>
        <p:spPr>
          <a:xfrm>
            <a:off x="76320" y="152280"/>
            <a:ext cx="4190760" cy="2824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7" name="Picture 5" descr="0104004009002"/>
          <p:cNvPicPr/>
          <p:nvPr/>
        </p:nvPicPr>
        <p:blipFill>
          <a:blip r:embed="rId2"/>
          <a:stretch/>
        </p:blipFill>
        <p:spPr>
          <a:xfrm>
            <a:off x="4376880" y="1371600"/>
            <a:ext cx="4767120" cy="54864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8" name="Rectangle 6"/>
          <p:cNvSpPr/>
          <p:nvPr/>
        </p:nvSpPr>
        <p:spPr>
          <a:xfrm>
            <a:off x="228600" y="3657600"/>
            <a:ext cx="65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实验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豌 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304920" y="3808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六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孟德尔获得成功的原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228600" y="3429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每一对相对性状的遗传分别进行研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80880" y="4267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统计学方法对实验结果进行分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228600" y="251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择了豌豆作为遗传实验材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遗传题的解题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4101840" y="225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一）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23800" y="1219320"/>
            <a:ext cx="823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相同性状的两个亲本交配，如果新出现了性状，则该性状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2133720" y="251460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409572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2004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白眼果蝇（隐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5715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362320" y="2971800"/>
            <a:ext cx="32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高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430524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225960" y="4038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茎  （显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8380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纯种亲本杂交，子一代所表现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23800" y="1219320"/>
            <a:ext cx="77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亲本杂交，子代性状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: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则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黄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＿＿＿＿＿＿为显性性状，＿＿＿＿＿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亲本遗传因子组成是＿＿＿和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的遗传因子组成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 ＿＿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， 比例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          ＿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绿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24280" y="4648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513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1686240" y="22536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二）确定个体遗传因子组成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隐性性状，则它一定是隐性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24969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显性性状，则它可能是显性纯合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可能是杂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显性性状个体与隐性纯合子测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中既有显性性状个体又有隐性性状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性状分离），则该个体为杂合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全为显性性状，则该个体是显性纯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5943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两个显性性状的亲本杂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× 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代中出现了隐性性状个体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双亲都是杂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亲代中有显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一定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显性性状。如果亲代中有隐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中一定含有隐性遗传因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343400" y="5029200"/>
            <a:ext cx="0" cy="4572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581280" y="5562720"/>
            <a:ext cx="1584360" cy="489960"/>
          </a:xfrm>
          <a:prstGeom prst="rect">
            <a:avLst/>
          </a:prstGeom>
          <a:solidFill>
            <a:srgbClr val="bbd2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黑色小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2590920" y="4419720"/>
            <a:ext cx="373356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公羊 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× 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母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03848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952880" y="4890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0481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1171440" y="1782720"/>
            <a:ext cx="54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</a:t>
            </a:r>
            <a:r>
              <a:rPr b="1" lang="en-US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1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5791320" y="2468520"/>
            <a:ext cx="20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143000" y="342900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：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3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143000" y="2468520"/>
            <a:ext cx="76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14300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751360" y="41148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0" y="10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杂交子代性状分离比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子叶黄色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自交后结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种子，其中子叶绿色豌豆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94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子叶黄色豌豆有＿＿＿＿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杂合子叶黄色豌豆有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2666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5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38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自花传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且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闭花受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04920" y="1066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保证了自然状态下豌豆是纯种，实验结果可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豌豆花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8000" y="3808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采用下列哪组方法可以依次解决①～ ④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的遗传问题：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0" y="3962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自交、测交、测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杂交、自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测交、杂交、自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杂交、杂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a1"/>
          <p:cNvPicPr/>
          <p:nvPr/>
        </p:nvPicPr>
        <p:blipFill>
          <a:blip r:embed="rId1"/>
          <a:stretch/>
        </p:blipFill>
        <p:spPr>
          <a:xfrm>
            <a:off x="457200" y="449568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08000" y="1600200"/>
            <a:ext cx="9036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鉴定一只白羊是否为纯种 ②在一对相对性状中区分显性和隐性 ③不断提高小麦抗病（显性）品种的纯合度 ④检验杂种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遗传因子的组成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63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豌豆种子的圆滑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对皱缩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是显性，现将其纯种亲本杂交，并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交后，所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皱缩的种子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8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粒，试问圆滑种子数约为（   ）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A. 5550      B. 3700      C. 2400       D.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733920" y="23623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8600" y="3333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.   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大豆的花色是由一对遗传因子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控制着，下表是大豆的花色三个组合的遗传实验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1523880"/>
          <a:ext cx="8136000" cy="3063960"/>
        </p:xfrm>
        <a:graphic>
          <a:graphicData uri="http://schemas.openxmlformats.org/drawingml/2006/table">
            <a:tbl>
              <a:tblPr/>
              <a:tblGrid>
                <a:gridCol w="1008000"/>
                <a:gridCol w="2381400"/>
                <a:gridCol w="2458800"/>
                <a:gridCol w="2287800"/>
              </a:tblGrid>
              <a:tr h="6847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组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亲本性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的性状和植株数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6"/>
          <p:cNvSpPr/>
          <p:nvPr/>
        </p:nvSpPr>
        <p:spPr>
          <a:xfrm>
            <a:off x="228600" y="47242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根据哪个组合能够判断显性的花色类型？试说明理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228600" y="56167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写出各个亲本组合中两个亲本的遗传因子组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228600" y="6093000"/>
            <a:ext cx="80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哪一组为测交实验？给出其遗传图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6858000" y="5943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三）遗传题中概率的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对某一可能发生事件的估计，是指特定事件与总事件的比例，其范围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4"/>
          <p:cNvSpPr/>
          <p:nvPr/>
        </p:nvSpPr>
        <p:spPr>
          <a:xfrm>
            <a:off x="-305280" y="26028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6320" y="1017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例如，杂合子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自交，求自交后代中某一个体是杂合子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性状为显性性状，它的遗传因子组成有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性：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未知性状表现，则该个体遗传因子组成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都有： 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: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1066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亲代的遗传因子组成未肯定的情况下，如何求其后代是某一性状的概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如，一对夫妇均肤色正常，且他们的双亲肤色也都正常，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妇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白化病的兄弟，求他们婚后生白化病孩子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确定该夫妇的遗传因子组成及其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如果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，后代患病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将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 ×2/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与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情况下生白化病孩子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相乘，乘积即为该夫妇孩子中出现白化病患者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0" y="1066680"/>
            <a:ext cx="91440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训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对肤色正常的夫妇，生下了一个白化病的孩子。如果他们再生一个孩子，肤色正常的概率是多少？患白化病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提示：绘出遗传图解，用分离比直接推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11430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４、基因型为ＡＡ的个体与基因型为</a:t>
            </a: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个体杂交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进行自交，那么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的纯合子占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数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２５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   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５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５％　　　     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０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、在一对相对性状的遗传中，隐性亲本与杂合子亲本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交，其子代个体中与双亲遗传因子组成都不相同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　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1"/>
          <p:cNvPicPr/>
          <p:nvPr/>
        </p:nvPicPr>
        <p:blipFill>
          <a:blip r:embed="rId1"/>
          <a:stretch/>
        </p:blipFill>
        <p:spPr>
          <a:xfrm>
            <a:off x="4267080" y="24382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a1"/>
          <p:cNvPicPr/>
          <p:nvPr/>
        </p:nvPicPr>
        <p:blipFill>
          <a:blip r:embed="rId2"/>
          <a:stretch/>
        </p:blipFill>
        <p:spPr>
          <a:xfrm>
            <a:off x="457200" y="49528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番茄果实的红色对黄色为显性。现有两株红色番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杂交，其后代可能出现的的性状正确的一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是红果 ②全是黄果 ③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①②      B.①④      C.②③  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株杂合的红花豌豆自花传粉共结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，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生成的植株开红花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长成的植株开红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的可能性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9/10       B.3/4       C.1/2      D.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对杂合子的黑毛豚鼠交配，生出四只豚鼠。它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及数量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部黑色或白色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黑一白或一黑三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黑二白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上任何一种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" descr="a1"/>
          <p:cNvPicPr/>
          <p:nvPr/>
        </p:nvPicPr>
        <p:blipFill>
          <a:blip r:embed="rId1"/>
          <a:stretch/>
        </p:blipFill>
        <p:spPr>
          <a:xfrm>
            <a:off x="1981080" y="1981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a1"/>
          <p:cNvPicPr/>
          <p:nvPr/>
        </p:nvPicPr>
        <p:blipFill>
          <a:blip r:embed="rId2"/>
          <a:stretch/>
        </p:blipFill>
        <p:spPr>
          <a:xfrm>
            <a:off x="2133720" y="41148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a1"/>
          <p:cNvPicPr/>
          <p:nvPr/>
        </p:nvPicPr>
        <p:blipFill>
          <a:blip r:embed="rId3"/>
          <a:stretch/>
        </p:blipFill>
        <p:spPr>
          <a:xfrm>
            <a:off x="4419720" y="63151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性状分离比的模拟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豌豆的相对性状图"/>
          <p:cNvPicPr/>
          <p:nvPr/>
        </p:nvPicPr>
        <p:blipFill>
          <a:blip r:embed="rId1"/>
          <a:stretch/>
        </p:blipFill>
        <p:spPr>
          <a:xfrm>
            <a:off x="1295280" y="8380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09480" y="152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相对性状易于区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-204480" y="1066680"/>
            <a:ext cx="140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75200" y="1143000"/>
            <a:ext cx="66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便于观察、分析实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2313720" y="155520"/>
            <a:ext cx="44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基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因的分离规律在实践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752480" y="15238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杂交育种过程中如何选育显性性状和隐性性状的优良品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857960" y="289548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显性性状品种：应连续自交，直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确认得到不再发生分离的显性类型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7"/>
          <p:cNvGrpSpPr/>
          <p:nvPr/>
        </p:nvGrpSpPr>
        <p:grpSpPr>
          <a:xfrm>
            <a:off x="738360" y="1066680"/>
            <a:ext cx="535680" cy="1341720"/>
            <a:chOff x="738360" y="1066680"/>
            <a:chExt cx="535680" cy="1341720"/>
          </a:xfrm>
        </p:grpSpPr>
        <p:sp>
          <p:nvSpPr>
            <p:cNvPr id="629" name="WordArt 8"/>
            <p:cNvSpPr txBox="1"/>
            <p:nvPr/>
          </p:nvSpPr>
          <p:spPr>
            <a:xfrm>
              <a:off x="741240" y="10666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738360" y="1425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3"/>
          <p:cNvSpPr/>
          <p:nvPr/>
        </p:nvSpPr>
        <p:spPr>
          <a:xfrm>
            <a:off x="1988640" y="4138560"/>
            <a:ext cx="53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隐性性状品种：一但出现隐性性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品种，就是选用的品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4"/>
          <p:cNvGrpSpPr/>
          <p:nvPr/>
        </p:nvGrpSpPr>
        <p:grpSpPr>
          <a:xfrm>
            <a:off x="966960" y="838080"/>
            <a:ext cx="535680" cy="1341720"/>
            <a:chOff x="966960" y="838080"/>
            <a:chExt cx="535680" cy="1341720"/>
          </a:xfrm>
        </p:grpSpPr>
        <p:sp>
          <p:nvSpPr>
            <p:cNvPr id="633" name="WordArt 5"/>
            <p:cNvSpPr txBox="1"/>
            <p:nvPr/>
          </p:nvSpPr>
          <p:spPr>
            <a:xfrm>
              <a:off x="969840" y="8380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4" name="Rectangle 6"/>
            <p:cNvSpPr/>
            <p:nvPr/>
          </p:nvSpPr>
          <p:spPr>
            <a:xfrm>
              <a:off x="966960" y="1197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7"/>
          <p:cNvSpPr/>
          <p:nvPr/>
        </p:nvSpPr>
        <p:spPr>
          <a:xfrm>
            <a:off x="1981080" y="1752480"/>
            <a:ext cx="62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婚姻法禁止近亲结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85720" y="2819520"/>
            <a:ext cx="811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人类，虽然由隐性基因控制的遗传病通常很少出现，但在近亲结婚（例如表兄妹结婚）的情况下，他们有可能从共同的祖先那里继承相同的基因，而使其后代出现病症的机会大大增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>
            <a:hlinkClick r:id="rId1" action="ppaction://hlinksldjump"/>
          </p:cNvPr>
          <p:cNvSpPr/>
          <p:nvPr/>
        </p:nvSpPr>
        <p:spPr>
          <a:xfrm>
            <a:off x="6094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花大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便于进行人工异花传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豌豆花2"/>
          <p:cNvPicPr/>
          <p:nvPr/>
        </p:nvPicPr>
        <p:blipFill>
          <a:blip r:embed="rId2"/>
          <a:stretch/>
        </p:blipFill>
        <p:spPr>
          <a:xfrm>
            <a:off x="838080" y="11430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/>
          <a:stretch/>
        </p:blipFill>
        <p:spPr>
          <a:xfrm>
            <a:off x="1295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2-29T01:23:10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