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C39-F8AE-48DD-A9A4-882D4DDB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D1A-77AF-4A33-A47D-092457DF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9B8C0-5A3D-4B91-B796-4D9FBF64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68D3A-A1E5-4BFA-9CCA-4ACB2550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CE59E-4213-44AE-A38D-0CFC8B26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AEDFE-F074-498F-AD3A-F97435F5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55CEF-B444-4D72-9666-B195293E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7A6BD-C2C1-4F35-8D6F-42ECBB89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F6C0A-6CB6-4B84-AB96-912CA366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B847E-03D7-4D86-9E32-7E6436D6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97F00-0ED3-4995-8C19-E010C160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51B01-D684-473E-A01F-3A863EBD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513-05FF-4BE5-93CF-DF57EFB2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9D3BA-CD0A-4C87-A61E-2EE87A2A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6ADC7-0AFC-410D-8CB8-31905F67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3AB8B-A84B-4FDD-AAA2-3AE773D0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909D7-0078-47E1-A2BB-B5D362C2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D397C-A8FF-4DB9-B2A5-689B09E5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72698-A79D-47C6-B685-94987EFC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A1CB3-8F56-4ECF-B6D0-9DB102D7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7112E-AE13-4045-8901-D0E96287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21A8E-E0BD-468D-82C7-718784E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0878E-BDA3-4F8A-9818-A13D6044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3D9-476D-499E-8112-CF9EBF2B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3A5A0-CFBF-4B66-A640-9F6DBAC8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E854E-B698-4235-8CAB-219BFCD1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8094C-995C-4E87-9B33-6C4AF41C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24787-EA29-4D0C-B2FA-4464FCE0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D5FAF-C737-46A1-AFF9-FF461C1E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20079-6277-496A-BC82-046210F4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FABC-9564-41DB-BF68-3D94248F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68D23-8725-4DFD-BF41-1EA064F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3106A-ED0F-4FEA-B568-117E2154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6B45A-AE36-469F-AF8C-85EBF149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F171-7566-4F79-91A7-6FC567D9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77127-4A42-4391-B705-E02ED86C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327A5-B211-4539-960B-1C5B1B39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69B9E-6865-4385-90CC-67E12889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2A561-29E8-49FB-ABC6-960E09AF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9FB39-F153-44A3-9A49-5218F429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1CF26-E1ED-4FDB-A1C7-2F4A4EB7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D162C-8E73-44F0-B999-BBB06901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B6465-DE48-4A1A-A8B3-077FB98C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203F9-9D28-4BE0-A892-638408F1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28E7A-AB64-4623-A516-3A2C17B8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73DE-84A9-4EE4-AB1E-D78EB77E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11445-CA98-42F4-9A4A-5FEAE7F2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E3680-D1B8-47A3-9BBA-C18F2087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4AB8A-E605-43A1-89AC-D50E1F54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5082A-AF55-4806-84CF-1E97AF4F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AF080-3E8B-49BC-9149-369D90F8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3BF58-7714-465F-8432-1BE400AD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AFC4B-0672-4FA7-865A-34E6F3D6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7EA9A-738A-4D14-80ED-B11D2E69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32B1A-7205-4F5C-874C-88F7570D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85E8D-C1B3-4012-A901-303E9BCF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8123-7A94-4BBE-92A2-36892B50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ABBD5-5E6C-4383-8D0D-D70767C2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E48FD-C041-4B7A-91CF-D5E49AAA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CFE58-1476-4B08-BB3E-1A217089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C932A-4378-495A-B7AF-46D75272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23270-12B4-427C-8579-008D0DFD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00527-09AD-4605-8EB1-45AD609C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DE606-B155-4410-BC87-2F65E458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787B-DB09-446A-811E-86C68A30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3510-A1EF-481C-BB90-4B34BE9C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4281-750B-415D-95AD-B7092077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5601-42B9-4BDA-A67A-0FC7D482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150-BA06-465F-86D0-AD359A17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F36C-8219-4FE4-AEFF-CFD000A9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C0D4-2AFA-4EA5-9A02-D5F2A079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29AD-5EA3-4CFF-94AE-B9496C42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B6CA-3305-478F-95BE-935E54B4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2782-4F7C-4FBA-AF9D-34442732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5B09-5CCC-4A70-857D-E02C0924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FCBD-985C-455B-BE52-246F356E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2D900-0695-437F-BDF1-A6F83A95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D9401-543E-4583-94F7-DA350BED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EEA8-FA10-408D-B29F-5262DC6B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132-B04A-4F03-8CD7-F5AB5C32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CD1F-2309-4EAA-8E6E-12AA4BDF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74F5A-D6DC-4F90-B081-FE1E3619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50FF-63ED-4EFB-8644-81CCC70D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AE0C-8C6F-4615-BA25-5C799D9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E38F9-F452-4A49-AD89-0DB093A1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5984E-C992-475B-8251-7D4148ED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CE273-90C8-4427-B3F0-1E38BC90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168E4-161E-4409-A244-C1AF4646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0CD6-20BF-4959-B525-6E91B42E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B454B-936E-459C-857B-15A0C16F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00B-A160-47F8-8FC6-0DCE5BB5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A769-6BCA-47A7-A72B-625B9D95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AD17-C8DA-4D39-BA31-9E32BBF0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5B4D-CB1F-449E-BD66-6EC8053B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9E91-EDFC-427A-8511-1C820EDA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D9C03-D2D9-40D2-8B32-9758793D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7CBE-C847-4742-906C-5EF57773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F11C-4C5B-4ABF-979C-101B4499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081E2-480D-4053-A7B4-E3B4D675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BFD62-53D0-402F-B51D-95F4640B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7D020-F6EC-4306-9B5F-9838639C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690-D768-4024-8B1E-0E5CD24D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43E0D-1484-4B42-8C79-B8FFF288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BF0D7-9B18-4590-AA42-36D2EBC2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B591D-8E71-4FED-A62B-90B6C7E1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4DBF0-16D4-49CF-818C-443ECAD9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5BE1-EE62-4946-AFE8-4874C572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1A9DA-3F2D-42EF-8413-A0290A47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B7300-9047-44FD-996E-8A60FFC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2F34F-05C1-46CA-8BE8-7538F1C2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89BBB-2572-4EB0-A5A9-8EDD91F9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FD8A4-F0CE-4478-A162-E649F41A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A89-EBB7-47A5-9F28-8393AAEB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35C4A-6668-4A65-A793-4B1A4518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B7471-1926-4F49-9DD6-93D05F36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59112-E971-4420-9110-01E0A578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05F3A-191C-49AC-B1C0-03D76ACB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277C5-1081-4801-BEC0-82C197FA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1DD45-E5D5-4B4D-B04D-C88F56D8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55643-6F0C-4CF6-981A-6189227E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E3FA1-9964-47A4-A2EB-76AB51E3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F10D8-6EC9-4B60-8938-5A93CD1D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1746B-2A35-431F-B8D4-60839ACE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5DA-BB79-4E38-9591-D7ADBF44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F844-A4B4-4833-B747-94431BF4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9A5F3-2557-438D-9F86-D2F29254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83E4A-763C-45FA-B7B5-BE705C0D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E6BF7-F170-4897-8F99-40FEE7C7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F2AFB-37E4-4359-8796-E5D6AB78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CB913-EA3A-4E88-BCC6-871D1ABD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83356-1DE8-46A2-8B81-69FB41F9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A703F-DCD7-44E5-8D32-314082DA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5C58A-4385-40F0-AA5C-46A5898F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7F463-6E7F-4F66-B0CA-9546A2A6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F7F-5ED6-4EC5-AE2B-920499A2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96F99-4C79-4860-8882-DAAA39C6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844F9-C3C2-44CF-B8BB-69D83BE7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4038D-1522-4ADF-9F9C-6B97240A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67295-AD56-4C27-9092-0027D0BF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6A270-0559-42D9-8736-82DE7EFF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27F3C-9D99-4327-882A-E93B2DBE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59AC7-5E27-4BEB-AFE6-47927859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64AF5-EC38-46A1-B419-86A061E2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03957-1C55-476B-8DAF-BD0EAC75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47EB6-AB3B-44CE-9E79-1EB2E331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978-EB43-4989-BCEB-AAA28548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A92D8-87A4-4A9B-BE63-F2DA2F7E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C035D-EB08-4536-B525-C4E1BA07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0179B-4E44-4951-B7B2-9AAA1A43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9340F-09C1-4CFE-A9AF-E5B88A94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30BBC-F6ED-494C-8480-8ADC493D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154B3-1638-46F3-AA81-14710CB0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458D0-D642-46AE-BBDB-21D5839E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DF112-0373-439D-9715-30DD6F93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E643A-CD15-41F2-9643-D6FAEC29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28CBF-DFD1-4B83-B4B8-604AF980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51CD-4C9E-4B2A-99D7-DD22E697C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C780-6330-4E5B-B4FD-0D9FA92724E2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E1DA-1CC3-4D2B-8A00-E3A34E70BFE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BFC3-08EC-4C7B-B212-AD0DC0052B3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9002-E44B-4BE8-8A14-E9AB21E7562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D84F-BF70-47CC-94B2-D697736B7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48AB-8FAE-4490-98E5-34B2206088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7296-1F99-4970-8100-5D76F6B37112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6FF1-ACDD-473E-AC04-EE63A97C1B1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1C50-4C33-40FD-9600-DBB7BF8DC6E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C2BE-1F0D-49BE-9176-2DAE995A1F4B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2FDE-E732-462B-A9C1-115C38FBA48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B7AE-E3C7-4DE6-97BB-BBF13119E1B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esky.com/Gameall/73183493944770560/20000627/eoaa1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w.dgzx.net/Article_Show.asp?ArticleID=265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0&amp;tn=baiduimagedetail&amp;word=%C2%EC%D2%CF&#892;&#428;&amp;in=16&amp;cl=2&amp;cm=1&amp;sc=0&amp;lm=-1&amp;pn=15&amp;rn=1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96.cn/photo/2005-3-6/cc422418045137562.htm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3124080" y="16686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Text Box 4" descr=""/>
          <p:cNvPicPr/>
          <p:nvPr/>
        </p:nvPicPr>
        <p:blipFill>
          <a:blip r:embed="rId2"/>
          <a:stretch/>
        </p:blipFill>
        <p:spPr>
          <a:xfrm>
            <a:off x="5894280" y="4767120"/>
            <a:ext cx="3121200" cy="2084400"/>
          </a:xfrm>
          <a:prstGeom prst="rect">
            <a:avLst/>
          </a:prstGeom>
          <a:ln w="0">
            <a:noFill/>
          </a:ln>
        </p:spPr>
      </p:pic>
      <p:pic>
        <p:nvPicPr>
          <p:cNvPr id="536" name="Text Box 5" descr=""/>
          <p:cNvPicPr/>
          <p:nvPr/>
        </p:nvPicPr>
        <p:blipFill>
          <a:blip r:embed="rId3"/>
          <a:stretch/>
        </p:blipFill>
        <p:spPr>
          <a:xfrm>
            <a:off x="5237280" y="-638280"/>
            <a:ext cx="4059000" cy="64724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53964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219680" y="404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北师大版语文八年级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10"/>
          <p:cNvSpPr/>
          <p:nvPr/>
        </p:nvSpPr>
        <p:spPr>
          <a:xfrm>
            <a:off x="4416480" y="6010200"/>
            <a:ext cx="31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028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87640" cy="1549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29" descr="蚂蚁成堆打架"/>
          <p:cNvPicPr/>
          <p:nvPr/>
        </p:nvPicPr>
        <p:blipFill>
          <a:blip r:embed="rId2"/>
          <a:stretch/>
        </p:blipFill>
        <p:spPr>
          <a:xfrm>
            <a:off x="250920" y="4437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30" descr="蚂蚁07"/>
          <p:cNvPicPr/>
          <p:nvPr/>
        </p:nvPicPr>
        <p:blipFill>
          <a:blip r:embed="rId3"/>
          <a:stretch/>
        </p:blipFill>
        <p:spPr>
          <a:xfrm>
            <a:off x="5651640" y="189000"/>
            <a:ext cx="3342960" cy="250668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1031"/>
          <p:cNvSpPr/>
          <p:nvPr/>
        </p:nvSpPr>
        <p:spPr>
          <a:xfrm rot="18880200">
            <a:off x="2448360" y="166428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38"/>
          <p:cNvSpPr/>
          <p:nvPr/>
        </p:nvSpPr>
        <p:spPr>
          <a:xfrm>
            <a:off x="291636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只有一粒面包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且一根手指顷刻间就能将它捻成碎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039"/>
          <p:cNvSpPr/>
          <p:nvPr/>
        </p:nvSpPr>
        <p:spPr>
          <a:xfrm rot="18880200">
            <a:off x="4896720" y="3248280"/>
            <a:ext cx="431640" cy="792360"/>
          </a:xfrm>
          <a:prstGeom prst="downArrow">
            <a:avLst>
              <a:gd name="adj1" fmla="val 50000"/>
              <a:gd name="adj2" fmla="val 45892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040"/>
          <p:cNvSpPr/>
          <p:nvPr/>
        </p:nvSpPr>
        <p:spPr>
          <a:xfrm>
            <a:off x="5435640" y="3465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蚂蚁看来小小的面包屑是切切实实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041"/>
          <p:cNvSpPr/>
          <p:nvPr/>
        </p:nvSpPr>
        <p:spPr>
          <a:xfrm rot="18880200">
            <a:off x="7128360" y="454392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42"/>
          <p:cNvSpPr/>
          <p:nvPr/>
        </p:nvSpPr>
        <p:spPr>
          <a:xfrm>
            <a:off x="7596360" y="421020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蚂蚁的幸福是渺小的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自己并不比它优越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时又在感慨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043"/>
          <p:cNvSpPr/>
          <p:nvPr/>
        </p:nvSpPr>
        <p:spPr>
          <a:xfrm>
            <a:off x="6732720" y="5805360"/>
            <a:ext cx="863640" cy="358920"/>
          </a:xfrm>
          <a:prstGeom prst="leftArrow">
            <a:avLst>
              <a:gd name="adj1" fmla="val 50000"/>
              <a:gd name="adj2" fmla="val 60155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44"/>
          <p:cNvSpPr/>
          <p:nvPr/>
        </p:nvSpPr>
        <p:spPr>
          <a:xfrm>
            <a:off x="3564000" y="4797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要为眼前的一些即得利益而沾沾自喜，而应用更高远的视角来思考自己的生存、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WordArt 1046"/>
          <p:cNvSpPr txBox="1"/>
          <p:nvPr/>
        </p:nvSpPr>
        <p:spPr>
          <a:xfrm>
            <a:off x="250920" y="2492280"/>
            <a:ext cx="230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5" name="WordArt 1048"/>
          <p:cNvSpPr txBox="1"/>
          <p:nvPr/>
        </p:nvSpPr>
        <p:spPr>
          <a:xfrm rot="1516200">
            <a:off x="3062160" y="-339840"/>
            <a:ext cx="2030400" cy="24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3"/>
          <p:cNvSpPr/>
          <p:nvPr/>
        </p:nvSpPr>
        <p:spPr>
          <a:xfrm>
            <a:off x="304920" y="15084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拓展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533520" y="152388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观察图片，展开联想、想象，用自己的语言把它描述出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蚂蚁09"/>
          <p:cNvPicPr/>
          <p:nvPr/>
        </p:nvPicPr>
        <p:blipFill>
          <a:blip r:embed="rId1"/>
          <a:stretch/>
        </p:blipFill>
        <p:spPr>
          <a:xfrm>
            <a:off x="3564000" y="0"/>
            <a:ext cx="556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250920" y="1890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新宋体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1042920" y="198900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１、继续完成、完善拓展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２、预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每天诞生一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455280" y="15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2489760" y="2133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识记文中的生字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432680" y="3581280"/>
            <a:ext cx="6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学习作者细心观察、善于联想的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2485440" y="5334120"/>
            <a:ext cx="238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理解文章主旨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感悟蚂蚁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801000" y="11206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876960" y="2971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826560" y="4775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情感与价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2089080"/>
            <a:ext cx="8961480" cy="231840"/>
          </a:xfrm>
          <a:prstGeom prst="rect">
            <a:avLst/>
          </a:prstGeom>
          <a:solidFill>
            <a:srgbClr val="f9f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2089080"/>
            <a:ext cx="9144000" cy="360"/>
            <a:chOff x="0" y="2089080"/>
            <a:chExt cx="9144000" cy="360"/>
          </a:xfrm>
        </p:grpSpPr>
        <p:sp>
          <p:nvSpPr>
            <p:cNvPr id="610" name="Rectangle 4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5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AutoShape 6">
            <a:hlinkClick r:id="rId1"/>
          </p:cNvPr>
          <p:cNvSpPr/>
          <p:nvPr/>
        </p:nvSpPr>
        <p:spPr>
          <a:xfrm>
            <a:off x="8605800" y="21337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0989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304920" y="1219320"/>
            <a:ext cx="83055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课文通过对蚂蚁的观察、描写，启示我们人类，不要为眼前的一些即得利益而沾沾自喜，而应用更高远的视角来思考自己的生存、命运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304920" y="-4680"/>
            <a:ext cx="47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</a:rPr>
              <a:t>课文主旨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0511607170586317[1]"/>
          <p:cNvPicPr/>
          <p:nvPr/>
        </p:nvPicPr>
        <p:blipFill>
          <a:blip r:embed="rId1"/>
          <a:stretch/>
        </p:blipFill>
        <p:spPr>
          <a:xfrm>
            <a:off x="152280" y="3505320"/>
            <a:ext cx="4191120" cy="3114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200510312223451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2280"/>
            <a:ext cx="4191120" cy="28958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u=3735508487,3842492716&amp;gp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8600"/>
            <a:ext cx="4267080" cy="3038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cc200536213161706_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3505320"/>
            <a:ext cx="4190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685800" y="1778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有关蚂蚁的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0" y="10666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蚂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是一种小昆虫，它体形小，呈长形，以黑色或褐色居多。头大，有一对复眼，触角长，腹部卵形。它的种类很多，每种蚂蚁都分雄蚁、雌蚁和工蚁，雌蚁和雄蚁都有翅，工蚁没有翅。蚂蚁会挖土筑巢，并能贮藏食物，成群穴居。蚂蚁与人类关系密切，有些种类对人有害，但总的来说在人类 居住的地方害多益少，需加以防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28600" y="152280"/>
            <a:ext cx="32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3300"/>
                </a:solidFill>
                <a:latin typeface="Times New Roman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165240" y="1052640"/>
            <a:ext cx="7215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南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本名张帆，当代学者。南帆主要从事现当代文学和文学理论研究，目前已出版了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理解与感悟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冲突的文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阐释的空间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学的维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多种学术著作。主要的散文作品有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明七巧板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星空与植物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追问往昔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自由与享用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南帆05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382680" y="403848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28340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解释下列词语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52280" y="11430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畏畏缩缩    义无反顾     怜悯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居高临下    左顾右盼     蹒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693720" y="2938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辨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676520" y="403848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4495680" y="41911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1371600" y="42670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4850280" y="4029120"/>
            <a:ext cx="54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65040" y="47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59040" y="304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cc"/>
                </a:solidFill>
                <a:latin typeface="Times New Roman"/>
              </a:rPr>
              <a:t>初读课文，感知内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1828800"/>
            <a:ext cx="78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请用你喜欢的方式读课文，用最简洁的语言概括课文的内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0" y="-5256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，议一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24000" y="2205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文章是怎样描写蚂蚁的行动的？找出相应的词语，并想一想，运用这些词语起到了怎样的效果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24000" y="4581360"/>
            <a:ext cx="862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、第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段中“我”在稿纸上写下两个字“蚂蚁”，作者写着两个字蕴含着怎样的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324000" y="1052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给课文划分层次并概括层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1008000" cy="765000"/>
          </a:xfrm>
          <a:custGeom>
            <a:avLst/>
            <a:gdLst>
              <a:gd name="textAreaLeft" fmla="*/ 47520 w 1008000"/>
              <a:gd name="textAreaRight" fmla="*/ 960480 w 1008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8458" h="21600">
                <a:moveTo>
                  <a:pt x="0" y="0"/>
                </a:moveTo>
                <a:lnTo>
                  <a:pt x="28458" y="0"/>
                </a:lnTo>
                <a:lnTo>
                  <a:pt x="28458" y="21600"/>
                </a:lnTo>
                <a:lnTo>
                  <a:pt x="0" y="21600"/>
                </a:lnTo>
                <a:close/>
              </a:path>
              <a:path fill="lightenLess" w="28458" h="21600">
                <a:moveTo>
                  <a:pt x="0" y="0"/>
                </a:moveTo>
                <a:lnTo>
                  <a:pt x="28458" y="0"/>
                </a:lnTo>
                <a:lnTo>
                  <a:pt x="27108" y="1350"/>
                </a:lnTo>
                <a:lnTo>
                  <a:pt x="1350" y="1350"/>
                </a:lnTo>
                <a:close/>
              </a:path>
              <a:path fill="darken" w="28458" h="21600">
                <a:moveTo>
                  <a:pt x="28458" y="0"/>
                </a:moveTo>
                <a:lnTo>
                  <a:pt x="28458" y="21600"/>
                </a:lnTo>
                <a:lnTo>
                  <a:pt x="27108" y="20250"/>
                </a:lnTo>
                <a:lnTo>
                  <a:pt x="27108" y="1350"/>
                </a:lnTo>
                <a:close/>
              </a:path>
              <a:path fill="darkenLess" w="28458" h="21600">
                <a:moveTo>
                  <a:pt x="284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08" y="20250"/>
                </a:lnTo>
                <a:close/>
              </a:path>
              <a:path fill="lighten" w="284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"/>
          <p:cNvSpPr/>
          <p:nvPr/>
        </p:nvSpPr>
        <p:spPr>
          <a:xfrm>
            <a:off x="1042920" y="1268280"/>
            <a:ext cx="433440" cy="3816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-354600" y="1916280"/>
            <a:ext cx="13993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蚂        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03280" y="83664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-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描述蚂蚁的活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03280" y="4581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-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蚂蚁发现饼干后的表现和我的感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924360" y="76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畏畏缩缩、偷渡者、胆怯、谨慎、左顾右盼、退了回来、重大的判断、下定了决心、义无反顾、信念坚定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3995640" y="45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惊奇、晕、意外的战利品、竭尽全力、扛、蹒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6372360" y="907920"/>
            <a:ext cx="792000" cy="4608720"/>
          </a:xfrm>
          <a:custGeom>
            <a:avLst/>
            <a:gdLst>
              <a:gd name="textAreaLeft" fmla="*/ 0 w 792000"/>
              <a:gd name="textAreaRight" fmla="*/ 285840 w 79200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164360" y="184464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0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7520 w 1332000"/>
              <a:gd name="textAreaRight" fmla="*/ 1284480 w 1332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52" y="1350"/>
                </a:lnTo>
                <a:lnTo>
                  <a:pt x="1350" y="135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52" y="20250"/>
                </a:lnTo>
                <a:lnTo>
                  <a:pt x="36252" y="135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252" y="2025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6804000" y="765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通过拟人化、夸张化的手法，将表现人的意志、行为的重大词语用来表现蚂蚁这种小动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6804000" y="35892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词小用，不伦不类，产生一种幽默感；使对象的动作更加传神生动；抓住事物特点描写；想象力丰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7812000" y="3068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-293400" y="4797360"/>
            <a:ext cx="1277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敬   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-34920" y="1585800"/>
            <a:ext cx="917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蚂蚁的幸福是“货真价实”的，你赞同这种说法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-34920" y="3168720"/>
            <a:ext cx="87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、结尾作者为什么感慨？作者在感慨蚂蚁的同时又在感慨谁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-34920" y="4753080"/>
            <a:ext cx="94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你认为，本文的主旨是什么？这篇文章对你有什么启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0" y="11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什么说蚂蚁的幸福是渺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6"/>
          <p:cNvSpPr txBox="1"/>
          <p:nvPr/>
        </p:nvSpPr>
        <p:spPr>
          <a:xfrm>
            <a:off x="7740720" y="595008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蚂蚁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2:12:0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11-02T08:42:55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