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3BE5-54CA-4A85-9381-42355CD5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71D6-076A-4A7B-84E2-08068E70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7AD12-6F8F-4CAA-96D0-FA286212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C180B-EFCB-4F13-8FF5-7AD4AA39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9A62E-2E23-4715-B663-67F3CA6F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EA9AE-5F96-4CC9-9718-E83D79F2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4790D-2EC4-454C-BBD0-625338D2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D0F77-87E9-46B3-A8AC-ACBF7341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9AE32-973B-4708-9C4C-DF8C06AF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E8FF5-6059-4E5B-B472-1F06B526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DD052-82D2-4F31-B8DD-1F94EC49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89878-BE76-4DEE-A6FE-A2394050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7827-09C7-47D8-9D35-551675E3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D2307-7794-43A6-9341-87D1C27F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E0025-7547-43DA-910A-D9653DD0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83D10-53A2-4599-81BD-8555FDFD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E5626-4AE6-403D-B40E-3B8151A1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4A8C1-F8C4-43A6-8CF9-DC644F51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99BE1-65B2-4EC7-A258-897FD85A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C2DC5-15EA-4B52-AB0B-51AFBBA7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5C873-7A2E-452C-A2BA-A356B5F3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2556E-99E7-4F2D-8437-E13149D8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67226-B197-4E93-A04A-355C3925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318-12C3-45DF-A032-8B469EDA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1E557-88C2-42B5-BB6F-42574531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5C4E5-E912-44ED-A5B8-38689AB0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85A7A-FA9A-445A-BF12-01AA203D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5B492-33AC-4F11-B2FF-B25E3B01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4385F-F91E-476C-A13B-D94D74DA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18CE4-8A89-4904-900E-F3609233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24226-3D05-438A-9DFE-8E4102F5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A4920-850B-4D76-AEB7-333EB762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F3413-B345-42E3-BE16-19163C63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23892-F524-41BA-96EF-876E791E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CB14-0FB3-47DE-8D21-B660C736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104FE-F180-4616-A079-68E8FA02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2FE70-FB67-4CC4-849E-11F6A211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6AB94-9281-4DC7-B618-008AD3E9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A9391-D792-41CB-9F02-7A623CF7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DACF7-3A40-46D6-81DD-AE70F034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14EF4-6DDB-4BC2-B6A4-E35BE0E7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0932A-E595-4F83-BAD6-38D12DB4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2AAAF-4DA4-492C-B292-428BDB91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16465-9FE6-48D6-9734-FE559C50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08F84-A25C-4C91-95C1-638BAE6D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151A-C519-4293-9D60-DC5F499D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31E76-B170-42BE-9561-95D02EB5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0D3722-2145-4F07-ACA6-941DE79C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6687B-396F-4D04-B41C-75A5DF11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A3D62-2B08-4233-B439-E39CF4B6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1F664-2785-40AE-99EF-522FB566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E11647-E601-42B7-90E3-E6A4AF6C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C2D628-98D9-4384-BCAC-E74C06A9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916FF1-4B8D-41F6-8346-C4950039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8A2A6-A99C-4424-9DD2-5E34D0DC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0A202-7727-402E-996B-00FAF550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1840-5E1B-4244-A54F-67954356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648DC4-E56B-4751-98AF-0B22E224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D6E71E-BA2B-44A1-86C7-BCA2B3EE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EFDCE-5813-44C1-9965-0D4ED498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D6D83-E541-453C-813F-03C1F1D3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EC6EB-D773-4EB3-866A-6D1BAE13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2DC4A-56E7-46E8-9B3E-CCFDF217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A21E0B-928F-4034-ABA1-64483DE8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30D4-B3AC-462F-8BF2-B8005D84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CF01-09AF-4587-90CD-549E89A0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0591-772E-45F7-A60C-E81A1BC9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882B-917D-4120-83C8-67134DC8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C0DB-A69C-4266-A07C-C0C2A3F8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B218-BB5A-4AA4-A672-968C2EBB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F35F-DA5C-4A6A-8F35-8261D300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ACAF-F4A6-433C-B358-875D22B8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7C86-59CA-4C86-8EF2-E70766F0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ED9A-8DDF-456F-8D1C-3CE34392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C0806-A803-44D0-BC81-7E5ADCB6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7AB49-5E66-4398-81FE-3E053BA5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AE87C-0174-44B2-A847-F9474448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83C18-E67E-4324-BA64-F415545F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EE316-65E5-44E6-B341-5CD73E22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5C7F-6483-4DFB-9122-F26541A5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05C60-0B48-4776-A09A-8F8FD12E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82210-8BD5-42AE-83C7-8174899E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A5AC7-ADA9-440C-A6D7-15B4A3AD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ADBBD-7039-4DD8-9177-FE0D02E9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86C6C-7164-4FFD-93DB-405AF277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AA2A2-1B22-4420-B3BC-E8BDAA00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8FA9C-335F-4B56-8016-A93BB9C2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2B6BE-966A-4575-96BD-8DEF2FF1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DE304-919C-4CBD-B0FB-81A1F9DE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178B0-BCAC-4AB8-A72B-75245C13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6617-444C-4D91-B02D-63546755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92BBA-1C68-4CBD-847C-4A42547A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C8C30-1D24-4583-961D-97B870DB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83BFD-DAB8-4AAF-9094-E08CB92C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22280-FFA8-4B98-99C5-C0006089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19630-5766-4FA0-841D-4685C92A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A46FF-CC90-4740-A7AF-C9966C2E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DAD6B-D05F-435D-AAA3-CAB10B91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49C3F-50CB-431C-ACB3-D3F61CB9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5F626-D611-4D34-95D6-433295F8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02ABC-1B5C-40C6-8AA2-B59CB0BE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E1D-F3D7-41D9-9353-0ED86291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F5649-7F10-4AF2-8AC0-E99A704F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F11DF-0E2C-46CB-83C2-A15D70D1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C0DA9-ABFF-4473-ADD9-77F4B597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C8456-41AF-49FF-93C9-FFB175E7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74967-9C77-4AB6-AAAF-2FCA4498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74D1B-0512-4433-B389-27D2DE05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602B4-72B7-4ADF-9D6A-B0384F41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C57B0-0D31-4822-94C7-EE38FFB8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25EBC-8378-4AFB-BA89-C6A7555E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84B87-222D-481C-A7FC-1962365C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B06-FF57-43E7-A22C-2758D92B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FA703-6BF2-4D6A-8FF2-80E5EF19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F640E-DECD-4E8F-96A6-336AD800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71B99-2787-4BF1-838F-58D78CB9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255EA-8D98-4858-8F19-D6906C29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D0F5A-839D-4BFC-A642-4A5488AC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CAA33-F485-4837-B65E-955353A7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3EEDA-EEA2-4D84-8777-83605FBE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DCB0C-1FA1-4727-98C0-3F46D148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28555-CADA-48C7-AF38-EB6C84A5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4CDCE-7860-4E12-AF7D-C4F7E20D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58F-5182-4647-A89B-142CE4A7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4AF36-E7DA-4DF1-8A43-098F6E08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D6128-03A8-4B9E-8DE0-CA792F4B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24C5A-7207-47F9-9976-AE5D25AB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EBDB6-778F-4B88-8639-1DA2C553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9939C-6BF1-4031-840B-9ADB79EC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D6069-4E36-409D-A14C-06E94A18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9B5F6-AAA6-424D-8824-39628B46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20F2A-D096-4677-B51B-9030FA72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CCA22-29B0-4D9C-8AC6-8C7E1810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A784F-FE82-4D70-9958-A6006FC3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2A6-5224-4DC7-BA10-F844A4A3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4456A-D3D0-4A7F-83E0-BB11FAEE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498D9-A075-41C3-A88F-18EE7616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490CB-74C5-4BFA-9AA1-DABE287F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35D22-55D1-4D06-9785-9545C6F2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4FB33-6BF8-4ECB-BC3D-23760923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F4F3B-B5C7-4A75-917D-CABD320D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3F350-B80D-42F8-8E12-3D3C606C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71C6C-5C9B-4270-93C3-32AE4820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33434-7C81-4E44-8E52-7F3D9B8F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A44EF-B718-4337-A30C-EB42DDC1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A8AF-00EA-4804-8A02-1C942FDD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B7BAE-F5C4-41C6-903A-0F04E4B3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ACDFB-B176-4FE1-BB59-7D4D21FF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1E395-7106-4786-A3EC-3D7BA756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8931F-8B36-49AD-A330-4977955B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4E695-7291-42F2-B719-E152A525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986E8-F98A-42B7-A3EC-199397EE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7AF80-953F-460B-B918-42CCBA9F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38004-06AF-448D-8AF5-C58288FA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32698-7E5D-474C-8E3A-BC2E03E9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A358E-6306-4CDD-B1B9-B21C72E5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373A-8C8A-4A88-A884-962D38C8E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2BC3-9D90-4BEF-B37B-BA3D1B02A61F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088D-6FC0-4CB6-9CAD-18DFB8DDD578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3CAC-77CB-455F-87B5-89AB35C6ADEA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7478-62EE-4FF7-8B9D-6502D2BF6672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7A2F-D5D2-4A4F-877F-18376F828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C2BF-B9BB-4225-A662-385BADD51D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268B-0B56-4D18-A811-9FF3D6ADAEE7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806E-FA88-4003-AC62-6DB0B9DFCB89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A13E-8A21-41D1-AD6C-A360330CF0F1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AF55-ADE7-4DE7-B930-BD42B2264AF3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7CEF-7E1A-4470-A035-9ED4B1D91DEF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7487-4034-4836-8142-777259674A6F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esky.com/Gameall/73183493944770560/20000627/eoaa1.jp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sw.dgzx.net/Article_Show.asp?ArticleID=265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.baidu.com/i?ct=503316480&amp;z=0&amp;tn=baiduimagedetail&amp;word=%C2%EC%D2%CF&#892;&#428;&amp;in=16&amp;cl=2&amp;cm=1&amp;sc=0&amp;lm=-1&amp;pn=15&amp;rn=1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ww.96.cn/photo/2005-3-6/cc422418045137562.htm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3124080" y="16686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Text Box 4" descr=""/>
          <p:cNvPicPr/>
          <p:nvPr/>
        </p:nvPicPr>
        <p:blipFill>
          <a:blip r:embed="rId2"/>
          <a:stretch/>
        </p:blipFill>
        <p:spPr>
          <a:xfrm>
            <a:off x="5894280" y="4767120"/>
            <a:ext cx="3121200" cy="2084400"/>
          </a:xfrm>
          <a:prstGeom prst="rect">
            <a:avLst/>
          </a:prstGeom>
          <a:ln w="0">
            <a:noFill/>
          </a:ln>
        </p:spPr>
      </p:pic>
      <p:pic>
        <p:nvPicPr>
          <p:cNvPr id="536" name="Text Box 5" descr=""/>
          <p:cNvPicPr/>
          <p:nvPr/>
        </p:nvPicPr>
        <p:blipFill>
          <a:blip r:embed="rId3"/>
          <a:stretch/>
        </p:blipFill>
        <p:spPr>
          <a:xfrm>
            <a:off x="5237280" y="-638280"/>
            <a:ext cx="4059000" cy="647244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6"/>
          <p:cNvSpPr/>
          <p:nvPr/>
        </p:nvSpPr>
        <p:spPr>
          <a:xfrm>
            <a:off x="53964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1219680" y="4046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北师大版语文八年级上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矩形 10"/>
          <p:cNvSpPr/>
          <p:nvPr/>
        </p:nvSpPr>
        <p:spPr>
          <a:xfrm>
            <a:off x="4416480" y="6010200"/>
            <a:ext cx="311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1028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087640" cy="15494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029" descr="蚂蚁成堆打架"/>
          <p:cNvPicPr/>
          <p:nvPr/>
        </p:nvPicPr>
        <p:blipFill>
          <a:blip r:embed="rId2"/>
          <a:stretch/>
        </p:blipFill>
        <p:spPr>
          <a:xfrm>
            <a:off x="250920" y="4437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030" descr="蚂蚁07"/>
          <p:cNvPicPr/>
          <p:nvPr/>
        </p:nvPicPr>
        <p:blipFill>
          <a:blip r:embed="rId3"/>
          <a:stretch/>
        </p:blipFill>
        <p:spPr>
          <a:xfrm>
            <a:off x="5651640" y="189000"/>
            <a:ext cx="3342960" cy="250668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1031"/>
          <p:cNvSpPr/>
          <p:nvPr/>
        </p:nvSpPr>
        <p:spPr>
          <a:xfrm rot="18880200">
            <a:off x="2448360" y="1664280"/>
            <a:ext cx="432000" cy="792360"/>
          </a:xfrm>
          <a:prstGeom prst="downArrow">
            <a:avLst>
              <a:gd name="adj1" fmla="val 50000"/>
              <a:gd name="adj2" fmla="val 45854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038"/>
          <p:cNvSpPr/>
          <p:nvPr/>
        </p:nvSpPr>
        <p:spPr>
          <a:xfrm>
            <a:off x="2916360" y="19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只有一粒面包屑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且一根手指顷刻间就能将它捻成碎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039"/>
          <p:cNvSpPr/>
          <p:nvPr/>
        </p:nvSpPr>
        <p:spPr>
          <a:xfrm rot="18880200">
            <a:off x="4896720" y="3248280"/>
            <a:ext cx="431640" cy="792360"/>
          </a:xfrm>
          <a:prstGeom prst="downArrow">
            <a:avLst>
              <a:gd name="adj1" fmla="val 50000"/>
              <a:gd name="adj2" fmla="val 45892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040"/>
          <p:cNvSpPr/>
          <p:nvPr/>
        </p:nvSpPr>
        <p:spPr>
          <a:xfrm>
            <a:off x="5435640" y="3465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蚂蚁看来小小的面包屑是切切实实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1041"/>
          <p:cNvSpPr/>
          <p:nvPr/>
        </p:nvSpPr>
        <p:spPr>
          <a:xfrm rot="18880200">
            <a:off x="7128360" y="4543920"/>
            <a:ext cx="432000" cy="792360"/>
          </a:xfrm>
          <a:prstGeom prst="downArrow">
            <a:avLst>
              <a:gd name="adj1" fmla="val 50000"/>
              <a:gd name="adj2" fmla="val 45854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042"/>
          <p:cNvSpPr/>
          <p:nvPr/>
        </p:nvSpPr>
        <p:spPr>
          <a:xfrm>
            <a:off x="7596360" y="421020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蚂蚁的幸福是渺小的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自己并不比它优越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同时又在感慨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1043"/>
          <p:cNvSpPr/>
          <p:nvPr/>
        </p:nvSpPr>
        <p:spPr>
          <a:xfrm>
            <a:off x="6732720" y="5805360"/>
            <a:ext cx="863640" cy="358920"/>
          </a:xfrm>
          <a:prstGeom prst="leftArrow">
            <a:avLst>
              <a:gd name="adj1" fmla="val 50000"/>
              <a:gd name="adj2" fmla="val 60155"/>
            </a:avLst>
          </a:prstGeom>
          <a:solidFill>
            <a:srgbClr val="ff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044"/>
          <p:cNvSpPr/>
          <p:nvPr/>
        </p:nvSpPr>
        <p:spPr>
          <a:xfrm>
            <a:off x="3564000" y="479736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要为眼前的一些即得利益而沾沾自喜，而应用更高远的视角来思考自己的生存、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WordArt 1046"/>
          <p:cNvSpPr txBox="1"/>
          <p:nvPr/>
        </p:nvSpPr>
        <p:spPr>
          <a:xfrm>
            <a:off x="250920" y="2492280"/>
            <a:ext cx="230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蚂蚁</a:t>
            </a:r>
            <a:endParaRPr b="0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5" name="WordArt 1048"/>
          <p:cNvSpPr txBox="1"/>
          <p:nvPr/>
        </p:nvSpPr>
        <p:spPr>
          <a:xfrm rot="1516200">
            <a:off x="3062160" y="-339840"/>
            <a:ext cx="2030400" cy="24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蚂蚁</a:t>
            </a:r>
            <a:endParaRPr b="0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3"/>
          <p:cNvSpPr/>
          <p:nvPr/>
        </p:nvSpPr>
        <p:spPr>
          <a:xfrm>
            <a:off x="304920" y="150840"/>
            <a:ext cx="325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</a:rPr>
              <a:t>拓展练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533520" y="1523880"/>
            <a:ext cx="267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观察图片，展开联想、想象，用自己的语言把它描述出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5" descr="蚂蚁09"/>
          <p:cNvPicPr/>
          <p:nvPr/>
        </p:nvPicPr>
        <p:blipFill>
          <a:blip r:embed="rId1"/>
          <a:stretch/>
        </p:blipFill>
        <p:spPr>
          <a:xfrm>
            <a:off x="3564000" y="0"/>
            <a:ext cx="556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250920" y="189000"/>
            <a:ext cx="208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新宋体"/>
              </a:rPr>
              <a:t>作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1042920" y="1989000"/>
            <a:ext cx="7058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１、继续完成、完善拓展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２、预习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每天诞生一次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3455280" y="152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2489760" y="2133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</a:rPr>
              <a:t>识记文中的生字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4432680" y="3581280"/>
            <a:ext cx="6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学习作者细心观察、善于联想的写作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2485440" y="5334120"/>
            <a:ext cx="238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理解文章主旨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感悟蚂蚁的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801000" y="11206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知识与能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876960" y="29718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过程与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826560" y="4775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情感与价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0" y="2089080"/>
            <a:ext cx="8961480" cy="231840"/>
          </a:xfrm>
          <a:prstGeom prst="rect">
            <a:avLst/>
          </a:prstGeom>
          <a:solidFill>
            <a:srgbClr val="f9f9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0" y="2089080"/>
            <a:ext cx="9144000" cy="360"/>
            <a:chOff x="0" y="2089080"/>
            <a:chExt cx="9144000" cy="360"/>
          </a:xfrm>
        </p:grpSpPr>
        <p:sp>
          <p:nvSpPr>
            <p:cNvPr id="610" name="Rectangle 4"/>
            <p:cNvSpPr/>
            <p:nvPr/>
          </p:nvSpPr>
          <p:spPr>
            <a:xfrm>
              <a:off x="0" y="20890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5"/>
            <p:cNvSpPr/>
            <p:nvPr/>
          </p:nvSpPr>
          <p:spPr>
            <a:xfrm>
              <a:off x="0" y="20890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AutoShape 6">
            <a:hlinkClick r:id="rId1"/>
          </p:cNvPr>
          <p:cNvSpPr/>
          <p:nvPr/>
        </p:nvSpPr>
        <p:spPr>
          <a:xfrm>
            <a:off x="8605800" y="2133720"/>
            <a:ext cx="297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974880" y="13827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4098960" y="13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9"/>
          <p:cNvSpPr/>
          <p:nvPr/>
        </p:nvSpPr>
        <p:spPr>
          <a:xfrm>
            <a:off x="304920" y="1219320"/>
            <a:ext cx="83055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课文通过对蚂蚁的观察、描写，启示我们人类，不要为眼前的一些即得利益而沾沾自喜，而应用更高远的视角来思考自己的生存、命运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0"/>
          <p:cNvSpPr/>
          <p:nvPr/>
        </p:nvSpPr>
        <p:spPr>
          <a:xfrm>
            <a:off x="304920" y="-4680"/>
            <a:ext cx="47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Times New Roman"/>
              </a:rPr>
              <a:t>课文主旨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0511607170586317[1]"/>
          <p:cNvPicPr/>
          <p:nvPr/>
        </p:nvPicPr>
        <p:blipFill>
          <a:blip r:embed="rId1"/>
          <a:stretch/>
        </p:blipFill>
        <p:spPr>
          <a:xfrm>
            <a:off x="152280" y="3505320"/>
            <a:ext cx="4191120" cy="3114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200510312223451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52280"/>
            <a:ext cx="4191120" cy="28958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u=3735508487,3842492716&amp;gp=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228600"/>
            <a:ext cx="4267080" cy="30384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cc200536213161706_m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48320" y="3505320"/>
            <a:ext cx="4190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685800" y="17784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有关蚂蚁的知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0" y="106668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蚂蚁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是一种小昆虫，它体形小，呈长形，以黑色或褐色居多。头大，有一对复眼，触角长，腹部卵形。它的种类很多，每种蚂蚁都分雄蚁、雌蚁和工蚁，雌蚁和雄蚁都有翅，工蚁没有翅。蚂蚁会挖土筑巢，并能贮藏食物，成群穴居。蚂蚁与人类关系密切，有些种类对人有害，但总的来说在人类 居住的地方害多益少，需加以防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228600" y="152280"/>
            <a:ext cx="326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993300"/>
                </a:solidFill>
                <a:latin typeface="Times New Roman"/>
              </a:rPr>
              <a:t>作者简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165240" y="1052640"/>
            <a:ext cx="72151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南帆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本名张帆，当代学者。南帆主要从事现当代文学和文学理论研究，目前已出版了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理解与感悟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冲突的文学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阐释的空间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文学的维度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等多种学术著作。主要的散文作品有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文明七巧板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星空与植物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追问往昔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自由与享用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》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4" descr="南帆05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382680" y="403848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1283400" y="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解释下列词语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152280" y="114300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畏畏缩缩    义无反顾     怜悯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居高临下    左顾右盼     蹒跚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693720" y="29383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辨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1676520" y="4038480"/>
            <a:ext cx="45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4495680" y="41911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1371600" y="426708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4850280" y="4029120"/>
            <a:ext cx="54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365040" y="47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1859040" y="3049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cc"/>
                </a:solidFill>
                <a:latin typeface="Times New Roman"/>
              </a:rPr>
              <a:t>初读课文，感知内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57200" y="1828800"/>
            <a:ext cx="786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993300"/>
                </a:solidFill>
                <a:latin typeface="Times New Roman"/>
              </a:rPr>
              <a:t>请用你喜欢的方式读课文，用最简洁的语言概括课文的内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0" y="-52560"/>
            <a:ext cx="52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想一想，议一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324000" y="220500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、文章是怎样描写蚂蚁的行动的？找出相应的词语，并想一想，运用这些词语起到了怎样的效果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324000" y="4581360"/>
            <a:ext cx="8626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、第</a:t>
            </a:r>
            <a:r>
              <a:rPr b="1" lang="en-US" sz="44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段中“我”在稿纸上写下两个字“蚂蚁”，作者写着两个字蕴含着怎样的感情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324000" y="10526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给课文划分层次并概括层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6">
            <a:hlinkClick r:id="" action="ppaction://hlinkshowjump?jump=nextslide"/>
          </p:cNvPr>
          <p:cNvSpPr/>
          <p:nvPr/>
        </p:nvSpPr>
        <p:spPr>
          <a:xfrm>
            <a:off x="7812000" y="6093000"/>
            <a:ext cx="1008000" cy="765000"/>
          </a:xfrm>
          <a:custGeom>
            <a:avLst/>
            <a:gdLst>
              <a:gd name="textAreaLeft" fmla="*/ 47520 w 1008000"/>
              <a:gd name="textAreaRight" fmla="*/ 960480 w 100800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28458" h="21600">
                <a:moveTo>
                  <a:pt x="0" y="0"/>
                </a:moveTo>
                <a:lnTo>
                  <a:pt x="28458" y="0"/>
                </a:lnTo>
                <a:lnTo>
                  <a:pt x="28458" y="21600"/>
                </a:lnTo>
                <a:lnTo>
                  <a:pt x="0" y="21600"/>
                </a:lnTo>
                <a:close/>
              </a:path>
              <a:path fill="lightenLess" w="28458" h="21600">
                <a:moveTo>
                  <a:pt x="0" y="0"/>
                </a:moveTo>
                <a:lnTo>
                  <a:pt x="28458" y="0"/>
                </a:lnTo>
                <a:lnTo>
                  <a:pt x="27108" y="1350"/>
                </a:lnTo>
                <a:lnTo>
                  <a:pt x="1350" y="1350"/>
                </a:lnTo>
                <a:close/>
              </a:path>
              <a:path fill="darken" w="28458" h="21600">
                <a:moveTo>
                  <a:pt x="28458" y="0"/>
                </a:moveTo>
                <a:lnTo>
                  <a:pt x="28458" y="21600"/>
                </a:lnTo>
                <a:lnTo>
                  <a:pt x="27108" y="20250"/>
                </a:lnTo>
                <a:lnTo>
                  <a:pt x="27108" y="1350"/>
                </a:lnTo>
                <a:close/>
              </a:path>
              <a:path fill="darkenLess" w="28458" h="21600">
                <a:moveTo>
                  <a:pt x="284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108" y="20250"/>
                </a:lnTo>
                <a:close/>
              </a:path>
              <a:path fill="lighten" w="284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蚂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AutoShape 2"/>
          <p:cNvSpPr/>
          <p:nvPr/>
        </p:nvSpPr>
        <p:spPr>
          <a:xfrm>
            <a:off x="1042920" y="1268280"/>
            <a:ext cx="433440" cy="3816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-354600" y="1916280"/>
            <a:ext cx="139932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蚂        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403280" y="836640"/>
            <a:ext cx="26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一、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-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描述蚂蚁的活动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1403280" y="4581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二、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-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蚂蚁发现饼干后的表现和我的感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3924360" y="765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畏畏缩缩、偷渡者、胆怯、谨慎、左顾右盼、退了回来、重大的判断、下定了决心、义无反顾、信念坚定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3995640" y="458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惊奇、晕、意外的战利品、竭尽全力、扛、蹒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8"/>
          <p:cNvSpPr/>
          <p:nvPr/>
        </p:nvSpPr>
        <p:spPr>
          <a:xfrm>
            <a:off x="6372360" y="907920"/>
            <a:ext cx="792000" cy="4608720"/>
          </a:xfrm>
          <a:custGeom>
            <a:avLst/>
            <a:gdLst>
              <a:gd name="textAreaLeft" fmla="*/ 0 w 792000"/>
              <a:gd name="textAreaRight" fmla="*/ 285840 w 79200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7164360" y="184464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0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1332000" cy="765000"/>
          </a:xfrm>
          <a:custGeom>
            <a:avLst/>
            <a:gdLst>
              <a:gd name="textAreaLeft" fmla="*/ 47520 w 1332000"/>
              <a:gd name="textAreaRight" fmla="*/ 1284480 w 1332000"/>
              <a:gd name="textAreaTop" fmla="*/ 47520 h 765000"/>
              <a:gd name="textAreaBottom" fmla="*/ 717480 h 765000"/>
            </a:gdLst>
            <a:ahLst/>
            <a:rect l="textAreaLeft" t="textAreaTop" r="textAreaRight" b="textAreaBottom"/>
            <a:pathLst>
              <a:path w="37602" h="21600">
                <a:moveTo>
                  <a:pt x="0" y="0"/>
                </a:moveTo>
                <a:lnTo>
                  <a:pt x="37602" y="0"/>
                </a:lnTo>
                <a:lnTo>
                  <a:pt x="37602" y="21600"/>
                </a:lnTo>
                <a:lnTo>
                  <a:pt x="0" y="21600"/>
                </a:lnTo>
                <a:close/>
              </a:path>
              <a:path fill="lightenLess" w="37602" h="21600">
                <a:moveTo>
                  <a:pt x="0" y="0"/>
                </a:moveTo>
                <a:lnTo>
                  <a:pt x="37602" y="0"/>
                </a:lnTo>
                <a:lnTo>
                  <a:pt x="36252" y="1350"/>
                </a:lnTo>
                <a:lnTo>
                  <a:pt x="1350" y="1350"/>
                </a:lnTo>
                <a:close/>
              </a:path>
              <a:path fill="darken" w="37602" h="21600">
                <a:moveTo>
                  <a:pt x="37602" y="0"/>
                </a:moveTo>
                <a:lnTo>
                  <a:pt x="37602" y="21600"/>
                </a:lnTo>
                <a:lnTo>
                  <a:pt x="36252" y="20250"/>
                </a:lnTo>
                <a:lnTo>
                  <a:pt x="36252" y="1350"/>
                </a:lnTo>
                <a:close/>
              </a:path>
              <a:path fill="darkenLess" w="37602" h="21600">
                <a:moveTo>
                  <a:pt x="376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252" y="20250"/>
                </a:lnTo>
                <a:close/>
              </a:path>
              <a:path fill="lighten" w="376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蚂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1"/>
          <p:cNvSpPr/>
          <p:nvPr/>
        </p:nvSpPr>
        <p:spPr>
          <a:xfrm>
            <a:off x="6804000" y="7650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通过拟人化、夸张化的手法，将表现人的意志、行为的重大词语用来表现蚂蚁这种小动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6804000" y="35892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大词小用，不伦不类，产生一种幽默感；使对象的动作更加传神生动；抓住事物特点描写；想象力丰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13"/>
          <p:cNvSpPr/>
          <p:nvPr/>
        </p:nvSpPr>
        <p:spPr>
          <a:xfrm>
            <a:off x="7812000" y="3068640"/>
            <a:ext cx="505080" cy="576360"/>
          </a:xfrm>
          <a:prstGeom prst="downArrow">
            <a:avLst>
              <a:gd name="adj1" fmla="val 50000"/>
              <a:gd name="adj2" fmla="val 2852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-293400" y="4797360"/>
            <a:ext cx="12776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敬   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-34920" y="1585800"/>
            <a:ext cx="917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、蚂蚁的幸福是“货真价实”的，你赞同这种说法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-34920" y="3168720"/>
            <a:ext cx="878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、结尾作者为什么感慨？作者在感慨蚂蚁的同时又在感慨谁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-34920" y="4753080"/>
            <a:ext cx="943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、你认为，本文的主旨是什么？这篇文章对你有什么启示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0" y="111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为什么说蚂蚁的幸福是渺小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WordArt 6"/>
          <p:cNvSpPr txBox="1"/>
          <p:nvPr/>
        </p:nvSpPr>
        <p:spPr>
          <a:xfrm>
            <a:off x="7740720" y="5950080"/>
            <a:ext cx="1224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蚂蚁</a:t>
            </a:r>
            <a:endParaRPr b="0" lang="en-US" sz="2400" spc="1" strike="noStrike">
              <a:ln w="3240">
                <a:solidFill>
                  <a:srgbClr val="ff00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2:12:08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11-02T08:42:55Z</dcterms:modified>
  <cp:revision>6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