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7E1-F79B-47D7-B4B2-20D7C0F5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F19-80D4-47F8-AC48-FE4B3C08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8B6F6-3F6A-4B4D-A2E2-5D7A58A7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50F1C-DAD9-43A9-B9A7-2A3FB385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D84E1-59E5-4B8D-A829-DDB34DD4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3F30B-D37F-4E40-A93E-BB83F3F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A7F67-4C14-42D7-B873-A77FCCD0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7E2E0-757C-4608-849C-96B73E9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A7623-A4C7-4F60-8849-3608C11E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3BF8D-9DF4-4D10-BB78-78BD5B18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FEB06-5E1F-48B6-A0DF-0088D913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B5E62-4BB8-4971-A4D3-44475A6A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24C-2F8C-4CBF-98BD-11419B69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96022-2766-4928-B8DF-28143EE4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DB9B0-E265-48B9-A2C3-CFE9997C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F8900-6C6C-4EA8-8E53-C60F7AD5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7784E-CFE0-4F58-915A-00F87B4E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586C9-2EF7-43D9-8FC7-C1064A3B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7CC34-C171-494F-9075-2A061457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FDC4E-FDA5-4EBE-A087-B232F4D7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5F220-A4BF-4303-8FD9-A452ABE7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529F5-557E-422A-A8FB-3EF19C6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CDD55-D626-4D5A-B202-432E6041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AB1-BE88-4FF1-B79E-AB8D1D1C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4F559-ED94-4511-8F6F-FBF0E37C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55326-98BB-462D-B85C-0B03441D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73EC-8444-4242-A070-137C8C7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46534-CAE7-40F6-A392-DC0AF691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7FEF1-DB2A-4767-8A7F-0EFFB202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EE022-111A-4D95-8004-19DFC5FD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DC9B8-9748-4ACC-9B4E-A8F0F834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84582-BBB4-45AC-9E7B-8A74FFA6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54780-DEBD-4F6F-9BFE-70B74B1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17732-D9E5-43EC-8562-3219AC31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31D8-1D32-431A-B9C2-B0E31268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DACE3-9CE2-4F60-88FE-87C4912C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25768-FAEE-4BE3-90DC-C5DE75E3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244D2-E085-45EC-A89A-8735F036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EE82F-F8CE-469E-B354-B79D1CDB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A2C30-A74B-4047-A082-A6C5DB6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E24C5-2DE6-4A6D-BF70-FB517B81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3CA62-5F40-4A9E-B233-869B63A1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90AEE-7022-4EA3-9C7D-1BD96C45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DAA8D-22FC-45F2-85A4-E35CF987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5BD77-E970-488B-9A43-2373DAFC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FFB3-E01A-4B4D-9341-B4B628A4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1B6D9-B983-4EB2-9B29-35C7071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F1E89-E1E6-4FE0-8527-BE8ABD3D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29E6D-B84B-4C12-8342-72E1FE70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D179B-3B02-4921-9F8E-A72CB7C3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52091-2C06-49F0-BFAF-1DC810E9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61153-39FE-4190-84EB-455083F7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B9A8F-DBE5-4849-BA25-2FC95948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F8AFD-55E9-49BC-9240-DA2A33E7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98ADE-1FCC-46DA-B0E7-D178EFBE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894E5-8FE7-433F-861D-25C44C5A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71DD-55AA-4A3B-A3E7-79D936BB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F4BDC-4F2F-4916-8C03-29624D83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A9AEC-0277-402E-804A-3515F47A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F2908-B807-4DA9-8F3E-D453D1CC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B97EE-7AC7-4619-AD54-058AF85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E7D5E-CB71-4922-8514-A76C395F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D1C6D-B691-49C1-8235-F43FAFBF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D53D2-4BB9-444E-BB55-C567A367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E19D-42F9-4D6E-836E-AB4BB663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8523-EDB4-48DB-8ECD-DFC87D55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E710-1A98-43D3-BC66-E2E0AB55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D91A-5BC6-4D15-A41E-81C84C6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01F-D6D3-412D-BA48-8C26704E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7958-A64F-433B-8E0B-DA941152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610E-A675-4880-B304-68321E7C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D610-8EE3-40B1-AA3F-98E62CDC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65BF-778E-4CCD-B6ED-4B8E05B5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125-5D60-4211-BA91-2DC875C1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FE13-7883-4482-996C-3787707D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25A1-BF01-44DA-8152-EBEEDCE2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1E50-A813-4D1B-A8CD-06A51E44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E6CC-3F23-434D-8933-EFEE3203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195E-14C7-4B07-9025-2BCE6B0E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2CD-A112-425A-A748-6B317997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88CF-1BC2-472E-A146-AC18C5A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8048-8671-41C3-8FA3-1F072729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3E8F-3FB8-4521-90F9-92E58060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91BE-3A8D-42F6-92F3-D9F1CE4A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0B30-198E-40D8-B489-3590FB28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CD36-004F-41AD-8C2E-96211B90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BBF8-2667-4EFB-87B5-EB5C7F41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27C5-6FC5-4AF7-99D8-9577BF12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9523-7983-4E3D-9902-2B4FBC1D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D678-2D47-411F-8C04-C083AA07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379-412D-4EBA-9EA2-0B423E78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1A08C-83A3-48C0-868F-B211277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B331-7885-42D3-9DD5-5323DB7C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3FC8-652B-4F0B-BB13-63022549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B576-C647-466A-B302-9404A757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522AD-1B2F-4711-A4D9-693B5BB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49DE-4EF4-4306-A1DD-9BBFB78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CF4C6-96B8-4C3F-B0B6-7AF52EDE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53A4-9B47-4930-9F55-4FCD20F6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CE727-6297-4C5A-96C5-6075C10C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4C768-3222-433D-B9A1-97C807EA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317-1DEB-4AA8-AC15-F80A2E5A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B0DE5-B709-429A-A339-E6A6E53B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ED9C5-7434-4E2B-8A84-A3A247B9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ADD3C-D5DD-4C4D-AA7E-8EE2A28F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B06A-74A6-4FB8-851B-5C865E6C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EEF3-30FF-4C92-87E7-70C42D41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1AC8C-4FB8-4EB1-9271-B86A1AF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0E58-DDE2-43E5-AD4B-1537B4B3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BCD4F-E38E-4719-8A8B-8EB6EE8B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09E25-4DE8-41C9-97D6-1331557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AC735-CEC6-4A98-BA54-2020A057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0C5-8E46-4AE6-B456-1FFA44BB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EC9AB-AF27-4508-9FA0-3A0B36E0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5D1B-0460-4864-87CF-74C4716A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B8AB5-3302-44C9-9416-BDAB96B8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9FD9-76D3-4E75-93EB-4C17DFBC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707F-C643-49AB-86B6-23FA557E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4490C-9020-454B-80FB-9D2C7CD3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56C0-C403-4BFB-A54A-AD15CCC4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A0E19-FAA5-4AE9-AD14-B31F9B65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3DF80-7E03-4781-BA4B-6DCEF00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A153-621C-44CA-86F9-99B5DDC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78E-9406-4BF2-8896-5F1746BE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79111-C189-40EE-8466-4E2FB287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1EFC3-324C-49BA-A663-BBD1A43A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FB2FA-07DE-497F-BE27-06F23C3A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33C7-E54A-4830-8632-45B7E3E0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74C11-1A19-4B7C-8FD2-FE80189F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736B-28F9-4F64-8C5B-836F308F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7633-514F-4B54-9A41-6E72B2ED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656F3-AE65-4CC0-BA89-47A818CE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07B82-D1BE-4266-BD63-64FEBFAF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87343-7254-48E3-9334-2B63BC6D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06C-BE84-4573-A5AD-CB9D3EE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B9885-3D1C-4962-BCC0-9565F41B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4E3B2-74F4-4EE0-9E84-FC923200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727F7-5645-4720-915F-A05E07F7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913AF-EEBF-4F68-959D-48904A0E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1A54-5C23-4E8B-9829-9A3183D1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C545E-5A80-4202-B9AD-E0E46E8F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17E13-4734-4182-8A8A-EB4FDF44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85EE0-8E82-41AB-8113-F0210AF8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AEDD9-B16A-4275-8AEE-E32F7785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FAC3F-03E6-410E-9526-C3E2BBD1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03E-6A02-4862-8592-35FA831F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18B15-F9AD-41BB-9E5D-6622E37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A73ED-9D94-4F85-AA73-FADAF14D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EC29C-07F9-42B4-9297-B0A41D2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8F894-0CD1-421F-83A6-07694DCE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CB191-EDE0-4CE4-81B2-D6651DEB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6E9C-B3A6-40C8-9F3C-E6162B1C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F5964-2A82-4BF9-B4C5-6274B2B4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090D6-3CFA-43B5-A308-F111E818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2C487-A395-4AAC-AF71-404B42D4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AB8FD-384D-418E-970F-AF865D6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6771-287C-468E-ADFB-D626ECFB6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C462-4472-476C-8EB8-30C07940C31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BD0B-0BD7-497E-899B-4457C52C7A3E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55A9-B9ED-4539-A43B-843347D8ED8E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FF7E-4B32-41C6-960A-01F6FD882DA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1DD8-A03E-4ED1-8386-3A2195128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178D-62D5-4D41-8CFC-64499AF898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ABC5-A89C-447D-80A5-6926920AD255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6F71-B7F2-4B94-9FD3-94299AC8121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D906-B38A-4D07-AC25-A21E4DFCAB8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CB97-3CD7-4046-B193-C535E65415C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8310-F5F3-4968-BF77-8B0E925BDB5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80B6-DE1C-4C4A-92A7-8F009D2DE03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esky.com/Gameall/73183493944770560/20000627/eoaa1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w.dgzx.net/Article_Show.asp?ArticleID=26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%C2%EC%D2%CF&#892;&#428;&amp;in=16&amp;cl=2&amp;cm=1&amp;sc=0&amp;lm=-1&amp;pn=15&amp;rn=1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96.cn/photo/2005-3-6/cc422418045137562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3124080" y="1668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Text Box 4" descr=""/>
          <p:cNvPicPr/>
          <p:nvPr/>
        </p:nvPicPr>
        <p:blipFill>
          <a:blip r:embed="rId2"/>
          <a:stretch/>
        </p:blipFill>
        <p:spPr>
          <a:xfrm>
            <a:off x="5894280" y="4767120"/>
            <a:ext cx="3121200" cy="2084400"/>
          </a:xfrm>
          <a:prstGeom prst="rect">
            <a:avLst/>
          </a:prstGeom>
          <a:ln w="0">
            <a:noFill/>
          </a:ln>
        </p:spPr>
      </p:pic>
      <p:pic>
        <p:nvPicPr>
          <p:cNvPr id="536" name="Text Box 5" descr=""/>
          <p:cNvPicPr/>
          <p:nvPr/>
        </p:nvPicPr>
        <p:blipFill>
          <a:blip r:embed="rId3"/>
          <a:stretch/>
        </p:blipFill>
        <p:spPr>
          <a:xfrm>
            <a:off x="5237280" y="-638280"/>
            <a:ext cx="4059000" cy="64724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5396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219680" y="404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师大版语文八年级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10"/>
          <p:cNvSpPr/>
          <p:nvPr/>
        </p:nvSpPr>
        <p:spPr>
          <a:xfrm>
            <a:off x="4416480" y="601020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02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7640" cy="15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29" descr="蚂蚁成堆打架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30" descr="蚂蚁07"/>
          <p:cNvPicPr/>
          <p:nvPr/>
        </p:nvPicPr>
        <p:blipFill>
          <a:blip r:embed="rId3"/>
          <a:stretch/>
        </p:blipFill>
        <p:spPr>
          <a:xfrm>
            <a:off x="5651640" y="189000"/>
            <a:ext cx="3342960" cy="25066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031"/>
          <p:cNvSpPr/>
          <p:nvPr/>
        </p:nvSpPr>
        <p:spPr>
          <a:xfrm rot="18880200">
            <a:off x="2448360" y="166428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38"/>
          <p:cNvSpPr/>
          <p:nvPr/>
        </p:nvSpPr>
        <p:spPr>
          <a:xfrm>
            <a:off x="291636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一粒面包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且一根手指顷刻间就能将它捻成碎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039"/>
          <p:cNvSpPr/>
          <p:nvPr/>
        </p:nvSpPr>
        <p:spPr>
          <a:xfrm rot="18880200">
            <a:off x="4896720" y="324828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040"/>
          <p:cNvSpPr/>
          <p:nvPr/>
        </p:nvSpPr>
        <p:spPr>
          <a:xfrm>
            <a:off x="5435640" y="346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蚂蚁看来小小的面包屑是切切实实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041"/>
          <p:cNvSpPr/>
          <p:nvPr/>
        </p:nvSpPr>
        <p:spPr>
          <a:xfrm rot="18880200">
            <a:off x="7128360" y="454392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42"/>
          <p:cNvSpPr/>
          <p:nvPr/>
        </p:nvSpPr>
        <p:spPr>
          <a:xfrm>
            <a:off x="7596360" y="42102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蚂蚁的幸福是渺小的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自己并不比它优越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时又在感慨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043"/>
          <p:cNvSpPr/>
          <p:nvPr/>
        </p:nvSpPr>
        <p:spPr>
          <a:xfrm>
            <a:off x="6732720" y="5805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44"/>
          <p:cNvSpPr/>
          <p:nvPr/>
        </p:nvSpPr>
        <p:spPr>
          <a:xfrm>
            <a:off x="3564000" y="47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要为眼前的一些即得利益而沾沾自喜，而应用更高远的视角来思考自己的生存、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WordArt 1046"/>
          <p:cNvSpPr txBox="1"/>
          <p:nvPr/>
        </p:nvSpPr>
        <p:spPr>
          <a:xfrm>
            <a:off x="250920" y="2492280"/>
            <a:ext cx="23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WordArt 1048"/>
          <p:cNvSpPr txBox="1"/>
          <p:nvPr/>
        </p:nvSpPr>
        <p:spPr>
          <a:xfrm rot="1516200">
            <a:off x="3062160" y="-339840"/>
            <a:ext cx="203040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304920" y="1508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拓展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33520" y="152388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观察图片，展开联想、想象，用自己的语言把它描述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蚂蚁09"/>
          <p:cNvPicPr/>
          <p:nvPr/>
        </p:nvPicPr>
        <p:blipFill>
          <a:blip r:embed="rId1"/>
          <a:stretch/>
        </p:blipFill>
        <p:spPr>
          <a:xfrm>
            <a:off x="3564000" y="0"/>
            <a:ext cx="55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250920" y="189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新宋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1042920" y="198900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继续完成、完善拓展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预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诞生一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455280" y="15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24897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识记文中的生字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432680" y="3581280"/>
            <a:ext cx="6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学习作者细心观察、善于联想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485440" y="5334120"/>
            <a:ext cx="23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理解文章主旨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感悟蚂蚁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01000" y="11206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76960" y="2971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6560" y="4775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情感与价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2089080"/>
            <a:ext cx="8961480" cy="231840"/>
          </a:xfrm>
          <a:prstGeom prst="rect">
            <a:avLst/>
          </a:prstGeom>
          <a:solidFill>
            <a:srgbClr val="f9f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2089080"/>
            <a:ext cx="9144000" cy="360"/>
            <a:chOff x="0" y="2089080"/>
            <a:chExt cx="9144000" cy="360"/>
          </a:xfrm>
        </p:grpSpPr>
        <p:sp>
          <p:nvSpPr>
            <p:cNvPr id="610" name="Rectangle 4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AutoShape 6">
            <a:hlinkClick r:id="rId1"/>
          </p:cNvPr>
          <p:cNvSpPr/>
          <p:nvPr/>
        </p:nvSpPr>
        <p:spPr>
          <a:xfrm>
            <a:off x="8605800" y="2133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0989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04920" y="1219320"/>
            <a:ext cx="8305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课文通过对蚂蚁的观察、描写，启示我们人类，不要为眼前的一些即得利益而沾沾自喜，而应用更高远的视角来思考自己的生存、命运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304920" y="-4680"/>
            <a:ext cx="47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</a:rPr>
              <a:t>课文主旨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511607170586317[1]"/>
          <p:cNvPicPr/>
          <p:nvPr/>
        </p:nvPicPr>
        <p:blipFill>
          <a:blip r:embed="rId1"/>
          <a:stretch/>
        </p:blipFill>
        <p:spPr>
          <a:xfrm>
            <a:off x="152280" y="3505320"/>
            <a:ext cx="4191120" cy="3114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200510312223451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2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u=3735508487,3842492716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8600"/>
            <a:ext cx="4267080" cy="3038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cc200536213161706_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50532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85800" y="177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有关蚂蚁的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0" y="10666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蚂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是一种小昆虫，它体形小，呈长形，以黑色或褐色居多。头大，有一对复眼，触角长，腹部卵形。它的种类很多，每种蚂蚁都分雄蚁、雌蚁和工蚁，雌蚁和雄蚁都有翅，工蚁没有翅。蚂蚁会挖土筑巢，并能贮藏食物，成群穴居。蚂蚁与人类关系密切，有些种类对人有害，但总的来说在人类 居住的地方害多益少，需加以防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152280"/>
            <a:ext cx="32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3300"/>
                </a:solidFill>
                <a:latin typeface="Times New Roman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65240" y="1052640"/>
            <a:ext cx="7215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南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本名张帆，当代学者。南帆主要从事现当代文学和文学理论研究，目前已出版了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与感悟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冲突的文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阐释的空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学的维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多种学术著作。主要的散文作品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明七巧板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星空与植物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追问往昔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与享用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南帆05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82680" y="403848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28340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释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52280" y="11430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畏畏缩缩    义无反顾     怜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居高临下    左顾右盼     蹒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3720" y="293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辨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76520" y="40384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4495680" y="41911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1371600" y="42670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50280" y="40291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650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59040" y="304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</a:rPr>
              <a:t>初读课文，感知内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1828800"/>
            <a:ext cx="78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请用你喜欢的方式读课文，用最简洁的语言概括课文的内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-5256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，议一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24000" y="220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文章是怎样描写蚂蚁的行动的？找出相应的词语，并想一想，运用这些词语起到了怎样的效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24000" y="4581360"/>
            <a:ext cx="86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、第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段中“我”在稿纸上写下两个字“蚂蚁”，作者写着两个字蕴含着怎样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24000" y="10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给课文划分层次并概括层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custGeom>
            <a:avLst/>
            <a:gdLst>
              <a:gd name="textAreaLeft" fmla="*/ 47520 w 1008000"/>
              <a:gd name="textAreaRight" fmla="*/ 960480 w 1008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8458" h="21600">
                <a:moveTo>
                  <a:pt x="0" y="0"/>
                </a:moveTo>
                <a:lnTo>
                  <a:pt x="28458" y="0"/>
                </a:lnTo>
                <a:lnTo>
                  <a:pt x="28458" y="21600"/>
                </a:lnTo>
                <a:lnTo>
                  <a:pt x="0" y="21600"/>
                </a:lnTo>
                <a:close/>
              </a:path>
              <a:path fill="lightenLess" w="28458" h="21600">
                <a:moveTo>
                  <a:pt x="0" y="0"/>
                </a:moveTo>
                <a:lnTo>
                  <a:pt x="28458" y="0"/>
                </a:lnTo>
                <a:lnTo>
                  <a:pt x="27108" y="1350"/>
                </a:lnTo>
                <a:lnTo>
                  <a:pt x="1350" y="1350"/>
                </a:lnTo>
                <a:close/>
              </a:path>
              <a:path fill="darken" w="28458" h="21600">
                <a:moveTo>
                  <a:pt x="28458" y="0"/>
                </a:moveTo>
                <a:lnTo>
                  <a:pt x="28458" y="21600"/>
                </a:lnTo>
                <a:lnTo>
                  <a:pt x="27108" y="20250"/>
                </a:lnTo>
                <a:lnTo>
                  <a:pt x="27108" y="1350"/>
                </a:lnTo>
                <a:close/>
              </a:path>
              <a:path fill="darkenLess" w="28458" h="21600">
                <a:moveTo>
                  <a:pt x="2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08" y="20250"/>
                </a:lnTo>
                <a:close/>
              </a:path>
              <a:path fill="lighten" w="2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1042920" y="1268280"/>
            <a:ext cx="433440" cy="3816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-35460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蚂        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03280" y="836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-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描述蚂蚁的活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03280" y="45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蚂蚁发现饼干后的表现和我的感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924360" y="76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畏畏缩缩、偷渡者、胆怯、谨慎、左顾右盼、退了回来、重大的判断、下定了决心、义无反顾、信念坚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399564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惊奇、晕、意外的战利品、竭尽全力、扛、蹒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6372360" y="907920"/>
            <a:ext cx="792000" cy="4608720"/>
          </a:xfrm>
          <a:custGeom>
            <a:avLst/>
            <a:gdLst>
              <a:gd name="textAreaLeft" fmla="*/ 0 w 792000"/>
              <a:gd name="textAreaRight" fmla="*/ 285840 w 792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64360" y="1844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0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7520 w 1332000"/>
              <a:gd name="textAreaRight" fmla="*/ 1284480 w 1332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52" y="1350"/>
                </a:lnTo>
                <a:lnTo>
                  <a:pt x="1350" y="135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52" y="20250"/>
                </a:lnTo>
                <a:lnTo>
                  <a:pt x="36252" y="135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252" y="2025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804000" y="765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过拟人化、夸张化的手法，将表现人的意志、行为的重大词语用来表现蚂蚁这种小动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804000" y="35892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词小用，不伦不类，产生一种幽默感；使对象的动作更加传神生动；抓住事物特点描写；想象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812000" y="3068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-293400" y="4797360"/>
            <a:ext cx="127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敬   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-34920" y="158580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蚂蚁的幸福是“货真价实”的，你赞同这种说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-34920" y="3168720"/>
            <a:ext cx="87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、结尾作者为什么感慨？作者在感慨蚂蚁的同时又在感慨谁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-34920" y="475308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你认为，本文的主旨是什么？这篇文章对你有什么启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0" y="11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什么说蚂蚁的幸福是渺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7740720" y="595008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2:12:0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11-02T08:42:55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