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D794-7D0A-4DBD-A548-C3DFA5B7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B9F6-B2BB-4029-8B62-EBE87498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803B1-56D8-4B17-839F-4F386C4B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7096D-78B9-42AC-B95E-7A18BF01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048C8-1875-432D-93A7-36D8C6D1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106A6-868B-4389-ADD4-9430B196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FFACF-2C7D-491A-8B84-1BA40740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65957-027C-4605-B705-CF7841B3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1477B-2DC8-4DC8-B580-20F55106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5BA3C-AE3F-43D9-A2FD-8A335224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1E8D1-3A2F-4012-9F3E-2008CB1C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DC9EF-72C6-4823-81E9-069F4414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EE93-CBF2-40EB-A33D-F4E30CFC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92FC0-BB36-4342-B38E-6705F20F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D3FDD-5B6C-4E66-84E9-2B8D37A6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3D33C-7B06-4514-A7B6-4E55F8BC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49E13-C322-4B21-8D2A-2342C836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76747-52B3-4CF6-A933-14CB063B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8A406-353F-4A59-A519-295BA833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E029F-15B6-4CCA-92F7-E917045F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E569F-D1BC-4ACF-910D-57F2460E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46229-90AE-43AA-B907-4238A245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B8474-539F-440B-A9B4-522BF6F2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80B5-A0C9-4443-9618-16D835F1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A4E63-68F0-4440-B072-AD705BC6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23198-4642-4D8F-841C-187BDA4C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9CEAD-A6E4-4F1B-A25A-96D8C300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DB21E-CB7D-4680-9EC3-05C32DBF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48F0C-4713-4FF9-8E87-495B3542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E5F85-5CA0-499C-9429-6D139855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1A46E-74CD-436E-BFF3-71E41CF5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317CB-C28C-4D70-9136-38F01B40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0423C-E6AE-41F9-8399-2B216AA7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CE8D5-6CCE-4BBA-9E4E-A2DCD9C8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1325-9FF0-4634-97A0-2C722C69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AABDF-902C-4E0C-83C5-915AA598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80ACE-D46F-4DB5-8C22-D9A33AC4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158CA-E09E-49B0-9E46-B1981134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6F370-2555-4BC7-A0E7-0ABAD9BD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400DE-1DA7-44A1-BCC3-E629A28E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2D8F9-1845-45F3-89D3-DBB1B720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4E801-0D5B-4AC1-B52D-DD469B4F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91FD3-9620-495D-BEE7-0C41DE7E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A789A-9B46-4299-9104-30713A3A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093ED-AA33-437E-A07C-474EC0DD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15BA-454B-47CF-8455-EDDF08C8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2B2A3-1CE7-47FA-BA54-FBF59B41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56960-ED0C-46D2-AF9E-1BAF35B4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B1A9B-079A-4B49-AAB6-909CD38E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40EC0-4BF8-4C29-90C7-9AC46B90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AC8B3-7831-4CC7-9725-FCCC7FB9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B3DA93-D802-44C4-A4ED-C9776C8B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781C6-DE4C-42C0-98A9-56E8CD04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2DD1F-5679-4AAB-B0C1-3E4C5C3E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2D181-0DCC-4B0D-A68D-E58B3FBD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630EB4-50D3-426B-AA7A-F08ECBBC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A347-DAF1-44DF-8C4B-C5ED3227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8BEAFF-4BD4-4643-BADC-C3F829D7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A2375C-85E3-4482-8087-36B80B30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E7752D-8BF9-44B3-8D0B-22F87F37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B05DBC-A467-40FE-85DC-8036858E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C2E5C-4FEB-4C99-8E9B-FB2E9EDA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5FA007-3618-4C7A-8B8A-3C6FDF54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29F547-8FF0-4180-94A7-6058560A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7514-46BC-4AAF-80FA-458092E0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9355-2DFC-4894-B0B5-8235D358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FD93-1272-4C1E-AC27-C232B2BF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31B4-7F6B-44CB-89B4-04F7A479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8B15-0DEB-4E75-9D0C-2F278C8C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3D09-1B6B-45CB-B8AB-0A996A46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5790-0554-4B6D-AFE7-C5B7FED5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C64A-78F0-4516-B887-527C0123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B27C-55A4-4F6D-8E54-5C45C238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93DF-D2BB-4AD3-8C8D-875DD249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906EF-973D-49ED-9E1E-9C81A4C2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489AB-7CA3-493E-B37C-3948E219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B80A2-B989-4901-878E-373F5006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B3D19-F9C4-4DE6-8CEC-754D6FB3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64345-C61F-4362-90B4-08A5EC17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CF2E-E4F4-481F-A4A0-28964B58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F949D-ED9C-42A0-ACCA-C114E340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D5AE7-06ED-4AE5-89A1-CFA8C22F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B6F8A-30F0-4043-BEC3-C84A5D0F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43B01-2281-45C2-8A3E-CB374D8C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D3628-8669-4C7F-8EBA-589CFD47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5C66E-E2C0-44EA-8EB0-86A6808D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D505F-7118-4573-9667-F8A583DE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2FA29-32B2-4FF0-83EB-CDCE1895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7BBA7-ACCE-4623-BC4E-15548AF1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69550-82DA-4013-8CE1-7867EB48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79E3-BB69-4A5A-B0A9-CB1DB2C2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8988C-7D3C-4578-929C-056CE5AD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F7969-6801-45FD-8176-630FC185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65E5D-687E-4B9E-9FE4-6A79C75F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AEE59-01BE-434B-940C-5C42F5E6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25864-AF4F-434B-BB97-16F30BFC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66A09-0E92-434D-B5F3-BE933424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54694-4125-40AE-9716-E6E07E78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DFFBA-31DC-4518-B962-11367B1F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506C7-C497-43EA-A511-C9E58153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59F71-34DD-4927-9F47-B69D044F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0F03-5514-4AA0-81D9-609150D8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F64C0-2CB9-40AB-96D2-DD1C796E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662FD-3F87-4DD0-92C5-CCD33201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CCC4F-F2D8-4750-B9A9-CDE08F9B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F9406-5032-4F56-8D89-1DC1EEC0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035EA-5157-4870-A122-6DD07AA0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49F91-043B-477C-8859-AA3C98E2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91873-E514-4E8D-B05D-5FED3D1C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482DA-6B01-41F4-9761-FB056E60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708B9-9675-4D6A-A23F-37797808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9276A-6DE2-4D3F-BED8-C287EDCA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EC34-6F20-4011-A6F0-8236C78A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53C87-9343-4E1B-A135-9C854574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20AF2-F025-4903-93E9-7F6962A7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F8824-600A-469A-ACF7-E0A9986F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F58CA-1418-47D6-A980-32C7E5E1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11575-8C39-4E75-BDA8-3EBB368B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FAB79-A978-4CA3-B6EF-AE4B1571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8C58E-1511-4409-B7AF-7E21300B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E95C9-EBEF-4B6D-8773-B7136A06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13F7B-9E11-4C3D-BDAB-B1814B3C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B7C4C-D19C-4655-85A4-59BFF0F5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A0AF-555B-49D1-90A9-AC17B480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36B79-4FE0-4CCD-AFEB-4835C9C9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D9134-C613-4EFE-8E8D-E253BC4C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73313-FB88-46E2-9CEB-080B514C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4637C-41F3-41E6-BC71-168080D0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D40C1-8307-4640-9EF6-04B9D50C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2A235-235B-45B6-8F4E-CF7AE543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4F353-3942-4DE0-A3AE-DF15D0ED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262FE-D35B-4DA2-90A4-9117FD92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24E46-CB6F-46FA-B6CA-8CFAD523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7BA8F-C0AF-4D2F-A260-BE864304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C8F0-C58C-4D54-8570-FAE6CC4F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1867B-E1B2-44E4-9683-03B2854B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70965-9D83-4D18-9CEC-B83D3356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301F8-09DA-4D73-A191-1DA14422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93120-5767-4194-ACC3-32E40E54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2153F-150F-427D-A201-64F8667D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C0093-B428-498E-A684-BE2BF268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3FDAA-C46C-4A97-95E9-C0A4A87E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CD377-38A9-4797-8409-5214E46C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A6391-7EC2-44AF-B065-1DE25005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1B4A8-321E-4DBA-A033-947CFCCC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4923-0910-418F-B923-67131E24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70D4E-DF4F-40C5-9272-C6CD25F0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4659E-3632-43FC-AC1B-17A2EE2A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E76DB-33C6-4731-923E-3F10AA8F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47616-2AAB-42CD-9A58-12474E9D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1AA2F-D879-4699-AC8C-491408B1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E3319-5153-47E4-B7F6-9BFA5CD9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842EA-EBB9-468D-BF8C-0BE846F8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FC7E1-9F5B-47A9-8B23-AEF35660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FD1B6-D8D4-48A6-ABEC-190414F6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2FE63-6F93-4BA1-A4C5-1AF4EF0C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2122-FB4A-4783-AAC3-E5073EB07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F05F-F6F9-4943-9949-D0DF7CF31459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790F-13F9-4511-8F49-1132C3203436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AC68-469F-4D39-81E0-911AE5A1D838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E679-58AE-4FCF-A3E4-BEBA93E1092C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4326-B217-4C94-86BC-1BBFF427F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4EE2-BB87-433C-8075-B8CDB1AD20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1129-36F9-423A-AA4D-478350683489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7F55-30AA-4714-A62B-CD815C69F9F9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6584-764A-4AAF-A946-36C8484E2843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59C2-1652-4DAA-8973-07FB226D8036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7612-B85A-43E6-A2BD-D306CE75F61C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9AB6-268B-49C9-9FE1-D2DA02E1FB2A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esky.com/Gameall/73183493944770560/20000627/eoaa1.jpg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sw.dgzx.net/Article_Show.asp?ArticleID=265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.baidu.com/i?ct=503316480&amp;z=0&amp;tn=baiduimagedetail&amp;word=%C2%EC%D2%CF&#892;&#428;&amp;in=16&amp;cl=2&amp;cm=1&amp;sc=0&amp;lm=-1&amp;pn=15&amp;rn=1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www.96.cn/photo/2005-3-6/cc422418045137562.htm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3124080" y="16686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Text Box 4" descr=""/>
          <p:cNvPicPr/>
          <p:nvPr/>
        </p:nvPicPr>
        <p:blipFill>
          <a:blip r:embed="rId2"/>
          <a:stretch/>
        </p:blipFill>
        <p:spPr>
          <a:xfrm>
            <a:off x="5894280" y="4767120"/>
            <a:ext cx="3121200" cy="2084400"/>
          </a:xfrm>
          <a:prstGeom prst="rect">
            <a:avLst/>
          </a:prstGeom>
          <a:ln w="0">
            <a:noFill/>
          </a:ln>
        </p:spPr>
      </p:pic>
      <p:pic>
        <p:nvPicPr>
          <p:cNvPr id="536" name="Text Box 5" descr=""/>
          <p:cNvPicPr/>
          <p:nvPr/>
        </p:nvPicPr>
        <p:blipFill>
          <a:blip r:embed="rId3"/>
          <a:stretch/>
        </p:blipFill>
        <p:spPr>
          <a:xfrm>
            <a:off x="5237280" y="-638280"/>
            <a:ext cx="4059000" cy="647244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6"/>
          <p:cNvSpPr/>
          <p:nvPr/>
        </p:nvSpPr>
        <p:spPr>
          <a:xfrm>
            <a:off x="53964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1219680" y="40464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北师大版语文八年级上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矩形 10"/>
          <p:cNvSpPr/>
          <p:nvPr/>
        </p:nvSpPr>
        <p:spPr>
          <a:xfrm>
            <a:off x="4416480" y="6010200"/>
            <a:ext cx="311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1028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087640" cy="15494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029" descr="蚂蚁成堆打架"/>
          <p:cNvPicPr/>
          <p:nvPr/>
        </p:nvPicPr>
        <p:blipFill>
          <a:blip r:embed="rId2"/>
          <a:stretch/>
        </p:blipFill>
        <p:spPr>
          <a:xfrm>
            <a:off x="250920" y="443700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030" descr="蚂蚁07"/>
          <p:cNvPicPr/>
          <p:nvPr/>
        </p:nvPicPr>
        <p:blipFill>
          <a:blip r:embed="rId3"/>
          <a:stretch/>
        </p:blipFill>
        <p:spPr>
          <a:xfrm>
            <a:off x="5651640" y="189000"/>
            <a:ext cx="3342960" cy="2506680"/>
          </a:xfrm>
          <a:prstGeom prst="rect">
            <a:avLst/>
          </a:prstGeom>
          <a:ln w="0">
            <a:noFill/>
          </a:ln>
        </p:spPr>
      </p:pic>
      <p:sp>
        <p:nvSpPr>
          <p:cNvPr id="586" name="AutoShape 1031"/>
          <p:cNvSpPr/>
          <p:nvPr/>
        </p:nvSpPr>
        <p:spPr>
          <a:xfrm rot="18880200">
            <a:off x="2448360" y="1664280"/>
            <a:ext cx="432000" cy="792360"/>
          </a:xfrm>
          <a:prstGeom prst="downArrow">
            <a:avLst>
              <a:gd name="adj1" fmla="val 50000"/>
              <a:gd name="adj2" fmla="val 45854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038"/>
          <p:cNvSpPr/>
          <p:nvPr/>
        </p:nvSpPr>
        <p:spPr>
          <a:xfrm>
            <a:off x="2916360" y="19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只有一粒面包屑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且一根手指顷刻间就能将它捻成碎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1039"/>
          <p:cNvSpPr/>
          <p:nvPr/>
        </p:nvSpPr>
        <p:spPr>
          <a:xfrm rot="18880200">
            <a:off x="4896720" y="3248280"/>
            <a:ext cx="431640" cy="792360"/>
          </a:xfrm>
          <a:prstGeom prst="downArrow">
            <a:avLst>
              <a:gd name="adj1" fmla="val 50000"/>
              <a:gd name="adj2" fmla="val 45892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040"/>
          <p:cNvSpPr/>
          <p:nvPr/>
        </p:nvSpPr>
        <p:spPr>
          <a:xfrm>
            <a:off x="5435640" y="346536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蚂蚁看来小小的面包屑是切切实实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1041"/>
          <p:cNvSpPr/>
          <p:nvPr/>
        </p:nvSpPr>
        <p:spPr>
          <a:xfrm rot="18880200">
            <a:off x="7128360" y="4543920"/>
            <a:ext cx="432000" cy="792360"/>
          </a:xfrm>
          <a:prstGeom prst="downArrow">
            <a:avLst>
              <a:gd name="adj1" fmla="val 50000"/>
              <a:gd name="adj2" fmla="val 45854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042"/>
          <p:cNvSpPr/>
          <p:nvPr/>
        </p:nvSpPr>
        <p:spPr>
          <a:xfrm>
            <a:off x="7596360" y="421020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蚂蚁的幸福是渺小的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自己并不比它优越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同时又在感慨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1043"/>
          <p:cNvSpPr/>
          <p:nvPr/>
        </p:nvSpPr>
        <p:spPr>
          <a:xfrm>
            <a:off x="6732720" y="5805360"/>
            <a:ext cx="863640" cy="358920"/>
          </a:xfrm>
          <a:prstGeom prst="leftArrow">
            <a:avLst>
              <a:gd name="adj1" fmla="val 50000"/>
              <a:gd name="adj2" fmla="val 60155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044"/>
          <p:cNvSpPr/>
          <p:nvPr/>
        </p:nvSpPr>
        <p:spPr>
          <a:xfrm>
            <a:off x="3564000" y="479736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要为眼前的一些即得利益而沾沾自喜，而应用更高远的视角来思考自己的生存、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WordArt 1046"/>
          <p:cNvSpPr txBox="1"/>
          <p:nvPr/>
        </p:nvSpPr>
        <p:spPr>
          <a:xfrm>
            <a:off x="250920" y="2492280"/>
            <a:ext cx="230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蚂蚁</a:t>
            </a:r>
            <a:endParaRPr b="0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5" name="WordArt 1048"/>
          <p:cNvSpPr txBox="1"/>
          <p:nvPr/>
        </p:nvSpPr>
        <p:spPr>
          <a:xfrm rot="1516200">
            <a:off x="3062160" y="-339840"/>
            <a:ext cx="2030400" cy="24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蚂蚁</a:t>
            </a:r>
            <a:endParaRPr b="0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3"/>
          <p:cNvSpPr/>
          <p:nvPr/>
        </p:nvSpPr>
        <p:spPr>
          <a:xfrm>
            <a:off x="304920" y="150840"/>
            <a:ext cx="325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拓展练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533520" y="1523880"/>
            <a:ext cx="267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观察图片，展开联想、想象，用自己的语言把它描述出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5" descr="蚂蚁09"/>
          <p:cNvPicPr/>
          <p:nvPr/>
        </p:nvPicPr>
        <p:blipFill>
          <a:blip r:embed="rId1"/>
          <a:stretch/>
        </p:blipFill>
        <p:spPr>
          <a:xfrm>
            <a:off x="3564000" y="0"/>
            <a:ext cx="556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250920" y="189000"/>
            <a:ext cx="20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新宋体"/>
              </a:rPr>
              <a:t>作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1042920" y="198900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１、继续完成、完善拓展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２、预习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每天诞生一次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3455280" y="152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2489760" y="2133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识记文中的生字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4432680" y="3581280"/>
            <a:ext cx="6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学习作者细心观察、善于联想的写作方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2485440" y="5334120"/>
            <a:ext cx="238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理解文章主旨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感悟蚂蚁的精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801000" y="11206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知识与能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876960" y="29718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过程与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8"/>
          <p:cNvSpPr/>
          <p:nvPr/>
        </p:nvSpPr>
        <p:spPr>
          <a:xfrm>
            <a:off x="826560" y="4775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情感与价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0" y="2089080"/>
            <a:ext cx="8961480" cy="231840"/>
          </a:xfrm>
          <a:prstGeom prst="rect">
            <a:avLst/>
          </a:prstGeom>
          <a:solidFill>
            <a:srgbClr val="f9f9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0" y="2089080"/>
            <a:ext cx="9144000" cy="360"/>
            <a:chOff x="0" y="2089080"/>
            <a:chExt cx="9144000" cy="360"/>
          </a:xfrm>
        </p:grpSpPr>
        <p:sp>
          <p:nvSpPr>
            <p:cNvPr id="610" name="Rectangle 4"/>
            <p:cNvSpPr/>
            <p:nvPr/>
          </p:nvSpPr>
          <p:spPr>
            <a:xfrm>
              <a:off x="0" y="20890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5"/>
            <p:cNvSpPr/>
            <p:nvPr/>
          </p:nvSpPr>
          <p:spPr>
            <a:xfrm>
              <a:off x="0" y="20890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AutoShape 6">
            <a:hlinkClick r:id="rId1"/>
          </p:cNvPr>
          <p:cNvSpPr/>
          <p:nvPr/>
        </p:nvSpPr>
        <p:spPr>
          <a:xfrm>
            <a:off x="8605800" y="2133720"/>
            <a:ext cx="297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974880" y="13827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4098960" y="139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9"/>
          <p:cNvSpPr/>
          <p:nvPr/>
        </p:nvSpPr>
        <p:spPr>
          <a:xfrm>
            <a:off x="304920" y="1219320"/>
            <a:ext cx="83055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课文通过对蚂蚁的观察、描写，启示我们人类，不要为眼前的一些即得利益而沾沾自喜，而应用更高远的视角来思考自己的生存、命运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10"/>
          <p:cNvSpPr/>
          <p:nvPr/>
        </p:nvSpPr>
        <p:spPr>
          <a:xfrm>
            <a:off x="304920" y="-4680"/>
            <a:ext cx="47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Times New Roman"/>
              </a:rPr>
              <a:t>课文主旨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0511607170586317[1]"/>
          <p:cNvPicPr/>
          <p:nvPr/>
        </p:nvPicPr>
        <p:blipFill>
          <a:blip r:embed="rId1"/>
          <a:stretch/>
        </p:blipFill>
        <p:spPr>
          <a:xfrm>
            <a:off x="152280" y="3505320"/>
            <a:ext cx="4191120" cy="3114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200510312223451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52280"/>
            <a:ext cx="4191120" cy="28958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u=3735508487,3842492716&amp;gp=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228600"/>
            <a:ext cx="4267080" cy="30384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" descr="cc200536213161706_m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8320" y="3505320"/>
            <a:ext cx="4190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685800" y="17784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有关蚂蚁的知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0" y="1066680"/>
            <a:ext cx="89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蚂蚁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是一种小昆虫，它体形小，呈长形，以黑色或褐色居多。头大，有一对复眼，触角长，腹部卵形。它的种类很多，每种蚂蚁都分雄蚁、雌蚁和工蚁，雌蚁和雄蚁都有翅，工蚁没有翅。蚂蚁会挖土筑巢，并能贮藏食物，成群穴居。蚂蚁与人类关系密切，有些种类对人有害，但总的来说在人类 居住的地方害多益少，需加以防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228600" y="152280"/>
            <a:ext cx="326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993300"/>
                </a:solidFill>
                <a:latin typeface="Times New Roman"/>
              </a:rPr>
              <a:t>作者简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165240" y="1052640"/>
            <a:ext cx="72151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南帆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本名张帆，当代学者。南帆主要从事现当代文学和文学理论研究，目前已出版了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理解与感悟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冲突的文学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阐释的空间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文学的维度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等多种学术著作。主要的散文作品有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文明七巧板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星空与植物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追问往昔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自由与享用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4" descr="南帆05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382680" y="403848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1283400" y="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解释下列词语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152280" y="1143000"/>
            <a:ext cx="861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畏畏缩缩    义无反顾     怜悯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居高临下    左顾右盼     蹒跚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693720" y="29383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辨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1676520" y="4038480"/>
            <a:ext cx="457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4495680" y="41911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1371600" y="426708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4850280" y="4029120"/>
            <a:ext cx="54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365040" y="47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1859040" y="3049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cc"/>
                </a:solidFill>
                <a:latin typeface="Times New Roman"/>
              </a:rPr>
              <a:t>初读课文，感知内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457200" y="1828800"/>
            <a:ext cx="786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请用你喜欢的方式读课文，用最简洁的语言概括课文的内容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0" y="-52560"/>
            <a:ext cx="52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想一想，议一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324000" y="220500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、文章是怎样描写蚂蚁的行动的？找出相应的词语，并想一想，运用这些词语起到了怎样的效果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324000" y="4581360"/>
            <a:ext cx="862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、第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段中“我”在稿纸上写下两个字“蚂蚁”，作者写着两个字蕴含着怎样的感情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324000" y="105264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给课文划分层次并概括层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6">
            <a:hlinkClick r:id="" action="ppaction://hlinkshowjump?jump=nextslide"/>
          </p:cNvPr>
          <p:cNvSpPr/>
          <p:nvPr/>
        </p:nvSpPr>
        <p:spPr>
          <a:xfrm>
            <a:off x="7812000" y="6093000"/>
            <a:ext cx="1008000" cy="765000"/>
          </a:xfrm>
          <a:custGeom>
            <a:avLst/>
            <a:gdLst>
              <a:gd name="textAreaLeft" fmla="*/ 47520 w 1008000"/>
              <a:gd name="textAreaRight" fmla="*/ 960480 w 1008000"/>
              <a:gd name="textAreaTop" fmla="*/ 47520 h 765000"/>
              <a:gd name="textAreaBottom" fmla="*/ 717480 h 765000"/>
            </a:gdLst>
            <a:ahLst/>
            <a:rect l="textAreaLeft" t="textAreaTop" r="textAreaRight" b="textAreaBottom"/>
            <a:pathLst>
              <a:path w="28458" h="21600">
                <a:moveTo>
                  <a:pt x="0" y="0"/>
                </a:moveTo>
                <a:lnTo>
                  <a:pt x="28458" y="0"/>
                </a:lnTo>
                <a:lnTo>
                  <a:pt x="28458" y="21600"/>
                </a:lnTo>
                <a:lnTo>
                  <a:pt x="0" y="21600"/>
                </a:lnTo>
                <a:close/>
              </a:path>
              <a:path fill="lightenLess" w="28458" h="21600">
                <a:moveTo>
                  <a:pt x="0" y="0"/>
                </a:moveTo>
                <a:lnTo>
                  <a:pt x="28458" y="0"/>
                </a:lnTo>
                <a:lnTo>
                  <a:pt x="27108" y="1350"/>
                </a:lnTo>
                <a:lnTo>
                  <a:pt x="1350" y="1350"/>
                </a:lnTo>
                <a:close/>
              </a:path>
              <a:path fill="darken" w="28458" h="21600">
                <a:moveTo>
                  <a:pt x="28458" y="0"/>
                </a:moveTo>
                <a:lnTo>
                  <a:pt x="28458" y="21600"/>
                </a:lnTo>
                <a:lnTo>
                  <a:pt x="27108" y="20250"/>
                </a:lnTo>
                <a:lnTo>
                  <a:pt x="27108" y="1350"/>
                </a:lnTo>
                <a:close/>
              </a:path>
              <a:path fill="darkenLess" w="28458" h="21600">
                <a:moveTo>
                  <a:pt x="284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108" y="20250"/>
                </a:lnTo>
                <a:close/>
              </a:path>
              <a:path fill="lighten" w="284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蚂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AutoShape 2"/>
          <p:cNvSpPr/>
          <p:nvPr/>
        </p:nvSpPr>
        <p:spPr>
          <a:xfrm>
            <a:off x="1042920" y="1268280"/>
            <a:ext cx="433440" cy="3816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-354600" y="1916280"/>
            <a:ext cx="139932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蚂        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403280" y="836640"/>
            <a:ext cx="26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一、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-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描述蚂蚁的活动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1403280" y="4581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二、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-9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蚂蚁发现饼干后的表现和我的感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3924360" y="765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畏畏缩缩、偷渡者、胆怯、谨慎、左顾右盼、退了回来、重大的判断、下定了决心、义无反顾、信念坚定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3995640" y="458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惊奇、晕、意外的战利品、竭尽全力、扛、蹒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8"/>
          <p:cNvSpPr/>
          <p:nvPr/>
        </p:nvSpPr>
        <p:spPr>
          <a:xfrm>
            <a:off x="6372360" y="907920"/>
            <a:ext cx="792000" cy="4608720"/>
          </a:xfrm>
          <a:custGeom>
            <a:avLst/>
            <a:gdLst>
              <a:gd name="textAreaLeft" fmla="*/ 0 w 792000"/>
              <a:gd name="textAreaRight" fmla="*/ 285840 w 792000"/>
              <a:gd name="textAreaTop" fmla="*/ 119880 h 4608720"/>
              <a:gd name="textAreaBottom" fmla="*/ 4488840 h 46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7164360" y="184464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0">
            <a:hlinkClick r:id="" action="ppaction://hlinkshowjump?jump=previousslide"/>
          </p:cNvPr>
          <p:cNvSpPr/>
          <p:nvPr/>
        </p:nvSpPr>
        <p:spPr>
          <a:xfrm>
            <a:off x="7812000" y="6093000"/>
            <a:ext cx="1332000" cy="765000"/>
          </a:xfrm>
          <a:custGeom>
            <a:avLst/>
            <a:gdLst>
              <a:gd name="textAreaLeft" fmla="*/ 47520 w 1332000"/>
              <a:gd name="textAreaRight" fmla="*/ 1284480 w 1332000"/>
              <a:gd name="textAreaTop" fmla="*/ 47520 h 765000"/>
              <a:gd name="textAreaBottom" fmla="*/ 717480 h 765000"/>
            </a:gdLst>
            <a:ahLst/>
            <a:rect l="textAreaLeft" t="textAreaTop" r="textAreaRight" b="textAreaBottom"/>
            <a:pathLst>
              <a:path w="37602" h="21600">
                <a:moveTo>
                  <a:pt x="0" y="0"/>
                </a:moveTo>
                <a:lnTo>
                  <a:pt x="37602" y="0"/>
                </a:lnTo>
                <a:lnTo>
                  <a:pt x="37602" y="21600"/>
                </a:lnTo>
                <a:lnTo>
                  <a:pt x="0" y="21600"/>
                </a:lnTo>
                <a:close/>
              </a:path>
              <a:path fill="lightenLess" w="37602" h="21600">
                <a:moveTo>
                  <a:pt x="0" y="0"/>
                </a:moveTo>
                <a:lnTo>
                  <a:pt x="37602" y="0"/>
                </a:lnTo>
                <a:lnTo>
                  <a:pt x="36252" y="1350"/>
                </a:lnTo>
                <a:lnTo>
                  <a:pt x="1350" y="1350"/>
                </a:lnTo>
                <a:close/>
              </a:path>
              <a:path fill="darken" w="37602" h="21600">
                <a:moveTo>
                  <a:pt x="37602" y="0"/>
                </a:moveTo>
                <a:lnTo>
                  <a:pt x="37602" y="21600"/>
                </a:lnTo>
                <a:lnTo>
                  <a:pt x="36252" y="20250"/>
                </a:lnTo>
                <a:lnTo>
                  <a:pt x="36252" y="1350"/>
                </a:lnTo>
                <a:close/>
              </a:path>
              <a:path fill="darkenLess" w="37602" h="21600">
                <a:moveTo>
                  <a:pt x="376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252" y="20250"/>
                </a:lnTo>
                <a:close/>
              </a:path>
              <a:path fill="lighten" w="376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蚂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6804000" y="7650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通过拟人化、夸张化的手法，将表现人的意志、行为的重大词语用来表现蚂蚁这种小动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2"/>
          <p:cNvSpPr/>
          <p:nvPr/>
        </p:nvSpPr>
        <p:spPr>
          <a:xfrm>
            <a:off x="6804000" y="35892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大词小用，不伦不类，产生一种幽默感；使对象的动作更加传神生动；抓住事物特点描写；想象力丰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13"/>
          <p:cNvSpPr/>
          <p:nvPr/>
        </p:nvSpPr>
        <p:spPr>
          <a:xfrm>
            <a:off x="7812000" y="3068640"/>
            <a:ext cx="505080" cy="576360"/>
          </a:xfrm>
          <a:prstGeom prst="downArrow">
            <a:avLst>
              <a:gd name="adj1" fmla="val 50000"/>
              <a:gd name="adj2" fmla="val 285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-293400" y="4797360"/>
            <a:ext cx="12776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敬   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-34920" y="1585800"/>
            <a:ext cx="917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、蚂蚁的幸福是“货真价实”的，你赞同这种说法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-34920" y="3168720"/>
            <a:ext cx="878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、结尾作者为什么感慨？作者在感慨蚂蚁的同时又在感慨谁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-34920" y="4753080"/>
            <a:ext cx="943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、你认为，本文的主旨是什么？这篇文章对你有什么启示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0" y="111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为什么说蚂蚁的幸福是渺小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WordArt 6"/>
          <p:cNvSpPr txBox="1"/>
          <p:nvPr/>
        </p:nvSpPr>
        <p:spPr>
          <a:xfrm>
            <a:off x="7740720" y="5950080"/>
            <a:ext cx="1224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蚂蚁</a:t>
            </a:r>
            <a:endParaRPr b="0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2:12:08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5-11-02T08:42:55Z</dcterms:modified>
  <cp:revision>6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