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BA1-7148-4BC1-A5D0-2138B870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A6C-0CEA-465A-9155-BEC7B787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DACAB-1F7A-4F7F-B47C-253B47B2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101B7-79C3-4936-894F-5BA30B67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6DCC2-076D-4BCA-A26E-9A0B742A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9C73B-92D3-4997-BBC2-5851E7A3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83D1A-E3AD-447D-B3E0-9C865B42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6A3A4-D005-48F7-A7B9-DEF2CDCB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2CDE7-AFC8-40A2-A596-DA73AF29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E8CFD-2356-46FA-B8A4-313739ED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2EE30-9B3B-48AC-ACEB-29A36E00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02EBF-3A72-4AA0-90C4-CC7B937F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C40A-C7B5-439E-9A5B-645E85B5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3D57F-E052-4337-B219-398599A8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C2BD5-29DF-4427-AA42-C7ED6E21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DFB24-ED63-4BDE-ADDE-B6D0F1B4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DC04D-98B3-4B74-BC78-01601E7D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DC21E-0012-414F-8F91-F5900E4B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2A4DC-4BC8-4C3B-8988-1ECD04A4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A321A-96D3-43D9-AA06-DFAE0B29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44DD1-0452-47F0-8EC7-719D1745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0DC7F-451C-4028-93A1-26EBA7FD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28598-510D-4BFB-AB8F-C13AB819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6B9-CD67-436A-AB3D-C92B05A7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64E16-EF8B-4009-9027-C615FD2E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45B24-FAEB-4F26-B4C9-E1BF3BB2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DD99A-B33B-406A-95B9-36690ED0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DE162-4D28-4862-A3B2-157E9588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52FFA-2E65-432A-9E6C-79408589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1F676-E6C6-4744-B1E0-F1287B06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77A55-7204-40E5-BB5B-C3F0CC4B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13672-29A0-4FBE-89D4-CC5895E0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1711F-223E-4994-8608-8FBB3D19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F6C99-73A6-4B30-9AD9-3883469E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9D98-DE40-4F1D-ADE0-B98A2AB5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82504-388F-457F-9916-EBD3F51B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1FE8C-DCF2-4721-97D6-9BE97D8A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F5FC8-97B2-40E5-AC47-84F1D1AF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772A9-DDC1-485D-BA16-D7C59D65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A6703-DC96-458F-938B-E94C9459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E32F7-F80F-4484-9897-77287C65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F34E0-8916-486B-B631-6BF3D3AA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5C5AB-0BCB-4ADB-8711-86B36F22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AB536-1669-4289-9604-AFB48069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E51AA-7B2F-4147-BE22-435BE07E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794A-01A2-4801-8A81-B83828B1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55AC2-B93E-4E99-ACF3-7C2D62F1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0D137-EBE0-4C65-B530-B190A590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AAD3D-9864-4DA7-A00C-E89A4780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E6C3D-20BB-453C-8610-8A142323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BEE83-52F1-474D-8FD5-91450968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FE076-23D6-4B59-AAE3-2ED6A6CD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C5EB2-17B4-4D0F-BFC8-81D60EC6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9DB772-F1C7-45A4-9BB7-ED9508EE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A53B8-9CB5-4BA8-B8DA-CAC32AB3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44EF1-33EA-4437-96C8-9AE5995E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B46C-B0F7-4B8C-BACE-122BD5F8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05B53-B459-4452-9E67-CA3BA96B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BA846-828C-4BE1-B128-511C7E56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B16B2-B871-490F-8C6B-72B9F4CD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921F2-63A8-4235-8FD3-5F2EC38B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CD2CA-D438-4EEB-A550-7A59E2B4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3B6A9-98CB-4E99-ACD3-62EDA9CE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241BD-743D-4F42-A2A8-CE410DBB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6C49-80F7-4AC3-B5CE-CE59D4E2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DDF9-0FE1-48B7-85E0-81306624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61EB-8C4B-4FB5-9E1E-F6654BED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429E-4A30-4D01-95D8-AF112CFB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4BE-EDD0-4797-B632-FF68C994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21D8-882F-4DF3-A557-3C4D1296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7070-DA1D-47B6-83E6-E6602AEA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257A-DA7A-4B1D-B359-CC23E099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F39B-B0A5-4C67-93E6-09888C0C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C0B2-7EC7-453A-9DFE-3856C49A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A1AA-30DB-459B-9E1B-8DDD1E65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9E54F-9145-4190-899B-9F186CA4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FBAD-C1E1-4A0B-BD43-7B62AC5C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F258B-1CC6-4101-B4AC-1E507901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61218-F513-4E12-B42F-9C41233E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B843-DC5A-44F8-B4E9-37CA6E70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8D58E-4AAA-4D9A-9D9B-CABED32C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BC6CE-1E93-4703-9EA9-FF9BF31C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2F1C4-D5F8-49C9-863B-2B19B96A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D6D16-506B-490D-B029-DFC38572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C08D8-20B9-4805-BDF0-9B8D0E53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97D6D-1BCE-4AB6-AA4A-79AF661A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73A8-825B-4DF2-8C0C-3623030E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930CA-2732-46B8-A2D0-168D3ADA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17C5A-FFBA-43EC-90BB-7A3C8D24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F5EFD-0E1E-4F44-92D4-0097FC34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E48-3E76-4567-B949-E7E91C5D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D3562-B78F-4540-9646-2C97236C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F18B6-B787-49F8-BBA9-1B892BE5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FEBC1-670A-405F-B2FF-C1B45618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68A5E-E5E0-4F75-8D05-DF5F9856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7B3A9-8990-4DE0-8514-961BDFA2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DC84B-366A-4E27-A288-29CE7746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E230B-1C8C-459B-B6BB-A51A59DD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71A8F-B510-411D-8807-53362945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B4047-287D-4B5E-88C6-EA9FD7D5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7D80C-67B3-47C1-956D-6BD6D565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741-7AA1-433C-8663-974514E5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7226F-2A20-4085-A58D-13538A22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A3AB2-8039-4888-AE3F-4268A4D6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ACCD2-8411-4476-98AC-21EE65B6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A8FAF-F713-4862-931F-1BD1D30D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6EA77-CC0E-4F96-83F0-28E71AF1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B9767-9BFA-43A5-B96F-54EC22A4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C5708-1F60-4543-A2F8-4F019730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6BC0C-04CC-41D5-83E3-5E07E10E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6E685-C670-41B5-B3FA-543C53B9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C1336-BEE3-4711-8F08-2B9A3668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5A6-A72C-40AE-AF47-D602B700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E09D5-1ED3-403E-9BF2-69F5AEC9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4958C-7753-42C8-BE19-BE6683A4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75842-D66E-46D1-A14B-C290637C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EAB14-D81D-488A-8D51-0C7102B5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74843-0AAA-4D67-986A-85F1CA16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743D8-1B13-4D59-B584-8F8EDC9A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42DF6-C821-4652-B4A8-476D8BFE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CF87F-67FA-46EE-80CE-A08475DE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5A3AB-057A-4FCC-AEA9-B07BCBB1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E09D8-B0FD-4F9C-8402-43287C91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6F0-3281-4F51-A4DE-9DF66ADA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7931A-1E9B-444C-B341-84BCCA91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4A5DE-5994-4EAA-9ED0-7D24DF80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7FB1C-5B8A-499C-8847-5A8B5508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F82A2-81EE-451D-BD53-46BDE54D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DFECB-7C09-4E4E-853F-2589BD67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7E2BF-68ED-4894-9688-B60797DA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24E87-2440-4C71-8486-D176432D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7B2F8-0C93-40BD-AD27-D42B913D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96EC5-D56B-4582-A732-C0CA44BE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F6F62-8A74-48BD-9412-B8852345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1C3-983C-4855-8B4D-36DA3969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E9EB0-0271-43DD-A344-A1045180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0B7A3-34E5-494E-98B8-396E9B1F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6D070-36D5-431F-9F58-ED487675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46899-4839-46A8-B8CC-44C7BC18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CCC4A-54D9-4D72-9347-F99D705E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DFEA8-629F-4A63-93D1-9BD32A36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A4F7C-D746-48CA-B957-8EBEF1FB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449DB-CABE-434A-8130-9EEBEBA1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01B97-BC30-4A97-B5B0-AFDD27C4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66E40-7133-4CD2-9985-34A11C77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876-7237-4D5F-A3C2-9B7BC958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DC96D-41BA-4697-91BA-E9C3348B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9D399-9F70-4B93-905E-42462995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AA5B4-21DD-483D-9DFC-EB0EDD11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A64AA-418C-4C10-9391-979E42AC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507BB-355A-47FE-9424-D52FABF1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20D33-3167-406D-8616-38AAED1F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99187-E465-44DF-BD5D-FE171632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21F21-E513-482F-9C91-34E8CC13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15201-9B19-45B3-9017-84CDDE97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776AA-8B10-457A-9C6A-4D883C4C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A57D-9CAA-4C05-A2D7-EB85AB1A0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0B17-3E62-4005-8758-23BDCA6F8E40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965D-9694-4760-8621-DE39E6EA68D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51A1-8A95-4FCD-A094-EF58E0E10DB2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7733-BE86-4B1B-8AD0-20A8C322F1A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C95F-CF57-4CF5-8ECA-8A1C55662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5B11-498B-4685-8C8B-6C9D7D23B2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0B40-7D15-47B5-AABF-82FE43052E74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76F7-351A-477A-8E7A-AFF97E7797FA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4A0A-AE02-44CF-A8B3-265194AE82A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5133-CFD5-4CB5-BE26-7A8C1040D27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2E91-7451-41D8-BDE7-4BCA02E8EF3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7E3F-5C70-4D76-A1FB-B49CF5043DD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esky.com/Gameall/73183493944770560/20000627/eoaa1.jp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w.dgzx.net/Article_Show.asp?ArticleID=265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.baidu.com/i?ct=503316480&amp;z=0&amp;tn=baiduimagedetail&amp;word=%C2%EC%D2%CF&#892;&#428;&amp;in=16&amp;cl=2&amp;cm=1&amp;sc=0&amp;lm=-1&amp;pn=15&amp;rn=1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96.cn/photo/2005-3-6/cc422418045137562.htm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3124080" y="16686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Text Box 4" descr=""/>
          <p:cNvPicPr/>
          <p:nvPr/>
        </p:nvPicPr>
        <p:blipFill>
          <a:blip r:embed="rId2"/>
          <a:stretch/>
        </p:blipFill>
        <p:spPr>
          <a:xfrm>
            <a:off x="5894280" y="4767120"/>
            <a:ext cx="3121200" cy="2084400"/>
          </a:xfrm>
          <a:prstGeom prst="rect">
            <a:avLst/>
          </a:prstGeom>
          <a:ln w="0">
            <a:noFill/>
          </a:ln>
        </p:spPr>
      </p:pic>
      <p:pic>
        <p:nvPicPr>
          <p:cNvPr id="536" name="Text Box 5" descr=""/>
          <p:cNvPicPr/>
          <p:nvPr/>
        </p:nvPicPr>
        <p:blipFill>
          <a:blip r:embed="rId3"/>
          <a:stretch/>
        </p:blipFill>
        <p:spPr>
          <a:xfrm>
            <a:off x="5237280" y="-638280"/>
            <a:ext cx="4059000" cy="64724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6"/>
          <p:cNvSpPr/>
          <p:nvPr/>
        </p:nvSpPr>
        <p:spPr>
          <a:xfrm>
            <a:off x="53964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1219680" y="404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北师大版语文八年级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矩形 10"/>
          <p:cNvSpPr/>
          <p:nvPr/>
        </p:nvSpPr>
        <p:spPr>
          <a:xfrm>
            <a:off x="4416480" y="6010200"/>
            <a:ext cx="31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028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87640" cy="15494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29" descr="蚂蚁成堆打架"/>
          <p:cNvPicPr/>
          <p:nvPr/>
        </p:nvPicPr>
        <p:blipFill>
          <a:blip r:embed="rId2"/>
          <a:stretch/>
        </p:blipFill>
        <p:spPr>
          <a:xfrm>
            <a:off x="250920" y="4437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30" descr="蚂蚁07"/>
          <p:cNvPicPr/>
          <p:nvPr/>
        </p:nvPicPr>
        <p:blipFill>
          <a:blip r:embed="rId3"/>
          <a:stretch/>
        </p:blipFill>
        <p:spPr>
          <a:xfrm>
            <a:off x="5651640" y="189000"/>
            <a:ext cx="3342960" cy="250668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1031"/>
          <p:cNvSpPr/>
          <p:nvPr/>
        </p:nvSpPr>
        <p:spPr>
          <a:xfrm rot="18880200">
            <a:off x="2448360" y="166428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038"/>
          <p:cNvSpPr/>
          <p:nvPr/>
        </p:nvSpPr>
        <p:spPr>
          <a:xfrm>
            <a:off x="291636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只有一粒面包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且一根手指顷刻间就能将它捻成碎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039"/>
          <p:cNvSpPr/>
          <p:nvPr/>
        </p:nvSpPr>
        <p:spPr>
          <a:xfrm rot="18880200">
            <a:off x="4896720" y="3248280"/>
            <a:ext cx="431640" cy="792360"/>
          </a:xfrm>
          <a:prstGeom prst="downArrow">
            <a:avLst>
              <a:gd name="adj1" fmla="val 50000"/>
              <a:gd name="adj2" fmla="val 45892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040"/>
          <p:cNvSpPr/>
          <p:nvPr/>
        </p:nvSpPr>
        <p:spPr>
          <a:xfrm>
            <a:off x="5435640" y="3465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蚂蚁看来小小的面包屑是切切实实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041"/>
          <p:cNvSpPr/>
          <p:nvPr/>
        </p:nvSpPr>
        <p:spPr>
          <a:xfrm rot="18880200">
            <a:off x="7128360" y="454392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042"/>
          <p:cNvSpPr/>
          <p:nvPr/>
        </p:nvSpPr>
        <p:spPr>
          <a:xfrm>
            <a:off x="7596360" y="421020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蚂蚁的幸福是渺小的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自己并不比它优越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时又在感慨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1043"/>
          <p:cNvSpPr/>
          <p:nvPr/>
        </p:nvSpPr>
        <p:spPr>
          <a:xfrm>
            <a:off x="6732720" y="5805360"/>
            <a:ext cx="863640" cy="358920"/>
          </a:xfrm>
          <a:prstGeom prst="leftArrow">
            <a:avLst>
              <a:gd name="adj1" fmla="val 50000"/>
              <a:gd name="adj2" fmla="val 60155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44"/>
          <p:cNvSpPr/>
          <p:nvPr/>
        </p:nvSpPr>
        <p:spPr>
          <a:xfrm>
            <a:off x="3564000" y="47973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要为眼前的一些即得利益而沾沾自喜，而应用更高远的视角来思考自己的生存、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WordArt 1046"/>
          <p:cNvSpPr txBox="1"/>
          <p:nvPr/>
        </p:nvSpPr>
        <p:spPr>
          <a:xfrm>
            <a:off x="250920" y="2492280"/>
            <a:ext cx="230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蚂蚁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5" name="WordArt 1048"/>
          <p:cNvSpPr txBox="1"/>
          <p:nvPr/>
        </p:nvSpPr>
        <p:spPr>
          <a:xfrm rot="1516200">
            <a:off x="3062160" y="-339840"/>
            <a:ext cx="2030400" cy="24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蚂蚁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3"/>
          <p:cNvSpPr/>
          <p:nvPr/>
        </p:nvSpPr>
        <p:spPr>
          <a:xfrm>
            <a:off x="304920" y="150840"/>
            <a:ext cx="32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拓展练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533520" y="152388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观察图片，展开联想、想象，用自己的语言把它描述出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蚂蚁09"/>
          <p:cNvPicPr/>
          <p:nvPr/>
        </p:nvPicPr>
        <p:blipFill>
          <a:blip r:embed="rId1"/>
          <a:stretch/>
        </p:blipFill>
        <p:spPr>
          <a:xfrm>
            <a:off x="3564000" y="0"/>
            <a:ext cx="556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250920" y="18900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新宋体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1042920" y="198900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１、继续完成、完善拓展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２、预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每天诞生一次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3455280" y="15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2489760" y="2133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识记文中的生字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4432680" y="3581280"/>
            <a:ext cx="6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学习作者细心观察、善于联想的写作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2485440" y="5334120"/>
            <a:ext cx="238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理解文章主旨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感悟蚂蚁的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801000" y="11206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知识与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876960" y="29718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过程与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826560" y="4775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情感与价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0" y="2089080"/>
            <a:ext cx="8961480" cy="231840"/>
          </a:xfrm>
          <a:prstGeom prst="rect">
            <a:avLst/>
          </a:prstGeom>
          <a:solidFill>
            <a:srgbClr val="f9f9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0" y="2089080"/>
            <a:ext cx="9144000" cy="360"/>
            <a:chOff x="0" y="2089080"/>
            <a:chExt cx="9144000" cy="360"/>
          </a:xfrm>
        </p:grpSpPr>
        <p:sp>
          <p:nvSpPr>
            <p:cNvPr id="610" name="Rectangle 4"/>
            <p:cNvSpPr/>
            <p:nvPr/>
          </p:nvSpPr>
          <p:spPr>
            <a:xfrm>
              <a:off x="0" y="20890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5"/>
            <p:cNvSpPr/>
            <p:nvPr/>
          </p:nvSpPr>
          <p:spPr>
            <a:xfrm>
              <a:off x="0" y="20890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AutoShape 6">
            <a:hlinkClick r:id="rId1"/>
          </p:cNvPr>
          <p:cNvSpPr/>
          <p:nvPr/>
        </p:nvSpPr>
        <p:spPr>
          <a:xfrm>
            <a:off x="8605800" y="213372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09896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304920" y="1219320"/>
            <a:ext cx="83055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课文通过对蚂蚁的观察、描写，启示我们人类，不要为眼前的一些即得利益而沾沾自喜，而应用更高远的视角来思考自己的生存、命运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304920" y="-4680"/>
            <a:ext cx="47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</a:rPr>
              <a:t>课文主旨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0511607170586317[1]"/>
          <p:cNvPicPr/>
          <p:nvPr/>
        </p:nvPicPr>
        <p:blipFill>
          <a:blip r:embed="rId1"/>
          <a:stretch/>
        </p:blipFill>
        <p:spPr>
          <a:xfrm>
            <a:off x="152280" y="3505320"/>
            <a:ext cx="4191120" cy="3114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200510312223451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52280"/>
            <a:ext cx="4191120" cy="28958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u=3735508487,3842492716&amp;gp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8600"/>
            <a:ext cx="4267080" cy="3038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cc200536213161706_m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3505320"/>
            <a:ext cx="4190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685800" y="17784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有关蚂蚁的知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0" y="10666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蚂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是一种小昆虫，它体形小，呈长形，以黑色或褐色居多。头大，有一对复眼，触角长，腹部卵形。它的种类很多，每种蚂蚁都分雄蚁、雌蚁和工蚁，雌蚁和雄蚁都有翅，工蚁没有翅。蚂蚁会挖土筑巢，并能贮藏食物，成群穴居。蚂蚁与人类关系密切，有些种类对人有害，但总的来说在人类 居住的地方害多益少，需加以防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228600" y="152280"/>
            <a:ext cx="32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993300"/>
                </a:solidFill>
                <a:latin typeface="Times New Roman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165240" y="1052640"/>
            <a:ext cx="72151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南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本名张帆，当代学者。南帆主要从事现当代文学和文学理论研究，目前已出版了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理解与感悟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冲突的文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阐释的空间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文学的维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等多种学术著作。主要的散文作品有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文明七巧板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星空与植物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追问往昔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自由与享用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4" descr="南帆05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382680" y="403848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1283400" y="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解释下列词语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52280" y="114300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畏畏缩缩    义无反顾     怜悯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居高临下    左顾右盼     蹒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693720" y="29383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辨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676520" y="403848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4495680" y="41911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1371600" y="426708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4850280" y="4029120"/>
            <a:ext cx="54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365040" y="47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859040" y="304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cc"/>
                </a:solidFill>
                <a:latin typeface="Times New Roman"/>
              </a:rPr>
              <a:t>初读课文，感知内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1828800"/>
            <a:ext cx="78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请用你喜欢的方式读课文，用最简洁的语言概括课文的内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0" y="-52560"/>
            <a:ext cx="52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想一想，议一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24000" y="220500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文章是怎样描写蚂蚁的行动的？找出相应的词语，并想一想，运用这些词语起到了怎样的效果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24000" y="4581360"/>
            <a:ext cx="862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、第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段中“我”在稿纸上写下两个字“蚂蚁”，作者写着两个字蕴含着怎样的感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324000" y="1052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给课文划分层次并概括层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6">
            <a:hlinkClick r:id="" action="ppaction://hlinkshowjump?jump=nextslide"/>
          </p:cNvPr>
          <p:cNvSpPr/>
          <p:nvPr/>
        </p:nvSpPr>
        <p:spPr>
          <a:xfrm>
            <a:off x="7812000" y="6093000"/>
            <a:ext cx="1008000" cy="765000"/>
          </a:xfrm>
          <a:custGeom>
            <a:avLst/>
            <a:gdLst>
              <a:gd name="textAreaLeft" fmla="*/ 47520 w 1008000"/>
              <a:gd name="textAreaRight" fmla="*/ 960480 w 1008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28458" h="21600">
                <a:moveTo>
                  <a:pt x="0" y="0"/>
                </a:moveTo>
                <a:lnTo>
                  <a:pt x="28458" y="0"/>
                </a:lnTo>
                <a:lnTo>
                  <a:pt x="28458" y="21600"/>
                </a:lnTo>
                <a:lnTo>
                  <a:pt x="0" y="21600"/>
                </a:lnTo>
                <a:close/>
              </a:path>
              <a:path fill="lightenLess" w="28458" h="21600">
                <a:moveTo>
                  <a:pt x="0" y="0"/>
                </a:moveTo>
                <a:lnTo>
                  <a:pt x="28458" y="0"/>
                </a:lnTo>
                <a:lnTo>
                  <a:pt x="27108" y="1350"/>
                </a:lnTo>
                <a:lnTo>
                  <a:pt x="1350" y="1350"/>
                </a:lnTo>
                <a:close/>
              </a:path>
              <a:path fill="darken" w="28458" h="21600">
                <a:moveTo>
                  <a:pt x="28458" y="0"/>
                </a:moveTo>
                <a:lnTo>
                  <a:pt x="28458" y="21600"/>
                </a:lnTo>
                <a:lnTo>
                  <a:pt x="27108" y="20250"/>
                </a:lnTo>
                <a:lnTo>
                  <a:pt x="27108" y="1350"/>
                </a:lnTo>
                <a:close/>
              </a:path>
              <a:path fill="darkenLess" w="28458" h="21600">
                <a:moveTo>
                  <a:pt x="284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08" y="20250"/>
                </a:lnTo>
                <a:close/>
              </a:path>
              <a:path fill="lighten" w="284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"/>
          <p:cNvSpPr/>
          <p:nvPr/>
        </p:nvSpPr>
        <p:spPr>
          <a:xfrm>
            <a:off x="1042920" y="1268280"/>
            <a:ext cx="433440" cy="3816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-354600" y="1916280"/>
            <a:ext cx="13993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蚂        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403280" y="83664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、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-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描述蚂蚁的活动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403280" y="4581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-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蚂蚁发现饼干后的表现和我的感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3924360" y="765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畏畏缩缩、偷渡者、胆怯、谨慎、左顾右盼、退了回来、重大的判断、下定了决心、义无反顾、信念坚定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3995640" y="45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惊奇、晕、意外的战利品、竭尽全力、扛、蹒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8"/>
          <p:cNvSpPr/>
          <p:nvPr/>
        </p:nvSpPr>
        <p:spPr>
          <a:xfrm>
            <a:off x="6372360" y="907920"/>
            <a:ext cx="792000" cy="4608720"/>
          </a:xfrm>
          <a:custGeom>
            <a:avLst/>
            <a:gdLst>
              <a:gd name="textAreaLeft" fmla="*/ 0 w 792000"/>
              <a:gd name="textAreaRight" fmla="*/ 285840 w 79200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7164360" y="184464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0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1332000" cy="765000"/>
          </a:xfrm>
          <a:custGeom>
            <a:avLst/>
            <a:gdLst>
              <a:gd name="textAreaLeft" fmla="*/ 47520 w 1332000"/>
              <a:gd name="textAreaRight" fmla="*/ 1284480 w 1332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37602" h="21600">
                <a:moveTo>
                  <a:pt x="0" y="0"/>
                </a:moveTo>
                <a:lnTo>
                  <a:pt x="37602" y="0"/>
                </a:lnTo>
                <a:lnTo>
                  <a:pt x="37602" y="21600"/>
                </a:lnTo>
                <a:lnTo>
                  <a:pt x="0" y="21600"/>
                </a:lnTo>
                <a:close/>
              </a:path>
              <a:path fill="lightenLess" w="37602" h="21600">
                <a:moveTo>
                  <a:pt x="0" y="0"/>
                </a:moveTo>
                <a:lnTo>
                  <a:pt x="37602" y="0"/>
                </a:lnTo>
                <a:lnTo>
                  <a:pt x="36252" y="1350"/>
                </a:lnTo>
                <a:lnTo>
                  <a:pt x="1350" y="1350"/>
                </a:lnTo>
                <a:close/>
              </a:path>
              <a:path fill="darken" w="37602" h="21600">
                <a:moveTo>
                  <a:pt x="37602" y="0"/>
                </a:moveTo>
                <a:lnTo>
                  <a:pt x="37602" y="21600"/>
                </a:lnTo>
                <a:lnTo>
                  <a:pt x="36252" y="20250"/>
                </a:lnTo>
                <a:lnTo>
                  <a:pt x="36252" y="1350"/>
                </a:lnTo>
                <a:close/>
              </a:path>
              <a:path fill="darkenLess" w="37602" h="21600">
                <a:moveTo>
                  <a:pt x="376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252" y="20250"/>
                </a:lnTo>
                <a:close/>
              </a:path>
              <a:path fill="lighten" w="376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6804000" y="765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通过拟人化、夸张化的手法，将表现人的意志、行为的重大词语用来表现蚂蚁这种小动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6804000" y="35892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大词小用，不伦不类，产生一种幽默感；使对象的动作更加传神生动；抓住事物特点描写；想象力丰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7812000" y="306864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-293400" y="4797360"/>
            <a:ext cx="1277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敬   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-34920" y="1585800"/>
            <a:ext cx="917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蚂蚁的幸福是“货真价实”的，你赞同这种说法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-34920" y="3168720"/>
            <a:ext cx="87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、结尾作者为什么感慨？作者在感慨蚂蚁的同时又在感慨谁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-34920" y="4753080"/>
            <a:ext cx="94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你认为，本文的主旨是什么？这篇文章对你有什么启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0" y="111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为什么说蚂蚁的幸福是渺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WordArt 6"/>
          <p:cNvSpPr txBox="1"/>
          <p:nvPr/>
        </p:nvSpPr>
        <p:spPr>
          <a:xfrm>
            <a:off x="7740720" y="5950080"/>
            <a:ext cx="122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蚂蚁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2:12:0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11-02T08:42:55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