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C8CC-6BCB-43E6-BC22-B114B2C56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B32D-9738-4FE5-B931-2AAD6A5E4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544727-5AA0-4471-8C1B-246AFC4E1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5BE619-6EBA-4A97-9BE7-09AC69E89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5B46D7-1EDE-473A-8491-1E5D55101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65A0A8-73C0-43DC-B962-69AE4CCDD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E5C76A-8BC5-48D2-9BDD-CE8434EB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12A2F8-7DCA-4F51-9852-D38F42CCD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F0A3A5-1D94-412A-9608-64E8F84CF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4DF8E9-473A-495C-BD42-A04781B23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D9D0D4-D668-4876-A369-A208E9B3E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59D4E7-C573-4400-BE24-310EA4811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EBBC-F366-4F19-80D4-D3C1EF3A7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D561E3-92A7-41B1-BD64-588AFE555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602D20-BA63-4FEB-A658-9EE1BC78C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EC79BD-F69D-4A25-B268-9F7D8FE6F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AAEB06-4CE6-439F-8F2F-8619F054B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EF3C4E-1F6D-4829-86A4-B9DD916B9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995471-70E7-49AB-B986-2E025EBC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CD7D5A-1461-4C44-8AC0-ED3136A0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F9CBFA-8B88-4842-A501-F4C7FB10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E04F97-FBED-48FA-BAD7-F93D17F1F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13185C-403C-4552-99D0-86BA9B32A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17B7-71C7-452C-B43F-2DA24FF92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9F4F50-41A0-4E7D-AD2B-9B4BC55C6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881121-6FD7-4DC8-8D84-D697AD488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6D6AD9-CDD4-466E-AE3F-63EC136DF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3FE8DB-7C9F-47C2-ACDE-710C977DC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33C2F0-6E25-4DEF-BAB6-39CC66597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84C8F8-A7A4-45C1-8819-5408CFFCB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FBE2CA-D540-4518-95CB-8F9C5A631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59ECF8-E9D1-4822-8577-F6E7B3A1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7C7D1C-B66E-4193-AB68-28A46B9B2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02142B-8626-446D-AF85-CAF2626C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5418B-5834-4DE9-B136-5F9FC4A07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26DA31-A0D0-440F-9C6B-05732FA4B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B065DA-A15A-4C85-BC58-AFFB92F97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914BC2-314B-45D4-AB1F-11A0A071C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2CFEEA-15D1-4A68-A171-1124B8D07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BA2D55-5BE3-4A95-85D0-7E9000409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35F711-557D-4E8B-B46F-986B0875B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9336DD-8F3C-45A9-A795-F3E1E2C71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382244-B7F7-428E-A40A-F17495B6A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57234C-1E00-47FB-A91F-B950D5D5A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71D37C-E902-4724-9DC3-3D62638FE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B759E-30C0-4F9F-9FF1-FDFF38CE2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5450D8-2EB2-458F-B9F5-5BD88D89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0D836E-DB7D-490B-9BDC-A562E9F3D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D0A45F-2F28-4FA8-A6FF-1A770B922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B544CC-BBD8-47DF-AEE3-7883214E1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2FBB5A-6F2F-41FC-BD56-7A4A4ECE8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BCD27F-C7FE-4FA2-B248-485D4CA2F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377C94-B360-4FE1-8797-303C259E6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F2F1D8-5C19-4E8E-BAC1-0C0F33259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CCD29E-CD81-481A-92E7-33680BDCA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C5ECF4-0BDE-482C-BAF8-81785DCF2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F96F3-F1E7-44F2-BC56-15FE6FE17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59BA27-03CA-4233-8C04-3B2DD2F9C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A2BC73-39C4-4279-9924-E791DF343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CB46DE-A5E6-4061-BB1E-BD9101E9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1FB265-BBE9-4291-A96E-31ED61154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16B249-33A0-48E4-B7C5-1A297C351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E17452-3382-44DD-825D-84F7220E7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298E4F-B66D-4F3D-8B65-EDC2D96F6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C9094-5AF8-4A13-8E64-3296B3A70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861DC-9BC8-48E8-A324-BB4B4DEDE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34F53-2CB4-45D5-ABA9-6A48C0E5C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2AAEA-81FA-452B-80F1-78ABD292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0CEA-EAB4-4191-BDB7-282611502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8B0E5-0F00-4905-BA98-C469CE07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CC5DA-2C34-44E5-93A1-15B07D65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9C32D-827F-469D-9140-4C36AAD05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985B9-8361-423C-8A51-57BEFE415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AB71E-089A-4096-8EED-148B66CA6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A49E8-85D2-4C4D-A4D6-16983ABEA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FDC40-73DC-47F8-82BE-29E72B80D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C831A-9A00-45EC-A555-C1AB35D66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6B3AF-C47B-499E-B3DC-E3A4B963F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56028-322F-45D0-A588-D292B6E1F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D6C9-FB05-4778-B175-9C7C4918F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285DF-14A9-44D5-9981-80BD120B6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5BEB4-CEB8-4ACF-811F-7AE9D0E17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4769F-0E3E-4778-8423-7608DDC16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3DC36-C99D-4AE4-A8EE-6E73225C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EE937-C0D3-419E-B26C-4C48CA6F4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1D1F4-8A8D-4DFB-B1E8-F227E2B4D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C19CC-39C5-4712-85BE-1F3708AA4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D94F5-5769-42B8-AC25-44DE4ABBD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C1E8F-08EA-4F9E-BA36-AC180D3A1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62EE4-A4E0-4297-B0C7-D15393629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398F-9635-41D0-9EE9-9B75F9905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B249E-5B55-4366-853A-1EF056167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91FF8-2523-46B7-929A-D546F6621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AE617-4BD9-4ACE-AA79-5FE5C4AC0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5EED9-F086-41FC-8DEF-A9D954D9F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9FFFD-9640-451B-B4F1-21F042157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85E49-CCFB-40F8-BA79-CEE072C91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88016-60CF-4A37-8C62-5E4C560E5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E6802-D9F3-425A-BD6B-720266178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E866C6-C258-45AD-BBC3-34F3945A1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3BFA8-9D54-4B3A-B456-890E51040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2EF8-90F0-43EC-8256-1D62C57A9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584B37-5F53-4995-B07C-6EE1D37A4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4CA864-52CC-4E5D-B26A-006B42BD3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06E48-28D2-4FEE-A849-7BC77E0E3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751551-7F45-44B4-960C-004A7B2A4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A61039-48EE-49D2-A7CF-30F364D83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B8E48-DB53-455B-8CCC-0E57C7141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9A944-A722-413A-A36A-5A068289F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06575-9075-4D44-9854-89E6E55FC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59A75D-CDC9-47E5-A433-38722A37C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952212-5A58-4501-809B-531913038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A644-A407-40CE-B42C-26C04908A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6A0C2C-3864-4565-8F9A-A826BC0F2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9956B3-0984-4002-9F15-03FB10B47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3A6C6-F63C-48DB-BA6C-FF93AC0F2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A32824-830C-4B39-A083-688169EA2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E6D5EB-EE53-49D4-A148-1CB5AB2FA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8B1EED-2269-412C-B561-BA1E56922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4A42AD-2EFF-4B38-925B-DB3D3BAFC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659D86-D18F-42B2-A569-9161BA60F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275002-A7AF-4C3E-B0B0-ECD35513C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CC0716-ED08-4FF3-922E-37E7AE29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FD23-B5B6-4DDF-9FF3-83044B378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2366D7-F415-409B-931A-957FDB5C2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2DDF9C-93F8-4C48-B8D8-E578E76F4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44D5EE-2647-4971-AFAC-BC6C95A23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CA4138-158F-49C7-9A8D-5A8F4D893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CD957E-E43D-44A1-88BF-17305770B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293735-D5DA-4348-8490-14C5E96E7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8DFEEA-E5BA-4F9C-B108-44D650DB6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418139-24C0-4E4E-97E6-045987DFC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9A48F0-6536-438E-A7B4-9B0160B5A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AD63D3-A1A2-448C-BAAD-AE6A1F05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E274-90A3-4981-9CBE-B0CEEEFB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624EAB-62C2-4B35-8F35-3F38153C9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DF6916-C88E-49D5-BFD2-AC84E161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6E35F1-7DA7-4249-95DE-B04DF9FC7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D3CC9B-2EE5-4084-A954-6B2DD4A0E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5073FE-B95A-4AD1-9AF9-04F6DF1A7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64BFE1-B136-4026-B1E6-636ABDFB3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8B6B8E-BA54-48F4-A049-EC45E0D07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876303-78E5-4CA1-AE94-843504F2E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BEC040-1504-4E68-AC98-A24EFF05B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A548A9-4D23-4C1D-835F-AEAF46835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2CC0-2D95-4E3D-80EB-7A0601982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7BF856-3A22-4E61-AAA0-FB7C606A1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60FD70-3E47-4DA3-B5CF-D8E9E3316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FA5AD4-6BBA-44BC-82BF-2EB7F2A66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9393E4-B2F3-4A63-90A9-6C3183A6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E5E292-4A88-4203-B550-2125563D8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6FA074-4DDC-4F52-9CD7-0B6CD561D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3A9C73-98F5-463B-A325-5C68634F2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8700D3-425D-4ABA-B4A6-392D10A94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B3ABA2-73B6-4907-B899-CA96B3A21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03775D-5427-46C7-A73E-996B56185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9F20E-E3F1-40E6-9C6A-DFC3A26131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43568-60C0-4ECB-B77E-7D403750C3BD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C9FE4-794A-4364-823B-849D33FF9612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D77A2-61F5-461D-AEA6-629CDA3D40BF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708C3-E36D-4E9B-B7C9-3287F566E863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0DB8F-4D7D-4920-AEAF-45B1642957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591B6-0866-48B6-B7A0-C8581081192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566D9-8D67-40CB-8C1F-D7B9A6B1093D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96873-915B-4657-9299-BB79024990A5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A2BE0-3A01-4CE9-8428-66A20B6CCFB4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BEAA6-BAC1-4906-9F88-3DF4113FF5DD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79338-F46D-40C7-BABD-1CA7D522B579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5E3B0-C6D7-4BD5-9818-143217635BB1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yesky.com/Gameall/73183493944770560/20000627/eoaa1.jpg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sw.dgzx.net/Article_Show.asp?ArticleID=265" TargetMode="External"/><Relationship Id="rId3" Type="http://schemas.openxmlformats.org/officeDocument/2006/relationships/image" Target="../media/image5.jpeg"/><Relationship Id="rId4" Type="http://schemas.openxmlformats.org/officeDocument/2006/relationships/hyperlink" Target="http://image.baidu.com/i?ct=503316480&amp;z=0&amp;tn=baiduimagedetail&amp;word=%C2%EC%D2%CF&#892;&#428;&amp;in=16&amp;cl=2&amp;cm=1&amp;sc=0&amp;lm=-1&amp;pn=15&amp;rn=1" TargetMode="External"/><Relationship Id="rId5" Type="http://schemas.openxmlformats.org/officeDocument/2006/relationships/image" Target="../media/image6.jpeg"/><Relationship Id="rId6" Type="http://schemas.openxmlformats.org/officeDocument/2006/relationships/hyperlink" Target="http://www.96.cn/photo/2005-3-6/cc422418045137562.html" TargetMode="External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3"/>
          <p:cNvSpPr/>
          <p:nvPr/>
        </p:nvSpPr>
        <p:spPr>
          <a:xfrm>
            <a:off x="3124080" y="166860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Text Box 4" descr=""/>
          <p:cNvPicPr/>
          <p:nvPr/>
        </p:nvPicPr>
        <p:blipFill>
          <a:blip r:embed="rId2"/>
          <a:stretch/>
        </p:blipFill>
        <p:spPr>
          <a:xfrm>
            <a:off x="5894280" y="4767120"/>
            <a:ext cx="3121200" cy="2084400"/>
          </a:xfrm>
          <a:prstGeom prst="rect">
            <a:avLst/>
          </a:prstGeom>
          <a:ln w="0">
            <a:noFill/>
          </a:ln>
        </p:spPr>
      </p:pic>
      <p:pic>
        <p:nvPicPr>
          <p:cNvPr id="536" name="Text Box 5" descr=""/>
          <p:cNvPicPr/>
          <p:nvPr/>
        </p:nvPicPr>
        <p:blipFill>
          <a:blip r:embed="rId3"/>
          <a:stretch/>
        </p:blipFill>
        <p:spPr>
          <a:xfrm>
            <a:off x="5237280" y="-638280"/>
            <a:ext cx="4059000" cy="6472440"/>
          </a:xfrm>
          <a:prstGeom prst="rect">
            <a:avLst/>
          </a:prstGeom>
          <a:ln w="0">
            <a:noFill/>
          </a:ln>
        </p:spPr>
      </p:pic>
      <p:sp>
        <p:nvSpPr>
          <p:cNvPr id="537" name="Text Box 6"/>
          <p:cNvSpPr/>
          <p:nvPr/>
        </p:nvSpPr>
        <p:spPr>
          <a:xfrm>
            <a:off x="539640" y="260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7"/>
          <p:cNvSpPr/>
          <p:nvPr/>
        </p:nvSpPr>
        <p:spPr>
          <a:xfrm>
            <a:off x="1219680" y="40464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北师大版语文八年级上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矩形 10"/>
          <p:cNvSpPr/>
          <p:nvPr/>
        </p:nvSpPr>
        <p:spPr>
          <a:xfrm>
            <a:off x="4416480" y="6010200"/>
            <a:ext cx="3110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Picture 1028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2087640" cy="154944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1029" descr="蚂蚁成堆打架"/>
          <p:cNvPicPr/>
          <p:nvPr/>
        </p:nvPicPr>
        <p:blipFill>
          <a:blip r:embed="rId2"/>
          <a:stretch/>
        </p:blipFill>
        <p:spPr>
          <a:xfrm>
            <a:off x="250920" y="4437000"/>
            <a:ext cx="3024000" cy="226872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1030" descr="蚂蚁07"/>
          <p:cNvPicPr/>
          <p:nvPr/>
        </p:nvPicPr>
        <p:blipFill>
          <a:blip r:embed="rId3"/>
          <a:stretch/>
        </p:blipFill>
        <p:spPr>
          <a:xfrm>
            <a:off x="5651640" y="189000"/>
            <a:ext cx="3342960" cy="2506680"/>
          </a:xfrm>
          <a:prstGeom prst="rect">
            <a:avLst/>
          </a:prstGeom>
          <a:ln w="0">
            <a:noFill/>
          </a:ln>
        </p:spPr>
      </p:pic>
      <p:sp>
        <p:nvSpPr>
          <p:cNvPr id="586" name="AutoShape 1031"/>
          <p:cNvSpPr/>
          <p:nvPr/>
        </p:nvSpPr>
        <p:spPr>
          <a:xfrm rot="18880200">
            <a:off x="2448360" y="1664280"/>
            <a:ext cx="432000" cy="792360"/>
          </a:xfrm>
          <a:prstGeom prst="downArrow">
            <a:avLst>
              <a:gd name="adj1" fmla="val 50000"/>
              <a:gd name="adj2" fmla="val 45854"/>
            </a:avLst>
          </a:prstGeom>
          <a:solidFill>
            <a:srgbClr val="ff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1038"/>
          <p:cNvSpPr/>
          <p:nvPr/>
        </p:nvSpPr>
        <p:spPr>
          <a:xfrm>
            <a:off x="2916360" y="19162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只有一粒面包屑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而且一根手指顷刻间就能将它捻成碎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AutoShape 1039"/>
          <p:cNvSpPr/>
          <p:nvPr/>
        </p:nvSpPr>
        <p:spPr>
          <a:xfrm rot="18880200">
            <a:off x="4896720" y="3248280"/>
            <a:ext cx="431640" cy="792360"/>
          </a:xfrm>
          <a:prstGeom prst="downArrow">
            <a:avLst>
              <a:gd name="adj1" fmla="val 50000"/>
              <a:gd name="adj2" fmla="val 45892"/>
            </a:avLst>
          </a:prstGeom>
          <a:solidFill>
            <a:srgbClr val="ff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1040"/>
          <p:cNvSpPr/>
          <p:nvPr/>
        </p:nvSpPr>
        <p:spPr>
          <a:xfrm>
            <a:off x="5435640" y="3465360"/>
            <a:ext cx="21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在蚂蚁看来小小的面包屑是切切实实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AutoShape 1041"/>
          <p:cNvSpPr/>
          <p:nvPr/>
        </p:nvSpPr>
        <p:spPr>
          <a:xfrm rot="18880200">
            <a:off x="7128360" y="4543920"/>
            <a:ext cx="432000" cy="792360"/>
          </a:xfrm>
          <a:prstGeom prst="downArrow">
            <a:avLst>
              <a:gd name="adj1" fmla="val 50000"/>
              <a:gd name="adj2" fmla="val 45854"/>
            </a:avLst>
          </a:prstGeom>
          <a:solidFill>
            <a:srgbClr val="ff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1042"/>
          <p:cNvSpPr/>
          <p:nvPr/>
        </p:nvSpPr>
        <p:spPr>
          <a:xfrm>
            <a:off x="7596360" y="4210200"/>
            <a:ext cx="165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蚂蚁的幸福是渺小的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而自己并不比它优越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同时又在感慨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AutoShape 1043"/>
          <p:cNvSpPr/>
          <p:nvPr/>
        </p:nvSpPr>
        <p:spPr>
          <a:xfrm>
            <a:off x="6732720" y="5805360"/>
            <a:ext cx="863640" cy="358920"/>
          </a:xfrm>
          <a:prstGeom prst="leftArrow">
            <a:avLst>
              <a:gd name="adj1" fmla="val 50000"/>
              <a:gd name="adj2" fmla="val 60155"/>
            </a:avLst>
          </a:prstGeom>
          <a:solidFill>
            <a:srgbClr val="ff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1044"/>
          <p:cNvSpPr/>
          <p:nvPr/>
        </p:nvSpPr>
        <p:spPr>
          <a:xfrm>
            <a:off x="3564000" y="479736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不要为眼前的一些即得利益而沾沾自喜，而应用更高远的视角来思考自己的生存、命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WordArt 1046"/>
          <p:cNvSpPr txBox="1"/>
          <p:nvPr/>
        </p:nvSpPr>
        <p:spPr>
          <a:xfrm>
            <a:off x="250920" y="2492280"/>
            <a:ext cx="23032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蚂蚁</a:t>
            </a:r>
            <a:endParaRPr b="0" lang="en-US" sz="2400" spc="-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95" name="WordArt 1048"/>
          <p:cNvSpPr txBox="1"/>
          <p:nvPr/>
        </p:nvSpPr>
        <p:spPr>
          <a:xfrm rot="1516200">
            <a:off x="3062160" y="-339840"/>
            <a:ext cx="2030400" cy="243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蚂蚁</a:t>
            </a:r>
            <a:endParaRPr b="0" lang="en-US" sz="2400" spc="-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4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4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9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4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9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4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9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ext Box 3"/>
          <p:cNvSpPr/>
          <p:nvPr/>
        </p:nvSpPr>
        <p:spPr>
          <a:xfrm>
            <a:off x="304920" y="150840"/>
            <a:ext cx="325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00"/>
                </a:solidFill>
                <a:latin typeface="Times New Roman"/>
              </a:rPr>
              <a:t>拓展练习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4"/>
          <p:cNvSpPr/>
          <p:nvPr/>
        </p:nvSpPr>
        <p:spPr>
          <a:xfrm>
            <a:off x="533520" y="1523880"/>
            <a:ext cx="267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观察图片，展开联想、想象，用自己的语言把它描述出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8" name="Picture 5" descr="蚂蚁09"/>
          <p:cNvPicPr/>
          <p:nvPr/>
        </p:nvPicPr>
        <p:blipFill>
          <a:blip r:embed="rId1"/>
          <a:stretch/>
        </p:blipFill>
        <p:spPr>
          <a:xfrm>
            <a:off x="3564000" y="0"/>
            <a:ext cx="5565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Text Box 2"/>
          <p:cNvSpPr/>
          <p:nvPr/>
        </p:nvSpPr>
        <p:spPr>
          <a:xfrm>
            <a:off x="250920" y="189000"/>
            <a:ext cx="208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新宋体"/>
              </a:rPr>
              <a:t>作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 Box 9"/>
          <p:cNvSpPr/>
          <p:nvPr/>
        </p:nvSpPr>
        <p:spPr>
          <a:xfrm>
            <a:off x="1042920" y="1989000"/>
            <a:ext cx="7058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１、继续完成、完善拓展练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２、预习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每天诞生一次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Text Box 2"/>
          <p:cNvSpPr/>
          <p:nvPr/>
        </p:nvSpPr>
        <p:spPr>
          <a:xfrm>
            <a:off x="3455280" y="15228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学习目标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 Box 3"/>
          <p:cNvSpPr/>
          <p:nvPr/>
        </p:nvSpPr>
        <p:spPr>
          <a:xfrm>
            <a:off x="2489760" y="213372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</a:rPr>
              <a:t>识记文中的生字词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4"/>
          <p:cNvSpPr/>
          <p:nvPr/>
        </p:nvSpPr>
        <p:spPr>
          <a:xfrm>
            <a:off x="4432680" y="3581280"/>
            <a:ext cx="61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学习作者细心观察、善于联想的写作方法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2485440" y="5334120"/>
            <a:ext cx="238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理解文章主旨</a:t>
            </a:r>
            <a:r>
              <a:rPr b="1" lang="en-US" sz="3600" spc="-1" strike="noStrike">
                <a:solidFill>
                  <a:srgbClr val="9933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感悟蚂蚁的精神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6"/>
          <p:cNvSpPr/>
          <p:nvPr/>
        </p:nvSpPr>
        <p:spPr>
          <a:xfrm>
            <a:off x="801000" y="112068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知识与能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7"/>
          <p:cNvSpPr/>
          <p:nvPr/>
        </p:nvSpPr>
        <p:spPr>
          <a:xfrm>
            <a:off x="876960" y="297180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过程与方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8"/>
          <p:cNvSpPr/>
          <p:nvPr/>
        </p:nvSpPr>
        <p:spPr>
          <a:xfrm>
            <a:off x="826560" y="477504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情感与价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2"/>
          <p:cNvSpPr/>
          <p:nvPr/>
        </p:nvSpPr>
        <p:spPr>
          <a:xfrm>
            <a:off x="0" y="2089080"/>
            <a:ext cx="8961480" cy="231840"/>
          </a:xfrm>
          <a:prstGeom prst="rect">
            <a:avLst/>
          </a:prstGeom>
          <a:solidFill>
            <a:srgbClr val="f9f9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0" y="2089080"/>
            <a:ext cx="9144000" cy="360"/>
            <a:chOff x="0" y="2089080"/>
            <a:chExt cx="9144000" cy="360"/>
          </a:xfrm>
        </p:grpSpPr>
        <p:sp>
          <p:nvSpPr>
            <p:cNvPr id="610" name="Rectangle 4"/>
            <p:cNvSpPr/>
            <p:nvPr/>
          </p:nvSpPr>
          <p:spPr>
            <a:xfrm>
              <a:off x="0" y="2089080"/>
              <a:ext cx="914400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Rectangle 5"/>
            <p:cNvSpPr/>
            <p:nvPr/>
          </p:nvSpPr>
          <p:spPr>
            <a:xfrm>
              <a:off x="0" y="2089080"/>
              <a:ext cx="914400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2" name="AutoShape 6">
            <a:hlinkClick r:id="rId1"/>
          </p:cNvPr>
          <p:cNvSpPr/>
          <p:nvPr/>
        </p:nvSpPr>
        <p:spPr>
          <a:xfrm>
            <a:off x="8605800" y="2133720"/>
            <a:ext cx="29700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7"/>
          <p:cNvSpPr/>
          <p:nvPr/>
        </p:nvSpPr>
        <p:spPr>
          <a:xfrm>
            <a:off x="974880" y="13827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8"/>
          <p:cNvSpPr/>
          <p:nvPr/>
        </p:nvSpPr>
        <p:spPr>
          <a:xfrm>
            <a:off x="4098960" y="139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9"/>
          <p:cNvSpPr/>
          <p:nvPr/>
        </p:nvSpPr>
        <p:spPr>
          <a:xfrm>
            <a:off x="304920" y="1219320"/>
            <a:ext cx="830556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zh-CN" sz="5400" spc="-1" strike="noStrike">
                <a:solidFill>
                  <a:srgbClr val="3333cc"/>
                </a:solidFill>
                <a:latin typeface="Times New Roman"/>
              </a:rPr>
              <a:t>课文通过对蚂蚁的观察、描写，启示我们人类，不要为眼前的一些即得利益而沾沾自喜，而应用更高远的视角来思考自己的生存、命运。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Rectangle 10"/>
          <p:cNvSpPr/>
          <p:nvPr/>
        </p:nvSpPr>
        <p:spPr>
          <a:xfrm>
            <a:off x="304920" y="-4680"/>
            <a:ext cx="4771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ff0000"/>
                </a:solidFill>
                <a:latin typeface="Times New Roman"/>
              </a:rPr>
              <a:t>课文主旨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0511607170586317[1]"/>
          <p:cNvPicPr/>
          <p:nvPr/>
        </p:nvPicPr>
        <p:blipFill>
          <a:blip r:embed="rId1"/>
          <a:stretch/>
        </p:blipFill>
        <p:spPr>
          <a:xfrm>
            <a:off x="152280" y="3505320"/>
            <a:ext cx="4191120" cy="311472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3" descr="2005103122234511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152280"/>
            <a:ext cx="4191120" cy="289584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4" descr="u=3735508487,3842492716&amp;gp=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228600"/>
            <a:ext cx="4267080" cy="303840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5" descr="cc200536213161706_m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648320" y="3505320"/>
            <a:ext cx="41907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 Box 2"/>
          <p:cNvSpPr/>
          <p:nvPr/>
        </p:nvSpPr>
        <p:spPr>
          <a:xfrm>
            <a:off x="685800" y="177840"/>
            <a:ext cx="45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0000"/>
                </a:solidFill>
                <a:latin typeface="Times New Roman"/>
              </a:rPr>
              <a:t>有关蚂蚁的知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0" y="1066680"/>
            <a:ext cx="8991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蚂蚁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是一种小昆虫，它体形小，呈长形，以黑色或褐色居多。头大，有一对复眼，触角长，腹部卵形。它的种类很多，每种蚂蚁都分雄蚁、雌蚁和工蚁，雌蚁和雄蚁都有翅，工蚁没有翅。蚂蚁会挖土筑巢，并能贮藏食物，成群穴居。蚂蚁与人类关系密切，有些种类对人有害，但总的来说在人类 居住的地方害多益少，需加以防治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2"/>
          <p:cNvSpPr/>
          <p:nvPr/>
        </p:nvSpPr>
        <p:spPr>
          <a:xfrm>
            <a:off x="228600" y="152280"/>
            <a:ext cx="326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993300"/>
                </a:solidFill>
                <a:latin typeface="Times New Roman"/>
              </a:rPr>
              <a:t>作者简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165240" y="1052640"/>
            <a:ext cx="721512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南帆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：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本名张帆，当代学者。南帆主要从事现当代文学和文学理论研究，目前已出版了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《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理解与感悟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》《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冲突的文学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》《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阐释的空间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》《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文学的维度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》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等多种学术著作。主要的散文作品有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《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文明七巧板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》《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星空与植物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》《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追问往昔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》《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自由与享用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》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等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8" name="Picture 4" descr="南帆05"/>
          <p:cNvPicPr/>
          <p:nvPr/>
        </p:nvPicPr>
        <p:blipFill>
          <a:blip r:embed="rId1"/>
          <a:stretch/>
        </p:blipFill>
        <p:spPr>
          <a:xfrm>
            <a:off x="6877080" y="0"/>
            <a:ext cx="2266920" cy="35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Text Box 2"/>
          <p:cNvSpPr/>
          <p:nvPr/>
        </p:nvSpPr>
        <p:spPr>
          <a:xfrm>
            <a:off x="382680" y="4038480"/>
            <a:ext cx="18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Rectangle 3"/>
          <p:cNvSpPr/>
          <p:nvPr/>
        </p:nvSpPr>
        <p:spPr>
          <a:xfrm>
            <a:off x="1283400" y="0"/>
            <a:ext cx="30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解释下列词语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ectangle 4"/>
          <p:cNvSpPr/>
          <p:nvPr/>
        </p:nvSpPr>
        <p:spPr>
          <a:xfrm>
            <a:off x="152280" y="1143000"/>
            <a:ext cx="8610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畏畏缩缩    义无反顾     怜悯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居高临下    左顾右盼     蹒跚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5"/>
          <p:cNvSpPr/>
          <p:nvPr/>
        </p:nvSpPr>
        <p:spPr>
          <a:xfrm>
            <a:off x="693720" y="293832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辨析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le 6"/>
          <p:cNvSpPr/>
          <p:nvPr/>
        </p:nvSpPr>
        <p:spPr>
          <a:xfrm>
            <a:off x="1676520" y="4038480"/>
            <a:ext cx="4572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3300"/>
                </a:solidFill>
                <a:latin typeface="Times New Roman"/>
              </a:rPr>
              <a:t>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3300"/>
                </a:solidFill>
                <a:latin typeface="Times New Roman"/>
              </a:rPr>
              <a:t>缕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AutoShape 7"/>
          <p:cNvSpPr/>
          <p:nvPr/>
        </p:nvSpPr>
        <p:spPr>
          <a:xfrm>
            <a:off x="4495680" y="41911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AutoShape 8"/>
          <p:cNvSpPr/>
          <p:nvPr/>
        </p:nvSpPr>
        <p:spPr>
          <a:xfrm>
            <a:off x="1371600" y="4267080"/>
            <a:ext cx="304920" cy="1828800"/>
          </a:xfrm>
          <a:custGeom>
            <a:avLst/>
            <a:gdLst>
              <a:gd name="textAreaLeft" fmla="*/ 194760 w 304920"/>
              <a:gd name="textAreaRight" fmla="*/ 305280 w 3049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9"/>
          <p:cNvSpPr/>
          <p:nvPr/>
        </p:nvSpPr>
        <p:spPr>
          <a:xfrm>
            <a:off x="4850280" y="4029120"/>
            <a:ext cx="546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3300"/>
                </a:solidFill>
                <a:latin typeface="Times New Roman"/>
              </a:rPr>
              <a:t>戮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3300"/>
                </a:solidFill>
                <a:latin typeface="Times New Roman"/>
              </a:rPr>
              <a:t>戳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 Box 2"/>
          <p:cNvSpPr/>
          <p:nvPr/>
        </p:nvSpPr>
        <p:spPr>
          <a:xfrm>
            <a:off x="365040" y="477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1859040" y="304920"/>
            <a:ext cx="429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3333cc"/>
                </a:solidFill>
                <a:latin typeface="Times New Roman"/>
              </a:rPr>
              <a:t>初读课文，感知内容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4"/>
          <p:cNvSpPr/>
          <p:nvPr/>
        </p:nvSpPr>
        <p:spPr>
          <a:xfrm>
            <a:off x="457200" y="1828800"/>
            <a:ext cx="786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3300"/>
                </a:solidFill>
                <a:latin typeface="Times New Roman"/>
              </a:rPr>
              <a:t>     </a:t>
            </a:r>
            <a:r>
              <a:rPr b="1" lang="zh-CN" sz="5400" spc="-1" strike="noStrike">
                <a:solidFill>
                  <a:srgbClr val="993300"/>
                </a:solidFill>
                <a:latin typeface="Times New Roman"/>
              </a:rPr>
              <a:t>请用你喜欢的方式读课文，用最简洁的语言概括课文的内容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ext Box 2"/>
          <p:cNvSpPr/>
          <p:nvPr/>
        </p:nvSpPr>
        <p:spPr>
          <a:xfrm>
            <a:off x="0" y="-52560"/>
            <a:ext cx="529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想一想，议一议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3"/>
          <p:cNvSpPr/>
          <p:nvPr/>
        </p:nvSpPr>
        <p:spPr>
          <a:xfrm>
            <a:off x="324000" y="2205000"/>
            <a:ext cx="864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、文章是怎样描写蚂蚁的行动的？找出相应的词语，并想一想，运用这些词语起到了怎样的效果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4"/>
          <p:cNvSpPr/>
          <p:nvPr/>
        </p:nvSpPr>
        <p:spPr>
          <a:xfrm>
            <a:off x="324000" y="4581360"/>
            <a:ext cx="8626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993300"/>
                </a:solidFill>
                <a:latin typeface="Times New Roman"/>
              </a:rPr>
              <a:t>、第</a:t>
            </a:r>
            <a:r>
              <a:rPr b="1" lang="en-US" sz="4400" spc="-1" strike="noStrike">
                <a:solidFill>
                  <a:srgbClr val="993300"/>
                </a:solidFill>
                <a:latin typeface="Times New Roman"/>
              </a:rPr>
              <a:t>4</a:t>
            </a:r>
            <a:r>
              <a:rPr b="1" lang="zh-CN" sz="4400" spc="-1" strike="noStrike">
                <a:solidFill>
                  <a:srgbClr val="993300"/>
                </a:solidFill>
                <a:latin typeface="Times New Roman"/>
              </a:rPr>
              <a:t>段中“我”在稿纸上写下两个字“蚂蚁”，作者写着两个字蕴含着怎样的感情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5"/>
          <p:cNvSpPr/>
          <p:nvPr/>
        </p:nvSpPr>
        <p:spPr>
          <a:xfrm>
            <a:off x="324000" y="1052640"/>
            <a:ext cx="79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、给课文划分层次并概括层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AutoShape 6">
            <a:hlinkClick r:id="" action="ppaction://hlinkshowjump?jump=nextslide"/>
          </p:cNvPr>
          <p:cNvSpPr/>
          <p:nvPr/>
        </p:nvSpPr>
        <p:spPr>
          <a:xfrm>
            <a:off x="7812000" y="6093000"/>
            <a:ext cx="1008000" cy="765000"/>
          </a:xfrm>
          <a:custGeom>
            <a:avLst/>
            <a:gdLst>
              <a:gd name="textAreaLeft" fmla="*/ 47520 w 1008000"/>
              <a:gd name="textAreaRight" fmla="*/ 960480 w 1008000"/>
              <a:gd name="textAreaTop" fmla="*/ 47520 h 765000"/>
              <a:gd name="textAreaBottom" fmla="*/ 717480 h 765000"/>
            </a:gdLst>
            <a:ahLst/>
            <a:rect l="textAreaLeft" t="textAreaTop" r="textAreaRight" b="textAreaBottom"/>
            <a:pathLst>
              <a:path w="28458" h="21600">
                <a:moveTo>
                  <a:pt x="0" y="0"/>
                </a:moveTo>
                <a:lnTo>
                  <a:pt x="28458" y="0"/>
                </a:lnTo>
                <a:lnTo>
                  <a:pt x="28458" y="21600"/>
                </a:lnTo>
                <a:lnTo>
                  <a:pt x="0" y="21600"/>
                </a:lnTo>
                <a:close/>
              </a:path>
              <a:path fill="lightenLess" w="28458" h="21600">
                <a:moveTo>
                  <a:pt x="0" y="0"/>
                </a:moveTo>
                <a:lnTo>
                  <a:pt x="28458" y="0"/>
                </a:lnTo>
                <a:lnTo>
                  <a:pt x="27108" y="1350"/>
                </a:lnTo>
                <a:lnTo>
                  <a:pt x="1350" y="1350"/>
                </a:lnTo>
                <a:close/>
              </a:path>
              <a:path fill="darken" w="28458" h="21600">
                <a:moveTo>
                  <a:pt x="28458" y="0"/>
                </a:moveTo>
                <a:lnTo>
                  <a:pt x="28458" y="21600"/>
                </a:lnTo>
                <a:lnTo>
                  <a:pt x="27108" y="20250"/>
                </a:lnTo>
                <a:lnTo>
                  <a:pt x="27108" y="1350"/>
                </a:lnTo>
                <a:close/>
              </a:path>
              <a:path fill="darkenLess" w="28458" h="21600">
                <a:moveTo>
                  <a:pt x="2845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7108" y="20250"/>
                </a:lnTo>
                <a:close/>
              </a:path>
              <a:path fill="lighten" w="2845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蚂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9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AutoShape 2"/>
          <p:cNvSpPr/>
          <p:nvPr/>
        </p:nvSpPr>
        <p:spPr>
          <a:xfrm>
            <a:off x="1042920" y="1268280"/>
            <a:ext cx="433440" cy="3816360"/>
          </a:xfrm>
          <a:custGeom>
            <a:avLst/>
            <a:gdLst>
              <a:gd name="textAreaLeft" fmla="*/ 276840 w 433440"/>
              <a:gd name="textAreaRight" fmla="*/ 433800 w 43344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3"/>
          <p:cNvSpPr/>
          <p:nvPr/>
        </p:nvSpPr>
        <p:spPr>
          <a:xfrm>
            <a:off x="-354600" y="1916280"/>
            <a:ext cx="1399320" cy="26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蚂        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4"/>
          <p:cNvSpPr/>
          <p:nvPr/>
        </p:nvSpPr>
        <p:spPr>
          <a:xfrm>
            <a:off x="1403280" y="836640"/>
            <a:ext cx="26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一、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-4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）描述蚂蚁的活动过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5"/>
          <p:cNvSpPr/>
          <p:nvPr/>
        </p:nvSpPr>
        <p:spPr>
          <a:xfrm>
            <a:off x="1403280" y="4581360"/>
            <a:ext cx="251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二、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5-9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）蚂蚁发现饼干后的表现和我的感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6"/>
          <p:cNvSpPr/>
          <p:nvPr/>
        </p:nvSpPr>
        <p:spPr>
          <a:xfrm>
            <a:off x="3924360" y="76500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黑体"/>
              </a:rPr>
              <a:t>畏畏缩缩、偷渡者、胆怯、谨慎、左顾右盼、退了回来、重大的判断、下定了决心、义无反顾、信念坚定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7"/>
          <p:cNvSpPr/>
          <p:nvPr/>
        </p:nvSpPr>
        <p:spPr>
          <a:xfrm>
            <a:off x="3995640" y="45813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黑体"/>
              </a:rPr>
              <a:t>惊奇、晕、意外的战利品、竭尽全力、扛、蹒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AutoShape 8"/>
          <p:cNvSpPr/>
          <p:nvPr/>
        </p:nvSpPr>
        <p:spPr>
          <a:xfrm>
            <a:off x="6372360" y="907920"/>
            <a:ext cx="792000" cy="4608720"/>
          </a:xfrm>
          <a:custGeom>
            <a:avLst/>
            <a:gdLst>
              <a:gd name="textAreaLeft" fmla="*/ 0 w 792000"/>
              <a:gd name="textAreaRight" fmla="*/ 285840 w 792000"/>
              <a:gd name="textAreaTop" fmla="*/ 119880 h 4608720"/>
              <a:gd name="textAreaBottom" fmla="*/ 4488840 h 460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9"/>
          <p:cNvSpPr/>
          <p:nvPr/>
        </p:nvSpPr>
        <p:spPr>
          <a:xfrm>
            <a:off x="7164360" y="1844640"/>
            <a:ext cx="158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AutoShape 10">
            <a:hlinkClick r:id="" action="ppaction://hlinkshowjump?jump=previousslide"/>
          </p:cNvPr>
          <p:cNvSpPr/>
          <p:nvPr/>
        </p:nvSpPr>
        <p:spPr>
          <a:xfrm>
            <a:off x="7812000" y="6093000"/>
            <a:ext cx="1332000" cy="765000"/>
          </a:xfrm>
          <a:custGeom>
            <a:avLst/>
            <a:gdLst>
              <a:gd name="textAreaLeft" fmla="*/ 47520 w 1332000"/>
              <a:gd name="textAreaRight" fmla="*/ 1284480 w 1332000"/>
              <a:gd name="textAreaTop" fmla="*/ 47520 h 765000"/>
              <a:gd name="textAreaBottom" fmla="*/ 717480 h 765000"/>
            </a:gdLst>
            <a:ahLst/>
            <a:rect l="textAreaLeft" t="textAreaTop" r="textAreaRight" b="textAreaBottom"/>
            <a:pathLst>
              <a:path w="37602" h="21600">
                <a:moveTo>
                  <a:pt x="0" y="0"/>
                </a:moveTo>
                <a:lnTo>
                  <a:pt x="37602" y="0"/>
                </a:lnTo>
                <a:lnTo>
                  <a:pt x="37602" y="21600"/>
                </a:lnTo>
                <a:lnTo>
                  <a:pt x="0" y="21600"/>
                </a:lnTo>
                <a:close/>
              </a:path>
              <a:path fill="lightenLess" w="37602" h="21600">
                <a:moveTo>
                  <a:pt x="0" y="0"/>
                </a:moveTo>
                <a:lnTo>
                  <a:pt x="37602" y="0"/>
                </a:lnTo>
                <a:lnTo>
                  <a:pt x="36252" y="1350"/>
                </a:lnTo>
                <a:lnTo>
                  <a:pt x="1350" y="1350"/>
                </a:lnTo>
                <a:close/>
              </a:path>
              <a:path fill="darken" w="37602" h="21600">
                <a:moveTo>
                  <a:pt x="37602" y="0"/>
                </a:moveTo>
                <a:lnTo>
                  <a:pt x="37602" y="21600"/>
                </a:lnTo>
                <a:lnTo>
                  <a:pt x="36252" y="20250"/>
                </a:lnTo>
                <a:lnTo>
                  <a:pt x="36252" y="1350"/>
                </a:lnTo>
                <a:close/>
              </a:path>
              <a:path fill="darkenLess" w="37602" h="21600">
                <a:moveTo>
                  <a:pt x="37602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6252" y="20250"/>
                </a:lnTo>
                <a:close/>
              </a:path>
              <a:path fill="lighten" w="37602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蚂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11"/>
          <p:cNvSpPr/>
          <p:nvPr/>
        </p:nvSpPr>
        <p:spPr>
          <a:xfrm>
            <a:off x="6804000" y="76500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通过拟人化、夸张化的手法，将表现人的意志、行为的重大词语用来表现蚂蚁这种小动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2"/>
          <p:cNvSpPr/>
          <p:nvPr/>
        </p:nvSpPr>
        <p:spPr>
          <a:xfrm>
            <a:off x="6804000" y="358920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大词小用，不伦不类，产生一种幽默感；使对象的动作更加传神生动；抓住事物特点描写；想象力丰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AutoShape 13"/>
          <p:cNvSpPr/>
          <p:nvPr/>
        </p:nvSpPr>
        <p:spPr>
          <a:xfrm>
            <a:off x="7812000" y="3068640"/>
            <a:ext cx="505080" cy="576360"/>
          </a:xfrm>
          <a:prstGeom prst="downArrow">
            <a:avLst>
              <a:gd name="adj1" fmla="val 50000"/>
              <a:gd name="adj2" fmla="val 2852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4"/>
          <p:cNvSpPr/>
          <p:nvPr/>
        </p:nvSpPr>
        <p:spPr>
          <a:xfrm>
            <a:off x="-293400" y="4797360"/>
            <a:ext cx="127764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敬   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3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1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6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1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2"/>
          <p:cNvSpPr/>
          <p:nvPr/>
        </p:nvSpPr>
        <p:spPr>
          <a:xfrm>
            <a:off x="-34920" y="1585800"/>
            <a:ext cx="917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、蚂蚁的幸福是“货真价实”的，你赞同这种说法吗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3"/>
          <p:cNvSpPr/>
          <p:nvPr/>
        </p:nvSpPr>
        <p:spPr>
          <a:xfrm>
            <a:off x="-34920" y="3168720"/>
            <a:ext cx="878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3300"/>
                </a:solidFill>
                <a:latin typeface="Times New Roman"/>
              </a:rPr>
              <a:t>6</a:t>
            </a:r>
            <a:r>
              <a:rPr b="1" lang="zh-CN" sz="4800" spc="-1" strike="noStrike">
                <a:solidFill>
                  <a:srgbClr val="993300"/>
                </a:solidFill>
                <a:latin typeface="Times New Roman"/>
              </a:rPr>
              <a:t>、结尾作者为什么感慨？作者在感慨蚂蚁的同时又在感慨谁</a:t>
            </a:r>
            <a:r>
              <a:rPr b="1" lang="zh-CN" sz="4400" spc="-1" strike="noStrike">
                <a:solidFill>
                  <a:srgbClr val="993300"/>
                </a:solidFill>
                <a:latin typeface="Times New Roman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4"/>
          <p:cNvSpPr/>
          <p:nvPr/>
        </p:nvSpPr>
        <p:spPr>
          <a:xfrm>
            <a:off x="-34920" y="4753080"/>
            <a:ext cx="943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7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、你认为，本文的主旨是什么？这篇文章对你有什么启示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5"/>
          <p:cNvSpPr/>
          <p:nvPr/>
        </p:nvSpPr>
        <p:spPr>
          <a:xfrm>
            <a:off x="0" y="11160"/>
            <a:ext cx="89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为什么说蚂蚁的幸福是渺小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的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WordArt 6"/>
          <p:cNvSpPr txBox="1"/>
          <p:nvPr/>
        </p:nvSpPr>
        <p:spPr>
          <a:xfrm>
            <a:off x="7740720" y="5950080"/>
            <a:ext cx="12240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蚂蚁</a:t>
            </a:r>
            <a:endParaRPr b="0" lang="en-US" sz="2400" spc="1" strike="noStrike">
              <a:ln w="3240">
                <a:solidFill>
                  <a:srgbClr val="ff0000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8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2:12:08Z</dcterms:created>
  <dc:creator>第一PPT模板网-WWW.1PPT.COM</dc:creator>
  <dc:description>第一PPT模板网-WWW.1PPT.COM
</dc:description>
  <cp:keywords>第一PPT模板网-WWW.1PPT.COM</cp:keywords>
  <dc:language>en-US</dc:language>
  <cp:lastModifiedBy>微软用户</cp:lastModifiedBy>
  <dcterms:modified xsi:type="dcterms:W3CDTF">2015-11-02T08:42:55Z</dcterms:modified>
  <cp:revision>6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60</vt:lpwstr>
  </property>
</Properties>
</file>