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22.gif" ContentType="image/gif"/>
  <Override PartName="/ppt/media/%E8%8F%9C%E5%8D%95%E5%BC%B9%E5%87%BA%E6%97%B6%E5%A5%8F%E4%B9%90.wav" ContentType="audio/x-wav"/>
  <Override PartName="/ppt/media/image9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20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projctor.wav" ContentType="audio/x-wav"/>
  <Override PartName="/ppt/media/image2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camera.wav" ContentType="audio/x-wav"/>
  <Override PartName="/ppt/media/image6.png" ContentType="image/png"/>
  <Override PartName="/ppt/media/LASER.WAV" ContentType="audio/x-wav"/>
  <Override PartName="/ppt/media/image21.jpeg" ContentType="image/jpeg"/>
  <Override PartName="/ppt/media/chimes.wav" ContentType="audio/x-wav"/>
  <Override PartName="/ppt/media/clap.wav" ContentType="audio/x-wav"/>
  <Override PartName="/ppt/media/image1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FD5-9FFE-4077-84C6-AC8CE565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508-2076-4385-8386-8517E7C4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726-77B2-4E14-AF26-39CF2BEF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831-E490-4C5B-ADBC-DBA4F3E6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1D1-7A25-4EBE-BF6C-CF9D4CDD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204-884B-4155-B788-D8B94B58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F0C-B5E3-448A-85BA-7F0ED708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D86-8CC3-437F-A3AC-1865FCD4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D2A-D478-46D3-917E-8CFED34C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131-FC32-4027-8D3B-5744376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84E-4BEA-4938-8615-A6BE765B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7D8-05B2-4453-8CDA-1C6A412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8074-F36D-4B95-A16D-280957FE48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33756;&#21333;&#24377;&#20986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951200" cy="26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685800"/>
            <a:ext cx="40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鲁提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8160" y="4629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镇关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66880" y="236232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拳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287480" y="457200"/>
            <a:ext cx="1399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华文行楷"/>
                <a:ea typeface="华文行楷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95480" y="2514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题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拳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685800"/>
            <a:ext cx="6629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cc00ff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文章的题目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题眼是什么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88620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的题目交代了小说的什么知识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以此为题有什么作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cc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812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133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鲁提辖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</a:rPr>
              <a:t>拳打</a:t>
            </a: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镇关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63720" y="3240000"/>
            <a:ext cx="946080" cy="1484280"/>
          </a:xfrm>
          <a:custGeom>
            <a:avLst/>
            <a:gdLst/>
            <a:ahLst/>
            <a:rect l="l" t="t" r="r" b="b"/>
            <a:pathLst>
              <a:path w="596" h="935">
                <a:moveTo>
                  <a:pt x="122" y="647"/>
                </a:moveTo>
                <a:cubicBezTo>
                  <a:pt x="90" y="663"/>
                  <a:pt x="0" y="671"/>
                  <a:pt x="26" y="695"/>
                </a:cubicBezTo>
                <a:cubicBezTo>
                  <a:pt x="58" y="724"/>
                  <a:pt x="117" y="698"/>
                  <a:pt x="156" y="678"/>
                </a:cubicBezTo>
                <a:cubicBezTo>
                  <a:pt x="178" y="666"/>
                  <a:pt x="179" y="633"/>
                  <a:pt x="190" y="610"/>
                </a:cubicBezTo>
                <a:cubicBezTo>
                  <a:pt x="197" y="596"/>
                  <a:pt x="215" y="589"/>
                  <a:pt x="224" y="576"/>
                </a:cubicBezTo>
                <a:cubicBezTo>
                  <a:pt x="249" y="538"/>
                  <a:pt x="269" y="497"/>
                  <a:pt x="291" y="458"/>
                </a:cubicBezTo>
                <a:cubicBezTo>
                  <a:pt x="330" y="389"/>
                  <a:pt x="353" y="275"/>
                  <a:pt x="427" y="238"/>
                </a:cubicBezTo>
                <a:cubicBezTo>
                  <a:pt x="467" y="159"/>
                  <a:pt x="438" y="181"/>
                  <a:pt x="495" y="153"/>
                </a:cubicBezTo>
                <a:cubicBezTo>
                  <a:pt x="524" y="96"/>
                  <a:pt x="526" y="61"/>
                  <a:pt x="579" y="34"/>
                </a:cubicBezTo>
                <a:cubicBezTo>
                  <a:pt x="585" y="23"/>
                  <a:pt x="596" y="0"/>
                  <a:pt x="596" y="0"/>
                </a:cubicBezTo>
                <a:lnTo>
                  <a:pt x="170" y="935"/>
                </a:lnTo>
                <a:lnTo>
                  <a:pt x="26" y="695"/>
                </a:lnTo>
                <a:lnTo>
                  <a:pt x="122" y="6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2819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正义的一方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19051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609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3171960"/>
            <a:ext cx="1090440" cy="1520640"/>
          </a:xfrm>
          <a:custGeom>
            <a:avLst/>
            <a:gdLst/>
            <a:ahLst/>
            <a:rect l="l" t="t" r="r" b="b"/>
            <a:pathLst>
              <a:path w="687" h="958">
                <a:moveTo>
                  <a:pt x="684" y="907"/>
                </a:moveTo>
                <a:cubicBezTo>
                  <a:pt x="667" y="913"/>
                  <a:pt x="650" y="917"/>
                  <a:pt x="634" y="924"/>
                </a:cubicBezTo>
                <a:cubicBezTo>
                  <a:pt x="611" y="934"/>
                  <a:pt x="566" y="958"/>
                  <a:pt x="566" y="958"/>
                </a:cubicBezTo>
                <a:cubicBezTo>
                  <a:pt x="498" y="912"/>
                  <a:pt x="452" y="842"/>
                  <a:pt x="379" y="806"/>
                </a:cubicBezTo>
                <a:cubicBezTo>
                  <a:pt x="321" y="687"/>
                  <a:pt x="262" y="571"/>
                  <a:pt x="210" y="450"/>
                </a:cubicBezTo>
                <a:cubicBezTo>
                  <a:pt x="195" y="415"/>
                  <a:pt x="168" y="385"/>
                  <a:pt x="159" y="348"/>
                </a:cubicBezTo>
                <a:cubicBezTo>
                  <a:pt x="153" y="326"/>
                  <a:pt x="150" y="303"/>
                  <a:pt x="142" y="281"/>
                </a:cubicBezTo>
                <a:cubicBezTo>
                  <a:pt x="120" y="224"/>
                  <a:pt x="85" y="166"/>
                  <a:pt x="58" y="111"/>
                </a:cubicBezTo>
                <a:cubicBezTo>
                  <a:pt x="47" y="88"/>
                  <a:pt x="35" y="66"/>
                  <a:pt x="24" y="43"/>
                </a:cubicBezTo>
                <a:cubicBezTo>
                  <a:pt x="18" y="32"/>
                  <a:pt x="0" y="0"/>
                  <a:pt x="7" y="10"/>
                </a:cubicBezTo>
                <a:cubicBezTo>
                  <a:pt x="50" y="73"/>
                  <a:pt x="27" y="46"/>
                  <a:pt x="75" y="94"/>
                </a:cubicBezTo>
                <a:cubicBezTo>
                  <a:pt x="80" y="105"/>
                  <a:pt x="82" y="119"/>
                  <a:pt x="91" y="128"/>
                </a:cubicBezTo>
                <a:cubicBezTo>
                  <a:pt x="100" y="137"/>
                  <a:pt x="117" y="135"/>
                  <a:pt x="125" y="145"/>
                </a:cubicBezTo>
                <a:cubicBezTo>
                  <a:pt x="177" y="210"/>
                  <a:pt x="141" y="230"/>
                  <a:pt x="210" y="264"/>
                </a:cubicBezTo>
                <a:cubicBezTo>
                  <a:pt x="213" y="274"/>
                  <a:pt x="232" y="336"/>
                  <a:pt x="244" y="348"/>
                </a:cubicBezTo>
                <a:cubicBezTo>
                  <a:pt x="253" y="357"/>
                  <a:pt x="268" y="357"/>
                  <a:pt x="278" y="365"/>
                </a:cubicBezTo>
                <a:cubicBezTo>
                  <a:pt x="395" y="462"/>
                  <a:pt x="302" y="410"/>
                  <a:pt x="379" y="450"/>
                </a:cubicBezTo>
                <a:cubicBezTo>
                  <a:pt x="419" y="529"/>
                  <a:pt x="390" y="507"/>
                  <a:pt x="447" y="535"/>
                </a:cubicBezTo>
                <a:cubicBezTo>
                  <a:pt x="476" y="591"/>
                  <a:pt x="504" y="648"/>
                  <a:pt x="532" y="704"/>
                </a:cubicBezTo>
                <a:cubicBezTo>
                  <a:pt x="546" y="733"/>
                  <a:pt x="577" y="749"/>
                  <a:pt x="600" y="772"/>
                </a:cubicBezTo>
                <a:cubicBezTo>
                  <a:pt x="668" y="840"/>
                  <a:pt x="560" y="778"/>
                  <a:pt x="651" y="823"/>
                </a:cubicBezTo>
                <a:cubicBezTo>
                  <a:pt x="687" y="895"/>
                  <a:pt x="684" y="865"/>
                  <a:pt x="684" y="90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962520"/>
            <a:ext cx="274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邪恶的一方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5302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70680" y="8380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绰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809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心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以此为题表明鲁达打的是横霸一方的恶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10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4040" y="4572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人物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1447920"/>
            <a:ext cx="5867280" cy="13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c2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梁山泊第十三位好汉，十员步军头领第一名。鲁智深原名鲁达，是经略府的提辖，因为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郑屠欺侮金翠莲父女，三拳打死了镇关西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。被官府追捕，逃到五台山削发为僧，改名鲁智深。鲁智深忍受不住佛门清规，醉打山门，毁坏金身，被长老派往东京相国寺，看守菜园，因倒拔垂杨柳，威名远扬。鲁智深在野猪林救了林冲，高俅派人捉拿鲁智深，鲁智深在二龙山落草。后投奔水泊梁山，做了步兵头领。宋江攻打方腊，鲁智深一杖打翻了方腊。后在杭州六合寺圆寂而死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5333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Verdana"/>
              </a:rPr>
              <a:t>恶霸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33cc33"/>
                </a:solidFill>
                <a:latin typeface="Verdana"/>
              </a:rPr>
              <a:t>渭州城的一个恶霸，以 卖肉为业，他见金翠莲貌美，便乘她母死欠债之机中，强媒硬娶，占她作为妾，写了三千贯文书虚钱，却是一张卖身契。三月后，郑妻将其父女赶走，他还要逼还卖身钱，后被鲁智深三拳打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12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快速浏览课文，然后复述课文内容，理清故事情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时间顺序和故事发展的先后来复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某一天下午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909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二天一早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送走金氏父女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911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打死郑屠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-360" y="26668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-360" y="3429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-360" y="42670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flipH="1">
            <a:off x="-360" y="18288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867280" y="18288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2819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60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66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24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581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2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14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8195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172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94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—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166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463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—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50880"/>
            <a:ext cx="62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潘家酒楼，鲁提辖倾听金氏父女的血泪控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8195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鲁家客店，鲁提辖救助金氏父女逃离虎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2670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郑屠肉铺，鲁提辖三拳打死“镇关西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562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南门外，鲁提辖弃官出走，亡命天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762120"/>
            <a:ext cx="1096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11732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05320"/>
            <a:ext cx="11905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724280"/>
            <a:ext cx="11606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9680" y="380880"/>
            <a:ext cx="14094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根据复述故事的情况，要求给课文分成四个部分，并简要归纳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75c775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864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6324480" cy="3465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0880" y="457200"/>
            <a:ext cx="7893000" cy="6014880"/>
            <a:chOff x="380880" y="457200"/>
            <a:chExt cx="7893000" cy="60148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1800360" cy="28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6858000" y="457200"/>
              <a:ext cx="141588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4572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4280" y="2133720"/>
            <a:ext cx="52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．按照以上层次划分的四个阶段，分别找出鲁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、动作和心 理活动描写的句子，并分析这些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体现了鲁达怎样的性格特点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学生分小组进行交流讨论，教师巡视进行个别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点拨，并调控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．抽样检查，教师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7621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1981080"/>
            <a:ext cx="1033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刻画人物形象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20574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981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19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18288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肖像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语言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动作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心理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0240" y="1600200"/>
            <a:ext cx="33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酒楼会友倾听控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丢在地上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摸出银子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爽利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大骂郑屠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畏强暴  伸张正义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李忠不爽利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侠义  豪爽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480" y="47242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客店送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6040" y="5791320"/>
            <a:ext cx="40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打店小二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 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4560" y="457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5760" y="17524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拳打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0560" y="2514600"/>
            <a:ext cx="568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次消遣郑屠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前骂郑屠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正义感  直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拳打死镇关西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7880" y="487692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 4 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智走他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86640" y="572148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心理活动和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．．．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中有细，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8088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9476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13320" y="17524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同学把以上分析归纳起来，口头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是一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645000"/>
            <a:ext cx="865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义        粗        细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嫉恶如仇，具有强烈的正义感；慷慨大方，重义轻财；脾性急暴但粗中带细，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64120" y="4419720"/>
            <a:ext cx="31798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5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达的性格特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义”、“粗”、“细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是鲁提辖的灵魂，他之所以“打”、“救”无不出于一个“义”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86064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与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统一， 是鲁提辖性格的特色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77480" y="304920"/>
            <a:ext cx="55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自读课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-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，独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解决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00200"/>
            <a:ext cx="95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三次消遣郑屠”（从鲁提辖的要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郑屠的反应来分析）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749680"/>
            <a:ext cx="855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 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048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精肉，切做臊子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咄咄逼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唯唯诺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怒气冲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114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肥肉，切做臊子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睁眼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410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软骨，剁做臊子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12200" y="0"/>
            <a:ext cx="55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2)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拳痛打郑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（从打前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打的 位置、打得结果、描写角度、比 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修辞几方面来分析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828800"/>
          <a:ext cx="8458200" cy="4726080"/>
        </p:xfrm>
        <a:graphic>
          <a:graphicData uri="http://schemas.openxmlformats.org/drawingml/2006/table">
            <a:tbl>
              <a:tblPr/>
              <a:tblGrid>
                <a:gridCol w="1285920"/>
                <a:gridCol w="1814760"/>
                <a:gridCol w="1271520"/>
                <a:gridCol w="1482480"/>
                <a:gridCol w="1482840"/>
                <a:gridCol w="11206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打前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位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比 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描写角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52480" y="28954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如何                             鲜血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强骗了             鼻子        迸流            油酱铺      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翠莲？                         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11480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敢       眼眶际   眼棱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口！      眉梢    裂，乌    彩帛铺   视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珠迸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341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出气     水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落户     太阳穴   无入气     全堂    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道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73320" y="609480"/>
            <a:ext cx="31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分析店小二的三次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4560" y="2438280"/>
            <a:ext cx="770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438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坐在肉案门边                      不敢拢来…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429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戏弄郑屠                             那里敢过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激怒郑屠                             惊得呆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71600" y="3333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独立思考后分小组讨论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下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7200" y="1806480"/>
            <a:ext cx="575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提辖为什么要三次消遣郑屠？表现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什么的性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2736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激怒郑屠，使其主动动手，为打找正当借口；乱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方寸，更容易打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映了鲁达粗中有细、有勇有谋的性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444672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 ⑵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店小二的三次反应有什么作用？这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什么写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衬鲁达气豪胆壮，显示其力量的强大；侧面烘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676520"/>
            <a:ext cx="86104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又名《忠义水浒传》、《江湖豪客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,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是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著名的描写农民起义的长篇章回体小说。史籍曾载宋江等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人造反的事迹。文学名著《水浒传》如一幅长长的历史画卷，展示了宋代的政治文化，市井风情，社会景观。梁山好汉最引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注目，他们侠肝义胆，敢报天下不平，其性格光彩照人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世人敬仰。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它揭露了封建社会的黑暗和统治阶级的罪恶，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示了“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官逼民反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的社会现实</a:t>
            </a:r>
            <a:r>
              <a:rPr b="1" lang="zh-CN" sz="1800" spc="-1" strike="noStrike">
                <a:solidFill>
                  <a:srgbClr val="ff505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</a:rPr>
              <a:t>    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水浒传》中的一百单八将，传说是三十六个天罡星和七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二个地煞星转世。而后水浒故事在民间广泛流传，并且形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风景独特的“水浒文化”。  《水浒传》的作者是谁？颇有争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电视连续剧《水浒传》就标明原作者为施耐庵、罗贯中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水浒传》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0335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loud"/>
          <p:cNvSpPr/>
          <p:nvPr/>
        </p:nvSpPr>
        <p:spPr>
          <a:xfrm>
            <a:off x="2133720" y="533520"/>
            <a:ext cx="7010280" cy="1904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达为什么要三次消遣郑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2997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为了激怒郑屠，使其主动动手，为“拳打”找正当借口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乱对方方寸，更容易打倒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反映了鲁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粗中有细、有勇有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的性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，文章为何将三拳写的细致痛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，当今社会我们是否可以仿效梁山好汉们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838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1800" y="21337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鲁提辖拳打镇关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13372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 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社会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北 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、客店、肉铺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 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      倾听金氏妇女哭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429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客店      救助金氏妇女脱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肉铺      三拳打死镇关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南门      出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性急、爽直、疾恶如仇、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动作描写、语言描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5943600"/>
            <a:ext cx="4572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04920" y="228600"/>
            <a:ext cx="8528040" cy="6337440"/>
            <a:chOff x="304920" y="228600"/>
            <a:chExt cx="8528040" cy="63374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59732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172560" y="4267080"/>
              <a:ext cx="2660400" cy="22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 txBox="1"/>
          <p:nvPr/>
        </p:nvSpPr>
        <p:spPr>
          <a:xfrm>
            <a:off x="1066680" y="2057400"/>
            <a:ext cx="6324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6172200" cy="163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元末明初的小说家，兴化白驹场人（今属江苏）。他根据民间流传宋江起义的故事，写成长篇小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内容描述北宋末年当政者横征暴敛，以致官逼民反的情形，描写宋江起义和失败的经过，以及众多英雄好汉被逼上梁山的故事，塑造了大批栩栩如生的人物如武松、李逵、鲁智深、林冲、宋江等。其中武松打虎、江州劫法场等故事，更是引人入胜。《水浒传》是中国四大古典小说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04520" y="30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中国四大古典名著</a:t>
            </a:r>
            <a:br>
              <a:rPr sz="66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224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89548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66800" y="1523880"/>
            <a:ext cx="27399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国演义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罗贯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1640" y="1676520"/>
            <a:ext cx="1521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《水浒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施耐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1880" y="3898440"/>
            <a:ext cx="21301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《西游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吴承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3720" y="3974760"/>
            <a:ext cx="115524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《红楼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清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曹雪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62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水浒传》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118960"/>
            <a:ext cx="77011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《水浒传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又名《忠义水浒传》、《江湖豪客传》。根据宋金元时期宋江起义的故事加工编成话本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年后，施耐庵根据话本、民间故事、戏曲写出中国第一部长篇白话小说《水浒传》，在我国白话文学的发展史上，具有里程碑的意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施耐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《水浒传》中塑造了一批啸聚江湖，仗义行侠的绿林好汉的独特性格和各人被逼上梁山的成长道路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英雄好汉，每人有每人的语言，通过这些语言，人物的迥异性格被刻画得惟妙惟肖，栩栩如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75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090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主要人物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花和尚鲁智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孤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梁山泊第十三位好汉，十员步军头领第一名。鲁智深原名鲁达，是经略的提辖，因为见郑屠欺侮金翠莲父女，三拳打死了镇关西。被官府追捕，逃到五台山削发为僧，改名鲁智深。鲁智深忍受不住佛门清规，醉打山门，毁坏金身，被长老派往东京相国寺，看守菜园，因将偷菜的泼皮踢进了粪池，倒拔垂杨柳，威名远扬。鲁智深在野猪林救了林冲，高俅派人捉拿鲁智深，鲁智深在二龙山落草。后投奔水泊梁山，做了步兵头领。宋江攻打方腊，鲁智深一杖打翻了方腊。后在杭州六合寺圆寂而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85800"/>
            <a:ext cx="4267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恶霸：郑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渭州城的一个恶霸，以卖肉为业，他见金翠莲貌美，便乘她母死欠债之机中，强媒硬娶，占她作为妾，写了三   千绩文书虚钱，却是一张卖身契。三月后，郑妻将其父女赶走，他还要逼还卖身钱，后被鲁智深三拳打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278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0" y="228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课前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990720"/>
            <a:ext cx="6400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自《水浒传》第三回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史大郎夜走华阴县，鲁提辖拳打镇关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：九纹龙史进为了救少华山的朱武、陈达、杨春三个头领，中秋之夜大闹史家村，从华阴县出走，在延安府寻找师傅王进，在渭州的茶坊里遇见鲁达，后又在路上遇见他的启蒙武师李忠，于是三人一起来到潘家酒店，鲁达听得隔壁传来哭声，原来是金翠莲被郑屠欺压侮辱，金氏父女走投无路。鲁达顿时火冒三丈，起身上前就要去打死郑屠，后被史进等人劝住才作罢。他同情父女俩的遭遇，拿出仅有的五两银子送与他们做投奔亲戚的路费，随后又痛打的拦截金氏父女的店小二。待金家父女走后，他马上来到郑屠的肉铺，“拳打镇关西”的故事从此开始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4:45:22Z</dcterms:created>
  <dc:creator>DBF</dc:creator>
  <dc:description/>
  <dc:language>en-US</dc:language>
  <cp:lastModifiedBy>微软用户</cp:lastModifiedBy>
  <dcterms:modified xsi:type="dcterms:W3CDTF">2013-12-04T01:38:10Z</dcterms:modified>
  <cp:revision>23</cp:revision>
  <dc:subject/>
  <dc:title>PowerPoint 演示文稿</dc:title>
</cp:coreProperties>
</file>