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jpeg" ContentType="image/jpeg"/>
  <Override PartName="/ppt/media/image22.gif" ContentType="image/gif"/>
  <Override PartName="/ppt/media/%E8%8F%9C%E5%8D%95%E5%BC%B9%E5%87%BA%E6%97%B6%E5%A5%8F%E4%B9%90.wav" ContentType="audio/x-wav"/>
  <Override PartName="/ppt/media/image9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20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projctor.wav" ContentType="audio/x-wav"/>
  <Override PartName="/ppt/media/image24.jpeg" ContentType="image/jpeg"/>
  <Override PartName="/ppt/media/image1.png" ContentType="image/png"/>
  <Override PartName="/ppt/media/image2.png" ContentType="image/png"/>
  <Override PartName="/ppt/media/image25.jpeg" ContentType="image/jpeg"/>
  <Override PartName="/ppt/media/image11.jpeg" ContentType="image/jpeg"/>
  <Override PartName="/ppt/media/image17.jpeg" ContentType="image/jpeg"/>
  <Override PartName="/ppt/media/image3.png" ContentType="image/png"/>
  <Override PartName="/ppt/media/image29.jpeg" ContentType="image/jpeg"/>
  <Override PartName="/ppt/media/image35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7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23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camera.wav" ContentType="audio/x-wav"/>
  <Override PartName="/ppt/media/image6.png" ContentType="image/png"/>
  <Override PartName="/ppt/media/LASER.WAV" ContentType="audio/x-wav"/>
  <Override PartName="/ppt/media/image21.jpeg" ContentType="image/jpeg"/>
  <Override PartName="/ppt/media/chimes.wav" ContentType="audio/x-wav"/>
  <Override PartName="/ppt/media/clap.wav" ContentType="audio/x-wav"/>
  <Override PartName="/ppt/media/image16.jpeg" ContentType="image/jpeg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4D4-5154-4223-BAAC-32A90947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429-AFE3-469D-A3C8-13DB1FE0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AE9-D35F-4507-845F-6D47ECD4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B45-F6FE-4B86-BB82-9D61F54C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8DF-680D-4282-BCCE-78492F2F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0B8-4A98-47BE-89C1-E555BB76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F51-7C9A-4B04-9A7A-7EA18202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A0C-76EC-4D7D-ADBD-FCC0AC52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2095-0543-4DDB-AADA-6BBB1B95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52D-21B2-48E6-B268-DE799F7B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612-4F7B-4CB6-A7D9-2240CD04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040-E1DC-4F59-A6D8-35115387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58EA-9AD8-4D35-A60C-254CD6268E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&#33756;&#21333;&#24377;&#20986;&#26102;&#22863;&#20048;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43640" y="2997360"/>
            <a:ext cx="1951200" cy="263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19520" y="685800"/>
            <a:ext cx="407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鲁提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8160" y="46292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隶书"/>
              </a:rPr>
              <a:t>镇关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66880" y="2362320"/>
            <a:ext cx="3657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宋体"/>
              </a:rPr>
              <a:t>拳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7287480" y="457200"/>
            <a:ext cx="1399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华文行楷"/>
                <a:ea typeface="华文行楷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9480" y="58672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95480" y="25146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题眼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514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拳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14600" y="685800"/>
            <a:ext cx="6629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cc00ff"/>
                </a:solidFill>
                <a:latin typeface="Times New Roman"/>
              </a:rPr>
              <a:t>思考</a:t>
            </a:r>
            <a:r>
              <a:rPr b="0" lang="zh-CN" sz="4400" spc="-1" strike="noStrike">
                <a:solidFill>
                  <a:srgbClr val="cc00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从文章的题目看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题眼是什么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3886200"/>
            <a:ext cx="7620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的题目交代了小说的什么知识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以此为题有什么作用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cc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581280" y="21337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1337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鲁提辖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</a:rPr>
              <a:t>拳打</a:t>
            </a: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镇关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63720" y="3240000"/>
            <a:ext cx="946080" cy="1484280"/>
          </a:xfrm>
          <a:custGeom>
            <a:avLst/>
            <a:gdLst/>
            <a:ahLst/>
            <a:rect l="l" t="t" r="r" b="b"/>
            <a:pathLst>
              <a:path w="596" h="935">
                <a:moveTo>
                  <a:pt x="122" y="647"/>
                </a:moveTo>
                <a:cubicBezTo>
                  <a:pt x="90" y="663"/>
                  <a:pt x="0" y="671"/>
                  <a:pt x="26" y="695"/>
                </a:cubicBezTo>
                <a:cubicBezTo>
                  <a:pt x="58" y="724"/>
                  <a:pt x="117" y="698"/>
                  <a:pt x="156" y="678"/>
                </a:cubicBezTo>
                <a:cubicBezTo>
                  <a:pt x="178" y="666"/>
                  <a:pt x="179" y="633"/>
                  <a:pt x="190" y="610"/>
                </a:cubicBezTo>
                <a:cubicBezTo>
                  <a:pt x="197" y="596"/>
                  <a:pt x="215" y="589"/>
                  <a:pt x="224" y="576"/>
                </a:cubicBezTo>
                <a:cubicBezTo>
                  <a:pt x="249" y="538"/>
                  <a:pt x="269" y="497"/>
                  <a:pt x="291" y="458"/>
                </a:cubicBezTo>
                <a:cubicBezTo>
                  <a:pt x="330" y="389"/>
                  <a:pt x="353" y="275"/>
                  <a:pt x="427" y="238"/>
                </a:cubicBezTo>
                <a:cubicBezTo>
                  <a:pt x="467" y="159"/>
                  <a:pt x="438" y="181"/>
                  <a:pt x="495" y="153"/>
                </a:cubicBezTo>
                <a:cubicBezTo>
                  <a:pt x="524" y="96"/>
                  <a:pt x="526" y="61"/>
                  <a:pt x="579" y="34"/>
                </a:cubicBezTo>
                <a:cubicBezTo>
                  <a:pt x="585" y="23"/>
                  <a:pt x="596" y="0"/>
                  <a:pt x="596" y="0"/>
                </a:cubicBezTo>
                <a:lnTo>
                  <a:pt x="170" y="935"/>
                </a:lnTo>
                <a:lnTo>
                  <a:pt x="26" y="695"/>
                </a:lnTo>
                <a:lnTo>
                  <a:pt x="122" y="6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28195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鲁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正义的一方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19051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6094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身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40440" y="3171960"/>
            <a:ext cx="1090440" cy="1520640"/>
          </a:xfrm>
          <a:custGeom>
            <a:avLst/>
            <a:gdLst/>
            <a:ahLst/>
            <a:rect l="l" t="t" r="r" b="b"/>
            <a:pathLst>
              <a:path w="687" h="958">
                <a:moveTo>
                  <a:pt x="684" y="907"/>
                </a:moveTo>
                <a:cubicBezTo>
                  <a:pt x="667" y="913"/>
                  <a:pt x="650" y="917"/>
                  <a:pt x="634" y="924"/>
                </a:cubicBezTo>
                <a:cubicBezTo>
                  <a:pt x="611" y="934"/>
                  <a:pt x="566" y="958"/>
                  <a:pt x="566" y="958"/>
                </a:cubicBezTo>
                <a:cubicBezTo>
                  <a:pt x="498" y="912"/>
                  <a:pt x="452" y="842"/>
                  <a:pt x="379" y="806"/>
                </a:cubicBezTo>
                <a:cubicBezTo>
                  <a:pt x="321" y="687"/>
                  <a:pt x="262" y="571"/>
                  <a:pt x="210" y="450"/>
                </a:cubicBezTo>
                <a:cubicBezTo>
                  <a:pt x="195" y="415"/>
                  <a:pt x="168" y="385"/>
                  <a:pt x="159" y="348"/>
                </a:cubicBezTo>
                <a:cubicBezTo>
                  <a:pt x="153" y="326"/>
                  <a:pt x="150" y="303"/>
                  <a:pt x="142" y="281"/>
                </a:cubicBezTo>
                <a:cubicBezTo>
                  <a:pt x="120" y="224"/>
                  <a:pt x="85" y="166"/>
                  <a:pt x="58" y="111"/>
                </a:cubicBezTo>
                <a:cubicBezTo>
                  <a:pt x="47" y="88"/>
                  <a:pt x="35" y="66"/>
                  <a:pt x="24" y="43"/>
                </a:cubicBezTo>
                <a:cubicBezTo>
                  <a:pt x="18" y="32"/>
                  <a:pt x="0" y="0"/>
                  <a:pt x="7" y="10"/>
                </a:cubicBezTo>
                <a:cubicBezTo>
                  <a:pt x="50" y="73"/>
                  <a:pt x="27" y="46"/>
                  <a:pt x="75" y="94"/>
                </a:cubicBezTo>
                <a:cubicBezTo>
                  <a:pt x="80" y="105"/>
                  <a:pt x="82" y="119"/>
                  <a:pt x="91" y="128"/>
                </a:cubicBezTo>
                <a:cubicBezTo>
                  <a:pt x="100" y="137"/>
                  <a:pt x="117" y="135"/>
                  <a:pt x="125" y="145"/>
                </a:cubicBezTo>
                <a:cubicBezTo>
                  <a:pt x="177" y="210"/>
                  <a:pt x="141" y="230"/>
                  <a:pt x="210" y="264"/>
                </a:cubicBezTo>
                <a:cubicBezTo>
                  <a:pt x="213" y="274"/>
                  <a:pt x="232" y="336"/>
                  <a:pt x="244" y="348"/>
                </a:cubicBezTo>
                <a:cubicBezTo>
                  <a:pt x="253" y="357"/>
                  <a:pt x="268" y="357"/>
                  <a:pt x="278" y="365"/>
                </a:cubicBezTo>
                <a:cubicBezTo>
                  <a:pt x="395" y="462"/>
                  <a:pt x="302" y="410"/>
                  <a:pt x="379" y="450"/>
                </a:cubicBezTo>
                <a:cubicBezTo>
                  <a:pt x="419" y="529"/>
                  <a:pt x="390" y="507"/>
                  <a:pt x="447" y="535"/>
                </a:cubicBezTo>
                <a:cubicBezTo>
                  <a:pt x="476" y="591"/>
                  <a:pt x="504" y="648"/>
                  <a:pt x="532" y="704"/>
                </a:cubicBezTo>
                <a:cubicBezTo>
                  <a:pt x="546" y="733"/>
                  <a:pt x="577" y="749"/>
                  <a:pt x="600" y="772"/>
                </a:cubicBezTo>
                <a:cubicBezTo>
                  <a:pt x="668" y="840"/>
                  <a:pt x="560" y="778"/>
                  <a:pt x="651" y="823"/>
                </a:cubicBezTo>
                <a:cubicBezTo>
                  <a:pt x="687" y="895"/>
                  <a:pt x="684" y="865"/>
                  <a:pt x="684" y="90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962520"/>
            <a:ext cx="27432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邪恶的一方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3352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9051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7560" y="5302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70680" y="8380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绰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809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中心事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4864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以此为题表明鲁达打的是横霸一方的恶人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371600" cy="108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44040" y="4572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主要人物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666880" cy="5181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8120" y="1447920"/>
            <a:ext cx="5867280" cy="133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c26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梁山泊第十三位好汉，十员步军头领第一名。鲁智深原名鲁达，是经略府的提辖，因为见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郑屠欺侮金翠莲父女，三拳打死了镇关西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。被官府追捕，逃到五台山削发为僧，改名鲁智深。鲁智深忍受不住佛门清规，醉打山门，毁坏金身，被长老派往东京相国寺，看守菜园，因倒拔垂杨柳，威名远扬。鲁智深在野猪林救了林冲，高俅派人捉拿鲁智深，鲁智深在二龙山落草。后投奔水泊梁山，做了步兵头领。宋江攻打方腊，鲁智深一杖打翻了方腊。后在杭州六合寺圆寂而死。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380880"/>
            <a:ext cx="53337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Verdana"/>
              </a:rPr>
              <a:t>恶霸：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33cc33"/>
                </a:solidFill>
                <a:latin typeface="Verdana"/>
              </a:rPr>
              <a:t>渭州城的一个恶霸，以 卖肉为业，他见金翠莲貌美，便乘她母死欠债之机中，强媒硬娶，占她作为妾，写了三千贯文书虚钱，却是一张卖身契。三月后，郑妻将其父女赶走，他还要逼还卖身钱，后被鲁智深三拳打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124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8686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快速浏览课文，然后复述课文内容，理清故事情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时间顺序和故事发展的先后来复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752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某一天下午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59092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第二天一早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35268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送走金氏父女后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1911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打死郑屠后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flipH="1">
            <a:off x="-360" y="26668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flipH="1">
            <a:off x="-360" y="34290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flipH="1">
            <a:off x="-360" y="42670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flipH="1">
            <a:off x="-360" y="18288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867280" y="1828800"/>
            <a:ext cx="3048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91120" y="2819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60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292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608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166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24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5812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24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1148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81952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624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608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35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61722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944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—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1668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4639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—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高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550880"/>
            <a:ext cx="62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潘家酒楼，鲁提辖倾听金氏父女的血泪控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8195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鲁家客店，鲁提辖救助金氏父女逃离虎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26708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郑屠肉铺，鲁提辖三拳打死“镇关西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562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南门外，鲁提辖弃官出走，亡命天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762120"/>
            <a:ext cx="1096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问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11732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救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505320"/>
            <a:ext cx="11905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4724280"/>
            <a:ext cx="11606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逃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29680" y="380880"/>
            <a:ext cx="14094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根据复述故事的情况，要求给课文分成四个部分，并简要归纳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75c775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48640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3048120"/>
            <a:ext cx="6324480" cy="3465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0880" y="457200"/>
            <a:ext cx="7893000" cy="6014880"/>
            <a:chOff x="380880" y="457200"/>
            <a:chExt cx="7893000" cy="601488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380880" y="3581280"/>
              <a:ext cx="1800360" cy="28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6858000" y="457200"/>
              <a:ext cx="1415880" cy="24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4572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析人物形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34280" y="2133720"/>
            <a:ext cx="52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１．按照以上层次划分的四个阶段，分别找出鲁达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、动作和心 理活动描写的句子，并分析这些句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体现了鲁达怎样的性格特点。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２．学生分小组进行交流讨论，教师巡视进行个别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点拨，并调控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３．抽样检查，教师评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7621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人物形象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5240" y="1981080"/>
            <a:ext cx="1033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刻画人物形象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20574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057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正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4648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19810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4197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括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5029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括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198108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18288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肖像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语言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动作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心理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神态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0240" y="1600200"/>
            <a:ext cx="33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１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酒楼会友倾听控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43828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丢在地上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摸出银子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爽利  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大骂郑屠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畏强暴  伸张正义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李忠不爽利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侠义  豪爽  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3480" y="4724280"/>
            <a:ext cx="21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２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客店送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86040" y="5791320"/>
            <a:ext cx="40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打店小二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勇武   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14560" y="4572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达的性格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5760" y="1752480"/>
            <a:ext cx="21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３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拳打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90560" y="2514600"/>
            <a:ext cx="568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三次消遣郑屠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勇有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前骂郑屠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正义感  直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三拳打死镇关西 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勇武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7880" y="487692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 4 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智走他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86640" y="572148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心理活动和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．．．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中有细，有勇有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380880"/>
            <a:ext cx="448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达的性格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94760" y="3808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纳小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13320" y="1752480"/>
            <a:ext cx="52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请同学把以上分析归纳起来，口头总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达是一个什么样的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3560" y="3645000"/>
            <a:ext cx="865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义        粗        细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嫉恶如仇，具有强烈的正义感；慷慨大方，重义轻财；脾性急暴但粗中带细，有勇有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038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4038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964120" y="4419720"/>
            <a:ext cx="317988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9640" y="260280"/>
            <a:ext cx="55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鲁达的性格特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义”、“粗”、“细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205000"/>
            <a:ext cx="8610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是鲁提辖的灵魂，他之所以“打”、“救”无不出于一个“义”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386064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与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的统一， 是鲁提辖性格的特色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77480" y="304920"/>
            <a:ext cx="55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自读课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-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段，独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考解决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600200"/>
            <a:ext cx="95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三次消遣郑屠”（从鲁提辖的要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郑屠的反应来分析）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749680"/>
            <a:ext cx="8550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一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二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 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三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0481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精肉，切做臊子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咄咄逼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350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唯唯诺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648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疑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怒气冲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114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肥肉，切做臊子 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睁眼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5410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软骨，剁做臊子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胸有成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12200" y="0"/>
            <a:ext cx="557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2)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拳痛打郑屠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（从打前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打的 位置、打得结果、描写角度、比 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修辞几方面来分析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828800"/>
          <a:ext cx="8458200" cy="4726080"/>
        </p:xfrm>
        <a:graphic>
          <a:graphicData uri="http://schemas.openxmlformats.org/drawingml/2006/table">
            <a:tbl>
              <a:tblPr/>
              <a:tblGrid>
                <a:gridCol w="1285920"/>
                <a:gridCol w="1814760"/>
                <a:gridCol w="1271520"/>
                <a:gridCol w="1482480"/>
                <a:gridCol w="1482840"/>
                <a:gridCol w="112068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打前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位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结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比 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描写角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752480" y="289548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如何                             鲜血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强骗了             鼻子        迸流            油酱铺      味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翠莲？                         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11480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敢       眼眶际   眼棱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应口！      眉梢    裂，乌    彩帛铺   视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珠迸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3412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出气     水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破落户     太阳穴   无入气     全堂    听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道场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73320" y="609480"/>
            <a:ext cx="31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分析店小二的三次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4560" y="2438280"/>
            <a:ext cx="770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2438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坐在肉案门边                      不敢拢来…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3429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戏弄郑屠                             那里敢过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激怒郑屠                             惊得呆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71600" y="333360"/>
            <a:ext cx="48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独立思考后分小组讨论解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下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7200" y="1806480"/>
            <a:ext cx="575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提辖为什么要三次消遣郑屠？表现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达什么的性格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72736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激怒郑屠，使其主动动手，为打找正当借口；乱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方寸，更容易打倒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反映了鲁达粗中有细、有勇有谋的性格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05000" y="4446720"/>
            <a:ext cx="596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  ⑵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写店小二的三次反应有什么作用？这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什么写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410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反衬鲁达气豪胆壮，显示其力量的强大；侧面烘托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法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1676520"/>
            <a:ext cx="861048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《水浒传》</a:t>
            </a:r>
            <a:r>
              <a:rPr b="1" lang="zh-CN" sz="2400" spc="-1" strike="noStrike">
                <a:solidFill>
                  <a:srgbClr val="ff5050"/>
                </a:solidFill>
                <a:latin typeface="Verdana"/>
                <a:ea typeface="_x000b__x000c_"/>
              </a:rPr>
              <a:t>又名《忠义水浒传》、《江湖豪客传》</a:t>
            </a:r>
            <a:r>
              <a:rPr b="1" lang="zh-CN" sz="2400" spc="-1" strike="noStrike">
                <a:solidFill>
                  <a:srgbClr val="ff5050"/>
                </a:solidFill>
                <a:latin typeface="Verdana"/>
                <a:ea typeface="_x000b__x000c_"/>
              </a:rPr>
              <a:t>,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是一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著名的描写农民起义的长篇章回体小说。史籍曾载宋江等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人造反的事迹。文学名著《水浒传》如一幅长长的历史画卷，展示了宋代的政治文化，市井风情，社会景观。梁山好汉最引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注目，他们侠肝义胆，敢报天下不平，其性格光彩照人，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世人敬仰。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它揭露了封建社会的黑暗和统治阶级的罪恶，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示了“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官逼民反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的社会现实</a:t>
            </a:r>
            <a:r>
              <a:rPr b="1" lang="zh-CN" sz="1800" spc="-1" strike="noStrike">
                <a:solidFill>
                  <a:srgbClr val="ff505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ff5050"/>
                </a:solidFill>
                <a:latin typeface="Times New Roman"/>
              </a:rPr>
              <a:t>    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c26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080c26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水浒传》中的一百单八将，传说是三十六个天罡星和七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二个地煞星转世。而后水浒故事在民间广泛流传，并且形成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风景独特的“水浒文化”。  《水浒传》的作者是谁？颇有争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电视连续剧《水浒传》就标明原作者为施耐庵、罗贯中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水浒传》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103356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projctor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Cloud"/>
          <p:cNvSpPr/>
          <p:nvPr/>
        </p:nvSpPr>
        <p:spPr>
          <a:xfrm>
            <a:off x="2133720" y="533520"/>
            <a:ext cx="7010280" cy="1904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7621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达为什么要三次消遣郑屠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299736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为了激怒郑屠，使其主动动手，为“拳打”找正当借口；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乱对方方寸，更容易打倒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反映了鲁达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粗中有细、有勇有谋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的性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660320" cy="2667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191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，文章为何将三拳写的细致痛快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，当今社会我们是否可以仿效梁山好汉们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3880" y="8380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 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1800" y="2133720"/>
            <a:ext cx="1155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鲁提辖拳打镇关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133720"/>
            <a:ext cx="228600" cy="3581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环 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1676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社会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北 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28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酒楼、客店、肉铺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情 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32004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酒楼      倾听金氏妇女哭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3429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客店      救助金氏妇女脱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肉铺      三拳打死镇关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南门      出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 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性急、爽直、疾恶如仇、有勇有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动作描写、语言描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5943600"/>
            <a:ext cx="45720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18288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2286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然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304920" y="228600"/>
            <a:ext cx="8528040" cy="6337440"/>
            <a:chOff x="304920" y="228600"/>
            <a:chExt cx="8528040" cy="633744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1597320" cy="21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6172560" y="4267080"/>
              <a:ext cx="2660400" cy="229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 txBox="1"/>
          <p:nvPr/>
        </p:nvSpPr>
        <p:spPr>
          <a:xfrm>
            <a:off x="1066680" y="2057400"/>
            <a:ext cx="63248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谢谢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6172200" cy="163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施耐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元末明初的小说家，兴化白驹场人（今属江苏）。他根据民间流传宋江起义的故事，写成长篇小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水浒传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内容描述北宋末年当政者横征暴敛，以致官逼民反的情形，描写宋江起义和失败的经过，以及众多英雄好汉被逼上梁山的故事，塑造了大批栩栩如生的人物如武松、李逵、鲁智深、林冲、宋江等。其中武松打虎、江州劫法场等故事，更是引人入胜。《水浒传》是中国四大古典小说之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29400" y="1600200"/>
            <a:ext cx="251460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004520" y="304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作者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152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中国四大古典名著</a:t>
            </a:r>
            <a:br>
              <a:rPr sz="66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82240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895480" cy="2533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48320" y="129528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66800" y="1523880"/>
            <a:ext cx="273996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国演义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罗贯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81640" y="1676520"/>
            <a:ext cx="15210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《水浒传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施耐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1880" y="3898440"/>
            <a:ext cx="213012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《西游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吴承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3720" y="3974760"/>
            <a:ext cx="115524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《红楼梦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清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曹雪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162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《水浒传》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7080" y="2118960"/>
            <a:ext cx="770112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《水浒传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又名《忠义水浒传》、《江湖豪客传》。根据宋金元时期宋江起义的故事加工编成话本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年后，施耐庵根据话本、民间故事、戏曲写出中国第一部长篇白话小说《水浒传》，在我国白话文学的发展史上，具有里程碑的意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者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施耐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《水浒传》中塑造了一批啸聚江湖，仗义行侠的绿林好汉的独特性格和各人被逼上梁山的成长道路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英雄好汉，每人有每人的语言，通过这些语言，人物的迥异性格被刻画得惟妙惟肖，栩栩如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75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75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090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主要人物介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花和尚鲁智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孤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梁山泊第十三位好汉，十员步军头领第一名。鲁智深原名鲁达，是经略的提辖，因为见郑屠欺侮金翠莲父女，三拳打死了镇关西。被官府追捕，逃到五台山削发为僧，改名鲁智深。鲁智深忍受不住佛门清规，醉打山门，毁坏金身，被长老派往东京相国寺，看守菜园，因将偷菜的泼皮踢进了粪池，倒拔垂杨柳，威名远扬。鲁智深在野猪林救了林冲，高俅派人捉拿鲁智深，鲁智深在二龙山落草。后投奔水泊梁山，做了步兵头领。宋江攻打方腊，鲁智深一杖打翻了方腊。后在杭州六合寺圆寂而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8%8F%9C%E5%8D%95%E5%BC%B9%E5%87%BA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75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85800"/>
            <a:ext cx="42670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恶霸：郑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渭州城的一个恶霸，以卖肉为业，他见金翠莲貌美，便乘她母死欠债之机中，强媒硬娶，占她作为妾，写了三   千绩文书虚钱，却是一张卖身契。三月后，郑妻将其父女赶走，他还要逼还卖身钱，后被鲁智深三拳打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278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7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75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0" y="2286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隶书"/>
              </a:rPr>
              <a:t>课前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990720"/>
            <a:ext cx="6400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文节选自《水浒传》第三回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史大郎夜走华阴县，鲁提辖拳打镇关西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”：九纹龙史进为了救少华山的朱武、陈达、杨春三个头领，中秋之夜大闹史家村，从华阴县出走，在延安府寻找师傅王进，在渭州的茶坊里遇见鲁达，后又在路上遇见他的启蒙武师李忠，于是三人一起来到潘家酒店，鲁达听得隔壁传来哭声，原来是金翠莲被郑屠欺压侮辱，金氏父女走投无路。鲁达顿时火冒三丈，起身上前就要去打死郑屠，后被史进等人劝住才作罢。他同情父女俩的遭遇，拿出仅有的五两银子送与他们做投奔亲戚的路费，随后又痛打的拦截金氏父女的店小二。待金家父女走后，他马上来到郑屠的肉铺，“拳打镇关西”的故事从此开始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685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4:45:22Z</dcterms:created>
  <dc:creator>DBF</dc:creator>
  <dc:description/>
  <dc:language>en-US</dc:language>
  <cp:lastModifiedBy>微软用户</cp:lastModifiedBy>
  <dcterms:modified xsi:type="dcterms:W3CDTF">2013-12-04T01:38:10Z</dcterms:modified>
  <cp:revision>23</cp:revision>
  <dc:subject/>
  <dc:title>PowerPoint 演示文稿</dc:title>
</cp:coreProperties>
</file>