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14.jpeg" ContentType="image/jpeg"/>
  <Override PartName="/ppt/media/image13.jpeg" ContentType="image/jpeg"/>
  <Override PartName="/ppt/media/image12.png" ContentType="image/png"/>
  <Override PartName="/ppt/media/image1.jpeg" ContentType="image/jpeg"/>
  <Override PartName="/ppt/media/image2.jpeg" ContentType="image/jpeg"/>
  <Override PartName="/ppt/media/clap.wav" ContentType="audio/x-wav"/>
  <Override PartName="/ppt/media/image15.png" ContentType="image/png"/>
  <Override PartName="/ppt/media/image3.jpeg" ContentType="image/jpeg"/>
  <Override PartName="/ppt/media/laser.wav" ContentType="audio/x-wav"/>
  <Override PartName="/ppt/media/image4.jpeg" ContentType="image/jpeg"/>
  <Override PartName="/ppt/media/projctor.wav" ContentType="audio/x-wav"/>
  <Override PartName="/ppt/media/image6.jpeg" ContentType="image/jpe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961-2A2E-4FA2-802F-08C39B42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B18-DDD6-4243-9559-4567B31E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22E-626A-4F0C-960E-2AD971F7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2F8-458B-47FC-B782-9D2D8075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6CFD-E44B-4AAE-9C93-D6E58A16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ECA4-0850-4643-A4D5-FFC6FCDF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5105-D0B8-40DD-BA15-FEC6D401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B03E-9FCE-4C6D-8F60-C1E99701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F1A9-0160-4A1B-9EA7-F43AAEEC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DE19-0A09-47CD-8372-7AA678AB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AC19-5C3C-48DE-9C1A-45298DD4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9C4E-9BD0-4821-A3A6-6023FF01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C6E3-90C0-4A5A-B00E-19F84D00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26F8-0767-4280-86A1-31F52846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8F26-EDC5-4AF2-8C7B-4E17054B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4527-6BBD-4CCF-87F4-66EABF4A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6D31-94F1-4C64-8FE3-5B2DF7E9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A8F-E6DB-4840-9C0B-7C8E48B8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188-AA84-4BB8-B2BA-40788864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95B-7F83-4038-B511-9A75F71A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54E-FC42-4506-B9D7-CD9D5B51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243-BF96-40A0-837C-B396A99E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928-AB6F-48A0-BE72-308EBD34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987-35AB-47D6-A370-B7459AA2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E8EF-C15B-4BB5-96FE-0EF708D4CC7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35D9-7711-40E1-B35C-87F272506D9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" Target="slide5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audio" Target="../media/lase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 rot="120000">
            <a:off x="2484000" y="1699920"/>
            <a:ext cx="335772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隶书"/>
              </a:rPr>
              <a:t>7.</a:t>
            </a: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隶书"/>
              </a:rPr>
              <a:t>空山鸟语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隶书"/>
              <a:ea typeface="隶书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238880" y="5562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7738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江南印象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292720" y="3860280"/>
            <a:ext cx="385128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就那缥缈的几声，便会把人拉回到一个古老的世界。“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，我回到了江南；“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我沐着淡烟疏雨。石头城的苔痕，更加暗绿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长檐飞角的小街，更加寂寥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江畔的落日更苍凉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“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奔驰在石板路上得得的马蹄声突然隐去了。这是梦境，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这是在海角孤岛上奇幻的梦境。</a:t>
            </a: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250920" y="333360"/>
            <a:ext cx="215640" cy="324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24000"/>
              <a:gd name="textAreaBottom" fmla="*/ 310320 h 324000"/>
            </a:gdLst>
            <a:ahLst/>
            <a:rect l="textAreaLeft" t="textAreaTop" r="textAreaRight" b="textAreaBottom"/>
            <a:pathLst>
              <a:path w="21600" h="32436">
                <a:moveTo>
                  <a:pt x="0" y="0"/>
                </a:moveTo>
                <a:lnTo>
                  <a:pt x="21600" y="0"/>
                </a:lnTo>
                <a:lnTo>
                  <a:pt x="21600" y="32436"/>
                </a:lnTo>
                <a:lnTo>
                  <a:pt x="0" y="32436"/>
                </a:lnTo>
                <a:close/>
              </a:path>
              <a:path fill="lightenLess" w="21600" h="324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36">
                <a:moveTo>
                  <a:pt x="21600" y="0"/>
                </a:moveTo>
                <a:lnTo>
                  <a:pt x="21600" y="32436"/>
                </a:lnTo>
                <a:lnTo>
                  <a:pt x="20200" y="31036"/>
                </a:lnTo>
                <a:lnTo>
                  <a:pt x="20200" y="1400"/>
                </a:lnTo>
                <a:close/>
              </a:path>
              <a:path fill="darkenLess" w="21600" h="32436">
                <a:moveTo>
                  <a:pt x="21600" y="32436"/>
                </a:moveTo>
                <a:lnTo>
                  <a:pt x="0" y="32436"/>
                </a:lnTo>
                <a:lnTo>
                  <a:pt x="1400" y="31036"/>
                </a:lnTo>
                <a:lnTo>
                  <a:pt x="20200" y="31036"/>
                </a:lnTo>
                <a:close/>
              </a:path>
              <a:path fill="lighten" w="21600" h="32436">
                <a:moveTo>
                  <a:pt x="0" y="32436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36"/>
                </a:lnTo>
                <a:close/>
              </a:path>
              <a:path fill="darken" w="21600" h="32436">
                <a:moveTo>
                  <a:pt x="7301" y="16218"/>
                </a:moveTo>
                <a:lnTo>
                  <a:pt x="17806" y="9212"/>
                </a:lnTo>
                <a:lnTo>
                  <a:pt x="17806" y="23224"/>
                </a:lnTo>
                <a:close/>
              </a:path>
              <a:path fill="darken" w="21600" h="32436">
                <a:moveTo>
                  <a:pt x="3794" y="9212"/>
                </a:moveTo>
                <a:lnTo>
                  <a:pt x="5456" y="9212"/>
                </a:lnTo>
                <a:lnTo>
                  <a:pt x="5456" y="23224"/>
                </a:lnTo>
                <a:lnTo>
                  <a:pt x="3794" y="2322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江南印象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781200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32000" y="5300640"/>
            <a:ext cx="1238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仿宋_GB2312"/>
              </a:rPr>
              <a:t>古朴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8604360" y="1916280"/>
            <a:ext cx="323640" cy="36036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48">
                <a:moveTo>
                  <a:pt x="0" y="0"/>
                </a:moveTo>
                <a:lnTo>
                  <a:pt x="21600" y="0"/>
                </a:lnTo>
                <a:lnTo>
                  <a:pt x="21600" y="24048"/>
                </a:lnTo>
                <a:lnTo>
                  <a:pt x="0" y="24048"/>
                </a:lnTo>
                <a:close/>
              </a:path>
              <a:path fill="lightenLess" w="21600" h="24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48">
                <a:moveTo>
                  <a:pt x="21600" y="0"/>
                </a:moveTo>
                <a:lnTo>
                  <a:pt x="21600" y="24048"/>
                </a:lnTo>
                <a:lnTo>
                  <a:pt x="20200" y="22648"/>
                </a:lnTo>
                <a:lnTo>
                  <a:pt x="20200" y="1400"/>
                </a:lnTo>
                <a:close/>
              </a:path>
              <a:path fill="darkenLess" w="21600" h="24048">
                <a:moveTo>
                  <a:pt x="21600" y="24048"/>
                </a:moveTo>
                <a:lnTo>
                  <a:pt x="0" y="24048"/>
                </a:lnTo>
                <a:lnTo>
                  <a:pt x="1400" y="22648"/>
                </a:lnTo>
                <a:lnTo>
                  <a:pt x="20200" y="22648"/>
                </a:lnTo>
                <a:close/>
              </a:path>
              <a:path fill="lighten" w="21600" h="24048">
                <a:moveTo>
                  <a:pt x="0" y="24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48"/>
                </a:lnTo>
                <a:close/>
              </a:path>
              <a:path fill="darken" w="21600" h="24048">
                <a:moveTo>
                  <a:pt x="7301" y="12024"/>
                </a:moveTo>
                <a:lnTo>
                  <a:pt x="17806" y="5018"/>
                </a:lnTo>
                <a:lnTo>
                  <a:pt x="17806" y="19030"/>
                </a:lnTo>
                <a:close/>
              </a:path>
              <a:path fill="darken" w="21600" h="24048">
                <a:moveTo>
                  <a:pt x="3794" y="5018"/>
                </a:moveTo>
                <a:lnTo>
                  <a:pt x="5456" y="5018"/>
                </a:lnTo>
                <a:lnTo>
                  <a:pt x="5456" y="19030"/>
                </a:lnTo>
                <a:lnTo>
                  <a:pt x="3794" y="1903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Times New Roman"/>
                <a:ea typeface="隶书"/>
              </a:rPr>
              <a:t>江南印象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411280" cy="3068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2916360" cy="234936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8244000" y="18900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04000" y="765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淡雅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今日江南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8101080" y="5589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7319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5474" y="3794"/>
                </a:lnTo>
                <a:lnTo>
                  <a:pt x="5474" y="17806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24360" y="5734080"/>
            <a:ext cx="1238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恬然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24000" y="277560"/>
            <a:ext cx="63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引申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</a:rPr>
              <a:t>作者被鸟叫声 带会到那古老的江南小镇，带回到古朴、恬静、淡雅的生活中，是眼下台湾那灯红酒绿的都市生活所不能不拟的。于是更加怀念江南小镇的淡薄、宁静的生活，这不止表现作者对故乡的怀念，更是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生境界的一种追求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</a:rPr>
              <a:t>，也是带者着份追求，作者一“我想做一只鸟，在山中。”作为自己心愿的一种呼唤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812000" y="587700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4" h="21600">
                <a:moveTo>
                  <a:pt x="7313" y="10800"/>
                </a:moveTo>
                <a:lnTo>
                  <a:pt x="17818" y="3794"/>
                </a:lnTo>
                <a:lnTo>
                  <a:pt x="17818" y="17806"/>
                </a:lnTo>
                <a:close/>
              </a:path>
              <a:path fill="darken" w="21624" h="21600">
                <a:moveTo>
                  <a:pt x="3806" y="3794"/>
                </a:moveTo>
                <a:lnTo>
                  <a:pt x="5468" y="3794"/>
                </a:lnTo>
                <a:lnTo>
                  <a:pt x="5468" y="17806"/>
                </a:lnTo>
                <a:lnTo>
                  <a:pt x="3806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97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97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写法归纳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意境幽美，语言清新，充满诗情画意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空山鸟语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的意境幽美，语言清新，充满诗情画意。寄寓其中的却是自己对现实生活的剖析和思考，对理想境界的挚爱和追求，给读者留下“真善美的感染和心灵的洗涤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、具有诗的意境和诗的韵味的散文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文中的“鸟语”是有着“娇艳的花、婆娑的树，有的是奇崛的岩石、爽飒的风、飘逸的云朵”的 “空山”中的鸟语，它们远离尘嚣，自由自在，唱自己喜欢的歌，叙述动人的爱情故事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如果将作者的这种感情理解为对空山鸟鸣的独钟，对大自然的热爱，当然是不错的。但作者的意图不只是停留与这个层面，因为作者对“空山鸟鸣的独钟，对大自然的热爱”之情源于对自私、冷酷、暴力、惟利是图等社会现象的憎恶。山林中的鸟儿自由自在，没有世事的羁绊，没有世俗的媚骨，它们不求好听的名字，不取悦人类欢心的“人格”，比起人世间那些追名逐利阿谀奉承的小人，不是高尚得多吗？所以作者情不自禁地发出“我想做一只鸟，在山中 ”的肺腑之言。由此可见，作者喜欢空山鸟语，是在追求一种“</a:t>
            </a:r>
            <a:r>
              <a:rPr b="1" lang="zh-CN" sz="2000" spc="-1" strike="noStrike">
                <a:solidFill>
                  <a:srgbClr val="00ccff"/>
                </a:solidFill>
                <a:latin typeface="Times New Roman"/>
              </a:rPr>
              <a:t>天人和一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”的人生境界：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远离物欲横流的尘世，鄙弃追名逐利的欲望，不媚事权贵，不迎合他人，说自己想说的话，唱自己想唱的歌，像鸟儿一样做一个自由幸福的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388360" y="98100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再见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9246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3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作者简介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6264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  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郭枫</a:t>
            </a: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是一位民族意识和传统意识强烈的作家，他常常通过对黄淮平原的回亿，表现出他对故乡的真挚热爱之情。郭枫的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蝉声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寻求一灯火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异乡人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我走过长夜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老家的树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一缕丝＞等赊炙人口的佳篇中，以强烈的历史意识，浓重的感情色彩，揭示出故士丰蕴的文化历史之根，展示出北方农村丰富多彩的生活和北方农民的刚强性格。在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老家的树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中，老家的树是一种意象，作者以饱满的激情，笔力道劲地写出一片耀眼春光中的柳树，那在秋天肃穆的旷野里砍歌的白杨树，那里燃烧季节的无情摧残中顽强生长的榆树，那挺立在苍茫天地间昂扬起生命风范的松柏，作者以柳树的妩媚、榆树的粗扩、白杨的潇洒、松柏的高洁象征北方的人民，象征中华民族的深沉、高洁、苦难与奋进</a:t>
            </a:r>
            <a:r>
              <a:rPr b="1" lang="zh-CN" sz="1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，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</a:rPr>
              <a:t>创造出情融于景、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物我一体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</a:rPr>
              <a:t>的艺术境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自读课文，梳理文章写作思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思考并讨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 作者在空山中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听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了什么？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想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什么？你能理解他的感受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作者具体写了哪几种鸟叫？哪些部分是概括地讲述山中听鸟叫的感受？按总分总的思路把文章分成三段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3199320"/>
            <a:ext cx="85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6516720" y="5805360"/>
            <a:ext cx="323640" cy="287640"/>
          </a:xfrm>
          <a:custGeom>
            <a:avLst/>
            <a:gdLst>
              <a:gd name="textAreaLeft" fmla="*/ 18360 w 323640"/>
              <a:gd name="textAreaRight" fmla="*/ 305280 w 323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4300" h="21600">
                <a:moveTo>
                  <a:pt x="0" y="0"/>
                </a:moveTo>
                <a:lnTo>
                  <a:pt x="24300" y="0"/>
                </a:lnTo>
                <a:lnTo>
                  <a:pt x="24300" y="21600"/>
                </a:lnTo>
                <a:lnTo>
                  <a:pt x="0" y="21600"/>
                </a:lnTo>
                <a:close/>
              </a:path>
              <a:path fill="lightenLess" w="24300" h="21600">
                <a:moveTo>
                  <a:pt x="0" y="0"/>
                </a:moveTo>
                <a:lnTo>
                  <a:pt x="24300" y="0"/>
                </a:lnTo>
                <a:lnTo>
                  <a:pt x="22900" y="1400"/>
                </a:lnTo>
                <a:lnTo>
                  <a:pt x="1400" y="1400"/>
                </a:lnTo>
                <a:close/>
              </a:path>
              <a:path fill="darken" w="24300" h="21600">
                <a:moveTo>
                  <a:pt x="24300" y="0"/>
                </a:moveTo>
                <a:lnTo>
                  <a:pt x="24300" y="21600"/>
                </a:lnTo>
                <a:lnTo>
                  <a:pt x="22900" y="20200"/>
                </a:lnTo>
                <a:lnTo>
                  <a:pt x="22900" y="1400"/>
                </a:lnTo>
                <a:close/>
              </a:path>
              <a:path fill="darkenLess" w="24300" h="21600">
                <a:moveTo>
                  <a:pt x="24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0" y="20200"/>
                </a:lnTo>
                <a:close/>
              </a:path>
              <a:path fill="lighten" w="24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0" h="21600">
                <a:moveTo>
                  <a:pt x="5144" y="3794"/>
                </a:moveTo>
                <a:lnTo>
                  <a:pt x="19156" y="10800"/>
                </a:lnTo>
                <a:lnTo>
                  <a:pt x="514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听到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99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们总是用五个不同的音符串成一支歌，一只先唱，另一只接着，缠缠绵绵，重重复复，透明的情意，像滑滴在青石上的一线灵泉从歌声里迸落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运用叠词，并以灵泉比喻鸟的鸣叫，突出清脆、婉转、缠绵的特征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在众鸟的默默之中，“咕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，从哪里传来的几声鹧鸪呢？忽断、忽续、忽近、忽远，那缥缈的鸣声，竟有些不可捉摸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（断、续、近、远四词把鸟的鸣叫描绘得深不可测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鸟儿们用一百种声调在欢唱，仙乐飘飘，回荡在峰峦间，流淌在涧谷间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比喻恰当，句式整齐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28472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75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75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75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75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75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75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05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35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想到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7720" y="1628640"/>
            <a:ext cx="79790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真是太傻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名字有什么用？人们喜欢各种好听的名字，鸟不一定喜欢，鸟喜欢唱的歌，人不一定能听懂；其实人爱不爱听都是一样，鸟是唱给鸟听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真的是鹧鸪吗？在台湾很少听到鹧鸪呢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鹧鸪该是鸟中的诗人，不，或者便是诗人的化身吧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就那缥缈的几声，便会把人拉回到一个古老的世界。“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，我回到了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江南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；“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我沐着淡烟疏雨。石头城的苔痕，更加暗绿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长檐飞角的小街，更加寂寥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江畔的落日更苍凉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“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一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奔驰在石板路上得得的马蹄声突然隐去了。这是梦境，呵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这是在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海角孤岛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上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奇幻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的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梦境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是的，我知道这是梦，可是我多么喜欢重温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结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总写自己上山来听鸟叫的认识和感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具体写自己用大半天时间在山上听鸟叫的感受和联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三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呼唤人们放下世俗事物，敞开心扉到山中听鸟鸣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205000"/>
            <a:ext cx="71280" cy="2305080"/>
          </a:xfrm>
          <a:custGeom>
            <a:avLst/>
            <a:gdLst>
              <a:gd name="textAreaLeft" fmla="*/ 45720 w 71280"/>
              <a:gd name="textAreaRight" fmla="*/ 71640 w 712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主题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探究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思考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怎么看待课文最后一句 “我想做一只鸟，在山中。”的感叹？仅仅因为好听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作者为什么说“鸟是世界上最美好的语言。”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因为鸟的鸣叫永远叙述着动人的爱情故事，传递着“自然的消息和人世的沧桑”，并将我带入思乡的梦境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不是从这美妙的清音中，已经听到自然的消息和人世的沧桑了吗？”这句话怎么理解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                                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树    远离尘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山     石    自由自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风    如诗如画                          追求天人和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云                                              鄙弃追名逐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空山鸟语                                                            渴求淡泊宁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鸟鸣阵阵  述说爱情故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鸟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鹧鸪声声  勾起美好回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2781360"/>
            <a:ext cx="144360" cy="19429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98900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4221000"/>
            <a:ext cx="72720" cy="576360"/>
          </a:xfrm>
          <a:custGeom>
            <a:avLst/>
            <a:gdLst>
              <a:gd name="textAreaLeft" fmla="*/ 46440 w 72720"/>
              <a:gd name="textAreaRight" fmla="*/ 73080 w 72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1989000"/>
            <a:ext cx="288720" cy="1440000"/>
          </a:xfrm>
          <a:custGeom>
            <a:avLst/>
            <a:gdLst>
              <a:gd name="textAreaLeft" fmla="*/ 0 w 288720"/>
              <a:gd name="textAreaRight" fmla="*/ 104040 w 288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00720" y="1989000"/>
            <a:ext cx="142920" cy="3024360"/>
          </a:xfrm>
          <a:custGeom>
            <a:avLst/>
            <a:gdLst>
              <a:gd name="textAreaLeft" fmla="*/ 0 w 142920"/>
              <a:gd name="textAreaRight" fmla="*/ 51480 w 14292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郭枫作品风格赏析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郭枫作品风格灵秀而飘逸，他的散文就象一首首怀乡的赋，有诗情之美，恒常以充满爱的眼眸，去凝视心灵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茫茫人海的打滚，仍如孩子般憨稚，甚至在绝对的静谧中听见盈盈于耳的天籁。这种细腻专注于每个 当下的真挚，就像“禅”的境界，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创造出情融于景、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物我一体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的艺术境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涵义深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的散文有对台湾社会现象的审视，多视点多角度多层次地剖析社会丑态和病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24T02:20:25Z</dcterms:modified>
  <cp:revision>32</cp:revision>
  <dc:subject/>
  <dc:title>幻灯片 1</dc:title>
</cp:coreProperties>
</file>