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0C19-F6E8-4D4C-837E-75D5BFBFF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9126-4852-412E-B401-D9B2203D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4D3C-65A3-438B-848C-6CB908AE0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59C0-863B-4B60-AFF9-45DECD6D8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E59E-802B-4836-8D0C-8CB0D7E3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7302-883A-4460-8F6E-4A286862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F4C3-3369-49AC-8B70-2979220E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650D-775A-4DA7-849F-0920D7DA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535F-BF06-43F0-8D24-D22A7B3E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A795-0164-4298-9176-A063BAD2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E9EF-CDA0-42C8-AD95-9A0A1DC7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A897-681F-4B3E-82E5-AD0073AD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16A7-B0CF-44B2-AD0E-CD141CEF80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baidu.com/i?ct=503316480&amp;z=0&amp;tn=baiduimagedetail&amp;word=%B7%E1%CF%D8%D6%D0&#1127;%CC%F8&#165;&amp;in=31320&amp;cl=2&amp;cm=1&amp;sc=0&amp;lm=-1&amp;pn=10&amp;rn=1&amp;di=2055927216&amp;ln=20&amp;fr=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image.baidu.com/i?ct=503316480&amp;z=&amp;tn=baiduimagedetail&amp;word=&#1193;%BC%D2%F6%CE&#892;&#428;&amp;in=12108&amp;cl=2&amp;lm=-1&amp;pn=12&amp;rn=1&amp;di=61455070365&amp;ln=2000&amp;fr=ala0&amp;fmq=&amp;ic=0&amp;s=&amp;se=1&amp;sme=0&amp;tab=&amp;width=&amp;height=&amp;face=0&amp;is=&amp;istype=2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8569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家长如何与青春期的孩子沟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6920" y="4869000"/>
            <a:ext cx="69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281640"/>
            <a:ext cx="309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55640" y="3789360"/>
            <a:ext cx="4248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64000" y="2565360"/>
            <a:ext cx="3780000" cy="4005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3573360"/>
            <a:ext cx="496872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主讲：田    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国家庭教育高级指导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庭教育讲师团成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庭教育研究院兼职研究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校结合指导中心首席专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国区域家庭教育现代化项目指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691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01963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二、了解青春期孩子的心   理特点：知道孩子怎么了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1268280"/>
            <a:ext cx="882000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这一时期，孩子的思想、观念开始形成，用我们最普通的话来说，就是“人生开始觉醒”。因此，心理学家斯朗把青春期称为“人生的第二次诞生”。开始关心自己在别人心目中的形象，他们开始思考“人为什么活着”、“我是谁”、“我是一个怎样的人”等问题。同时，这一时期孩子会有以下几种表现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独立意识增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一方面他们认为自己已经是大人了，竭力想摆脱父母的管教，不愿意被当作小孩，渴望有独立的人格，渴望得到父母的接纳、理解和尊重。希望能获得某些权利，找到新的行为标准并渴望变换社会角色。一旦他们的自主意识受到阻力，人格发展受到限制，他们就会反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另一方面，又由于他们的社会经验不足，自我生活的能力还比较差，还不能完全脱离父母，所以他们的内心就会产生各种各样的困惑与焦虑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孤独感增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24360" y="1125000"/>
            <a:ext cx="9649080" cy="59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进入青春期后，随着成人感和独立意识的建立，知识和经验的增加，性机能的成熟，一些不被人知道的想法和心理感受就会藏在心底，这时就会出现青春期的心理闭锁。他们将自己的心理世界封闭起来，不愿意向外界袒露，尤其是不愿意向家长袒露。同时，从青春期开始的“心理上的断乳”，也给青春期孩子带来了很大的不安，尽管他们在主观上有独立的要求和愿望，但实际上很难在短时间内适应独立的生活。他们的内心冲突及在现实中所遇到的挫折都较多，对许多问题还不能依靠自己的力量和能力去解决，可又不愿求助父母或其他人，担心有损独立人格，因此，就会产生一种孤独的心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964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</a:rPr>
              <a:t>其实，青少年是很希望与他人交流和沟通，更希望得到别人的理解和尊重。但如果没有合适的交流渠道，不能与大人很好的沟通，他们就会转向同龄人，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与他们推心置腹的进行谈话，向自己可以信赖的朋友吐露心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欣赏短片：《网瘾之戒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0100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情绪不稳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252360" y="1196640"/>
            <a:ext cx="95774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随着孩子年龄的增长，他们渴望对社会有更多的了解，自己的人际关系也逐渐增多，各种各样的信息纷至沓来，这就使他们需要处理的问题越来越多，越来越复杂了。而这时，他们的大脑的神经机制并没有发育健全，调节能力还比较差。因此，面对各种压力和刺激，便很容易产生心理不平衡。同时，身体的快速发育也使青春期的孩子经常处于好奇与不安之中。而且他们又不像成年人那样善于控制或掩饰自己，常常喜怒无常，因而显得情绪忽好忽坏。这并不是孩子故意的，也不是孩子有“病”或者“犯神经”，而是青春期的心理特点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181440" y="1600200"/>
            <a:ext cx="93250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如果这时家长的教育观念和方式仍停留在孩子的少儿期，还在沿用以前诸如说教、唠叨、命令等沟通方式，用不变的思维去应对变化中的孩子，就会严重影响亲子之间的良好沟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孩子的心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自从进入初中之后，我也不知道是为什么，焦虑、烦恼、紧张等情绪令我感到很不安，使我的心情起伏不定。一会儿觉得天是蓝的、水是绿的，一会儿又觉得天是黑的、地是暗的。不知道明天会是怎样？每天都像行尸走肉似的重复着早起、上学、听课、做作业。有时候还得听父母的唠叨、老师的责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小的时候，我总是盼望着长大，长大了就可以拥有属于自己的空间，自己的想法，能自由自在地飞翔。可是，现在真的长大了，烦心的事却随着年龄的增长接踵而来。我常常想：成长的滋味到底是什么？是苦？是甜？好像都是，也好像都不是。上中学后，我要不停地做作业，有时作业太多了，要做到很晚才能做完。有时候，还要被逼着去参加我不喜欢的培训班……此时我心里真的很难过，但我在向父母倾诉时却得不到帮助，可想而知，我的心里有多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也许，在爸妈的眼里，我是一个不正常的孩子，不但情绪多变，而且叛逆心理特别强。可他们也许不知道，有时候的我，自己也不知道是怎么回事，无法控制自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60833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273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现象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近一段时间，很多中学生的家长向我咨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也不知是怎么了？上小学的时侯，性格脾气都比较好，也很听话。可上初中后，就跟换了一个人似的，情绪波动特别大。有时为了一件小事就会暴跳如雷，还乱摔东西；有时又会为一次小小的成功，高兴得又唱又跳。有时，一放学就钻进自己的屋里不出来，一句话也不和家长说。有时，家长刚说上几句，他就嫌烦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听了孩子的心声，您会有怎样的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看来，青春期孩子内心的烦恼也不比大人们少，他们也非常渴望来自父母的宽容、理解、尊重和真心的爱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“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有病，家长吃药”，儿童心理专家表示：“亲子间沟通不畅，孩子产生逆反心理，往往是家长出了问题，而不是孩子的问题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互动二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您说是开车容易？还是培养孩子容易？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71280" y="1196640"/>
            <a:ext cx="7777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21504"/>
                </a:solidFill>
                <a:latin typeface="黑体"/>
                <a:ea typeface="黑体"/>
              </a:rPr>
              <a:t>实证：上海初中生为什么“大面积”跳楼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68360" y="2276640"/>
            <a:ext cx="4751640" cy="4221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一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2008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年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凌晨，杨浦区延吉东路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3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弄，一名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4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女学生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家中跳下，虽暂无生命危险，但可能导致失明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二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清晨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5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，浦东菏泽路中大丽都小区一名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5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男孩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8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窗户坠落，受重伤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三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上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，嘉定区曹杨二中附属江桥实验中学，一名初中生因被留级而想跳楼轻生，最后被警方劝回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四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上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7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0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分，一声闷响打破仙霞路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86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弄的宁静。在毫无征兆的情况下，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2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男孩小凡（化名）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6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的窗口一跃而下，十几分钟后不治身亡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46920" y="0"/>
            <a:ext cx="3097080" cy="2421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156360" y="2205000"/>
            <a:ext cx="2987640" cy="2205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32000" y="2205000"/>
            <a:ext cx="2952720" cy="2233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6286680" y="4508640"/>
            <a:ext cx="2857320" cy="2349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0" y="4437000"/>
            <a:ext cx="3132000" cy="2421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3132000" y="4437000"/>
            <a:ext cx="2952720" cy="2421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3132000" y="0"/>
            <a:ext cx="2880000" cy="2232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马加爵"/>
          <p:cNvPicPr/>
          <p:nvPr/>
        </p:nvPicPr>
        <p:blipFill>
          <a:blip r:embed="rId9"/>
          <a:stretch/>
        </p:blipFill>
        <p:spPr>
          <a:xfrm>
            <a:off x="0" y="0"/>
            <a:ext cx="3132000" cy="2155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药家鑫"/>
          <p:cNvPicPr/>
          <p:nvPr/>
        </p:nvPicPr>
        <p:blipFill>
          <a:blip r:embed="rId10"/>
          <a:stretch/>
        </p:blipFill>
        <p:spPr>
          <a:xfrm>
            <a:off x="0" y="2133720"/>
            <a:ext cx="3132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826560" y="1197000"/>
            <a:ext cx="7488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不能不思考的讨论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2492280"/>
            <a:ext cx="882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       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教育是在培养什么样的人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特别是家庭教育不能把学生培养成为学习的工具，家庭教育的功能和主要作用是孩子成为更加健全人格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Arial"/>
              </a:rPr>
              <a:t>培养健全的人格应当成为当前我们家庭育人的核心要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186920" y="331920"/>
            <a:ext cx="7201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这辈子你最后悔的事情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6920" y="1773360"/>
            <a:ext cx="756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据广州日报报道，在广州市青少年心理危机干预中心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8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月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31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日举办的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亲子沟通与家庭教育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讲座上，针对这一问题的调查，有高达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62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％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的家长回答：最后悔对子女的教育不够或者方法不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　　当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问题少年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越来越多，青少年问题日益严重的时候，我们应该思考，到底是孩子出了问题，还是家长出了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这种情况，我们好多家长都不同程度地经历过。家长们真的不明白，从小乖巧听话的孩子怎么变成了现在这个样子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0000"/>
                </a:solidFill>
                <a:latin typeface="Arial"/>
                <a:ea typeface="黑体"/>
              </a:rPr>
              <a:t>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值得我们深思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         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家长长期使用着错误的教育方法陪伴着孩子成长。 唯成绩至上，这才是导致我们孩子心灵扭曲的根源性问题。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         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问题更严重的是： 家长的自身家庭教育素养，没有跟上孩子成长的需要，没有跟上时代发展的需要。这个问题不解决，同样的育人恶性事件还要发生。这是学校教育特别是家庭教育所不希望看到的悲剧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560" y="1700280"/>
            <a:ext cx="86389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提升家长家庭教育素养可大大降低后进生比例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孩子在校优等比例  孩子在校后进比例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较好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9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一般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18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较差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8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55280" y="333360"/>
            <a:ext cx="748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北京一项按家长的家庭教育水平好、中、差划分进行的调查，调查对象：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680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名初中、小学生的家庭，调查内容：在校表现与家庭教育水平之间的关系，结果发现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773360"/>
            <a:ext cx="8964720" cy="71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家庭教育水平很好的，其孩子在校表现优等生的占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9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，基本没有后进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而教育水平不当的家庭，其孩子在校为后进生的却高达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8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，几乎没有优等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而教育水平一般的家庭，其孩子在校为中等的占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2/3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，并有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1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左右为后进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结论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把不当家庭教育提高到一般水平，后进生就会相应减少五倍左右；把一般家庭教育再提高到较好水平的家庭教育，优等生增加三倍左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思考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人们常说：父爱、母爱是伟大的，其伟大之外就在于他们能为孩子做出无条件的改变。作为孩子的最亲最近的人，在孩子内心充满迷茫、困惑与无助，需要父母贴心关怀与正确引导的时候，怎能还无动于衷？怎能不努力寻求解决的方法，不断提升自身的育人水平，帮助孩子度过他人生最关键的时期，引领孩子健康快乐地成长？听到这儿，我相信此时此刻，我们在座的家长们，一定非常希望能找到一种方法来帮助我们和孩子更好地沟通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三、学习科学的家教技能：知道我该如何做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一、利用网络资源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187280" y="549360"/>
            <a:ext cx="7297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您今天上网了吗</a:t>
            </a:r>
            <a:r>
              <a:rPr b="1" lang="en-US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?</a:t>
            </a:r>
            <a:endParaRPr b="1" lang="en-US" sz="4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1700280"/>
            <a:ext cx="896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中文网址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中华家庭教育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中华家庭教育网免费家长学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巴州家庭教育交流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呱呱视频课堂：中华家庭教育讲堂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 每周四晚上九点个案咨询、周五晚上九点家庭教育精品诵读、周六晚八点、周日晚九点家长学校课程，均免费向家长开放）如何进入呱呱视频房间：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http://www.zhjtjyw.com/kcms/blog/vblog?u_id=124&amp;b_id=72708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巴州家庭教育交流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群：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9195540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596360" y="5805360"/>
            <a:ext cx="1260360" cy="865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二、看书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99640" y="260280"/>
            <a:ext cx="67676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向您推荐全国家庭教育权威性丛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《不输在家庭教育上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5734080"/>
            <a:ext cx="49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全国创建学习型家庭必备书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孩子成长指导咨询操作性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1158600">
            <a:off x="468000" y="2565360"/>
            <a:ext cx="2471760" cy="3097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2178000">
            <a:off x="1258560" y="2565360"/>
            <a:ext cx="2570040" cy="3168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 rot="2203800">
            <a:off x="2123640" y="1773360"/>
            <a:ext cx="2613240" cy="33368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 rot="2875200">
            <a:off x="3579840" y="1757160"/>
            <a:ext cx="2595600" cy="3201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 rot="2809800">
            <a:off x="4507560" y="1837080"/>
            <a:ext cx="2538360" cy="3130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 rot="3129600">
            <a:off x="5288400" y="1992600"/>
            <a:ext cx="2863800" cy="32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玩”出来的少年发明家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粗暴父亲与网瘾儿子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青春期亲子关系的痛点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儿子收到“小纸条”后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发现孩子自慰怎么办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如何陪伴初中孩子一起成长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从父辈成长经历看叛逆孩子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解除青春期少年的困惑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调查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《现代教育报》记者曾通过网上问卷、电话采访等方式，针对家长与孩子交流的时间、次数、谈话内容及亲子关系等问题调查了解了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00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对不同年级的中小学生及其家长。从调查情况看，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76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家长已经超过一个星期没有跟孩子好好沟通了，而平时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89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谈话内容都集中在学习上。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5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家长每天与孩子交谈的时间少得可怜，最短的竟只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5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096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沟通的技巧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家长一定要明确：沟通不是说服，说服是单向的行为，而沟通是双向的行为。沟通的好坏取决于孩子的回应。话有很多种方法说出来，用孩子听得明白、能够接受的语言对他说话才会有最大的效果。改变我们说的方法，才有机会改变孩子听的效果；改变我们听的技巧，才能更好地促使孩子去说。家长要想与孩子达成良好的沟通，应做到：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、用心倾听，了解孩子内心的真实感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很多家庭问题都是“沟通”的问题，而“沟通”的焦点又是“倾听”的问题；抓住了倾听，就抓住了家庭教育的关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倾听是沟通的前提。只有倾听孩子的心里话，知道孩子内心真正在想什么，关注什么，需要什么，才能有针对性地给予孩子关心和帮助，才能使以后的沟通变得更加容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842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倾听不仅是一门科学也是一门艺术，它是有技巧的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技巧一：孩子说话时，家长的态度一定要专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技巧二：当孩子诉说高兴的事时，家长应表示共鸣；当孩子诉说难过的事时，家长应让他尽情地宣泄，并表示同情；当孩子诉说家长不感兴趣的话题时，家长应表现出足够的耐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真心接纳，让孩子获得理解和尊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252360" y="1600200"/>
            <a:ext cx="964872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在和孩子沟通时，家长要将自己的偏见、指责及不合理的期望等等都放下。要以一种平和的心态，接纳孩子的所为。无论孩子在悲伤、孤独或兴奋、快乐时，家长都能够给予孩子的情绪以关注、尊重和理解，而不是立刻反对他的情绪。让孩子通过我们的眼神、言行体会到我们对他的真心的接纳，从而让孩子感到踏实、感到贴心。 当我们接纳了孩子的情绪，孩子就会喜欢并信任我们，从而愿意听我们的建议或看法。所谓“亲其师才能信其道”也就是这个道理。让孩子感到自己被尊重，感到家长是在真正地为他们好，是心疼他们，想帮助他们，这样孩子就能向家长敞开心扉，向家长诉说他们的喜怒哀乐，就会在有困难、有困惑时寻求家长的帮助与指导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巧用书信，创造亲子沟通新局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和孩子沟通，除了面对面的交流外，还有许多形式，我们可以采用多种渠道、多种方式让孩子说出自己本不想说的东西，这样对孩子的成长会更有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书信就是一种充满温情的表达方式。当我们觉得和孩子进行口头交流效果不太好的时候，当我们希望自己的话语能充分引起孩子关注的时候，就可以用这种方法。这样，避免了喋喋不休地空谈大道理、孩子比较容易接受，也保护了孩子的自尊、促进了亲子之间的关系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营造氛围，创造机会，将亲子间的良好沟通持续下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在日常生活中，家长要继续努力，细心观察，创造空间与时间与孩子交流。家长可以寻找孩子感兴趣的话题与孩子交流，还可以设计一些“家庭读书会”、“家庭卡拉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OK”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、“亲子户外游”等活动，创造与孩子交流的机会与话题。为了能跟上孩子成长的脚步，家长还要通过学习不断地提高自己的文化素养，营造良好的家庭学习氛围 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青春期的孩子，就像蓬勃生长的小树，有顽强的生命力。他们需要充足的阳光、空气、营养和水分 ——这就是理解；但他们精力旺盛，充满梦想和愿望，可能长出歪斜的枝杈，所以，要及时地修剪以保持树干的笔直和树冠的丰满——这就需要父母与孩子共同成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只要家长能合理运用沟通的技巧，尽可能创造多的机会去和孩子沟通，孩子内心的阻抗会一点点地减少，孩子烦躁的心也会逐渐地平静下来。这时，家长可以耐心地引导孩子接纳自己的观点，将心中的正向建议说出来，并征求孩子的意见。这样，孩子也会认真地考虑家长提出的建议，并能主动地与家长协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39280" y="1052280"/>
            <a:ext cx="801396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小故事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一天，父亲看到一则九岁孩子上大学的报道，便很受伤地问女儿：“孩子，你怎么就不是个神童呢？”女儿说：“因为你不是神父啊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所以我希望从今天开始，每个家长都重新思考自己的教育方法。同时我们要想想，我们总是要求孩子要这样，要那样，我们也要想想孩子需要什么样的家长，你做到孩子希望的家长了吗？所以在教育孩子的路上，只有把我们自己变成一盏明灯，我们才能照亮我们的儿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讨论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究竟是什么原因阻碍了家长爱的传达，又是什么原因妨碍了家长与孩子进行有效的沟通与交流呢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642920" y="4076280"/>
            <a:ext cx="4681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电话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133255093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QQ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1311410431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874880"/>
            <a:ext cx="4716360" cy="4983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327640" y="1628640"/>
            <a:ext cx="3816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89600" y="4755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16000" y="476280"/>
            <a:ext cx="8028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2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世纪是两代人相互学习共同成长的世纪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祝愿所有的家长都能和孩子一道快乐成长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613040" y="0"/>
            <a:ext cx="424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中华家庭教育研究院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ttp://zhjtjyw.com/u/xx0000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7580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9144000" cy="630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亲子间的沟通困难已是一种普遍的社会现象。现实生活中，家长与孩子的沟通几乎每天都在发生。可令很多家长感到困惑的是：太多时候是频繁地进行“沟”，但实际效果却往往是没有“通”。家长强烈的爱反而让孩子感到厌倦、逆反，甚至是离家出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从某种意义上讲，沟通失败，也就意味着家庭教育的失败。当家长完全不能理解孩子时，家长的观点和做法也不会被孩子理解和接受。这样，无论家长出于多么良好的动机，制定了多么远大的目标，最后还是无法达成愿望的。而且随着孩子的成长，亲子间的距离还会逐渐拉大，这不仅会破坏家庭的幸福，严重的还会导致家庭恶性事件的发生！</a:t>
            </a:r>
            <a:br>
              <a:rPr sz="2800"/>
            </a:b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今天我就将从以下几方面入手，谈一谈家长如何才能真正走进孩子的内心，与青春期的孩子进行良好的沟通：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699920"/>
            <a:ext cx="896472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一、问一问自己的内心：</a:t>
            </a:r>
            <a:br>
              <a:rPr sz="6000"/>
            </a:b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明确我要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互动一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您心中最最希望您的孩子将来是什么样子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您到底应该以一个什么样的心态去和孩子交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欣赏短片：《药家鑫诉说成长经历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5:49:20Z</dcterms:created>
  <dc:creator> </dc:creator>
  <dc:description/>
  <dc:language>en-US</dc:language>
  <cp:lastModifiedBy>user</cp:lastModifiedBy>
  <dcterms:modified xsi:type="dcterms:W3CDTF">2011-09-23T20:05:14Z</dcterms:modified>
  <cp:revision>192</cp:revision>
  <dc:subject/>
  <dc:title>现代家庭教育讲座</dc:title>
</cp:coreProperties>
</file>