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8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3.jpeg" ContentType="image/jpeg"/>
  <Override PartName="/ppt/media/image4.png" ContentType="image/pn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3.png" ContentType="image/pn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A9DEB-0753-4553-8FF1-C02C91DD4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3C2FB-CEF6-4B56-BF4A-B06F97693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21C47-13F3-4014-B7CC-1AB4683D9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96D20-BC8F-4D46-9AC9-2F2485501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BE74F-989C-467B-948E-A73652EF9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590A5-2665-421C-A66E-884486C74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AC369-D054-4770-B117-B4E60D4A3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C1B44-AB13-4D39-9CD8-5BC3F67E8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3F0BD-5FAA-442A-B2FD-97AC8C63C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1BFAA-7964-4CF7-9058-14622B7A7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4BA5A-A112-4A01-9E65-FB36E0AC3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2EFE5-F690-4477-BBD7-B4EB8EAC2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60DB7-CDC5-463B-884D-BDC0F4D1C1F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image.baidu.com/i?ct=503316480&amp;z=0&amp;tn=baiduimagedetail&amp;word=%B7%E1%CF%D8%D6%D0&#1127;%CC%F8&#165;&amp;in=31320&amp;cl=2&amp;cm=1&amp;sc=0&amp;lm=-1&amp;pn=10&amp;rn=1&amp;di=2055927216&amp;ln=20&amp;fr=" TargetMode="External"/><Relationship Id="rId3" Type="http://schemas.openxmlformats.org/officeDocument/2006/relationships/image" Target="../media/image6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hyperlink" Target="http://image.baidu.com/i?ct=503316480&amp;z=&amp;tn=baiduimagedetail&amp;word=&#1193;%BC%D2%F6%CE&#892;&#428;&amp;in=12108&amp;cl=2&amp;lm=-1&amp;pn=12&amp;rn=1&amp;di=61455070365&amp;ln=2000&amp;fr=ala0&amp;fmq=&amp;ic=0&amp;s=&amp;se=1&amp;sme=0&amp;tab=&amp;width=&amp;height=&amp;face=0&amp;is=&amp;istype=2" TargetMode="External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image" Target="../media/image14.jpeg"/><Relationship Id="rId9" Type="http://schemas.openxmlformats.org/officeDocument/2006/relationships/image" Target="../media/image15.jpeg"/><Relationship Id="rId10" Type="http://schemas.openxmlformats.org/officeDocument/2006/relationships/image" Target="../media/image16.jpeg"/><Relationship Id="rId1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image" Target="../media/image24.jpeg"/><Relationship Id="rId8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3640" y="1267920"/>
            <a:ext cx="85690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家长如何与青春期的孩子沟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86920" y="4869000"/>
            <a:ext cx="69138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Arial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6281640"/>
            <a:ext cx="3097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宋体"/>
              </a:rPr>
              <a:t> </a:t>
            </a:r>
            <a:r>
              <a:rPr b="0" lang="en-US" sz="2800" spc="-1" strike="noStrike">
                <a:solidFill>
                  <a:srgbClr val="0000cc"/>
                </a:solidFill>
                <a:latin typeface="Arial"/>
                <a:ea typeface="黑体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755640" y="3789360"/>
            <a:ext cx="4248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5364000" y="2565360"/>
            <a:ext cx="3780000" cy="40053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50920" y="3573360"/>
            <a:ext cx="4968720" cy="253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  <a:ea typeface="楷体_GB2312"/>
              </a:rPr>
              <a:t>主讲：田    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中国家庭教育高级指导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中华家庭教育讲师团成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中华家庭教育研究院兼职研究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中华家校结合指导中心首席专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中国区域家庭教育现代化项目指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66911" fill="hold"/>
                                        <p:tgtEl>
                                          <p:spTgt spid="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3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401963" fill="hold"/>
                                        <p:tgtEl>
                                          <p:spTgt spid="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" restart="whenNotActive" nodeType="interactiveSeq" fill="hold">
                <p:stCondLst>
                  <p:cond evt="onClick">
                    <p:tgtEl>
                      <p:spTgt spid="69"/>
                    </p:tgtEl>
                  </p:cond>
                </p:stCondLst>
                <p:childTnLst>
                  <p:par>
                    <p:cTn id="14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7" dur="1" fill="hold"/>
                                        <p:tgtEl>
                                          <p:spTgt spid="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楷体_GB2312"/>
              </a:rPr>
              <a:t>二、了解青春期孩子的心   理特点：知道孩子怎么了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324000" y="1268280"/>
            <a:ext cx="8820000" cy="292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这一时期，孩子的思想、观念开始形成，用我们最普通的话来说，就是“人生开始觉醒”。因此，心理学家斯朗把青春期称为“人生的第二次诞生”。开始关心自己在别人心目中的形象，他们开始思考“人为什么活着”、“我是谁”、“我是一个怎样的人”等问题。同时，这一时期孩子会有以下几种表现：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584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1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、独立意识增强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896472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一方面他们认为自己已经是大人了，竭力想摆脱父母的管教，不愿意被当作小孩，渴望有独立的人格，渴望得到父母的接纳、理解和尊重。希望能获得某些权利，找到新的行为标准并渴望变换社会角色。一旦他们的自主意识受到阻力，人格发展受到限制，他们就会反抗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另一方面，又由于他们的社会经验不足，自我生活的能力还比较差，还不能完全脱离父母，所以他们的内心就会产生各种各样的困惑与焦虑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986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2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、孤独感增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-324360" y="1125000"/>
            <a:ext cx="9649080" cy="59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孩子进入青春期后，随着成人感和独立意识的建立，知识和经验的增加，性机能的成熟，一些不被人知道的想法和心理感受就会藏在心底，这时就会出现青春期的心理闭锁。他们将自己的心理世界封闭起来，不愿意向外界袒露，尤其是不愿意向家长袒露。同时，从青春期开始的“心理上的断乳”，也给青春期孩子带来了很大的不安，尽管他们在主观上有独立的要求和愿望，但实际上很难在短时间内适应独立的生活。他们的内心冲突及在现实中所遇到的挫折都较多，对许多问题还不能依靠自己的力量和能力去解决，可又不愿求助父母或其他人，担心有损独立人格，因此，就会产生一种孤独的心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0" y="1599840"/>
            <a:ext cx="896472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 u="sng">
                <a:solidFill>
                  <a:srgbClr val="333399"/>
                </a:solidFill>
                <a:uFillTx/>
                <a:latin typeface="Arial"/>
              </a:rPr>
              <a:t>其实，青少年是很希望与他人交流和沟通，更希望得到别人的理解和尊重。但如果没有合适的交流渠道，不能与大人很好的沟通，他们就会转向同龄人，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与他们推心置腹的进行谈话，向自己可以信赖的朋友吐露心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zh-CN" sz="2000" spc="-1" strike="noStrike">
                <a:solidFill>
                  <a:srgbClr val="333399"/>
                </a:solidFill>
                <a:latin typeface="Arial"/>
              </a:rPr>
              <a:t>欣赏短片：《网瘾之戒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0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201000" fill="hold"/>
                                        <p:tgtEl>
                                          <p:spTgt spid="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84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" dur="1" fill="hold"/>
                                        <p:tgtEl>
                                          <p:spTgt spid="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5410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3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、情绪不稳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-252360" y="1196640"/>
            <a:ext cx="957744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随着孩子年龄的增长，他们渴望对社会有更多的了解，自己的人际关系也逐渐增多，各种各样的信息纷至沓来，这就使他们需要处理的问题越来越多，越来越复杂了。而这时，他们的大脑的神经机制并没有发育健全，调节能力还比较差。因此，面对各种压力和刺激，便很容易产生心理不平衡。同时，身体的快速发育也使青春期的孩子经常处于好奇与不安之中。而且他们又不像成年人那样善于控制或掩饰自己，常常喜怒无常，因而显得情绪忽好忽坏。这并不是孩子故意的，也不是孩子有“病”或者“犯神经”，而是青春期的心理特点之一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-181440" y="1600200"/>
            <a:ext cx="932508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如果这时家长的教育观念和方式仍停留在孩子的少儿期，还在沿用以前诸如说教、唠叨、命令等沟通方式，用不变的思维去应对变化中的孩子，就会严重影响亲子之间的良好沟通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孩子的心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91440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自从进入初中之后，我也不知道是为什么，焦虑、烦恼、紧张等情绪令我感到很不安，使我的心情起伏不定。一会儿觉得天是蓝的、水是绿的，一会儿又觉得天是黑的、地是暗的。不知道明天会是怎样？每天都像行尸走肉似的重复着早起、上学、听课、做作业。有时候还得听父母的唠叨、老师的责骂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            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小的时候，我总是盼望着长大，长大了就可以拥有属于自己的空间，自己的想法，能自由自在地飞翔。可是，现在真的长大了，烦心的事却随着年龄的增长接踵而来。我常常想：成长的滋味到底是什么？是苦？是甜？好像都是，也好像都不是。上中学后，我要不停地做作业，有时作业太多了，要做到很晚才能做完。有时候，还要被逼着去参加我不喜欢的培训班……此时我心里真的很难过，但我在向父母倾诉时却得不到帮助，可想而知，我的心里有多苦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           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也许，在爸妈的眼里，我是一个不正常的孩子，不但情绪多变，而且叛逆心理特别强。可他们也许不知道，有时候的我，自己也不知道是怎么回事，无法控制自己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" dur="260833" fill="hold"/>
                                        <p:tgtEl>
                                          <p:spTgt spid="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16000" y="-360"/>
            <a:ext cx="273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楷体_GB2312"/>
              </a:rPr>
              <a:t>现象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785440" cy="50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最近一段时间，很多中学生的家长向我咨询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孩子也不知是怎么了？上小学的时侯，性格脾气都比较好，也很听话。可上初中后，就跟换了一个人似的，情绪波动特别大。有时为了一件小事就会暴跳如雷，还乱摔东西；有时又会为一次小小的成功，高兴得又唱又跳。有时，一放学就钻进自己的屋里不出来，一句话也不和家长说。有时，家长刚说上几句，他就嫌烦 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91440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听了孩子的心声，您会有怎样的感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看来，青春期孩子内心的烦恼也不比大人们少，他们也非常渴望来自父母的宽容、理解、尊重和真心的爱啊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           “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孩子有病，家长吃药”，儿童心理专家表示：“亲子间沟通不畅，孩子产生逆反心理，往往是家长出了问题，而不是孩子的问题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33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楷体_GB2312"/>
              </a:rPr>
              <a:t>互动二：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964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您说是开车容易？还是培养孩子容易？</a:t>
            </a:r>
            <a:r>
              <a:rPr b="0" lang="zh-CN" sz="4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971280" y="1196640"/>
            <a:ext cx="777708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f21504"/>
                </a:solidFill>
                <a:latin typeface="黑体"/>
                <a:ea typeface="黑体"/>
              </a:rPr>
              <a:t>实证：上海初中生为什么“大面积”跳楼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68360" y="2276640"/>
            <a:ext cx="4751640" cy="42210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4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" dur="1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323640" y="475920"/>
            <a:ext cx="856908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事件一：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2008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年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9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月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1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日凌晨，杨浦区延吉东路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131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弄，一名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14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岁的女学生从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4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楼家中跳下，虽暂无生命危险，但可能导致失明。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事件二：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9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月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1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日清晨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5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点，浦东菏泽路中大丽都小区一名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15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岁的男孩从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8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楼窗户坠落，受重伤。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事件三：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9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月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1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日上午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9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点，嘉定区曹杨二中附属江桥实验中学，一名初中生因被留级而想跳楼轻生，最后被警方劝回。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事件四：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9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月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2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日上午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7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点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40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分，一声闷响打破仙霞路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486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弄的宁静。在毫无征兆的情况下，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12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岁的男孩小凡（化名）从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6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楼的窗口一跃而下，十几分钟后不治身亡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6046920" y="0"/>
            <a:ext cx="3097080" cy="24210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6156360" y="2205000"/>
            <a:ext cx="2987640" cy="22050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132000" y="2205000"/>
            <a:ext cx="2952720" cy="22338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5"/>
          <a:stretch/>
        </p:blipFill>
        <p:spPr>
          <a:xfrm>
            <a:off x="6286680" y="4508640"/>
            <a:ext cx="2857320" cy="23493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6"/>
          <a:stretch/>
        </p:blipFill>
        <p:spPr>
          <a:xfrm>
            <a:off x="0" y="4437000"/>
            <a:ext cx="3132000" cy="24210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7"/>
          <a:stretch/>
        </p:blipFill>
        <p:spPr>
          <a:xfrm>
            <a:off x="3132000" y="4437000"/>
            <a:ext cx="2952720" cy="24210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8"/>
          <a:stretch/>
        </p:blipFill>
        <p:spPr>
          <a:xfrm>
            <a:off x="3132000" y="0"/>
            <a:ext cx="2880000" cy="22320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马加爵"/>
          <p:cNvPicPr/>
          <p:nvPr/>
        </p:nvPicPr>
        <p:blipFill>
          <a:blip r:embed="rId9"/>
          <a:stretch/>
        </p:blipFill>
        <p:spPr>
          <a:xfrm>
            <a:off x="0" y="0"/>
            <a:ext cx="3132000" cy="21556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药家鑫"/>
          <p:cNvPicPr/>
          <p:nvPr/>
        </p:nvPicPr>
        <p:blipFill>
          <a:blip r:embed="rId10"/>
          <a:stretch/>
        </p:blipFill>
        <p:spPr>
          <a:xfrm>
            <a:off x="0" y="2133720"/>
            <a:ext cx="3132000" cy="23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826560" y="1197000"/>
            <a:ext cx="74883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楷体_GB2312"/>
              </a:rPr>
              <a:t>不能不思考的讨论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9280" y="2492280"/>
            <a:ext cx="8820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Arial"/>
                <a:ea typeface="黑体"/>
              </a:rPr>
              <a:t>       </a:t>
            </a:r>
            <a:r>
              <a:rPr b="1" lang="zh-CN" sz="5400" spc="-1" strike="noStrike">
                <a:solidFill>
                  <a:srgbClr val="0000cc"/>
                </a:solidFill>
                <a:latin typeface="Arial"/>
              </a:rPr>
              <a:t>教育是在培养什么样的人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178920" y="1341360"/>
            <a:ext cx="87138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特别是家庭教育不能把学生培养成为学习的工具，家庭教育的功能和主要作用是孩子成为更加健全人格的人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          </a:t>
            </a:r>
            <a:r>
              <a:rPr b="1" lang="zh-CN" sz="4000" spc="-1" strike="noStrike" u="sng">
                <a:solidFill>
                  <a:srgbClr val="333399"/>
                </a:solidFill>
                <a:uFillTx/>
                <a:latin typeface="Arial"/>
              </a:rPr>
              <a:t>培养健全的人格应当成为当前我们家庭育人的核心要点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1186920" y="331920"/>
            <a:ext cx="72010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这辈子你最后悔的事情是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26920" y="1773360"/>
            <a:ext cx="7560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　　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据广州日报报道，在广州市青少年心理危机干预中心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8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月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31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日举办的</a:t>
            </a:r>
            <a:r>
              <a:rPr b="0" lang="zh-CN" sz="3200" spc="-1" strike="noStrike">
                <a:solidFill>
                  <a:srgbClr val="333399"/>
                </a:solidFill>
                <a:latin typeface="宋体"/>
              </a:rPr>
              <a:t>“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亲子沟通与家庭教育</a:t>
            </a:r>
            <a:r>
              <a:rPr b="0" lang="zh-CN" sz="3200" spc="-1" strike="noStrike">
                <a:solidFill>
                  <a:srgbClr val="333399"/>
                </a:solidFill>
                <a:latin typeface="宋体"/>
              </a:rPr>
              <a:t>”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讲座上，针对这一问题的调查，有高达</a:t>
            </a:r>
            <a:r>
              <a:rPr b="0" lang="zh-CN" sz="3200" spc="-1" strike="noStrike">
                <a:solidFill>
                  <a:srgbClr val="cc0000"/>
                </a:solidFill>
                <a:latin typeface="黑体"/>
                <a:ea typeface="黑体"/>
              </a:rPr>
              <a:t>62</a:t>
            </a:r>
            <a:r>
              <a:rPr b="0" lang="zh-CN" sz="3200" spc="-1" strike="noStrike">
                <a:solidFill>
                  <a:srgbClr val="cc0000"/>
                </a:solidFill>
                <a:latin typeface="黑体"/>
                <a:ea typeface="黑体"/>
              </a:rPr>
              <a:t>％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的家长回答：最后悔对子女的教育不够或者方法不当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　　当</a:t>
            </a:r>
            <a:r>
              <a:rPr b="0" lang="zh-CN" sz="3200" spc="-1" strike="noStrike">
                <a:solidFill>
                  <a:srgbClr val="333399"/>
                </a:solidFill>
                <a:latin typeface="宋体"/>
              </a:rPr>
              <a:t>“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问题少年</a:t>
            </a:r>
            <a:r>
              <a:rPr b="0" lang="zh-CN" sz="3200" spc="-1" strike="noStrike">
                <a:solidFill>
                  <a:srgbClr val="333399"/>
                </a:solidFill>
                <a:latin typeface="宋体"/>
              </a:rPr>
              <a:t>”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越来越多，青少年问题日益严重的时候，我们应该思考，到底是孩子出了问题，还是家长出了问题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          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这种情况，我们好多家长都不同程度地经历过。家长们真的不明白，从小乖巧听话的孩子怎么变成了现在这个样子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0" y="259920"/>
            <a:ext cx="9144000" cy="65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ff0000"/>
                </a:solidFill>
                <a:latin typeface="Arial"/>
                <a:ea typeface="黑体"/>
              </a:rPr>
              <a:t>          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值得我们深思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333399"/>
                </a:solidFill>
                <a:latin typeface="Arial"/>
                <a:ea typeface="黑体"/>
              </a:rPr>
              <a:t>          </a:t>
            </a:r>
            <a:r>
              <a:rPr b="1" lang="zh-CN" sz="3400" spc="-1" strike="noStrike">
                <a:solidFill>
                  <a:srgbClr val="333399"/>
                </a:solidFill>
                <a:latin typeface="Arial"/>
                <a:ea typeface="黑体"/>
              </a:rPr>
              <a:t>家长长期使用着错误的教育方法陪伴着孩子成长。 唯成绩至上，这才是导致我们孩子心灵扭曲的根源性问题。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333399"/>
                </a:solidFill>
                <a:latin typeface="Arial"/>
                <a:ea typeface="黑体"/>
              </a:rPr>
              <a:t>          </a:t>
            </a:r>
            <a:r>
              <a:rPr b="1" lang="zh-CN" sz="3400" spc="-1" strike="noStrike">
                <a:solidFill>
                  <a:srgbClr val="333399"/>
                </a:solidFill>
                <a:latin typeface="Arial"/>
                <a:ea typeface="黑体"/>
              </a:rPr>
              <a:t>问题更严重的是： 家长的自身家庭教育素养，没有跟上孩子成长的需要，没有跟上时代发展的需要。这个问题不解决，同样的育人恶性事件还要发生。这是学校教育特别是家庭教育所不希望看到的悲剧。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50560" y="1700280"/>
            <a:ext cx="863892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 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提升家长家庭教育素养可大大降低后进生比例</a:t>
            </a:r>
            <a:br>
              <a:rPr sz="2400"/>
            </a:br>
            <a:br>
              <a:rPr sz="2400"/>
            </a:b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                     孩子在校优等比例  孩子在校后进比例</a:t>
            </a:r>
            <a:br>
              <a:rPr sz="2400"/>
            </a:br>
            <a:br>
              <a:rPr sz="2400"/>
            </a:b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家长家庭教育水平较好       </a:t>
            </a: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95</a:t>
            </a: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％                 </a:t>
            </a: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0</a:t>
            </a: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％</a:t>
            </a:r>
            <a:br>
              <a:rPr sz="2400"/>
            </a:b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家长家庭教育水平一般       </a:t>
            </a: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18</a:t>
            </a: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％                </a:t>
            </a: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15</a:t>
            </a: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％</a:t>
            </a:r>
            <a:br>
              <a:rPr sz="2400"/>
            </a:b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家长家庭教育水平较差        </a:t>
            </a: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0</a:t>
            </a: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％                </a:t>
            </a: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85</a:t>
            </a: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755280" y="333360"/>
            <a:ext cx="74883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北京一项按家长的家庭教育水平好、中、差划分进行的调查，调查对象：</a:t>
            </a:r>
            <a:r>
              <a:rPr b="0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680</a:t>
            </a:r>
            <a:r>
              <a:rPr b="0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名初中、小学生的家庭，调查内容：在校表现与家庭教育水平之间的关系，结果发现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1773360"/>
            <a:ext cx="8964720" cy="71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家庭教育水平很好的，其孩子在校表现优等生的占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95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％，基本没有后进生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      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而教育水平不当的家庭，其孩子在校为后进生的却高达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85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％，几乎没有优等生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      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而教育水平一般的家庭，其孩子在校为中等的占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2/3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，并有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15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％左右为后进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结论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把不当家庭教育提高到一般水平，后进生就会相应减少五倍左右；把一般家庭教育再提高到较好水平的家庭教育，优等生增加三倍左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4546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楷体_GB2312"/>
              </a:rPr>
              <a:t>思考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91440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人们常说：父爱、母爱是伟大的，其伟大之外就在于他们能为孩子做出无条件的改变。作为孩子的最亲最近的人，在孩子内心充满迷茫、困惑与无助，需要父母贴心关怀与正确引导的时候，怎能还无动于衷？怎能不努力寻求解决的方法，不断提升自身的育人水平，帮助孩子度过他人生最关键的时期，引领孩子健康快乐地成长？听到这儿，我相信此时此刻，我们在座的家长们，一定非常希望能找到一种方法来帮助我们和孩子更好地沟通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242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三、学习科学的家教技能：知道我该如何做？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964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一、利用网络资源学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1187280" y="549360"/>
            <a:ext cx="72979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您今天上网了吗</a:t>
            </a:r>
            <a:r>
              <a:rPr b="1" lang="en-US" sz="4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?</a:t>
            </a:r>
            <a:endParaRPr b="1" lang="en-US" sz="4800" spc="1" strike="noStrike">
              <a:ln w="9360">
                <a:solidFill>
                  <a:srgbClr val="0000ff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sp>
        <p:nvSpPr>
          <p:cNvPr id="137" name=""/>
          <p:cNvSpPr/>
          <p:nvPr/>
        </p:nvSpPr>
        <p:spPr>
          <a:xfrm>
            <a:off x="179280" y="1700280"/>
            <a:ext cx="89647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、中文网址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: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中华家庭教育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                     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中华家庭教育网免费家长学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                     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巴州家庭教育交流中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、呱呱视频课堂：中华家庭教育讲堂 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（ 每周四晚上九点个案咨询、周五晚上九点家庭教育精品诵读、周六晚八点、周日晚九点家长学校课程，均免费向家长开放）如何进入呱呱视频房间：</a:t>
            </a:r>
            <a:br>
              <a:rPr sz="2800"/>
            </a:b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 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http://www.zhjtjyw.com/kcms/blog/vblog?u_id=124&amp;b_id=72708</a:t>
            </a:r>
            <a:br>
              <a:rPr sz="2800"/>
            </a:b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、巴州家庭教育交流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群：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139195540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7596360" y="5805360"/>
            <a:ext cx="1260360" cy="86544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39640" y="242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二、看书学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899640" y="260280"/>
            <a:ext cx="676764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向您推荐全国家庭教育权威性丛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《不输在家庭教育上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19640" y="5734080"/>
            <a:ext cx="496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Arial"/>
                <a:ea typeface="黑体"/>
              </a:rPr>
              <a:t>全国创建学习型家庭必备书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Arial"/>
                <a:ea typeface="黑体"/>
              </a:rPr>
              <a:t>孩子成长指导咨询操作性手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 rot="1158600">
            <a:off x="468000" y="2565360"/>
            <a:ext cx="2471760" cy="309708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 rot="2178000">
            <a:off x="1258560" y="2565360"/>
            <a:ext cx="2570040" cy="31687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4"/>
          <a:stretch/>
        </p:blipFill>
        <p:spPr>
          <a:xfrm rot="2203800">
            <a:off x="2123640" y="1773360"/>
            <a:ext cx="2613240" cy="333684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5"/>
          <a:stretch/>
        </p:blipFill>
        <p:spPr>
          <a:xfrm rot="2875200">
            <a:off x="3579840" y="1757160"/>
            <a:ext cx="2595600" cy="320184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 rot="2809800">
            <a:off x="4507560" y="1837080"/>
            <a:ext cx="2538360" cy="31305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 rot="3129600">
            <a:off x="5288400" y="1992600"/>
            <a:ext cx="2863800" cy="3287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971280" y="1268280"/>
            <a:ext cx="771516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玩”出来的少年发明家 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P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粗暴父亲与网瘾儿子 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P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9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青春期亲子关系的痛点 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P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1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儿子收到“小纸条”后 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P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13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发现孩子自慰怎么办 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P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13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如何陪伴初中孩子一起成长 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P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1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从父辈成长经历看叛逆孩子 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P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1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解除青春期少年的困惑 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P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14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389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楷体_GB2312"/>
              </a:rPr>
              <a:t>调查：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1773360"/>
            <a:ext cx="9144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          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《现代教育报》记者曾通过网上问卷、电话采访等方式，针对家长与孩子交流的时间、次数、谈话内容及亲子关系等问题调查了解了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100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对不同年级的中小学生及其家长。从调查情况看，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76%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的家长已经超过一个星期没有跟孩子好好沟通了，而平时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89%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的谈话内容都集中在学习上。有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15%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的家长每天与孩子交谈的时间少得可怜，最短的竟只有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15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秒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68360" y="109656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沟通的技巧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家长一定要明确：沟通不是说服，说服是单向的行为，而沟通是双向的行为。沟通的好坏取决于孩子的回应。话有很多种方法说出来，用孩子听得明白、能够接受的语言对他说话才会有最大的效果。改变我们说的方法，才有机会改变孩子听的效果；改变我们听的技巧，才能更好地促使孩子去说。家长要想与孩子达成良好的沟通，应做到：</a:t>
            </a: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26560" y="836280"/>
            <a:ext cx="831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、用心倾听，了解孩子内心的真实感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很多家庭问题都是“沟通”的问题，而“沟通”的焦点又是“倾听”的问题；抓住了倾听，就抓住了家庭教育的关键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倾听是沟通的前提。只有倾听孩子的心里话，知道孩子内心真正在想什么，关注什么，需要什么，才能有针对性地给予孩子关心和帮助，才能使以后的沟通变得更加容易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99640" y="691920"/>
            <a:ext cx="8425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倾听不仅是一门科学也是一门艺术，它是有技巧的：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1128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技巧一：孩子说话时，家长的态度一定要专注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技巧二：当孩子诉说高兴的事时，家长应表示共鸣；当孩子诉说难过的事时，家长应让他尽情地宣泄，并表示同情；当孩子诉说家长不感兴趣的话题时，家长应表现出足够的耐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71640" y="691920"/>
            <a:ext cx="792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、真心接纳，让孩子获得理解和尊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-252360" y="1600200"/>
            <a:ext cx="9648720" cy="55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在和孩子沟通时，家长要将自己的偏见、指责及不合理的期望等等都放下。要以一种平和的心态，接纳孩子的所为。无论孩子在悲伤、孤独或兴奋、快乐时，家长都能够给予孩子的情绪以关注、尊重和理解，而不是立刻反对他的情绪。让孩子通过我们的眼神、言行体会到我们对他的真心的接纳，从而让孩子感到踏实、感到贴心。 当我们接纳了孩子的情绪，孩子就会喜欢并信任我们，从而愿意听我们的建议或看法。所谓“亲其师才能信其道”也就是这个道理。让孩子感到自己被尊重，感到家长是在真正地为他们好，是心疼他们，想帮助他们，这样孩子就能向家长敞开心扉，向家长诉说他们的喜怒哀乐，就会在有困难、有困惑时寻求家长的帮助与指导。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71280" y="2743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、巧用书信，创造亲子沟通新局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91440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3600" spc="-1" strike="noStrike">
                <a:solidFill>
                  <a:srgbClr val="333399"/>
                </a:solidFill>
                <a:latin typeface="Arial"/>
              </a:rPr>
              <a:t>和孩子沟通，除了面对面的交流外，还有许多形式，我们可以采用多种渠道、多种方式让孩子说出自己本不想说的东西，这样对孩子的成长会更有益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Arial"/>
              </a:rPr>
              <a:t>          </a:t>
            </a:r>
            <a:r>
              <a:rPr b="0" lang="zh-CN" sz="3600" spc="-1" strike="noStrike">
                <a:solidFill>
                  <a:srgbClr val="333399"/>
                </a:solidFill>
                <a:latin typeface="Arial"/>
              </a:rPr>
              <a:t>书信就是一种充满温情的表达方式。当我们觉得和孩子进行口头交流效果不太好的时候，当我们希望自己的话语能充分引起孩子关注的时候，就可以用这种方法。这样，避免了喋喋不休地空谈大道理、孩子比较容易接受，也保护了孩子的自尊、促进了亲子之间的关系。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802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、营造氛围，创造机会，将亲子间的良好沟通持续下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在日常生活中，家长要继续努力，细心观察，创造空间与时间与孩子交流。家长可以寻找孩子感兴趣的话题与孩子交流，还可以设计一些“家庭读书会”、“家庭卡拉</a:t>
            </a: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OK”</a:t>
            </a: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、“亲子户外游”等活动，创造与孩子交流的机会与话题。为了能跟上孩子成长的脚步，家长还要通过学习不断地提高自己的文化素养，营造良好的家庭学习氛围 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179280" y="1197000"/>
            <a:ext cx="87854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青春期的孩子，就像蓬勃生长的小树，有顽强的生命力。他们需要充足的阳光、空气、营养和水分 ——这就是理解；但他们精力旺盛，充满梦想和愿望，可能长出歪斜的枝杈，所以，要及时地修剪以保持树干的笔直和树冠的丰满——这就需要父母与孩子共同成长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只要家长能合理运用沟通的技巧，尽可能创造多的机会去和孩子沟通，孩子内心的阻抗会一点点地减少，孩子烦躁的心也会逐渐地平静下来。这时，家长可以耐心地引导孩子接纳自己的观点，将心中的正向建议说出来，并征求孩子的意见。这样，孩子也会认真地考虑家长提出的建议，并能主动地与家长协商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539280" y="1052280"/>
            <a:ext cx="8013960" cy="560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小故事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 ：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zh-CN" sz="4400" spc="-1" strike="noStrike">
                <a:solidFill>
                  <a:srgbClr val="333399"/>
                </a:solidFill>
                <a:latin typeface="Arial"/>
              </a:rPr>
              <a:t>一天，父亲看到一则九岁孩子上大学的报道，便很受伤地问女儿：“孩子，你怎么就不是个神童呢？”女儿说：“因为你不是神父啊。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所以我希望从今天开始，每个家长都重新思考自己的教育方法。同时我们要想想，我们总是要求孩子要这样，要那样，我们也要想想孩子需要什么样的家长，你做到孩子希望的家长了吗？所以在教育孩子的路上，只有把我们自己变成一盏明灯，我们才能照亮我们的儿女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3610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楷体_GB2312"/>
              </a:rPr>
              <a:t>讨论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zh-CN" sz="4800" spc="-1" strike="noStrike">
                <a:solidFill>
                  <a:srgbClr val="333399"/>
                </a:solidFill>
                <a:latin typeface="Arial"/>
              </a:rPr>
              <a:t>究竟是什么原因阻碍了家长爱的传达，又是什么原因妨碍了家长与孩子进行有效的沟通与交流呢？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4642920" y="4076280"/>
            <a:ext cx="46818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黑体"/>
              </a:rPr>
              <a:t>电话：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黑体"/>
              </a:rPr>
              <a:t>1332550938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黑体"/>
              </a:rPr>
              <a:t>QQ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黑体"/>
              </a:rPr>
              <a:t>：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黑体"/>
              </a:rPr>
              <a:t>1311410431</a:t>
            </a:r>
            <a:r>
              <a:rPr b="0" lang="zh-CN" sz="3200" spc="-1" strike="noStrike">
                <a:solidFill>
                  <a:srgbClr val="009999"/>
                </a:solidFill>
                <a:latin typeface="Arial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1874880"/>
            <a:ext cx="4716360" cy="498312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5327640" y="1628640"/>
            <a:ext cx="381636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333cc"/>
                </a:solidFill>
                <a:latin typeface="Arial"/>
                <a:ea typeface="黑体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089600" y="475560"/>
            <a:ext cx="3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116000" y="476280"/>
            <a:ext cx="802800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21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世纪是两代人相互学习共同成长的世纪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祝愿所有的家长都能和孩子一道快乐成长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4613040" y="0"/>
            <a:ext cx="424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中华家庭教育研究院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http://zhjtjyw.com/u/xx0000/index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" dur="275801" fill="hold"/>
                                        <p:tgtEl>
                                          <p:spTgt spid="1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0" y="764640"/>
            <a:ext cx="9144000" cy="630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亲子间的沟通困难已是一种普遍的社会现象。现实生活中，家长与孩子的沟通几乎每天都在发生。可令很多家长感到困惑的是：太多时候是频繁地进行“沟”，但实际效果却往往是没有“通”。家长强烈的爱反而让孩子感到厌倦、逆反，甚至是离家出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从某种意义上讲，沟通失败，也就意味着家庭教育的失败。当家长完全不能理解孩子时，家长的观点和做法也不会被孩子理解和接受。这样，无论家长出于多么良好的动机，制定了多么远大的目标，最后还是无法达成愿望的。而且随着孩子的成长，亲子间的距离还会逐渐拉大，这不仅会破坏家庭的幸福，严重的还会导致家庭恶性事件的发生！</a:t>
            </a:r>
            <a:br>
              <a:rPr sz="2800"/>
            </a:b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zh-CN" sz="4400" spc="-1" strike="noStrike">
                <a:solidFill>
                  <a:srgbClr val="333399"/>
                </a:solidFill>
                <a:latin typeface="Arial"/>
                <a:ea typeface="楷体_GB2312"/>
              </a:rPr>
              <a:t>今天我就将从以下几方面入手，谈一谈家长如何才能真正走进孩子的内心，与青春期的孩子进行良好的沟通：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1699920"/>
            <a:ext cx="8964720" cy="31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楷体_GB2312"/>
              </a:rPr>
              <a:t>一、问一问自己的内心：</a:t>
            </a:r>
            <a:br>
              <a:rPr sz="6000"/>
            </a:b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楷体_GB2312"/>
              </a:rPr>
              <a:t>明确我要什么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1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楷体_GB2312"/>
              </a:rPr>
              <a:t>互动一：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您心中最最希望您的孩子将来是什么样子的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您到底应该以一个什么样的心态去和孩子交流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zh-CN" sz="1600" spc="-1" strike="noStrike">
                <a:solidFill>
                  <a:srgbClr val="333399"/>
                </a:solidFill>
                <a:latin typeface="Arial"/>
              </a:rPr>
              <a:t>欣赏短片：《药家鑫诉说成长经历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8T15:49:20Z</dcterms:created>
  <dc:creator> </dc:creator>
  <dc:description/>
  <dc:language>en-US</dc:language>
  <cp:lastModifiedBy>user</cp:lastModifiedBy>
  <dcterms:modified xsi:type="dcterms:W3CDTF">2011-09-23T20:05:14Z</dcterms:modified>
  <cp:revision>192</cp:revision>
  <dc:subject/>
  <dc:title>现代家庭教育讲座</dc:title>
</cp:coreProperties>
</file>