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BA2-E7BD-4DB0-9040-4C2377BCF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991E-862A-4CE4-AE15-9196132E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78CDC-893B-403A-A53B-AD9A6276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ED23B-C8F7-4BAB-B55F-32DC3BDB3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6D385-5163-43A9-981E-7C9F7A925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901332-FBD1-4947-BFCD-A1DF6896F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19D8FB-D4ED-48FD-B557-E15346131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11507-55E6-4649-BFA0-9C906F07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9A82DB-331E-47EB-AB47-4FDBD01EF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A9DE4C-408D-436F-879C-B2DFF4360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FF361-AB05-41DA-89B5-D963030D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17CDC1-738E-4A83-B731-8BC868045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3822-170F-471F-9820-0A124C8E3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15D9C-6C2D-43E4-B257-A924B340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BFA19-5BC0-4ACA-9F73-FC7E24184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57BBC-57C2-44DD-A6EB-95057A8F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0E1BBB-BEA3-4190-A9CE-CAFE2FB1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74C62E-2AC9-43C1-B105-2C515A82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CD881A-F563-416C-BDB6-E5EA7EEE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5E87C8-9AC6-4959-AC76-31E996EFB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E6E8CC-D100-4DB0-9362-9D6275AB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A2B527-3E33-476A-81C8-62C39F73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7013DE-E56D-4F68-840F-FA71A4F9C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5AD-360C-4A87-BEF2-F4D8E35B8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EE59E-9553-48A7-A03A-9273844BD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8BAA0-C567-45E8-9556-9184450CB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0A7C54-6B99-470D-9D72-4F53CF15C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A6091-9EEC-48D9-B226-7938C6306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AEE6F6-24B4-4690-BDB1-E9738D6B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89F4A-1589-4FC7-B96A-9F478275A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096E79-99C8-436C-A442-43E195EC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08B47-CDD6-4C31-ADAC-999C8CE4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814E6-0117-4B98-877C-C5A45F77E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0D4DC-2892-4D6A-9E77-E365592CA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92617-8AEA-49AF-AE89-DAF4E3EF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EB3D70-48C9-4AD0-B9BF-3B295434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EE69D-E60B-4561-80C7-231430ED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986645-4DAC-448E-990A-32A18F2E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D75CC-318B-4E92-BAB8-3C8F40734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49BFD-C61E-4210-A26D-83C7CEF8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07865B-150E-43AB-B5E1-01F5B3C6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218B4-8B6D-49C2-BE5B-99F12D443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A4E85-4C4E-47E1-AC57-2411ACBE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BD1B8C-B14E-497E-B54D-D9B85F84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A368E3-22D1-4D3F-92FD-40390B92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D541-AA6E-4240-BC72-C195BD78C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511E8-4E7F-4157-ACCA-33A9A47FD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D4021D-B692-4721-953F-FDEA10D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564F9-5465-4B3E-A4E7-6819CE23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9183A4-B83F-4B6E-9FDC-F81D65B21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08AF7B-4FD5-4C6D-BBA0-57F342BF2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465F4E-FC5E-4F10-B413-4580A4103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6CF7FF-EC8A-4DBC-AF6A-2EB7709B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7D7EE2-527D-4977-A68F-E7F39D91C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915A5-4E31-4CD8-844A-41C2F5ED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10FB8D-8CA9-4535-AA0B-936E5C629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3693D-7DF9-4975-805B-2F561C081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5D1605-429C-4D60-875E-457EE4A3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5B1F8-E29E-488E-A07E-7445EB3C7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6F607-3A2E-44F6-9EEE-81DDD1EDF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1B9214-D702-45E8-87B5-D2EA3BF4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3501DF-6085-4496-9D85-FDC82578B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F69DEA-A1BA-45B0-9685-0E2BC5EF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11E7DE-D753-46AE-81B0-E9AC66EE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F51848-C8D0-4FCA-9077-C11272BF1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44C08A-E207-4757-A3C8-A77A590EF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37CF02-B976-4BE6-A88A-2BC17D879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89B8-848B-431A-BC7F-EF30974DA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ACF91E-33AC-4575-9CB4-9B1387D7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6894BF-E395-4F6B-ADC5-E73325F63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92C98B-4A25-46B3-A3D7-E2DB81EE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EB9A2EF-21E5-4CD6-8329-FE492211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B59CE3-793F-4BA8-AE0C-E02D96FD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FDF2BE6-BA36-49CF-9510-41904279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94C9D-D420-4259-AE14-BFF263FB0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B3F7BE-716F-4D47-A196-6BE51F79E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E32B71-3C1E-4F9D-BE9A-D5ABFBF2C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50B7-F3D9-42E4-A185-A567D478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F207-7DB7-4031-8241-99D7058EF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E3E8-5AAF-49B4-9C57-663B7D31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9104-D3C4-4A0F-9B75-44F5C5F74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4970-8144-4B12-8323-0F34BBF7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EC9B-5D70-4D80-9F72-BCE1C2C73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5568-822B-438A-A3E4-3BACE77B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D805-1E56-4929-8F20-3D96F7456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F476-B838-4706-9295-207C5366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59E94-3260-4AF0-8A21-10B3F0E42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D9B6A-153B-4E8D-9353-42F9E668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628EB-AA30-4000-B22A-5BF2F14DA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9F941-3B9D-4D72-BF68-D8942859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2082-D293-4998-A906-FCE58C82D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0EED-47EC-4ACA-AD49-61A270914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A9FB3-202A-4070-B48F-45646DA6F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64FF1-1C5C-4205-853F-ECF5C268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3C4BF-5CE4-460B-932E-D479256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569738-2967-4995-86ED-5B972766A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BF2DD8-E0EF-423D-9E93-45EDC24B5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3491E-67BB-4C83-A8B6-C9DA454DE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A095E-A36A-4A30-8151-5A4E105B6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6E8E41-5C37-423A-B2DA-505585264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D0A83C-9DA2-4376-A593-5262E3116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6DCBC-BD9B-48E7-879E-DE5EC15D1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5D99-FC63-46B8-81F9-773816CD4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0E45D8-0B70-44F3-A5D9-0EE464BA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ABB9-0BB5-4A97-B521-A3CD42FD9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48914-6D2C-43CE-9C41-57D29B1F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CED97-F238-4655-852D-730DEB16C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4F519C-7A53-4270-AD01-D17D6865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1C39F-20AF-43C7-9BCF-464A22F45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8522-8748-4BF1-B071-34404195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91AAD-A206-4EB9-9D72-FC5637E76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115B66-43E0-498E-9A50-5FE819505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B10177-77EE-4AAD-815D-798D0F17E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3D07-5D13-4D66-B6C4-E2AA0BEC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732C6-8E7A-4CB6-9936-18999BF3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3F319D-5AEF-4D11-A03E-700045180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12BC0-03FE-45CA-BDDA-1D57CAC3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07E71-6DD8-4795-ABCE-1CCC8018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3F762-3B32-4A7C-AF51-1B6256A64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EE0EC-9B93-447F-A428-16026E31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6DD94-F4EE-4E41-B974-5A2A6DC50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57AA5-025D-4D89-92CA-84322497E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E2A6DA-194A-4260-9126-71337948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14A14-5DD7-49D7-9652-DAAB063A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7E34-6FE7-47AD-A771-5B6F63AD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8A857-F1A9-4ECB-8BDF-BC225E7F5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6A4C9-07A5-447A-9D4A-BA426A4D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06AC7E-EDAD-42AD-B7E4-5406AB7B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C1A25D-2575-490B-BD8A-926251450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9C8038-98AE-4960-A26D-4EB1F95E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0BBA4-D128-48A2-A9C2-B94C7C88A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AC337-C7D4-44B5-9789-64792A97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15F48-777E-4261-B4CE-75553E17F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7B692-5292-4D5E-BE9E-D7B651B5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955F0E-7367-4EE4-A749-CCE81F93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6F0-0A30-43A3-811C-034D76A6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F2F8B-379E-4EB9-AD42-FB994AF7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64202-E2D5-432F-90C4-FC505D54D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18D71-6929-4027-B8F8-52B38AE10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D08D7E-B755-4895-B7B6-364EDFA4E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AA34F-B0D2-4B56-B59E-401D7DF1F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0BEA48-D079-4785-A570-C98FF1DF4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4A0EF9-F1B6-4AD9-9F63-450A7A4BA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CEDBB-99F6-4D9E-A9A7-E0AB0AA7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BA173-D284-43C7-9960-D31DECEFE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A33BC3-7E25-4074-9295-0C1724E67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DDB9-67FC-4BBA-8FD7-C35462255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B5407-D667-4BB6-A59E-CBAF1875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3944D-788C-4CA3-99EA-4EAA09D0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7B715-D1EF-4E5A-AF7C-A5223AFF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5ADE69-EA8A-447F-B81E-2A430DB5D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EDFCB2-00BB-4989-AFB6-DA454DEBB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55549-1A6B-44FC-8837-88AB57F7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AFCD1-73A0-4008-AB37-170C0902E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E57F16-3443-46E2-8FB7-3F7FD5CB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823F7-0A2E-4FC0-BF96-02853A25D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FC181-A5E1-4595-ABD4-D2AEC869D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A562-1DD4-475B-ABA6-36811C8F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1BD6D-3404-4008-8A77-2DF132B3D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0AB76-A306-49E7-B16C-25607C4C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0C0401-67CC-4850-94AC-9C388A0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E27026-434E-4244-B8E8-E729B9063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78EE1-D2E2-4D80-A8EC-214813D6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837095-D50B-48B2-95C6-F7032CC7A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754955-C1BC-4045-9C48-9E829074D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28A230-30CC-4D53-A6B9-E63F528A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77CEC4-940F-44C7-BD74-89E6CB4FC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7A8CA-B919-44F1-ADF0-C9689844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A529-CD30-4BBD-A8AD-67DF5CDD8F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093D-B113-42C6-9EB7-B713EB8E285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F50F-316C-48DF-BE3A-59B645E65E4D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AF3C4-0C08-4AEF-9D5C-E1E70EFBBCA6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64B1-A00B-4DDB-9C93-2BA73755D0F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4BF5-4CC1-4615-A248-BF17B6DA5C92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B568-9FEF-48C2-AEC6-2339758445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4D7D4-FA9A-44E0-80B3-9BA62DE2642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578B-5417-4748-BC6B-1FCBA6F6126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8CF07-10FC-445B-AF9D-81FCD68C5A5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DCEC2-9EF5-40CC-97DF-6774E03C5B8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59427-40FA-46B9-98F3-935E46055AA8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242E0-A45E-4112-BBA2-8C5CB57FB677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898989"/>
                </a:solidFill>
                <a:latin typeface="Arial"/>
                <a:ea typeface="华文彩云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715C6-83B9-4D1F-BDF3-53442149F63F}" type="slidenum">
              <a:rPr b="1" lang="zh-CN" sz="1200" spc="-1" strike="noStrike">
                <a:solidFill>
                  <a:srgbClr val="898989"/>
                </a:solidFill>
                <a:latin typeface="Arial"/>
                <a:ea typeface="华文彩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2" descr="2008519168511_2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WordArt 3"/>
          <p:cNvSpPr txBox="1"/>
          <p:nvPr/>
        </p:nvSpPr>
        <p:spPr>
          <a:xfrm>
            <a:off x="1692360" y="981000"/>
            <a:ext cx="5904000" cy="171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8000"/>
                </a:solidFill>
                <a:latin typeface="隶书"/>
              </a:rPr>
              <a:t>静默草原</a:t>
            </a:r>
            <a:endParaRPr b="0" lang="en-US" sz="4800" spc="-1" strike="noStrike">
              <a:ln w="9360">
                <a:solidFill>
                  <a:srgbClr val="ffff00"/>
                </a:solidFill>
                <a:miter/>
              </a:ln>
              <a:solidFill>
                <a:srgbClr val="008000"/>
              </a:solidFill>
              <a:latin typeface="隶书"/>
              <a:ea typeface="隶书"/>
            </a:endParaRPr>
          </a:p>
        </p:txBody>
      </p:sp>
      <p:sp>
        <p:nvSpPr>
          <p:cNvPr id="576" name="Text Box 4"/>
          <p:cNvSpPr/>
          <p:nvPr/>
        </p:nvSpPr>
        <p:spPr>
          <a:xfrm>
            <a:off x="2844720" y="1917720"/>
            <a:ext cx="4249800" cy="7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5"/>
          <p:cNvSpPr/>
          <p:nvPr/>
        </p:nvSpPr>
        <p:spPr>
          <a:xfrm>
            <a:off x="3127320" y="1949400"/>
            <a:ext cx="25257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6"/>
          <p:cNvSpPr/>
          <p:nvPr/>
        </p:nvSpPr>
        <p:spPr>
          <a:xfrm>
            <a:off x="4284720" y="328464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鲍尔吉</a:t>
            </a:r>
            <a:r>
              <a:rPr b="0" lang="en-US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·</a:t>
            </a:r>
            <a:r>
              <a:rPr b="0" lang="zh-CN" sz="36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原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矩形 6"/>
          <p:cNvSpPr/>
          <p:nvPr/>
        </p:nvSpPr>
        <p:spPr>
          <a:xfrm>
            <a:off x="4489560" y="5877000"/>
            <a:ext cx="309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3"/>
          <p:cNvSpPr/>
          <p:nvPr/>
        </p:nvSpPr>
        <p:spPr>
          <a:xfrm>
            <a:off x="250920" y="2276640"/>
            <a:ext cx="889308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     前瞻    簇立    迥然不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摩挲   面颊    长鬃      翡翠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嘤     衣襟    咆哮      冥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298764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4643280" y="249228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6"/>
          <p:cNvSpPr/>
          <p:nvPr/>
        </p:nvSpPr>
        <p:spPr>
          <a:xfrm>
            <a:off x="68770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7"/>
          <p:cNvSpPr/>
          <p:nvPr/>
        </p:nvSpPr>
        <p:spPr>
          <a:xfrm>
            <a:off x="971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8"/>
          <p:cNvSpPr/>
          <p:nvPr/>
        </p:nvSpPr>
        <p:spPr>
          <a:xfrm>
            <a:off x="2987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9"/>
          <p:cNvSpPr/>
          <p:nvPr/>
        </p:nvSpPr>
        <p:spPr>
          <a:xfrm>
            <a:off x="5219640" y="414972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0"/>
          <p:cNvSpPr/>
          <p:nvPr/>
        </p:nvSpPr>
        <p:spPr>
          <a:xfrm>
            <a:off x="7451640" y="407664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1"/>
          <p:cNvSpPr/>
          <p:nvPr/>
        </p:nvSpPr>
        <p:spPr>
          <a:xfrm>
            <a:off x="46836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2"/>
          <p:cNvSpPr/>
          <p:nvPr/>
        </p:nvSpPr>
        <p:spPr>
          <a:xfrm>
            <a:off x="2987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3"/>
          <p:cNvSpPr/>
          <p:nvPr/>
        </p:nvSpPr>
        <p:spPr>
          <a:xfrm>
            <a:off x="464328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4"/>
          <p:cNvSpPr/>
          <p:nvPr/>
        </p:nvSpPr>
        <p:spPr>
          <a:xfrm>
            <a:off x="5219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15"/>
          <p:cNvSpPr/>
          <p:nvPr/>
        </p:nvSpPr>
        <p:spPr>
          <a:xfrm>
            <a:off x="7451640" y="566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6"/>
          <p:cNvSpPr/>
          <p:nvPr/>
        </p:nvSpPr>
        <p:spPr>
          <a:xfrm>
            <a:off x="395280" y="2421000"/>
            <a:ext cx="457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7"/>
          <p:cNvSpPr/>
          <p:nvPr/>
        </p:nvSpPr>
        <p:spPr>
          <a:xfrm>
            <a:off x="181080" y="1700280"/>
            <a:ext cx="109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bà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"/>
          <p:cNvSpPr/>
          <p:nvPr/>
        </p:nvSpPr>
        <p:spPr>
          <a:xfrm>
            <a:off x="2558160" y="1628640"/>
            <a:ext cx="147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hān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"/>
          <p:cNvSpPr/>
          <p:nvPr/>
        </p:nvSpPr>
        <p:spPr>
          <a:xfrm>
            <a:off x="4503240" y="1628640"/>
            <a:ext cx="1067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cù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0"/>
          <p:cNvSpPr/>
          <p:nvPr/>
        </p:nvSpPr>
        <p:spPr>
          <a:xfrm>
            <a:off x="6516720" y="1628640"/>
            <a:ext cx="1366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ǒng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21"/>
          <p:cNvSpPr/>
          <p:nvPr/>
        </p:nvSpPr>
        <p:spPr>
          <a:xfrm>
            <a:off x="826920" y="3284640"/>
            <a:ext cx="106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suō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22"/>
          <p:cNvSpPr/>
          <p:nvPr/>
        </p:nvSpPr>
        <p:spPr>
          <a:xfrm>
            <a:off x="2845440" y="3213000"/>
            <a:ext cx="99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iá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23"/>
          <p:cNvSpPr/>
          <p:nvPr/>
        </p:nvSpPr>
        <p:spPr>
          <a:xfrm>
            <a:off x="4935240" y="32846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zōng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24"/>
          <p:cNvSpPr/>
          <p:nvPr/>
        </p:nvSpPr>
        <p:spPr>
          <a:xfrm>
            <a:off x="7236000" y="3284640"/>
            <a:ext cx="122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fěi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25"/>
          <p:cNvSpPr/>
          <p:nvPr/>
        </p:nvSpPr>
        <p:spPr>
          <a:xfrm>
            <a:off x="58320" y="4869000"/>
            <a:ext cx="111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yī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26"/>
          <p:cNvSpPr/>
          <p:nvPr/>
        </p:nvSpPr>
        <p:spPr>
          <a:xfrm>
            <a:off x="2759400" y="4941720"/>
            <a:ext cx="77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jī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27"/>
          <p:cNvSpPr/>
          <p:nvPr/>
        </p:nvSpPr>
        <p:spPr>
          <a:xfrm>
            <a:off x="4141080" y="4941720"/>
            <a:ext cx="200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páo xià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8"/>
          <p:cNvSpPr/>
          <p:nvPr/>
        </p:nvSpPr>
        <p:spPr>
          <a:xfrm>
            <a:off x="6950880" y="4869000"/>
            <a:ext cx="128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Times New Roman"/>
              </a:rPr>
              <a:t>mí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29"/>
          <p:cNvSpPr/>
          <p:nvPr/>
        </p:nvSpPr>
        <p:spPr>
          <a:xfrm>
            <a:off x="120600" y="216000"/>
            <a:ext cx="438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检查预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4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感知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39640" y="1413000"/>
            <a:ext cx="8080560" cy="35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舒缓的语气阅读课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的特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伫立草原，产生了那些感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用笔划出来，和同学交流一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3"/>
          <p:cNvSpPr/>
          <p:nvPr/>
        </p:nvSpPr>
        <p:spPr>
          <a:xfrm>
            <a:off x="396720" y="2349360"/>
            <a:ext cx="40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草原的特点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395280" y="4365720"/>
            <a:ext cx="319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产生的感受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5"/>
          <p:cNvSpPr/>
          <p:nvPr/>
        </p:nvSpPr>
        <p:spPr>
          <a:xfrm>
            <a:off x="3635280" y="2349360"/>
            <a:ext cx="505080" cy="935280"/>
          </a:xfrm>
          <a:custGeom>
            <a:avLst/>
            <a:gdLst>
              <a:gd name="textAreaLeft" fmla="*/ 322920 w 505080"/>
              <a:gd name="textAreaRight" fmla="*/ 505440 w 505080"/>
              <a:gd name="textAreaTop" fmla="*/ 0 h 935280"/>
              <a:gd name="textAreaBottom" fmla="*/ 935640 h 93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 Box 6"/>
          <p:cNvSpPr/>
          <p:nvPr/>
        </p:nvSpPr>
        <p:spPr>
          <a:xfrm>
            <a:off x="4429080" y="1844640"/>
            <a:ext cx="376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辽远、苍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7"/>
          <p:cNvSpPr/>
          <p:nvPr/>
        </p:nvSpPr>
        <p:spPr>
          <a:xfrm>
            <a:off x="4429080" y="2852640"/>
            <a:ext cx="402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看不到、看不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8"/>
          <p:cNvSpPr/>
          <p:nvPr/>
        </p:nvSpPr>
        <p:spPr>
          <a:xfrm>
            <a:off x="3637080" y="4149720"/>
            <a:ext cx="144360" cy="1368360"/>
          </a:xfrm>
          <a:custGeom>
            <a:avLst/>
            <a:gdLst>
              <a:gd name="textAreaLeft" fmla="*/ 92160 w 144360"/>
              <a:gd name="textAreaRight" fmla="*/ 144360 w 14436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4429080" y="3933720"/>
            <a:ext cx="34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自由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429080" y="4797360"/>
            <a:ext cx="323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不自由、局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3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3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Text Box 3"/>
          <p:cNvSpPr/>
          <p:nvPr/>
        </p:nvSpPr>
        <p:spPr>
          <a:xfrm>
            <a:off x="684360" y="1628640"/>
            <a:ext cx="77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 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332000" y="328464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755640" y="3068640"/>
            <a:ext cx="7956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段只有一句话，是什么句式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设问句，引起读者的好奇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6"/>
          <p:cNvSpPr/>
          <p:nvPr/>
        </p:nvSpPr>
        <p:spPr>
          <a:xfrm>
            <a:off x="168120" y="155520"/>
            <a:ext cx="4550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精读课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2000"/>
                                        <p:tgtEl>
                                          <p:spTgt spid="6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－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6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思考：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15328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作者在这里运用了什么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的景观与他处的风景相比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蒙古牧人看草原风景的方式与城里人看草原风景的方式相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蒙古人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想在眼里装填一些苍茫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苍茫是草原人面对草原的一种心情，一种感受，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在眼里装填一些苍茫，实际上是用心去体会草原。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6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6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齐读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7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8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。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250920" y="1557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为什么草原具有看不到与看不尽这两种特点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草原是辽阔无边的，所以看不到也看不尽。而草原的变化多端，就使得我们无法抓住草原得某一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到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；因为变化多端，我们可以看到草原各种各样的特点，所以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看不尽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3600" spc="-1" strike="noStrike">
                <a:solidFill>
                  <a:srgbClr val="333399"/>
                </a:solidFill>
                <a:latin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读课文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9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，思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1532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在单一中呈现丰富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单一与丰富是否矛盾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不矛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大海一样在单一中呈现丰富，那二者又有什么区别呢？用了什么写法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从观海者的不同角度（岸上、船上），比较出草原的另一特点：中心不定和可接触性，再进一步指出草原的辽远与苍茫，和给人的亲切感。对比</a:t>
            </a:r>
            <a:r>
              <a:rPr b="1" lang="en-US" sz="2400" spc="-1" strike="noStrike">
                <a:solidFill>
                  <a:srgbClr val="333399"/>
                </a:solidFill>
                <a:latin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6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6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50920" y="-170280"/>
            <a:ext cx="854064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学生齐读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1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2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 思考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15328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草原上，辽阔首先给人以自由感，第二个感觉是不自由，也可以说局促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因为它太广阔了，无遮无拦，因而首先带给人以自由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但是，在旷远天地的面前，人只会觉得自己如此渺小与微不足道，产生一种局促感、不自由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如何理解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段最后一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人被突然放置在大自然面前，显得那样渺小，由此感受大自然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草原的博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6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6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6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/>
          </p:nvPr>
        </p:nvSpPr>
        <p:spPr>
          <a:xfrm>
            <a:off x="395280" y="1125360"/>
            <a:ext cx="815328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思考：如何理解作者将自己比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品尝清水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温柔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摩挲草尖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热烈的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这里运用了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</a:rPr>
              <a:t>比喻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的修辞。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母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温柔之爱，全身心投入的敬仰之爱；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烈马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表达了作者对草原的火热的爱，不顾一切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324000" y="260280"/>
            <a:ext cx="5236920" cy="764280"/>
          </a:xfrm>
          <a:prstGeom prst="rect">
            <a:avLst/>
          </a:prstGeom>
          <a:solidFill>
            <a:srgbClr val="ccffcc"/>
          </a:solidFill>
          <a:ln w="349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阅读第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13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段，讨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分析课文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4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—</a:t>
            </a:r>
            <a:r>
              <a:rPr b="1" lang="en-US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15</a:t>
            </a:r>
            <a:r>
              <a:rPr b="1" lang="zh-CN" sz="3200" spc="-1" strike="noStrike" u="sng">
                <a:solidFill>
                  <a:srgbClr val="ff0066"/>
                </a:solidFill>
                <a:uFillTx/>
                <a:latin typeface="楷体_GB2312"/>
                <a:ea typeface="楷体_GB2312"/>
              </a:rPr>
              <a:t>段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草原与我一样，也是善忘者，只在静默中观望未来。 该如何理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黑体"/>
              </a:rPr>
              <a:t>这句话点明题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善忘实际上是对人生的豁达与洒脱，是一种对荣誉金钱地位等的不计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在静默中观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是一种坦然自若的不张扬的沉稳。观望未来需要我们用心去感受生活，永葆一颗纯净的心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6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6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6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0" name="Picture 2" descr="014[1]"/>
          <p:cNvPicPr/>
          <p:nvPr/>
        </p:nvPicPr>
        <p:blipFill>
          <a:blip r:embed="rId1"/>
          <a:stretch/>
        </p:blipFill>
        <p:spPr>
          <a:xfrm>
            <a:off x="0" y="0"/>
            <a:ext cx="9145440" cy="6858000"/>
          </a:xfrm>
          <a:prstGeom prst="rect">
            <a:avLst/>
          </a:prstGeom>
          <a:ln w="0">
            <a:noFill/>
          </a:ln>
        </p:spPr>
      </p:pic>
      <p:pic>
        <p:nvPicPr>
          <p:cNvPr id="581" name="cymg.mp3" descr="cymg"/>
          <p:cNvPicPr/>
          <p:nvPr/>
        </p:nvPicPr>
        <p:blipFill>
          <a:blip r:embed="rId2"/>
          <a:stretch/>
        </p:blipFill>
        <p:spPr>
          <a:xfrm>
            <a:off x="250920" y="6093000"/>
            <a:ext cx="504720" cy="72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0"/>
                            </p:stCondLst>
                            <p:childTnLst>
                              <p:par>
                                <p:cTn id="9" nodeType="after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0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3"/>
          <p:cNvSpPr/>
          <p:nvPr/>
        </p:nvSpPr>
        <p:spPr>
          <a:xfrm>
            <a:off x="122400" y="139680"/>
            <a:ext cx="4954320" cy="1099440"/>
          </a:xfrm>
          <a:prstGeom prst="rect">
            <a:avLst/>
          </a:prstGeom>
          <a:solidFill>
            <a:srgbClr val="99ff66">
              <a:alpha val="76000"/>
            </a:srgbClr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 u="sng">
                <a:solidFill>
                  <a:srgbClr val="ff0000"/>
                </a:solidFill>
                <a:uFillTx/>
                <a:latin typeface="Arial"/>
                <a:ea typeface="华文新魏"/>
              </a:rPr>
              <a:t>对比</a:t>
            </a:r>
            <a:r>
              <a:rPr b="0" lang="zh-CN" sz="6000" spc="-1" strike="noStrike">
                <a:solidFill>
                  <a:srgbClr val="990099"/>
                </a:solidFill>
                <a:latin typeface="Arial"/>
                <a:ea typeface="方正舒体"/>
              </a:rPr>
              <a:t>手法赏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611280" y="198900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文章为了表现草原的特点和自己的感受，多处运用了对比手法，找出文中运用对比手法的地方，和同学探讨一下他们的作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152280" y="216000"/>
            <a:ext cx="3556080" cy="916920"/>
          </a:xfrm>
          <a:prstGeom prst="rect">
            <a:avLst/>
          </a:prstGeom>
          <a:solidFill>
            <a:srgbClr val="ffff00">
              <a:alpha val="58000"/>
            </a:srgbClr>
          </a:solidFill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66"/>
                </a:solidFill>
                <a:latin typeface="Arial"/>
                <a:ea typeface="方正舒体"/>
              </a:rPr>
              <a:t>我的探究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725400" y="1486080"/>
            <a:ext cx="73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都市景色和草原景色的对比 ，  表现了草原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833400" y="3127320"/>
            <a:ext cx="712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草原和大海的对比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海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3635280" y="2060640"/>
            <a:ext cx="31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辽远而苍茫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6"/>
          <p:cNvSpPr/>
          <p:nvPr/>
        </p:nvSpPr>
        <p:spPr>
          <a:xfrm>
            <a:off x="2211480" y="3838680"/>
            <a:ext cx="639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观者在岸边，景色受到限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2268360" y="4797360"/>
            <a:ext cx="632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可以是草原的中心，草原的内涵更富有直观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Text Box 2"/>
          <p:cNvSpPr/>
          <p:nvPr/>
        </p:nvSpPr>
        <p:spPr>
          <a:xfrm>
            <a:off x="539640" y="620640"/>
            <a:ext cx="8363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牧人与城市人的比较，引入作者的感受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里的人大睁眼睛看草原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城市人是在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 ，牧人，却是在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3"/>
          <p:cNvSpPr/>
          <p:nvPr/>
        </p:nvSpPr>
        <p:spPr>
          <a:xfrm>
            <a:off x="3348000" y="162864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寻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4"/>
          <p:cNvSpPr/>
          <p:nvPr/>
        </p:nvSpPr>
        <p:spPr>
          <a:xfrm>
            <a:off x="4067280" y="242100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享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3"/>
          <p:cNvSpPr/>
          <p:nvPr/>
        </p:nvSpPr>
        <p:spPr>
          <a:xfrm>
            <a:off x="395280" y="333360"/>
            <a:ext cx="435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 u="sng">
                <a:solidFill>
                  <a:srgbClr val="ff0066"/>
                </a:solidFill>
                <a:uFillTx/>
                <a:latin typeface="Arial"/>
                <a:ea typeface="方正舒体"/>
              </a:rPr>
              <a:t>主旨探究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755640" y="2492280"/>
            <a:ext cx="75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运用对比手法，婉转而含蓄的表达了对草原的喜爱。在对草原的独特的情感基础上，抒发了对生命的富有哲理性的感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2" descr="912f147533f15d8202f669a3f5bbc970[1]"/>
          <p:cNvPicPr/>
          <p:nvPr/>
        </p:nvPicPr>
        <p:blipFill>
          <a:blip r:embed="rId1"/>
          <a:stretch/>
        </p:blipFill>
        <p:spPr>
          <a:xfrm>
            <a:off x="-120600" y="0"/>
            <a:ext cx="9399600" cy="702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1" dur="5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Picture 2" descr="51929_c2[1]"/>
          <p:cNvPicPr/>
          <p:nvPr/>
        </p:nvPicPr>
        <p:blipFill>
          <a:blip r:embed="rId1"/>
          <a:stretch/>
        </p:blipFill>
        <p:spPr>
          <a:xfrm>
            <a:off x="1440" y="-6480"/>
            <a:ext cx="9142560" cy="689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9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1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" dur="5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4" name="Picture 2" descr="200891711405494016[1]"/>
          <p:cNvPicPr/>
          <p:nvPr/>
        </p:nvPicPr>
        <p:blipFill>
          <a:blip r:embed="rId1"/>
          <a:stretch/>
        </p:blipFill>
        <p:spPr>
          <a:xfrm>
            <a:off x="0" y="-37152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0"/>
                            </p:stCondLst>
                            <p:childTnLst>
                              <p:par>
                                <p:cTn id="42" nodeType="after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3" dur="5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Picture 2" descr="20080812092516[1]"/>
          <p:cNvPicPr/>
          <p:nvPr/>
        </p:nvPicPr>
        <p:blipFill>
          <a:blip r:embed="rId1"/>
          <a:stretch/>
        </p:blipFill>
        <p:spPr>
          <a:xfrm>
            <a:off x="0" y="-9360"/>
            <a:ext cx="9288360" cy="6895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0"/>
                            </p:stCondLst>
                            <p:childTnLst>
                              <p:par>
                                <p:cTn id="53" nodeType="afterEffect" fill="hold" presetClass="exit" presetID="21" presetSubtype="3">
                                  <p:stCondLst>
                                    <p:cond delay="0"/>
                                  </p:stCondLst>
                                  <p:childTnLst>
                                    <p:animEffect filter="wheel(3)" transition="out">
                                      <p:cBhvr additive="repl">
                                        <p:cTn id="54" dur="5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8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1243302875zmnCeFZy[1]"/>
          <p:cNvPicPr/>
          <p:nvPr/>
        </p:nvPicPr>
        <p:blipFill>
          <a:blip r:embed="rId1"/>
          <a:stretch/>
        </p:blipFill>
        <p:spPr>
          <a:xfrm>
            <a:off x="14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5" dur="5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7888320" y="44280"/>
            <a:ext cx="1185840" cy="66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走近作者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3" descr="图片1"/>
          <p:cNvPicPr/>
          <p:nvPr/>
        </p:nvPicPr>
        <p:blipFill>
          <a:blip r:embed="rId1"/>
          <a:stretch/>
        </p:blipFill>
        <p:spPr>
          <a:xfrm>
            <a:off x="7165800" y="3575160"/>
            <a:ext cx="1978200" cy="3241440"/>
          </a:xfrm>
          <a:prstGeom prst="rect">
            <a:avLst/>
          </a:prstGeom>
          <a:ln w="0">
            <a:noFill/>
          </a:ln>
        </p:spPr>
      </p:pic>
      <p:sp>
        <p:nvSpPr>
          <p:cNvPr id="589" name="Text Box 4"/>
          <p:cNvSpPr/>
          <p:nvPr/>
        </p:nvSpPr>
        <p:spPr>
          <a:xfrm>
            <a:off x="0" y="260280"/>
            <a:ext cx="7165800" cy="44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鲍尔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原野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生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国著名的蒙古族作家、儿童作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著有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感录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脱口而出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，散文集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百变人生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酒到唇边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善良是一棵矮树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》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、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《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思想起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“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草原三剑客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腾格尔、朝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3333ff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作品特点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豪放、幽默、睿智、细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0" y="1557360"/>
            <a:ext cx="2303640" cy="1099440"/>
          </a:xfrm>
          <a:prstGeom prst="rect">
            <a:avLst/>
          </a:prstGeom>
          <a:solidFill>
            <a:srgbClr val="990099">
              <a:alpha val="63000"/>
            </a:srgbClr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66"/>
                </a:solidFill>
                <a:latin typeface="Arial"/>
                <a:ea typeface="幼圆"/>
              </a:rPr>
              <a:t>释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206360" y="0"/>
            <a:ext cx="7937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敕勒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学习，我们看本文所写的内容和敕勒歌有何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何理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静默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320760" y="2781360"/>
            <a:ext cx="882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本文景物描写较少了，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楷体_GB2312"/>
                <a:ea typeface="楷体_GB2312"/>
              </a:rPr>
              <a:t>更侧重于抒情、感悟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者是以感悟为主，是在对草原的一种独特的情感基础上，抒发了对生命的富有哲理性的感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草原是辽远的苍茫的。一个人，站在在草原上，可以任意遐想，悟出一些我们以前根本没悟出的哲理。这时的草原是静的，也就是作者所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静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1:04:38Z</dcterms:created>
  <dc:creator>第一PPT模板网-WWW.1PPT.COM</dc:creator>
  <dc:description>第一PPT模板网-WWW.1PPT.COM
</dc:description>
  <cp:keywords>第一PPT模板网-WWW.1PPT.COM</cp:keywords>
  <dc:language>en-US</dc:language>
  <cp:lastModifiedBy>微软用户</cp:lastModifiedBy>
  <cp:lastPrinted>1899-12-30T00:00:00Z</cp:lastPrinted>
  <dcterms:modified xsi:type="dcterms:W3CDTF">2015-11-02T08:09:22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