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81A6-3E8B-40C1-AEA7-C6A5FC399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60BC-7E26-478B-AAA6-D22383E6D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C56EF2-D785-4925-8A93-FD40B38AA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DF79CE-DED6-40C9-A210-9EF1E9EDD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C65368-E552-4489-8141-AF2AE907C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892372-6020-4022-80D9-A428DDD5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ABAF92-12E6-435B-BD6C-E5E410D37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F2D094-9D58-4D2B-A2E6-AEC8004C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3B8904-2EB7-4BB8-81D8-F8ABBDBC3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DA10B3-8F51-4F03-9036-6C48DC573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2BEECB-02A9-43AC-961B-3F224E76B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C325F5-5E09-4BD1-894B-C43663EE7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3131-9F58-4248-B55B-DB38CEF7E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6BC69B-0644-477F-9A97-0BE37B9E9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76FC1A-F2D8-4CED-825A-9BE7E5967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DB2EB1-3CB5-4538-AFAF-89EFC3899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ADC8D7-E03B-482B-9092-9E69545EB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AAAEAC-89F8-4DEA-A05F-CCE09CC96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69F59B-72D4-4254-9349-27DA9CC60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E673D0-E28B-4880-B18D-C60360EB2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AEEDFF-BE6C-4C9C-82A9-673998178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6E55B0-3E67-48A9-B8DA-A991A0361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ABA903-5184-45E5-B3B7-0E5F66B39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C489-07A1-4060-B726-87AB4781B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EEC83B-9E55-4EA1-8ACF-A2AE8684C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645C96-FF87-40FF-8824-28F949362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4399D2-9C07-405F-A3CF-A3B152D3E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EFBB51-0327-4863-863E-93D9E54CF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8520D4-AE96-4218-9DAC-AC512E05D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2ABA67-12EF-47F6-A931-C02BCAC0A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D71679-6641-4FD2-99FB-280677FBD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82267D-10ED-47A8-9250-0FB0E5173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6AB15B-3E9E-4484-A28B-8D56E43C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285469-B17A-4375-AA7A-2A046221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97ADF-B9D2-4AB1-8F13-6F6800E10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8826D9-4EDA-49E2-AAEA-6BEBC4E04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63D70C-7B64-4AD1-ABF1-E3F18E539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7617BF-6F04-48A2-B7A3-E8A3A986A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922519-73FA-4749-B02A-29E0154C6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E4DC5E-78FF-4027-8495-85A54823F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DDDF07-276E-45FC-9AD0-575C4A7F7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BC1AF4-43DD-471E-B9A2-CE32B3968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2FC144-A8ED-4D6B-890F-D16FDC914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4B56D9-1E2F-46EC-9FCD-782EBC423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64BED0-AF80-4865-8515-4B92752D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C0B77-5380-4AFF-B3F5-4A3DAF239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0081BD-D61F-4AFB-BC01-1EDC0BA1D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4A11A2-BAF9-4AA1-8406-6D09943D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A5E5BA-E54B-46FD-B10E-FB7296F3F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835393-2E9E-4376-8257-99B46CA78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41D37D-FF16-4A19-8317-1D906416C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EA82B7-D8DC-49AD-A9FE-B6BF50148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DC53A7-F160-4CCD-B203-55FAC361F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F048A2-F55D-495E-8A93-68D979B2A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90EA98-CFDD-434E-AA90-49973E124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8B3CCB-0986-4B2C-A1D7-C892050CC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FD15C-B02B-4D52-A940-8C1560B88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6AD16E-84D3-410A-82BA-B868EF24E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720120-81DE-4155-83DD-124AF8F7E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26B3F0-AEE9-4218-9177-C295680E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E93EC8-D99B-44C3-BC03-E0F901293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80107B-BE48-4091-9D39-8057B4990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14EBC1-6FBC-4EE5-92E6-DC9CFF003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80A568-C8E3-4926-B67E-878B65EF4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0BB3B8-1C50-4C7A-9796-42B6E788C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E27C2E-900C-464D-A8C3-4D114E907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9CA000-839E-4922-BCC2-8AE94F947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12E4A-EDB8-421E-9123-E40E2ABDF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4B7497-0FB4-4793-B0C4-E8C74C517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96F9D3-7053-4F18-B38E-FF6BA9E0E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9D335A-D7A5-40CE-9101-F64EEE6E8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5D6711-1BBD-4B71-B4A2-82065B9C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B37EA9-5364-489F-A5AA-9A1F1C858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14407B-B593-4C8D-BFF2-C94C51090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3B4004-3154-4D89-8F3A-EEDF4440B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1D23A7-F59B-46EC-A1BE-D57E89DB6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AD0228-08D9-4DF3-8896-805DE1699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A1374-7350-40A5-9B33-B7C50E8E4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4FAB4-3F17-4848-AB98-7F4A243DB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288E2-C06F-40D6-9146-A7203959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90C9-4922-4C99-B36C-34909C08E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B5CBC-C023-41C3-A91C-D18C8F1C3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4AF79-AE0C-42BB-97AA-11BF51684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15D68-AAA7-46ED-89CE-661A7D3B0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0DD60-93F6-4EC2-94CC-2D0F32781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C75F3-10CE-4F82-B0B8-5BB71254A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F2839-7D37-459B-8E8D-EC4807FDF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FE2BC-1801-4C09-8BF7-7E0A3A308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03F78-2A4E-44D5-A6D1-07A9D91DF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E9BD2-5BD8-40BD-A0AB-5AD785850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96680-303A-4033-84CD-15E6D90D1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645C-7941-477E-8488-EEF334A57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1D11F-545C-4F13-9BC2-832A347C6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B8556-7CA0-4CFB-A659-2E9DED6D9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4E263-5DB9-4F19-98A0-A181B469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84C90-5469-49DC-BC79-75BDC15C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A4003-683E-4D0B-A85D-6452C1E66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D24BA-E305-43BA-85BC-CB8082E1D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26135-EEB9-4034-A030-F96DFCE19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EDE84-E7EB-4EA9-8970-4A403963D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17FE0-2E04-4034-BEE4-D27E085FA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68C95-8AAD-4057-8A95-AD58BBF67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F61C-F550-4F14-AAA3-9704F3F4A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5DD00-08F4-436D-A175-619ACA1DF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82224-7D83-4E26-A60E-EE9E672F4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D1F84-3788-4B62-93AB-3CDFE9DDB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1A802-FCF5-4BFD-B7C5-7B4D20DAF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66112-FDA2-4788-B8E7-87924473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019EE-24B3-4CA7-9936-35B8845E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8BF6C-41DE-4C4A-BE5A-014EB86A7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33114-74FD-461F-8AFE-328378F80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54D05-D35B-4CE2-A0D6-82BE1AE55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B78FD3-03A7-4823-ACB6-B3D8AC5DA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806A-79C9-41CC-9E90-2FEF338B9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CA5F1B-CB34-43F9-BAF0-5B791D790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9235E7-0DD6-471D-B25D-00FD9623F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E03A40-FBE0-41F3-8055-3279ABF8B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2B0BCE-2060-4CDF-9C0D-2D6760116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6741A-A779-4B35-AA8F-14F1BBD11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F2C825-520B-4271-8EEB-376A294FD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003004-53B5-4881-9C23-3239182E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9B9D3-24A2-4DA8-98F0-E495E38D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13563E-D681-454C-851D-9B5D318A8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C361B-7064-4E4E-9901-EBFF913D8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C120-8029-428E-8CBE-87043315E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C7A6C9-861F-4A78-8684-EFB0EB420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3275EB-A55D-497C-9141-48DCBAFD0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818C70-EF45-4731-8BA6-3CA5094CB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54E495-D9DF-42F4-A7B0-1B12D843A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A515C7-C378-41A0-ABE9-42833932A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A7BFE9-F904-42E1-8674-E7C411597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1E0CE8-6E4D-4F34-B8A8-C8ED5EC59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6B5647-2275-464D-9980-7B6FF4E9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1E13D0-0722-4CDD-B136-CF1862EB5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8B3C5F-E8E5-44D9-8431-4A55E25BB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C7FD-59A4-4750-B7A4-F3A2ADAF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E4236-4F76-43B7-B9D1-55C8F0771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8AFCDC-FE94-42A1-A54B-517CD724E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50A31D-0BC2-4873-A911-E2DDCAC64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31B4D5-513A-4CC2-8F29-AC8FBAE80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560B61-86BA-4C00-BC6F-BB6A78CF7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8A694D-727D-4E9A-A104-2EF8320AB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43A553-AA4E-488A-852D-BBC07A2E3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369763-C4AD-4CEC-9856-F589511CB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7A5DE7-E68A-4DE2-8976-8821E4CD4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361E77-A517-4317-B725-8208515C3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28CF-1B38-4AE7-B27D-862C30B4C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E04053-B245-4FED-B346-26D4FF2A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443539-6233-43E7-B651-828AD9D9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A900AD-85C8-4D5B-A95B-042B2C240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2A53DB-6A4C-4E04-A12A-F366FBF71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5F14C3-EDF3-46C5-B5E6-6408A7E98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D12FD5-D661-444B-92FE-6DFEA569D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00D0AF-FD29-4705-B793-6881A9179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BC3711-9912-4193-AEBF-36F0E099D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16F27B-D849-4E64-89A8-EC717499A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AA00F9-9507-482C-A527-4FD1C100F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5583-54A3-45A9-859A-AA1539D84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6E759D-1468-436B-B059-B063A19EC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F41D01-5F2F-44F6-BC95-A6E54CD17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587C08-5927-4241-8418-87EB05CD3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13FFCE-BF78-4357-89BD-1B0917EDD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21EFC8-0F16-4F04-9CE6-204945C3C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2B1D41-1CA1-4D2C-851A-305E90C4E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6AC991-42AD-40EB-9883-F10F68912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FE5E26-C9C3-42A1-9819-6C565F22C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2525D3-46EC-4097-A1C0-FC1A92485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7395EA-CA56-4F86-BBCA-4558DCF0E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FAF19-4692-4CA1-A803-3A04087505E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ED503-8D68-42EA-8C3E-566BC50E0A3B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7D972-414F-429F-9F18-C8F27147FA9A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56C37-A6FA-4538-AB10-C0A609667B3D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A9EA6-A138-425E-B5CE-FD7B55AB1667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C95F4-4EB9-4ADD-BFCA-DFD9F20875E4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7BA45-760E-4E92-B12A-3D359DC27CC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95BBD-AC3E-44A3-B067-1D50C38F445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86A71-1C7A-4F7B-B34B-81BA81B8640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C811D-C91F-498B-9CFE-D9CC5BAFB45E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D4E33-477D-4F55-8E0B-6CBCBDE5CD4D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8B673-EE0B-400C-A707-411307999743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7C1C3-CB27-4E38-A5AD-578DA1B81DEA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3A24F-4DFC-4EA4-865C-16C14D0FA5D2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Picture 2" descr="2008519168511_2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5" name="WordArt 3"/>
          <p:cNvSpPr txBox="1"/>
          <p:nvPr/>
        </p:nvSpPr>
        <p:spPr>
          <a:xfrm>
            <a:off x="1692360" y="981000"/>
            <a:ext cx="5904000" cy="17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8000"/>
                </a:solidFill>
                <a:latin typeface="隶书"/>
              </a:rPr>
              <a:t>静默草原</a:t>
            </a:r>
            <a:endParaRPr b="0" lang="en-US" sz="4800" spc="-1" strike="noStrike">
              <a:ln w="9360">
                <a:solidFill>
                  <a:srgbClr val="ffff00"/>
                </a:solidFill>
                <a:miter/>
              </a:ln>
              <a:solidFill>
                <a:srgbClr val="008000"/>
              </a:solidFill>
              <a:latin typeface="隶书"/>
              <a:ea typeface="隶书"/>
            </a:endParaRPr>
          </a:p>
        </p:txBody>
      </p:sp>
      <p:sp>
        <p:nvSpPr>
          <p:cNvPr id="576" name="Text Box 4"/>
          <p:cNvSpPr/>
          <p:nvPr/>
        </p:nvSpPr>
        <p:spPr>
          <a:xfrm>
            <a:off x="2844720" y="1917720"/>
            <a:ext cx="424980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5"/>
          <p:cNvSpPr/>
          <p:nvPr/>
        </p:nvSpPr>
        <p:spPr>
          <a:xfrm>
            <a:off x="3127320" y="1949400"/>
            <a:ext cx="2525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6"/>
          <p:cNvSpPr/>
          <p:nvPr/>
        </p:nvSpPr>
        <p:spPr>
          <a:xfrm>
            <a:off x="4284720" y="3284640"/>
            <a:ext cx="322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鲍尔吉</a:t>
            </a:r>
            <a:r>
              <a:rPr b="0" lang="en-US" sz="36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·</a:t>
            </a:r>
            <a:r>
              <a:rPr b="0" lang="zh-CN" sz="36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原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矩形 6"/>
          <p:cNvSpPr/>
          <p:nvPr/>
        </p:nvSpPr>
        <p:spPr>
          <a:xfrm>
            <a:off x="4489560" y="5877000"/>
            <a:ext cx="309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3"/>
          <p:cNvSpPr/>
          <p:nvPr/>
        </p:nvSpPr>
        <p:spPr>
          <a:xfrm>
            <a:off x="250920" y="2276640"/>
            <a:ext cx="8893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鲍     前瞻    簇立    迥然不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摩挲   面颊    长鬃      翡翠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嘤     衣襟    咆哮      冥想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4"/>
          <p:cNvSpPr/>
          <p:nvPr/>
        </p:nvSpPr>
        <p:spPr>
          <a:xfrm>
            <a:off x="2987640" y="249228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5"/>
          <p:cNvSpPr/>
          <p:nvPr/>
        </p:nvSpPr>
        <p:spPr>
          <a:xfrm>
            <a:off x="4643280" y="249228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6"/>
          <p:cNvSpPr/>
          <p:nvPr/>
        </p:nvSpPr>
        <p:spPr>
          <a:xfrm>
            <a:off x="6877080" y="242100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7"/>
          <p:cNvSpPr/>
          <p:nvPr/>
        </p:nvSpPr>
        <p:spPr>
          <a:xfrm>
            <a:off x="971640" y="414972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8"/>
          <p:cNvSpPr/>
          <p:nvPr/>
        </p:nvSpPr>
        <p:spPr>
          <a:xfrm>
            <a:off x="2987640" y="407664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9"/>
          <p:cNvSpPr/>
          <p:nvPr/>
        </p:nvSpPr>
        <p:spPr>
          <a:xfrm>
            <a:off x="5219640" y="414972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10"/>
          <p:cNvSpPr/>
          <p:nvPr/>
        </p:nvSpPr>
        <p:spPr>
          <a:xfrm>
            <a:off x="7451640" y="407664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11"/>
          <p:cNvSpPr/>
          <p:nvPr/>
        </p:nvSpPr>
        <p:spPr>
          <a:xfrm>
            <a:off x="468360" y="566100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12"/>
          <p:cNvSpPr/>
          <p:nvPr/>
        </p:nvSpPr>
        <p:spPr>
          <a:xfrm>
            <a:off x="2987640" y="566100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13"/>
          <p:cNvSpPr/>
          <p:nvPr/>
        </p:nvSpPr>
        <p:spPr>
          <a:xfrm>
            <a:off x="4643280" y="566100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14"/>
          <p:cNvSpPr/>
          <p:nvPr/>
        </p:nvSpPr>
        <p:spPr>
          <a:xfrm>
            <a:off x="5219640" y="566100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15"/>
          <p:cNvSpPr/>
          <p:nvPr/>
        </p:nvSpPr>
        <p:spPr>
          <a:xfrm>
            <a:off x="7451640" y="566100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16"/>
          <p:cNvSpPr/>
          <p:nvPr/>
        </p:nvSpPr>
        <p:spPr>
          <a:xfrm>
            <a:off x="395280" y="242100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17"/>
          <p:cNvSpPr/>
          <p:nvPr/>
        </p:nvSpPr>
        <p:spPr>
          <a:xfrm>
            <a:off x="181080" y="1700280"/>
            <a:ext cx="109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bà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18"/>
          <p:cNvSpPr/>
          <p:nvPr/>
        </p:nvSpPr>
        <p:spPr>
          <a:xfrm>
            <a:off x="2558160" y="1628640"/>
            <a:ext cx="147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zhān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19"/>
          <p:cNvSpPr/>
          <p:nvPr/>
        </p:nvSpPr>
        <p:spPr>
          <a:xfrm>
            <a:off x="4503240" y="1628640"/>
            <a:ext cx="106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cù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20"/>
          <p:cNvSpPr/>
          <p:nvPr/>
        </p:nvSpPr>
        <p:spPr>
          <a:xfrm>
            <a:off x="6516720" y="1628640"/>
            <a:ext cx="1366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jiǒng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21"/>
          <p:cNvSpPr/>
          <p:nvPr/>
        </p:nvSpPr>
        <p:spPr>
          <a:xfrm>
            <a:off x="826920" y="3284640"/>
            <a:ext cx="106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suō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22"/>
          <p:cNvSpPr/>
          <p:nvPr/>
        </p:nvSpPr>
        <p:spPr>
          <a:xfrm>
            <a:off x="2845440" y="3213000"/>
            <a:ext cx="99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jiá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23"/>
          <p:cNvSpPr/>
          <p:nvPr/>
        </p:nvSpPr>
        <p:spPr>
          <a:xfrm>
            <a:off x="4935240" y="3284640"/>
            <a:ext cx="145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zōng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24"/>
          <p:cNvSpPr/>
          <p:nvPr/>
        </p:nvSpPr>
        <p:spPr>
          <a:xfrm>
            <a:off x="7236000" y="3284640"/>
            <a:ext cx="122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fěi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25"/>
          <p:cNvSpPr/>
          <p:nvPr/>
        </p:nvSpPr>
        <p:spPr>
          <a:xfrm>
            <a:off x="58320" y="4869000"/>
            <a:ext cx="111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yī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26"/>
          <p:cNvSpPr/>
          <p:nvPr/>
        </p:nvSpPr>
        <p:spPr>
          <a:xfrm>
            <a:off x="2759400" y="4941720"/>
            <a:ext cx="77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jī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27"/>
          <p:cNvSpPr/>
          <p:nvPr/>
        </p:nvSpPr>
        <p:spPr>
          <a:xfrm>
            <a:off x="4141080" y="4941720"/>
            <a:ext cx="200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páo xià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28"/>
          <p:cNvSpPr/>
          <p:nvPr/>
        </p:nvSpPr>
        <p:spPr>
          <a:xfrm>
            <a:off x="6950880" y="4869000"/>
            <a:ext cx="128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mí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29"/>
          <p:cNvSpPr/>
          <p:nvPr/>
        </p:nvSpPr>
        <p:spPr>
          <a:xfrm>
            <a:off x="120600" y="216000"/>
            <a:ext cx="4380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Arial"/>
                <a:ea typeface="幼圆"/>
              </a:rPr>
              <a:t>检查预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Text Box 4"/>
          <p:cNvSpPr/>
          <p:nvPr/>
        </p:nvSpPr>
        <p:spPr>
          <a:xfrm>
            <a:off x="168120" y="155520"/>
            <a:ext cx="4550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Arial"/>
                <a:ea typeface="幼圆"/>
              </a:rPr>
              <a:t>感知课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5"/>
          <p:cNvSpPr/>
          <p:nvPr/>
        </p:nvSpPr>
        <p:spPr>
          <a:xfrm>
            <a:off x="539640" y="1413000"/>
            <a:ext cx="8080560" cy="35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舒缓的语气阅读课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思考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草原的特点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者伫立草原，产生了那些感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用笔划出来，和同学交流一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Text Box 3"/>
          <p:cNvSpPr/>
          <p:nvPr/>
        </p:nvSpPr>
        <p:spPr>
          <a:xfrm>
            <a:off x="396720" y="2349360"/>
            <a:ext cx="40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草原的特点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4"/>
          <p:cNvSpPr/>
          <p:nvPr/>
        </p:nvSpPr>
        <p:spPr>
          <a:xfrm>
            <a:off x="395280" y="4365720"/>
            <a:ext cx="319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产生的感受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AutoShape 5"/>
          <p:cNvSpPr/>
          <p:nvPr/>
        </p:nvSpPr>
        <p:spPr>
          <a:xfrm>
            <a:off x="3635280" y="2349360"/>
            <a:ext cx="505080" cy="935280"/>
          </a:xfrm>
          <a:custGeom>
            <a:avLst/>
            <a:gdLst>
              <a:gd name="textAreaLeft" fmla="*/ 322920 w 505080"/>
              <a:gd name="textAreaRight" fmla="*/ 505440 w 505080"/>
              <a:gd name="textAreaTop" fmla="*/ 0 h 935280"/>
              <a:gd name="textAreaBottom" fmla="*/ 935640 h 93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5400" y="10800"/>
                  <a:pt x="0" y="10800"/>
                </a:cubicBezTo>
                <a:cubicBezTo>
                  <a:pt x="54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6"/>
          <p:cNvSpPr/>
          <p:nvPr/>
        </p:nvSpPr>
        <p:spPr>
          <a:xfrm>
            <a:off x="4429080" y="1844640"/>
            <a:ext cx="376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辽远、苍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7"/>
          <p:cNvSpPr/>
          <p:nvPr/>
        </p:nvSpPr>
        <p:spPr>
          <a:xfrm>
            <a:off x="4429080" y="2852640"/>
            <a:ext cx="402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看不到、看不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AutoShape 8"/>
          <p:cNvSpPr/>
          <p:nvPr/>
        </p:nvSpPr>
        <p:spPr>
          <a:xfrm>
            <a:off x="3637080" y="4149720"/>
            <a:ext cx="144360" cy="1368360"/>
          </a:xfrm>
          <a:custGeom>
            <a:avLst/>
            <a:gdLst>
              <a:gd name="textAreaLeft" fmla="*/ 92160 w 144360"/>
              <a:gd name="textAreaRight" fmla="*/ 144360 w 14436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9"/>
          <p:cNvSpPr/>
          <p:nvPr/>
        </p:nvSpPr>
        <p:spPr>
          <a:xfrm>
            <a:off x="4429080" y="3933720"/>
            <a:ext cx="34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自由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10"/>
          <p:cNvSpPr/>
          <p:nvPr/>
        </p:nvSpPr>
        <p:spPr>
          <a:xfrm>
            <a:off x="4429080" y="4797360"/>
            <a:ext cx="323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不自由、局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0" fill="hold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0" fill="hold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3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3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3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Text Box 3"/>
          <p:cNvSpPr/>
          <p:nvPr/>
        </p:nvSpPr>
        <p:spPr>
          <a:xfrm>
            <a:off x="684360" y="1628640"/>
            <a:ext cx="77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读课文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1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－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2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段   思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4"/>
          <p:cNvSpPr/>
          <p:nvPr/>
        </p:nvSpPr>
        <p:spPr>
          <a:xfrm>
            <a:off x="1332000" y="3284640"/>
            <a:ext cx="525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5"/>
          <p:cNvSpPr/>
          <p:nvPr/>
        </p:nvSpPr>
        <p:spPr>
          <a:xfrm>
            <a:off x="755640" y="3068640"/>
            <a:ext cx="7956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一段只有一句话，是什么句式 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设问句，引起读者的好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6"/>
          <p:cNvSpPr/>
          <p:nvPr/>
        </p:nvSpPr>
        <p:spPr>
          <a:xfrm>
            <a:off x="168120" y="155520"/>
            <a:ext cx="4550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Arial"/>
                <a:ea typeface="幼圆"/>
              </a:rPr>
              <a:t>精读课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2000"/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读课文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3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－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6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段，思考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1532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作者在这里运用了什么修辞手法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</a:rPr>
              <a:t>草原的景观与他处的风景相比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</a:rPr>
              <a:t>蒙古牧人看草原风景的方式与城里人看草原风景的方式相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蒙古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想在眼里装填一些苍茫。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 该如何理解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</a:rPr>
              <a:t>苍茫是草原人面对草原的一种心情，一种感受，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在眼里装填一些苍茫，实际上是用心去体会草原。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6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6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6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6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齐读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7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—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8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段。思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为什么草原具有看不到与看不尽这两种特点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</a:rPr>
              <a:t>草原是辽阔无边的，所以看不到也看不尽。而草原的变化多端，就使得我们无法抓住草原得某一特点，所以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</a:rPr>
              <a:t>看不到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</a:rPr>
              <a:t>；因为变化多端，我们可以看到草原各种各样的特点，所以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</a:rPr>
              <a:t>看不尽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读课文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9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——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10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段 ，思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1532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草原在单一中呈现丰富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单一与丰富是否矛盾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</a:rPr>
              <a:t>不矛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草原与大海一样在单一中呈现丰富，那二者又有什么区别呢？用了什么写法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</a:rPr>
              <a:t>从观海者的不同角度（岸上、船上），比较出草原的另一特点：中心不定和可接触性，再进一步指出草原的辽远与苍茫，和给人的亲切感。对比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6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50920" y="-170280"/>
            <a:ext cx="85406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学生齐读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11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—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12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段 思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15328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在草原上，辽阔首先给人以自由感，第二个感觉是不自由，也可以说局促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该如何理解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</a:rPr>
              <a:t>因为它太广阔了，无遮无拦，因而首先带给人以自由感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</a:rPr>
              <a:t>但是，在旷远天地的面前，人只会觉得自己如此渺小与微不足道，产生一种局促感、不自由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如何理解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段最后一句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</a:rPr>
              <a:t>人被突然放置在大自然面前，显得那样渺小，由此感受大自然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</a:rPr>
              <a:t>草原的博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6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/>
          </p:nvPr>
        </p:nvSpPr>
        <p:spPr>
          <a:xfrm>
            <a:off x="395280" y="1125360"/>
            <a:ext cx="815328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思考：如何理解作者将自己比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母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烈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</a:rPr>
              <a:t>母牛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</a:rPr>
              <a:t>品尝清水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</a:rPr>
              <a:t>温柔的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</a:rPr>
              <a:t>烈马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</a:rPr>
              <a:t>摩挲草尖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</a:rPr>
              <a:t>热烈的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这里运用了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</a:rPr>
              <a:t>比喻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修辞。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母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表达了作者对草原的温柔之爱，全身心投入的敬仰之爱；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烈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表达了作者对草原的火热的爱，不顾一切的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4"/>
          <p:cNvSpPr/>
          <p:nvPr/>
        </p:nvSpPr>
        <p:spPr>
          <a:xfrm>
            <a:off x="324000" y="260280"/>
            <a:ext cx="5236920" cy="764280"/>
          </a:xfrm>
          <a:prstGeom prst="rect">
            <a:avLst/>
          </a:prstGeom>
          <a:solidFill>
            <a:srgbClr val="ccffcc"/>
          </a:solidFill>
          <a:ln w="349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阅读第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13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段，讨论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66"/>
                </a:solidFill>
                <a:uFillTx/>
                <a:latin typeface="楷体_GB2312"/>
                <a:ea typeface="楷体_GB2312"/>
              </a:rPr>
              <a:t>分析课文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楷体_GB2312"/>
                <a:ea typeface="楷体_GB2312"/>
              </a:rPr>
              <a:t>14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  <a:ea typeface="楷体_GB2312"/>
              </a:rPr>
              <a:t>—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楷体_GB2312"/>
                <a:ea typeface="楷体_GB2312"/>
              </a:rPr>
              <a:t>15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楷体_GB2312"/>
                <a:ea typeface="楷体_GB2312"/>
              </a:rPr>
              <a:t>段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草原与我一样，也是善忘者，只在静默中观望未来。 该如何理解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黑体"/>
              </a:rPr>
              <a:t>这句话点明题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善忘实际上是对人生的豁达与洒脱，是一种对荣誉金钱地位等的不计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在静默中观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是一种坦然自若的不张扬的沉稳。观望未来需要我们用心去感受生活，永葆一颗纯净的心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2" descr="014[1]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pic>
        <p:nvPicPr>
          <p:cNvPr id="581" name="cymg.mp3" descr="cymg"/>
          <p:cNvPicPr/>
          <p:nvPr/>
        </p:nvPicPr>
        <p:blipFill>
          <a:blip r:embed="rId2"/>
          <a:stretch/>
        </p:blipFill>
        <p:spPr>
          <a:xfrm>
            <a:off x="250920" y="6093000"/>
            <a:ext cx="504720" cy="72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5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0"/>
                            </p:stCondLst>
                            <p:childTnLst>
                              <p:par>
                                <p:cTn id="9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0" dur="2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Text Box 3"/>
          <p:cNvSpPr/>
          <p:nvPr/>
        </p:nvSpPr>
        <p:spPr>
          <a:xfrm>
            <a:off x="122400" y="139680"/>
            <a:ext cx="4954320" cy="1099440"/>
          </a:xfrm>
          <a:prstGeom prst="rect">
            <a:avLst/>
          </a:prstGeom>
          <a:solidFill>
            <a:srgbClr val="99ff66">
              <a:alpha val="76000"/>
            </a:srgbClr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 u="sng">
                <a:solidFill>
                  <a:srgbClr val="ff0000"/>
                </a:solidFill>
                <a:uFillTx/>
                <a:latin typeface="Arial"/>
                <a:ea typeface="华文新魏"/>
              </a:rPr>
              <a:t>对比</a:t>
            </a:r>
            <a:r>
              <a:rPr b="0" lang="zh-CN" sz="6000" spc="-1" strike="noStrike">
                <a:solidFill>
                  <a:srgbClr val="990099"/>
                </a:solidFill>
                <a:latin typeface="Arial"/>
                <a:ea typeface="方正舒体"/>
              </a:rPr>
              <a:t>手法赏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4"/>
          <p:cNvSpPr/>
          <p:nvPr/>
        </p:nvSpPr>
        <p:spPr>
          <a:xfrm>
            <a:off x="611280" y="198900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文章为了表现草原的特点和自己的感受，多处运用了对比手法，找出文中运用对比手法的地方，和同学探讨一下他们的作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Text Box 2"/>
          <p:cNvSpPr/>
          <p:nvPr/>
        </p:nvSpPr>
        <p:spPr>
          <a:xfrm>
            <a:off x="152280" y="216000"/>
            <a:ext cx="3556080" cy="916920"/>
          </a:xfrm>
          <a:prstGeom prst="rect">
            <a:avLst/>
          </a:prstGeom>
          <a:solidFill>
            <a:srgbClr val="ffff00">
              <a:alpha val="58000"/>
            </a:srgbClr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Arial"/>
                <a:ea typeface="方正舒体"/>
              </a:rPr>
              <a:t>我的探究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3"/>
          <p:cNvSpPr/>
          <p:nvPr/>
        </p:nvSpPr>
        <p:spPr>
          <a:xfrm>
            <a:off x="725400" y="1486080"/>
            <a:ext cx="737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都市景色和草原景色的对比 ，  表现了草原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4"/>
          <p:cNvSpPr/>
          <p:nvPr/>
        </p:nvSpPr>
        <p:spPr>
          <a:xfrm>
            <a:off x="833400" y="3127320"/>
            <a:ext cx="7123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草原和大海的对比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海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草原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5"/>
          <p:cNvSpPr/>
          <p:nvPr/>
        </p:nvSpPr>
        <p:spPr>
          <a:xfrm>
            <a:off x="3635280" y="2060640"/>
            <a:ext cx="31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辽远而苍茫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6"/>
          <p:cNvSpPr/>
          <p:nvPr/>
        </p:nvSpPr>
        <p:spPr>
          <a:xfrm>
            <a:off x="2211480" y="3838680"/>
            <a:ext cx="639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观者在岸边，景色受到限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7"/>
          <p:cNvSpPr/>
          <p:nvPr/>
        </p:nvSpPr>
        <p:spPr>
          <a:xfrm>
            <a:off x="2268360" y="4797360"/>
            <a:ext cx="632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可以是草原的中心，草原的内涵更富有直观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Text Box 2"/>
          <p:cNvSpPr/>
          <p:nvPr/>
        </p:nvSpPr>
        <p:spPr>
          <a:xfrm>
            <a:off x="539640" y="620640"/>
            <a:ext cx="8363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牧人与城市人的比较，引入作者的感受：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城里的人大睁眼睛看草原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城市人是在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草原 ，牧人，却是在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草原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3"/>
          <p:cNvSpPr/>
          <p:nvPr/>
        </p:nvSpPr>
        <p:spPr>
          <a:xfrm>
            <a:off x="3348000" y="1628640"/>
            <a:ext cx="12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寻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4"/>
          <p:cNvSpPr/>
          <p:nvPr/>
        </p:nvSpPr>
        <p:spPr>
          <a:xfrm>
            <a:off x="4067280" y="242100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享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Text Box 3"/>
          <p:cNvSpPr/>
          <p:nvPr/>
        </p:nvSpPr>
        <p:spPr>
          <a:xfrm>
            <a:off x="395280" y="333360"/>
            <a:ext cx="435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 u="sng">
                <a:solidFill>
                  <a:srgbClr val="ff0066"/>
                </a:solidFill>
                <a:uFillTx/>
                <a:latin typeface="Arial"/>
                <a:ea typeface="方正舒体"/>
              </a:rPr>
              <a:t>主旨探究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4"/>
          <p:cNvSpPr/>
          <p:nvPr/>
        </p:nvSpPr>
        <p:spPr>
          <a:xfrm>
            <a:off x="755640" y="2492280"/>
            <a:ext cx="75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作者运用对比手法，婉转而含蓄的表达了对草原的喜爱。在对草原的独特的情感基础上，抒发了对生命的富有哲理性的感悟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2" descr="912f147533f15d8202f669a3f5bbc970[1]"/>
          <p:cNvPicPr/>
          <p:nvPr/>
        </p:nvPicPr>
        <p:blipFill>
          <a:blip r:embed="rId1"/>
          <a:stretch/>
        </p:blipFill>
        <p:spPr>
          <a:xfrm>
            <a:off x="-120600" y="0"/>
            <a:ext cx="9399600" cy="702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8" dur="5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1" dur="5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8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Picture 2" descr="51929_c2[1]"/>
          <p:cNvPicPr/>
          <p:nvPr/>
        </p:nvPicPr>
        <p:blipFill>
          <a:blip r:embed="rId1"/>
          <a:stretch/>
        </p:blipFill>
        <p:spPr>
          <a:xfrm>
            <a:off x="1440" y="-6480"/>
            <a:ext cx="9142560" cy="689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9" dur="5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1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2" dur="5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8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2" descr="200891711405494016[1]"/>
          <p:cNvPicPr/>
          <p:nvPr/>
        </p:nvPicPr>
        <p:blipFill>
          <a:blip r:embed="rId1"/>
          <a:stretch/>
        </p:blipFill>
        <p:spPr>
          <a:xfrm>
            <a:off x="0" y="-371520"/>
            <a:ext cx="9144000" cy="754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0" dur="5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0"/>
                            </p:stCondLst>
                            <p:childTnLst>
                              <p:par>
                                <p:cTn id="42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3" dur="5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8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2" descr="20080812092516[1]"/>
          <p:cNvPicPr/>
          <p:nvPr/>
        </p:nvPicPr>
        <p:blipFill>
          <a:blip r:embed="rId1"/>
          <a:stretch/>
        </p:blipFill>
        <p:spPr>
          <a:xfrm>
            <a:off x="0" y="-9360"/>
            <a:ext cx="9288360" cy="689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" dur="5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0"/>
                            </p:stCondLst>
                            <p:childTnLst>
                              <p:par>
                                <p:cTn id="53" nodeType="afterEffect" fill="hold" presetClass="exit" presetID="21" presetSubtype="3">
                                  <p:stCondLst>
                                    <p:cond delay="0"/>
                                  </p:stCondLst>
                                  <p:childTnLst>
                                    <p:animEffect filter="wheel(3)" transition="out">
                                      <p:cBhvr additive="repl">
                                        <p:cTn id="54" dur="5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8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Picture 2" descr="1243302875zmnCeFZy[1]"/>
          <p:cNvPicPr/>
          <p:nvPr/>
        </p:nvPicPr>
        <p:blipFill>
          <a:blip r:embed="rId1"/>
          <a:stretch/>
        </p:blipFill>
        <p:spPr>
          <a:xfrm>
            <a:off x="1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0"/>
                            </p:stCondLst>
                            <p:childTnLst>
                              <p:par>
                                <p:cTn id="6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5" dur="5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ext Box 2"/>
          <p:cNvSpPr/>
          <p:nvPr/>
        </p:nvSpPr>
        <p:spPr>
          <a:xfrm>
            <a:off x="7888320" y="44280"/>
            <a:ext cx="1185840" cy="66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Arial"/>
                <a:ea typeface="幼圆"/>
              </a:rPr>
              <a:t>走近作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cture 3" descr="图片1"/>
          <p:cNvPicPr/>
          <p:nvPr/>
        </p:nvPicPr>
        <p:blipFill>
          <a:blip r:embed="rId1"/>
          <a:stretch/>
        </p:blipFill>
        <p:spPr>
          <a:xfrm>
            <a:off x="7165800" y="3575160"/>
            <a:ext cx="1978200" cy="3241440"/>
          </a:xfrm>
          <a:prstGeom prst="rect">
            <a:avLst/>
          </a:prstGeom>
          <a:ln w="0">
            <a:noFill/>
          </a:ln>
        </p:spPr>
      </p:pic>
      <p:sp>
        <p:nvSpPr>
          <p:cNvPr id="589" name="Text Box 4"/>
          <p:cNvSpPr/>
          <p:nvPr/>
        </p:nvSpPr>
        <p:spPr>
          <a:xfrm>
            <a:off x="0" y="260280"/>
            <a:ext cx="7165800" cy="44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鲍尔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野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58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生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国著名的蒙古族作家、儿童作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3333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3333ff"/>
                </a:solidFill>
                <a:uFillTx/>
                <a:latin typeface="楷体_GB2312"/>
                <a:ea typeface="楷体_GB2312"/>
              </a:rPr>
              <a:t>著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随感录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脱口而出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》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，散文集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《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百变人生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》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、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《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酒到唇边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》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、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《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善良是一棵矮树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》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、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《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思想起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3333ff"/>
                </a:solidFill>
                <a:uFillTx/>
                <a:latin typeface="Arial"/>
                <a:ea typeface="楷体_GB2312"/>
              </a:rPr>
              <a:t>“</a:t>
            </a:r>
            <a:r>
              <a:rPr b="1" lang="zh-CN" sz="3200" spc="-1" strike="noStrike" u="sng">
                <a:solidFill>
                  <a:srgbClr val="3333ff"/>
                </a:solidFill>
                <a:uFillTx/>
                <a:latin typeface="楷体_GB2312"/>
                <a:ea typeface="楷体_GB2312"/>
              </a:rPr>
              <a:t>草原三剑客</a:t>
            </a:r>
            <a:r>
              <a:rPr b="1" lang="zh-CN" sz="3200" spc="-1" strike="noStrike" u="sng">
                <a:solidFill>
                  <a:srgbClr val="3333ff"/>
                </a:solidFill>
                <a:uFillTx/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：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腾格尔、朝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3333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3333ff"/>
                </a:solidFill>
                <a:uFillTx/>
                <a:latin typeface="楷体_GB2312"/>
                <a:ea typeface="楷体_GB2312"/>
              </a:rPr>
              <a:t>作品特点：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豪放、幽默、睿智、细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ext Box 2"/>
          <p:cNvSpPr/>
          <p:nvPr/>
        </p:nvSpPr>
        <p:spPr>
          <a:xfrm>
            <a:off x="0" y="1557360"/>
            <a:ext cx="2303640" cy="1099440"/>
          </a:xfrm>
          <a:prstGeom prst="rect">
            <a:avLst/>
          </a:prstGeom>
          <a:solidFill>
            <a:srgbClr val="990099">
              <a:alpha val="63000"/>
            </a:srgbClr>
          </a:solid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Arial"/>
                <a:ea typeface="幼圆"/>
              </a:rPr>
              <a:t>释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3"/>
          <p:cNvSpPr/>
          <p:nvPr/>
        </p:nvSpPr>
        <p:spPr>
          <a:xfrm>
            <a:off x="1206360" y="0"/>
            <a:ext cx="79376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敕勒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学习，我们看本文所写的内容和敕勒歌有何不同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何理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静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4"/>
          <p:cNvSpPr/>
          <p:nvPr/>
        </p:nvSpPr>
        <p:spPr>
          <a:xfrm>
            <a:off x="320760" y="2781360"/>
            <a:ext cx="8823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文景物描写较少了，</a:t>
            </a:r>
            <a:r>
              <a:rPr b="1" lang="zh-CN" sz="3200" spc="-1" strike="noStrike" u="sng">
                <a:solidFill>
                  <a:srgbClr val="3333ff"/>
                </a:solidFill>
                <a:uFillTx/>
                <a:latin typeface="楷体_GB2312"/>
                <a:ea typeface="楷体_GB2312"/>
              </a:rPr>
              <a:t>更侧重于抒情、感悟。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者是以感悟为主，是在对草原的一种独特的情感基础上，抒发了对生命的富有哲理性的感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草原是辽远的苍茫的。一个人，站在在草原上，可以任意遐想，悟出一些我们以前根本没悟出的哲理。这时的草原是静的，也就是作者所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默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11:04:38Z</dcterms:created>
  <dc:creator>第一PPT模板网-WWW.1PPT.COM</dc:creator>
  <dc:description>第一PPT模板网-WWW.1PPT.COM
</dc:description>
  <cp:keywords>第一PPT模板网-WWW.1PPT.COM</cp:keywords>
  <dc:language>en-US</dc:language>
  <cp:lastModifiedBy>微软用户</cp:lastModifiedBy>
  <cp:lastPrinted>1899-12-30T00:00:00Z</cp:lastPrinted>
  <dcterms:modified xsi:type="dcterms:W3CDTF">2015-11-02T08:09:22Z</dcterms:modified>
  <cp:revision>1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60</vt:lpwstr>
  </property>
</Properties>
</file>