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1E9-5B79-4C45-82C5-2251DDA4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B78-DEB1-403C-B82F-45F41F81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85405-AF99-470A-B4EF-DDB01B79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BF70B-9FE9-4FBB-A568-8643B531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C44A8-EE23-4CF0-94F6-D90074DC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B2208-5E3B-4A09-BDEF-B5BB4FE9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39354-3CAA-4EB0-9713-64B4E1EA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5BE00-583C-4A35-B224-D37428E6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594E6-2474-4024-A02A-37D6D63A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88AB4-FCE6-4E46-9E1F-43E5840C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BB8DA-6D37-46BD-9BE8-575CC7BF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52A6B-5100-435E-A7A6-DBF951BD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FE8-836E-4E12-BEFF-1DB3588C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B95AD-E058-4DFD-A4BD-A586B6D9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DA387-CF12-45A9-BAA7-5C4E7813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34EEC-E08E-4D27-8CEC-3A6CF465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DA558-530F-47F9-B47E-F193B906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A02AB-0900-4B6D-BBC6-1F3865BB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3702C-81EB-44D1-8704-FA94DA38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81451-E922-4428-81A3-316FBF49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52CEF-E43C-4BE3-9589-F50794D4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EF127-F66A-4523-AFD1-8BD10E46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A3868-FAB5-4502-949E-8FD70F4C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9D2-CCAA-4F81-8271-7558F02E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34DDC-8D53-4077-9BAB-5FF2A08C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0827C-E27C-4232-BA32-B3B9AA2A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E238D-0DB8-4CC4-BBFA-2A2E11CD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E2761-5B07-4E2C-B2ED-E5ABAC12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B3D0D-4082-45DC-8F66-73C371E9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1454D-F40F-4F02-977D-FE7D8F4B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C4AE2-7A6C-4AAB-B7A3-CE8F7A09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FE472-16AB-478F-B3A4-1572B297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2E5A6-3411-4D98-A6BA-256A1D22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FCCB1-86E9-44B4-BE84-53942D7B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D8D7-EC7F-4B53-9F4B-D0AFF3D2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908A1-A1EE-4935-8627-05A96C6D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1DA7F-AA8E-4ECB-8C2A-1768A665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F697E-5E26-4D1C-A3A6-C3FDF8FA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68587-BA85-4526-8719-F3DEC691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BC0BD-082B-4F43-B33F-90969B97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F38DC-869F-4B8F-9DFE-75FE6CBA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FE4E3-D2D0-4DA5-ABDE-4F71C3A6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E7CF0-745A-4824-A92C-034B4741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A117F-38C7-4178-83DB-0AE03D99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1CE7E-F715-4CF7-A1EA-BE99FFE2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0668-0CC5-4181-9C39-E8CFE664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63A2A-2D33-4FF8-8D7E-B8920A72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87AE9-6BD1-4B34-B895-1AEE7687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ACDA4-4432-45AA-8F5B-348F09E8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095F6-8A96-492F-9F11-9436F84C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31D7E-FD8A-4795-9662-24BFEC3D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924B2-73EB-48E2-BC70-2BE9FCB0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F9A70-A865-409F-B80B-1E4319E7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36E9A-649E-4683-B614-0C636156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E1A9E-C8D4-4F32-8FEE-C6429AC7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01FCB-4C80-495B-B083-EEB044C2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9BB2-88F0-4279-AC83-27B961F2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DE883-9BE5-47DA-B29C-366A8D56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6D52B-A881-4695-8B0F-6524DF5B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7A748-C6CC-4D55-9A99-BB9CA878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5B06A-8028-4962-822D-F7B3A342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7FFDD-F3C7-45EB-B262-2E0FA803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6B532-4378-4D23-B436-0EC3DF92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4F1D4-1580-44C6-B52F-5CDBB945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3B201-A5C0-48D2-9360-B95E3B56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EE107-4F8C-497F-BBD2-65BD1548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48C83-B61C-48B3-8E45-38C081E0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B91D-8EB0-4AD9-918F-BC189874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15B592-4666-4006-9F6C-81ABD5CD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116E5-4F87-41D5-A5DF-EC5792D1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4373DF-6063-41EA-98C1-204BA127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E615D-52F7-4A9E-A10C-76AAD3F8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66A70-DB22-4E46-AFE0-686E7A98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53F3B0-5095-426A-8BB9-70A86781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2B3094-F4A4-4950-98BB-1FB3D5C7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0A3E9E-54B0-4A9C-8A00-3CDD39F8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91888-3C3D-43F1-824C-23B837F6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3372-6EBB-4185-89BC-630381E2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09BD-C4AF-4292-B252-438CEDBA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AE7A-AB08-4AD3-8357-E45E87DD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5249-79C3-45E9-88B0-B103BDB5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C002-84A6-46CF-A1F1-D8DC526C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AB0D-28A1-4316-87F6-AAAD4B0B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02B9-E7FC-4AAE-9611-F44C6722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100C-CFEF-426E-9EDC-535857C6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6710-6E71-4553-A592-32B16230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B4AF4-E635-4F7E-BEB1-39F8BC69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F5854-9F4E-4134-971B-3C3CAC26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24C7B-4BA0-4B64-A76F-ACA9020A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D499B-859A-442F-82B5-4977E05A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ADD42-CCCB-4848-91D4-A3B1ECC9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7273-40DF-4258-BB8E-7D42AB33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DC19-9B11-4CE5-B68A-50CB3563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C0B00-739B-48EE-8F3D-1F72A4D9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48651-9FD8-422D-B0D7-D479829C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7D80-8C58-4C92-8CE3-606FFC1F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4EE93-74BE-4000-92D0-578739F9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F303-F7C5-4583-A5C8-C723A432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E8CF-956E-42E0-85CE-DF464E45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8133C-A3CA-456D-9B28-DE443C86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4B5E-3CB5-4531-A528-CA6E8295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9E610-5490-4AB2-A023-8DEBBF57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8E36-B4CA-41BE-B9C2-EA2370BA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39257-37A1-435E-A247-69AEFEF9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C630D-C945-4BC2-9103-62510EA3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32CE7-1CDE-4203-B7B1-BBAC3276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0A4FA-EB17-4C22-8355-CFABF58D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FE875-D8F3-41F1-A8C7-B54AFE59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3A4EF-315E-4FBF-BFB0-58150673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3140B-85F1-4950-8116-25ACD02A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4ABD2-07C3-40A7-9CF5-2206BB08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3F71C-F765-438D-87D6-AE906D56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6505F-8862-4E44-906F-09C86BAE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C5D-B7DE-4D42-8E49-A8A38D03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F09D6-CF51-4C0B-9C20-C4616194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C259A-97D2-403F-B232-6680B2BA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DD593-7A9E-4E98-B696-43C8A604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98BBF-8EBB-4A6F-8E78-1A2DAF02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34D7F-3011-47FE-8C4A-CAE79CDD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BCFED-8404-48A5-9A2E-36018CB5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FAA60-BDA1-4B3F-9A45-371FECF9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E8A7C-B7CB-4991-8605-21B478C3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07438-C746-4B63-905A-0CCE781F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276CC-CDD7-4259-A074-4B418679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807-62F6-41F4-BC4A-78307887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EAB5C-9714-4559-925C-B60CD642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51446-93F1-4644-A44C-53C21532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DEEA5-D9D5-46EC-827C-927D354D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D2405-1F57-46B9-A2DD-F3EEEAA8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1766C-8CAB-44C6-8689-63683548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82665-46F3-4F69-8C77-3DDE54D8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9956E-92BE-4E77-9573-704A6F08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A0F65-B318-43DF-94D3-D2AA95C2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4FAE4-F424-479A-8248-49C02303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8CB63-EE93-415F-A471-FCD8B741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150-EB68-49B1-9D27-DFFB9C70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B9E7F-6DF6-4960-AA55-BE34E7BA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0A41F-4E0C-42CD-AEBB-60281ADF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E5C15-A30F-4660-8C40-1BE086EA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3A818-616A-4200-8D21-1AE846BD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7B45D-C4F2-4AE5-8E4B-16318439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9B0B0-8490-4094-B0CE-B6AC723B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2F1A1-8CD0-429F-BE89-E7A5F75C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6C6CE-5690-46F0-A715-7EB9E1AD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A70CF-1418-4870-BFA2-10AB770D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44D4B-84A2-47C0-B4BA-61BB0BFC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134-F8C4-4652-B51D-4C9ED551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E9961-E3CE-4B2B-8BB8-22CF40FC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35947-832B-4154-9FC2-86C6D41E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4A39D-8184-4A66-B85F-5502B942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83E59-5787-4C6F-87A2-8597D3F5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C1371-BAC5-441D-9D26-C1894B88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57458-6D25-47AF-A7BA-740EA08A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66223-F13C-4B3D-A621-A16BE8C7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DEF72-0E50-4AEC-BC94-1C086AF7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C0325-D89D-4AB5-AD8B-1BB99F27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4385F-8801-44DC-9D3B-3E22FEBB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794-44AD-4504-AB18-543C0F19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65BC3-8B3E-4581-861B-60A8EF42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A4F0E-97A2-4561-9C35-C49B8937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47A0E-EDC7-4B04-AD6B-805A599F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47242-14B0-437A-B614-8E309B24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DDF3B-9610-4DEA-A288-03BF9646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7AA3D-07CD-43D5-B379-5D5A85A1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B9949-4F05-4FE4-BD20-08164387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807A3-DAD9-4457-AAAD-5E8D65DB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91207-0445-4869-A7E4-7C6B4D18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38C12-B394-4899-8001-9BC64B67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4BD9-5AB0-4289-8F19-A4E6E7D51A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5BD1-C70A-48FE-AA75-D8A93BBFD53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2E34-280C-4773-AAE9-47FB4C5CCD3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ABB8-C02E-4A66-83F6-65949527CA1C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A676-798F-467A-B02A-3EF58F6502F1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09D5-A50E-4C1B-A6BE-D38EFF86C54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14CB-DE3E-46FC-8A8A-94E00ECA2A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6AB4-AA4E-43A6-A428-8299480B06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EBE5-7473-4B05-9338-FACF3A0E07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92B9-29C0-4272-AA96-608F8A91B6C0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CA16-4B1C-43F0-85A1-FC9B05C26E64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1A55-EB72-4C21-A06B-541BF41B9061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273D-2EE5-4DF3-8318-831F0D9058A0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4A04-CC3D-4C53-80A1-09CFFE6E3E0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2008519168511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>
            <a:off x="1692360" y="981000"/>
            <a:ext cx="590400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隶书"/>
              </a:rPr>
              <a:t>静默草原</a:t>
            </a:r>
            <a:endParaRPr b="0" lang="en-US" sz="4800" spc="-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隶书"/>
              <a:ea typeface="隶书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2844720" y="1917720"/>
            <a:ext cx="424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3127320" y="1949400"/>
            <a:ext cx="2525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4284720" y="328464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鲍尔吉</a:t>
            </a:r>
            <a:r>
              <a:rPr b="0" lang="en-US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·</a:t>
            </a: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原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"/>
          <p:cNvSpPr/>
          <p:nvPr/>
        </p:nvSpPr>
        <p:spPr>
          <a:xfrm>
            <a:off x="4489560" y="587700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250920" y="2276640"/>
            <a:ext cx="8893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     前瞻    簇立    迥然不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摩挲   面颊    长鬃      翡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嘤     衣襟    咆哮      冥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2987640" y="2492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4643280" y="2492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6877080" y="242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971640" y="414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2987640" y="40766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5219640" y="414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7451640" y="40766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46836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"/>
          <p:cNvSpPr/>
          <p:nvPr/>
        </p:nvSpPr>
        <p:spPr>
          <a:xfrm>
            <a:off x="2987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3"/>
          <p:cNvSpPr/>
          <p:nvPr/>
        </p:nvSpPr>
        <p:spPr>
          <a:xfrm>
            <a:off x="464328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219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7451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395280" y="242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7"/>
          <p:cNvSpPr/>
          <p:nvPr/>
        </p:nvSpPr>
        <p:spPr>
          <a:xfrm>
            <a:off x="181080" y="1700280"/>
            <a:ext cx="10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à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2558160" y="162864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zhā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4503240" y="1628640"/>
            <a:ext cx="10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ù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0"/>
          <p:cNvSpPr/>
          <p:nvPr/>
        </p:nvSpPr>
        <p:spPr>
          <a:xfrm>
            <a:off x="6516720" y="1628640"/>
            <a:ext cx="136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ǒng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1"/>
          <p:cNvSpPr/>
          <p:nvPr/>
        </p:nvSpPr>
        <p:spPr>
          <a:xfrm>
            <a:off x="826920" y="328464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uō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2845440" y="321300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á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3"/>
          <p:cNvSpPr/>
          <p:nvPr/>
        </p:nvSpPr>
        <p:spPr>
          <a:xfrm>
            <a:off x="4935240" y="328464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zōng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4"/>
          <p:cNvSpPr/>
          <p:nvPr/>
        </p:nvSpPr>
        <p:spPr>
          <a:xfrm>
            <a:off x="7236000" y="3284640"/>
            <a:ext cx="122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fěi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5"/>
          <p:cNvSpPr/>
          <p:nvPr/>
        </p:nvSpPr>
        <p:spPr>
          <a:xfrm>
            <a:off x="58320" y="4869000"/>
            <a:ext cx="11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yī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6"/>
          <p:cNvSpPr/>
          <p:nvPr/>
        </p:nvSpPr>
        <p:spPr>
          <a:xfrm>
            <a:off x="2759400" y="494172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7"/>
          <p:cNvSpPr/>
          <p:nvPr/>
        </p:nvSpPr>
        <p:spPr>
          <a:xfrm>
            <a:off x="4141080" y="4941720"/>
            <a:ext cx="20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áo xi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8"/>
          <p:cNvSpPr/>
          <p:nvPr/>
        </p:nvSpPr>
        <p:spPr>
          <a:xfrm>
            <a:off x="6950880" y="486900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í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9"/>
          <p:cNvSpPr/>
          <p:nvPr/>
        </p:nvSpPr>
        <p:spPr>
          <a:xfrm>
            <a:off x="120600" y="216000"/>
            <a:ext cx="438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检查预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4"/>
          <p:cNvSpPr/>
          <p:nvPr/>
        </p:nvSpPr>
        <p:spPr>
          <a:xfrm>
            <a:off x="168120" y="155520"/>
            <a:ext cx="455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感知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539640" y="1413000"/>
            <a:ext cx="80805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舒缓的语气阅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的特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伫立草原，产生了那些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用笔划出来，和同学交流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3"/>
          <p:cNvSpPr/>
          <p:nvPr/>
        </p:nvSpPr>
        <p:spPr>
          <a:xfrm>
            <a:off x="396720" y="2349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草原的特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395280" y="4365720"/>
            <a:ext cx="319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产生的感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3635280" y="2349360"/>
            <a:ext cx="505080" cy="935280"/>
          </a:xfrm>
          <a:custGeom>
            <a:avLst/>
            <a:gdLst>
              <a:gd name="textAreaLeft" fmla="*/ 322920 w 505080"/>
              <a:gd name="textAreaRight" fmla="*/ 505440 w 5050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4429080" y="1844640"/>
            <a:ext cx="37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辽远、苍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4429080" y="2852640"/>
            <a:ext cx="40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看不到、看不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3637080" y="414972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4429080" y="3933720"/>
            <a:ext cx="34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自由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429080" y="4797360"/>
            <a:ext cx="32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自由、局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3"/>
          <p:cNvSpPr/>
          <p:nvPr/>
        </p:nvSpPr>
        <p:spPr>
          <a:xfrm>
            <a:off x="684360" y="162864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  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332000" y="3284640"/>
            <a:ext cx="52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755640" y="3068640"/>
            <a:ext cx="79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段只有一句话，是什么句式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设问句，引起读者的好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168120" y="155520"/>
            <a:ext cx="455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精读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6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，思考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153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作者在这里运用了什么修辞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草原的景观与他处的风景相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蒙古牧人看草原风景的方式与城里人看草原风景的方式相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蒙古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想在眼里装填一些苍茫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该如何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苍茫是草原人面对草原的一种心情，一种感受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在眼里装填一些苍茫，实际上是用心去体会草原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齐读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7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8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。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为什么草原具有看不到与看不尽这两种特点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草原是辽阔无边的，所以看不到也看不尽。而草原的变化多端，就使得我们无法抓住草原得某一特点，所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看不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；因为变化多端，我们可以看到草原各种各样的特点，所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看不尽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9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0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，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在单一中呈现丰富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单一与丰富是否矛盾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不矛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与大海一样在单一中呈现丰富，那二者又有什么区别呢？用了什么写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从观海者的不同角度（岸上、船上），比较出草原的另一特点：中心不定和可接触性，再进一步指出草原的辽远与苍茫，和给人的亲切感。对比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50920" y="-170280"/>
            <a:ext cx="85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学生齐读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1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15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草原上，辽阔首先给人以自由感，第二个感觉是不自由，也可以说局促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因为它太广阔了，无遮无拦，因而首先带给人以自由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但是，在旷远天地的面前，人只会觉得自己如此渺小与微不足道，产生一种局促感、不自由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如何理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段最后一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人被突然放置在大自然面前，显得那样渺小，由此感受大自然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草原的博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思考：如何理解作者将自己比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品尝清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温柔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摩挲草尖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热烈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这里运用了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比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修辞。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表达了作者对草原的温柔之爱，全身心投入的敬仰之爱；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表达了作者对草原的火热的爱，不顾一切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324000" y="260280"/>
            <a:ext cx="5236920" cy="764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阅读第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，讨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分析课文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14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15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与我一样，也是善忘者，只在静默中观望未来。 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</a:rPr>
              <a:t>这句话点明题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善忘实际上是对人生的豁达与洒脱，是一种对荣誉金钱地位等的不计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静默中观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一种坦然自若的不张扬的沉稳。观望未来需要我们用心去感受生活，永葆一颗纯净的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014[1]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581" name="cymg.mp3" descr="cymg"/>
          <p:cNvPicPr/>
          <p:nvPr/>
        </p:nvPicPr>
        <p:blipFill>
          <a:blip r:embed="rId2"/>
          <a:stretch/>
        </p:blipFill>
        <p:spPr>
          <a:xfrm>
            <a:off x="250920" y="6093000"/>
            <a:ext cx="504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3"/>
          <p:cNvSpPr/>
          <p:nvPr/>
        </p:nvSpPr>
        <p:spPr>
          <a:xfrm>
            <a:off x="122400" y="139680"/>
            <a:ext cx="4954320" cy="1099440"/>
          </a:xfrm>
          <a:prstGeom prst="rect">
            <a:avLst/>
          </a:prstGeom>
          <a:solidFill>
            <a:srgbClr val="99ff66">
              <a:alpha val="76000"/>
            </a:srgbClr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对比</a:t>
            </a:r>
            <a:r>
              <a:rPr b="0" lang="zh-CN" sz="6000" spc="-1" strike="noStrike">
                <a:solidFill>
                  <a:srgbClr val="990099"/>
                </a:solidFill>
                <a:latin typeface="Arial"/>
                <a:ea typeface="方正舒体"/>
              </a:rPr>
              <a:t>手法赏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611280" y="19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文章为了表现草原的特点和自己的感受，多处运用了对比手法，找出文中运用对比手法的地方，和同学探讨一下他们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52280" y="216000"/>
            <a:ext cx="3556080" cy="916920"/>
          </a:xfrm>
          <a:prstGeom prst="rect">
            <a:avLst/>
          </a:prstGeom>
          <a:solidFill>
            <a:srgbClr val="ffff00">
              <a:alpha val="58000"/>
            </a:srgbClr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方正舒体"/>
              </a:rPr>
              <a:t>我的探究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25400" y="1486080"/>
            <a:ext cx="73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市景色和草原景色的对比 ，  表现了草原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833400" y="3127320"/>
            <a:ext cx="712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草原和大海的对比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3635280" y="2060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辽远而苍茫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211480" y="3838680"/>
            <a:ext cx="63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观者在岸边，景色受到限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2268360" y="4797360"/>
            <a:ext cx="63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可以是草原的中心，草原的内涵更富有直观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539640" y="620640"/>
            <a:ext cx="836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牧人与城市人的比较，引入作者的感受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里的人大睁眼睛看草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人是在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 ，牧人，却是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3348000" y="1628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寻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4067280" y="2421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享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395280" y="333360"/>
            <a:ext cx="43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ff0066"/>
                </a:solidFill>
                <a:uFillTx/>
                <a:latin typeface="Arial"/>
                <a:ea typeface="方正舒体"/>
              </a:rPr>
              <a:t>主旨探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755640" y="249228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者运用对比手法，婉转而含蓄的表达了对草原的喜爱。在对草原的独特的情感基础上，抒发了对生命的富有哲理性的感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912f147533f15d8202f669a3f5bbc970[1]"/>
          <p:cNvPicPr/>
          <p:nvPr/>
        </p:nvPicPr>
        <p:blipFill>
          <a:blip r:embed="rId1"/>
          <a:stretch/>
        </p:blipFill>
        <p:spPr>
          <a:xfrm>
            <a:off x="-120600" y="0"/>
            <a:ext cx="9399600" cy="70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51929_c2[1]"/>
          <p:cNvPicPr/>
          <p:nvPr/>
        </p:nvPicPr>
        <p:blipFill>
          <a:blip r:embed="rId1"/>
          <a:stretch/>
        </p:blipFill>
        <p:spPr>
          <a:xfrm>
            <a:off x="1440" y="-6480"/>
            <a:ext cx="9142560" cy="689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200891711405494016[1]"/>
          <p:cNvPicPr/>
          <p:nvPr/>
        </p:nvPicPr>
        <p:blipFill>
          <a:blip r:embed="rId1"/>
          <a:stretch/>
        </p:blipFill>
        <p:spPr>
          <a:xfrm>
            <a:off x="0" y="-37152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0080812092516[1]"/>
          <p:cNvPicPr/>
          <p:nvPr/>
        </p:nvPicPr>
        <p:blipFill>
          <a:blip r:embed="rId1"/>
          <a:stretch/>
        </p:blipFill>
        <p:spPr>
          <a:xfrm>
            <a:off x="0" y="-9360"/>
            <a:ext cx="9288360" cy="68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21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wheel(3)" transition="out">
                                      <p:cBhvr additive="repl">
                                        <p:cTn id="54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1243302875zmnCeFZy[1]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7888320" y="44280"/>
            <a:ext cx="118584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走近作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3" descr="图片1"/>
          <p:cNvPicPr/>
          <p:nvPr/>
        </p:nvPicPr>
        <p:blipFill>
          <a:blip r:embed="rId1"/>
          <a:stretch/>
        </p:blipFill>
        <p:spPr>
          <a:xfrm>
            <a:off x="7165800" y="3575160"/>
            <a:ext cx="1978200" cy="32414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0" y="260280"/>
            <a:ext cx="716580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尔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野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著名的蒙古族作家、儿童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著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感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脱口而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散文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百变人生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酒到唇边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善良是一棵矮树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思想起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草原三剑客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腾格尔、朝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作品特点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豪放、幽默、睿智、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0" y="1557360"/>
            <a:ext cx="2303640" cy="1099440"/>
          </a:xfrm>
          <a:prstGeom prst="rect">
            <a:avLst/>
          </a:prstGeom>
          <a:solidFill>
            <a:srgbClr val="990099">
              <a:alpha val="63000"/>
            </a:srgbClr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释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1206360" y="0"/>
            <a:ext cx="7937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敕勒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学习，我们看本文所写的内容和敕勒歌有何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理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静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20760" y="2781360"/>
            <a:ext cx="88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景物描写较少了，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更侧重于抒情、感悟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是以感悟为主，是在对草原的一种独特的情感基础上，抒发了对生命的富有哲理性的感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是辽远的苍茫的。一个人，站在在草原上，可以任意遐想，悟出一些我们以前根本没悟出的哲理。这时的草原是静的，也就是作者所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1:04:3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cp:lastPrinted>1899-12-30T00:00:00Z</cp:lastPrinted>
  <dcterms:modified xsi:type="dcterms:W3CDTF">2015-11-02T08:09:22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