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971-9341-4855-9962-0DDC8EE4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5D0-129F-4F39-9F0E-D96A5E5A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55678-041C-426F-96FA-552D2BD5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14DF8-F8E6-4EDA-AB1E-7BEB396D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C10E9-5677-48B6-B430-201FA11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0AFB3-BDE2-49CD-BACC-3E42636B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57860-D3FB-4FD5-81BD-D1D0550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895D0-90E1-45B0-966B-43D9E31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D9FC3-8CDC-4910-A4CC-23770AC8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C504D-1CB2-4BDE-A9BE-B82938E5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02275-19B3-4A96-8B1D-DA78B397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4EFC1-6774-46D2-ADE0-E89F854A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7B0-9A10-4D71-82C0-C6976797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BBE0B-F9C1-49CB-A239-C9ED4EFB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B0D4B-4431-4B3A-B244-55EFE1D8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59EF9-FC39-4DDA-9802-BAADC0C5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28628-C6C6-4979-9E72-6E0AAB97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C9E8A-7597-458C-9AA9-BBB87652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9EBED-414B-4D33-894D-BCD74B18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BEDF5-7D77-4B64-8DE6-A250C774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B7C2D-6C22-486A-9265-4843FF18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7C20C-E506-467B-94BA-C712329A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CC066-BF55-42C7-8498-F9827765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B06-4D1A-4926-8B0F-876EE5ED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23B3B-EE37-4D9A-8A17-2665B904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A061F-DF16-46FB-9F9F-3F13C158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F32EF-EACD-4CCB-A70A-CCB65A6A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B6EEC-8E5E-4257-9D88-14E9C814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3BB49-8276-428F-B9A6-7E35B398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5F101-C20E-4C8A-8F8F-465D50C1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BB7B9-1E64-432D-B173-F2AF8457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A7873-D378-4FAE-868A-E15FE70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9C2A5-0A63-4128-AD65-6F6E3648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3DCF4-80E5-43A5-B2E9-94609943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4EFB-534F-4924-9AFC-7A4FBA87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1546F-E93D-4C76-9ED0-9432284F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72689-A557-41E5-B151-52A3EC0F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AB32B-CBAB-4B23-A5FC-130FEFC0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ED601-69E4-4238-826D-108863DD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81B62-7E93-4523-BB59-2B8EEC0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2E4FD-9F0C-4F2D-B35D-83727E63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A793-06D4-4FA5-AECF-96E8F325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2AD3E-2276-45BF-9C9C-8ABE5CA4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FD3AC-C931-426F-B18F-E9A58229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1A8E7-A5A7-418B-AA1A-68DF0C4F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2C43-212D-4049-B27E-BA99CA62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88F5E-8755-4680-B3F5-A89889C3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8E191-5674-4735-BDDD-D0E3812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03064-C02A-481E-A2DC-265C7A28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F7CE2-423A-40A5-9DB3-DB0921A4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9B547-33AD-4F8F-A270-33EDC0C5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23D13-5D51-4C6D-8696-D9F028FC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FEADD-0BD7-42CD-94D0-D58E8996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06DB1-C8B6-41F3-AC57-16F00516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9D0C4-00FE-45C6-B043-250A7641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4BEB9-5AD2-4C52-85D6-56126FA5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50F4-83E6-4F03-8042-2752F2F0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FFE52-3737-4622-8B21-17CB172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6103E-C21F-4F54-8E81-BDDCC31F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8AC35-1FBC-41E1-9C02-925C6CD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8A614-64F6-4923-B82B-86863DC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ED280-45AD-4331-8573-AB849B65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9643A-46D7-47EE-92AD-307A9B31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A38E6-62AE-4A1A-AFB3-1C013018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48F6A-A96C-4D6A-ACEE-67CF4640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04BD6-6A68-4F40-94BE-767B327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94627-BF2C-4934-8D92-AA999C62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6254-636A-427F-AF86-4B6464D4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BD7E0-EF0A-44C8-951C-C3D4A656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2D5DE-D5FF-45BD-8837-C7A53027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483BE-F3BB-437A-9854-3A5CCC38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75DA7-3847-44F7-8952-BA2C67E9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8E09C-5ABE-462B-8226-8C444DE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750C3-802C-4671-943F-726B2D3D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98F69-3010-4552-8A37-5F8D80D4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754C3-ED71-4039-9238-C1B0DD59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29E83-F2CA-414F-80AE-648F733A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13CE-859C-4CBF-ABA2-E3336EB1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406E-C557-4E1E-87C6-7FE3224C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0773-9F2B-4799-89B3-8C55F276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E45-9E19-415B-81C4-AC8EA904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35D7-32E7-44DC-8D49-395EA85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E923-FDBB-444B-8DC7-E0CA02D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6943-F473-4DA1-A63B-BC4D581C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81B7-1F89-4586-A9F0-06AAAD75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026E-9CD0-4551-AA16-F40978BD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7E4E-A3ED-453B-939D-F6B53C93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D04E-E212-43A0-9A1D-E343BC9B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44A4-A0C2-4F21-9CAD-5B89E4B4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4255-8A23-495A-A54C-ACD24996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6712-AB96-4BDA-8A7A-EEAFD14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3DE-AA3A-4FF8-82B8-A426EF2B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7F33-BB9B-4235-8CB4-C8AE9018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C2A7-D999-4C9C-B25D-947C949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B6DB-0507-4B1E-AC55-8F7EF379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4902-6AFD-46AB-8B69-8D9EFD40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85417-79B9-4B60-9104-BBE3A72A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31EA-6CD3-48B7-91AE-2B0DC4D6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49D4-751B-4498-A1AC-BB9FAED8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4B4A-2583-47F2-AF31-253510DD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8E70C-4AD2-4F8C-8421-EA2C652C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A222-BC06-488E-8354-D37B7423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ABC-F520-4FF9-8785-4B8E85C4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C060-870B-49A5-979F-6C73A313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7FC8-0B0B-4432-8BEA-A0BD8ED4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E9AE-C54D-4E64-8BC4-B069778F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3055-48B3-42B0-97D5-21DB0C8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77834-C5CD-4837-B707-5BEAB4E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4DBC3-61C2-4C5A-A4FD-40E309AE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84A3-5A6B-42AC-91E8-1D6A6543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34FA-B7FD-4359-8F3A-AF8F20E4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9C45-6A90-47BA-BC17-7410C62D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898A-99E6-4D95-96A6-36005425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1AA-CB53-4B61-A73F-1D92A6E5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50AC2-90F8-4FEB-9F8D-19D32466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8520-DBBD-4F35-9831-41EC19A9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FC7D-5E01-4BFB-A5ED-C97FF2BB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97C3-40A7-47A0-8A0D-3AB3D4DF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AA654-6EF2-42FA-9A69-7328FED5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CCC5-078D-445E-A516-3260DEA6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A4A00-5030-4CF6-ABCE-FC70196D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73F3D-5EBC-4509-9BEA-2318AC4A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8397-5D50-4F30-BA19-56DBF41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DD74-FFB4-4BE6-A567-77964DA8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F6A-E28B-433E-A305-5399E212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F3CC1-B7B7-4FFC-92B6-EF543010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95DC5-2B7F-4512-93AE-2BCE3100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5E3C8-44FF-4DCE-AC46-996E930B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05E8-17C8-4CE1-AE41-CA434BB0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7A5BB-87AF-4C2E-AA70-0CD42905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92CFA-7538-4880-A43A-72054D53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B240C-30B9-4EA7-A4CA-49A1C794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8A710-45C7-4734-961C-978472B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9B829-39C4-48BE-929B-8DE036E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B6CA-6381-4F01-B2BA-946D36C4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A7B-B6C8-47E1-BC9D-99C8583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537D-1D04-43AE-A771-FEF48EA3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2B70-39E6-43FC-AF49-55D34FAB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597B-0325-478F-BA02-C49A472D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634E8-62F1-4F36-9271-FED4ABFB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876A4-7D52-46C4-8A68-8EA290C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08799-49C9-4179-9364-C4EDA71E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B1595-90C8-4CD1-BA97-7ACCCECC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2F547-ECB1-4307-BF7D-E9D173E0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AA4DB-E370-4394-BA64-674F7901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64FA4-D7E5-4A43-AD6E-1462A779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637-ADB7-4260-A087-6F6CA941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826F-248F-4C3C-846E-E7E7258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50D22-38C5-4251-9147-45FBAAD5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93F6C-D5A6-46FD-8652-D076E700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93539-EC71-4138-AA2D-FBF749F3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9ACDE-810B-464B-9CFA-4A932559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DAE00-D077-40ED-BCF9-CCFB1D67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92523-3336-4B42-9CA5-B9650F7A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FBB7C-5944-4CEA-92AC-F34BB99E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26D08-501D-482C-885C-98BFBF84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CB21A-C3FD-4DF5-BCB1-6BD51AFB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F42-D76C-4CF8-9AAE-9D229D2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120E0-82D1-4525-A0A8-B34240F9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7BCA-4809-4DCE-B838-2BD8A7C3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F08E0-B342-43F2-A68A-F7B15CD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3AC12-2B11-45D7-8A37-FA8C2A8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D9315-C28D-4B41-8F4E-9CE2A9D5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1BE5-27D6-4C9B-82CA-F52458DF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B17AA-27E3-4CED-893E-C7CBBE38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32B3F-ED2A-4349-B157-F1AC1FF2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7E499-8574-47A2-A236-07978893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A34CE-B8F3-4A07-A2B8-04DBA6F5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3F98-5D24-4CE0-8C24-C49A55B36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A6F7-349B-4791-A4C7-5513E9BB9CD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72BE-64B1-4AC6-B907-B0E4DCF6E6A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1511-5501-4654-B0E8-0328841490C0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D607-E319-4B2D-92DF-F7425C593A5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35E3-5ACD-43A9-8939-8C46EE46DB2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2D0-63E2-4113-B3D6-94AD2D05AA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FCC6-3973-40B7-8A6C-1089E6D79E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F0E2-0BC0-400A-B9BE-6A7AE73134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3D43-C743-46CE-B9A4-85D12AFA8E55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6945-A47A-496F-BFD1-9736AD79F7C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661C-DF53-436C-8AFB-B4A55F3B0C7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6A2A-606B-4CB9-A744-B8B0FA2E128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53F6-13C4-4E08-977C-D086F8BC538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8519168511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1692360" y="981000"/>
            <a:ext cx="590400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隶书"/>
              </a:rPr>
              <a:t>静默草原</a:t>
            </a:r>
            <a:endParaRPr b="0" lang="en-US" sz="4800" spc="-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844720" y="1917720"/>
            <a:ext cx="424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127320" y="1949400"/>
            <a:ext cx="252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84720" y="328464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鲍尔吉</a:t>
            </a:r>
            <a:r>
              <a:rPr b="0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原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489560" y="58770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250920" y="2276640"/>
            <a:ext cx="8893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     前瞻    簇立    迥然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摩挲   面颊    长鬃      翡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嘤     衣襟    咆哮      冥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8764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464328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8770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971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987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5219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7451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46836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987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464328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219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7451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3952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181080" y="170028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à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2558160" y="162864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hā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4503240" y="16286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ù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6516720" y="1628640"/>
            <a:ext cx="13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ǒng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826920" y="32846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u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2845440" y="3213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4935240" y="3284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ō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7236000" y="328464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ěi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58320" y="486900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2759400" y="4941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4141080" y="4941720"/>
            <a:ext cx="20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áo x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6950880" y="486900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9"/>
          <p:cNvSpPr/>
          <p:nvPr/>
        </p:nvSpPr>
        <p:spPr>
          <a:xfrm>
            <a:off x="120600" y="216000"/>
            <a:ext cx="438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检查预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感知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39640" y="1413000"/>
            <a:ext cx="80805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舒缓的语气阅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伫立草原，产生了那些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笔划出来，和同学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39672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原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5280" y="4365720"/>
            <a:ext cx="31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的感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3635280" y="2349360"/>
            <a:ext cx="505080" cy="935280"/>
          </a:xfrm>
          <a:custGeom>
            <a:avLst/>
            <a:gdLst>
              <a:gd name="textAreaLeft" fmla="*/ 322920 w 505080"/>
              <a:gd name="textAreaRight" fmla="*/ 505440 w 5050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429080" y="1844640"/>
            <a:ext cx="37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辽远、苍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4429080" y="28526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不到、看不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3637080" y="414972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9080" y="3933720"/>
            <a:ext cx="34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自由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429080" y="479736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由、局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684360" y="162864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 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332000" y="3284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55640" y="306864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只有一句话，是什么句式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设问句，引起读者的好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精读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6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思考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15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作者在这里运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的景观与他处的风景相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蒙古牧人看草原风景的方式与城里人看草原风景的方式相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蒙古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想在眼里装填一些苍茫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苍茫是草原人面对草原的一种心情，一种感受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眼里装填一些苍茫，实际上是用心去体会草原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齐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。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什么草原具有看不到与看不尽这两种特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是辽阔无边的，所以看不到也看不尽。而草原的变化多端，就使得我们无法抓住草原得某一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；因为变化多端，我们可以看到草原各种各样的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，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在单一中呈现丰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单一与丰富是否矛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不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大海一样在单一中呈现丰富，那二者又有什么区别呢？用了什么写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从观海者的不同角度（岸上、船上），比较出草原的另一特点：中心不定和可接触性，再进一步指出草原的辽远与苍茫，和给人的亲切感。对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5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生齐读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草原上，辽阔首先给人以自由感，第二个感觉是不自由，也可以说局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因为它太广阔了，无遮无拦，因而首先带给人以自由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但是，在旷远天地的面前，人只会觉得自己如此渺小与微不足道，产生一种局促感、不自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段最后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人被突然放置在大自然面前，显得那样渺小，由此感受大自然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草原的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如何理解作者将自己比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品尝清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温柔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摩挲草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热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里运用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修辞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温柔之爱，全身心投入的敬仰之爱；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火热的爱，不顾一切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24000" y="260280"/>
            <a:ext cx="5236920" cy="764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阅读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分析课文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我一样，也是善忘者，只在静默中观望未来。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这句话点明题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善忘实际上是对人生的豁达与洒脱，是一种对荣誉金钱地位等的不计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静默中观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种坦然自若的不张扬的沉稳。观望未来需要我们用心去感受生活，永葆一颗纯净的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014[1]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cymg.mp3" descr="cymg"/>
          <p:cNvPicPr/>
          <p:nvPr/>
        </p:nvPicPr>
        <p:blipFill>
          <a:blip r:embed="rId2"/>
          <a:stretch/>
        </p:blipFill>
        <p:spPr>
          <a:xfrm>
            <a:off x="250920" y="6093000"/>
            <a:ext cx="50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122400" y="139680"/>
            <a:ext cx="4954320" cy="1099440"/>
          </a:xfrm>
          <a:prstGeom prst="rect">
            <a:avLst/>
          </a:prstGeom>
          <a:solidFill>
            <a:srgbClr val="99ff66">
              <a:alpha val="76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对比</a:t>
            </a: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方正舒体"/>
              </a:rPr>
              <a:t>手法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11280" y="19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为了表现草原的特点和自己的感受，多处运用了对比手法，找出文中运用对比手法的地方，和同学探讨一下他们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52280" y="216000"/>
            <a:ext cx="3556080" cy="916920"/>
          </a:xfrm>
          <a:prstGeom prst="rect">
            <a:avLst/>
          </a:prstGeom>
          <a:solidFill>
            <a:srgbClr val="ffff00">
              <a:alpha val="58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方正舒体"/>
              </a:rPr>
              <a:t>我的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25400" y="1486080"/>
            <a:ext cx="73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市景色和草原景色的对比 ，  表现了草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33400" y="3127320"/>
            <a:ext cx="712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草原和大海的对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635280" y="2060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辽远而苍茫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383868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观者在岸边，景色受到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2268360" y="4797360"/>
            <a:ext cx="63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可以是草原的中心，草原的内涵更富有直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9640" y="620640"/>
            <a:ext cx="836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牧人与城市人的比较，引入作者的感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里的人大睁眼睛看草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人是在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 ，牧人，却是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348000" y="162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寻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406728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享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395280" y="333360"/>
            <a:ext cx="43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0066"/>
                </a:solidFill>
                <a:uFillTx/>
                <a:latin typeface="Arial"/>
                <a:ea typeface="方正舒体"/>
              </a:rPr>
              <a:t>主旨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75564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对比手法，婉转而含蓄的表达了对草原的喜爱。在对草原的独特的情感基础上，抒发了对生命的富有哲理性的感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912f147533f15d8202f669a3f5bbc970[1]"/>
          <p:cNvPicPr/>
          <p:nvPr/>
        </p:nvPicPr>
        <p:blipFill>
          <a:blip r:embed="rId1"/>
          <a:stretch/>
        </p:blipFill>
        <p:spPr>
          <a:xfrm>
            <a:off x="-120600" y="0"/>
            <a:ext cx="93996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51929_c2[1]"/>
          <p:cNvPicPr/>
          <p:nvPr/>
        </p:nvPicPr>
        <p:blipFill>
          <a:blip r:embed="rId1"/>
          <a:stretch/>
        </p:blipFill>
        <p:spPr>
          <a:xfrm>
            <a:off x="1440" y="-6480"/>
            <a:ext cx="91425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891711405494016[1]"/>
          <p:cNvPicPr/>
          <p:nvPr/>
        </p:nvPicPr>
        <p:blipFill>
          <a:blip r:embed="rId1"/>
          <a:stretch/>
        </p:blipFill>
        <p:spPr>
          <a:xfrm>
            <a:off x="0" y="-37152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0080812092516[1]"/>
          <p:cNvPicPr/>
          <p:nvPr/>
        </p:nvPicPr>
        <p:blipFill>
          <a:blip r:embed="rId1"/>
          <a:stretch/>
        </p:blipFill>
        <p:spPr>
          <a:xfrm>
            <a:off x="0" y="-9360"/>
            <a:ext cx="9288360" cy="68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21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5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243302875zmnCeFZy[1]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888320" y="44280"/>
            <a:ext cx="118584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走近作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图片1"/>
          <p:cNvPicPr/>
          <p:nvPr/>
        </p:nvPicPr>
        <p:blipFill>
          <a:blip r:embed="rId1"/>
          <a:stretch/>
        </p:blipFill>
        <p:spPr>
          <a:xfrm>
            <a:off x="7165800" y="3575160"/>
            <a:ext cx="1978200" cy="32414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0" y="260280"/>
            <a:ext cx="716580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尔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野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著名的蒙古族作家、儿童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著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感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脱口而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散文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百变人生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酒到唇边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良是一棵矮树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思想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草原三剑客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腾格尔、朝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作品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豪放、幽默、睿智、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0" y="1557360"/>
            <a:ext cx="2303640" cy="1099440"/>
          </a:xfrm>
          <a:prstGeom prst="rect">
            <a:avLst/>
          </a:prstGeom>
          <a:solidFill>
            <a:srgbClr val="990099">
              <a:alpha val="63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释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206360" y="0"/>
            <a:ext cx="793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敕勒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，我们看本文所写的内容和敕勒歌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20760" y="2781360"/>
            <a:ext cx="88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景物描写较少了，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更侧重于抒情、感悟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以感悟为主，是在对草原的一种独特的情感基础上，抒发了对生命的富有哲理性的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是辽远的苍茫的。一个人，站在在草原上，可以任意遐想，悟出一些我们以前根本没悟出的哲理。这时的草原是静的，也就是作者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04:3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cp:lastPrinted>1899-12-30T00:00:00Z</cp:lastPrinted>
  <dcterms:modified xsi:type="dcterms:W3CDTF">2015-11-02T08:09:2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