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9431-3E46-4C03-B8ED-4446F989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1C7B-81C3-412A-A212-0B422E3F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B8965-B411-4965-BC4D-00692C26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C7E09-D8EA-4A72-B05E-A8E9AD9E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0715A-D864-48D1-B9B6-4E1964D0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61B72-4E99-47B7-B813-D66438C2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4176C-7BD4-4EA8-A796-923430A8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9F466-1003-4BA7-A08F-37AB19D8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228CB-5F9E-4FAF-9E00-4B94870A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98E7A-D077-41A9-9BEA-06A7DD64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A6CA2-A785-4B48-977D-E7FB39B84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0A959-38D4-4F3F-9244-27EB0EFE3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37D3-65D7-4E10-B905-2FA73DD23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33BD9-483E-4B7C-9E69-E24E70D9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A39FAA-32B6-4660-91C1-791A66D5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4BB90-FC3A-4E54-934C-E472E7FC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E3AD5-1D7C-454D-87A6-C9435AAD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1146C-DFD9-4C3C-953C-469A5C58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F3A40-8133-40D4-A4E5-3F2F31D1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08548-6ECA-4C9E-B6C6-1B9DAC88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4B162-5E94-4F52-9F0D-8F51001D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8CA0F7-6EBE-43F3-8553-37D6F6A9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4FB51-1F44-4EB8-9E8C-B49F8EA3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7C15-966F-437B-9432-30213D86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1C22F-91BD-46D6-A408-C28AB4A6E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25D9B-7969-4DED-A236-EA3AA78A8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34B53-14D6-4018-9B13-CBD795DF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93908-D1A6-4226-895A-738D0BAA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EBB15-C7C7-4F77-A93F-B631994D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31CF8-37A0-4B16-ACE5-DABCAB49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F9F85-38FB-499C-8DD4-6DFDE58E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E30B8-9C10-488C-978D-487664EA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72074-392A-4B94-B472-341E5D6A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445C2-7C96-492F-B829-2BB331AE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C06D-6C65-437A-AD21-0484B43F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37B67-193D-45B7-9E07-CA93C37B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F8107-179C-4064-91EA-46743698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E7F25-174A-41CE-BCA6-535916A3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0AF29-A037-4978-B22B-8E619AB8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3D7CF5-79A7-4EE9-943A-B93161B0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77E3E8-852D-4537-ADCE-ED774F4C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B6405-8D5E-4A27-8FE3-362E5AD5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EAA98F-8D87-427D-9F5C-AF957575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242CB-5DBC-4E21-94F6-7851382D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4EA458-3C28-4DD7-B481-DB7949D3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799E-0321-445F-82CE-61784752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8B548-8BEE-4F06-88C0-9A82C969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1C1C0-B20E-422A-9C8D-DAF4547B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60B71-EFA0-4863-9646-F40F0088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125DB-1062-49D8-839B-42D39708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1C209-783A-4E8F-BEE6-89A95C3D4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1B39C7-E182-4820-A873-14587FBC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22F3D7-CE7F-4094-8F1C-2721BDB9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04C91F-8A94-4068-ADA0-5FC05754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7A4250-E2E3-4C7D-AEC4-1714C3B2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9BED39-4939-4AAB-B752-324CEF90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3246-16D3-4C83-9106-D11CBD2F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23E0FC-59F4-45EC-8221-CD7013D5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00FA71-5E2B-48E5-AC3F-7167E6C6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A8A9A0-814C-4287-A732-68B88BB3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7DF488-BE73-4AB4-B1B4-3C8EE886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7BF599-E6A5-4C5D-BAFD-B435F85F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96178E-B665-4F92-9926-3E202BBB4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1487AB-304D-4989-A387-327DC37E0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85C169-57E0-4A22-A7D9-7895B8DC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A13C7D-45E6-438A-B913-A519F229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3B2F42-0B87-4DC5-A763-CD406746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787B-4D2F-4F14-A376-B62435D4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465E09-AEE8-4ADF-AAA3-C680BADA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5E37C2-3CC8-4043-B11A-2BFBEF49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007A14-8F8C-4A86-A5B2-A058881D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29F276-56D5-4E44-931A-ADD3A860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8C65FB-EE7E-43CD-A00A-39659251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3C4AE0-C23E-4739-8302-153D84B3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E54F47-5B16-4AB2-921B-6E4E7536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A814F3-9C34-40C1-BA9D-27B917434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17F835-8161-4497-994E-FD71830C4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BF3B-B183-4432-9FBC-22A1176D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D6AE-E50F-47E8-8CE8-171F701B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24B1-F345-445E-85BA-AA124DEC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9B30-284F-4453-B8FE-12FC9B84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59BE-B4C4-4EDF-AF24-BA938735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2961-8C08-4FB4-B8A9-2D390599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690C-E475-4F80-9419-90536624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B686-1F0E-40AA-9262-4292B626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181D-D7F0-44B7-8FB4-A411D692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D3EE9-A0CB-4907-92E9-7041EF3D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7BECF-7F70-4156-9C13-5763276D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DD26E-FEF3-45A9-BB3D-04477BFC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FF65E-8FBC-4D2C-88D1-D223E3C4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71162-E4BA-48E1-8D18-8D40586C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2972-7705-40C2-9C39-DE494D49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50394-5A10-47A6-B047-5117A7C1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E0851-C879-4AE6-A179-A7B742DB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636AA-CFA3-49B3-92E3-98AF9068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4A9F4-00B0-45B7-9E5A-3FB13860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C4DB0-AC48-43CE-99EA-ADD8EE7D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78331-A379-410B-B3BA-C1746CE2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F8431-22A6-4582-BB51-9B75FD2C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1AD21-B78B-448C-AB8A-3435ECFDB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D5A89-BADA-44DA-A9FD-648A1694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716CC-85EF-4140-8868-0DEBF2AE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98D0-BB5A-461E-BAB5-B33F55FC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FBA0C-DD63-459F-8FEE-20C13E24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6C018-5BBD-47FE-9636-8803B6D5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032D5-BF20-4170-97AD-4B1BACAC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750AC-8D22-4961-95E8-8EC6198F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5CE32-7313-4C65-BC03-747917EB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1C982-06FA-4EDC-8B72-97A8A3EA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ECFBE-B4C6-4158-8787-B944735C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70C6D-E719-44B3-BA84-2D2394409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4B084-8959-420D-95A8-9A2EA909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54B3B-1159-48DF-801F-3D77A7DCF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0834-A722-4EAE-AE75-24337005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2D49E-8377-42DB-8A6B-87F01CF1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3AE7D-AAEB-4D13-98F4-FEE93362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10D80-05F9-4B92-84D4-8CD8D3E0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40ED6-B254-4234-A1D8-E5BAEE96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6BF7D-8107-4C43-9983-36B88B3B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EC6A3-0A06-4834-94CA-736FB6C6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E5DD0-AA4E-4048-91EA-B28485FD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77DED-6BD9-4509-98DA-9A932F3B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8ED5F-A50F-4CAA-AE3A-16AF0AA4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DD5AA-37CD-48CF-B752-176E4E220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0EC6-2D49-4998-9E41-15CF9A18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5530F-FDD4-467E-AE7C-00A4DAD3F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137A0-ECDF-4102-9C25-64FC43FDD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542E1-740F-48E4-AE10-56F06459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ED392-D9D5-4651-AD6C-968A6BFF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DD75E-92DE-4B5E-A0AB-E52793CA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1ACA1-5092-4074-B29A-51445D42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5E0D1-46CD-4633-851E-58C40D9B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8FAEF-0264-478A-B634-46C55A7A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7A8DC-A582-4D96-AF6B-333DEABA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AF68B-6671-458B-B09E-CE27DE97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3FA6-D356-46A6-9471-798A7C79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AF6E2-E0EC-4462-B3FF-620D9413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C873A-1449-4D57-8BF3-598F28EB3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44631-BDEA-4262-82EE-D0FD2C62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EAB91-C85B-4531-B2EC-61EA2BED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D9300-6CF7-475B-819B-591BC2B7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95830-DC22-45B8-BB66-05E4B318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81A45-36C5-499A-95D0-D7FC1324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6DD9E-4609-4A73-9443-C5237E5F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220A1-E6E9-4685-BEF4-4029BA50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B5532-3B0A-483A-B9FF-CE7B06E7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1044-D396-475A-9802-D41922C1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65DF2-EBEF-418B-880E-D39D9BFD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2939D-44D1-42E2-986E-84426470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446E1-6B93-4B4E-8517-2E917FB5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09CB6-3AE4-4A38-B664-450312985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6367A-3AAF-49E6-855F-7DBF6C3D9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93A10-DE34-48C4-B5DF-736666C5D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9A139-1A16-4BCD-89A8-2C9C67C5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860E3-B98B-486E-979B-5C092480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EE8DC-9808-4713-B4C9-70BA8862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A8C55-DBB6-48EF-AEAC-B2D67149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BD2E-5D53-4522-BACE-FC59A751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AA3A3-F0D3-41D6-A511-60E84859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3BCBA-7202-4FD7-9661-C3FBA3A3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E5202-FF5D-4CB9-94AE-8CFE1772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F894C-29A5-4306-9D23-5A05ED15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FD820-63D5-4BF9-8A0E-94536951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3A013-3146-4BFC-AB71-8F51FA12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43D10-B112-4D3D-8196-35AC576B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31E70-A3BB-4495-8D66-264DC111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93328-61DD-48B3-807B-2D350B1F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B8181-F2C9-4178-8146-EEDBEEA0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0CF5-C267-49FE-ABBB-A7EF67BB3A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CA7F-3187-4F00-B5C3-E105D298886D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DAC5-5AB6-47E7-AD21-1C7CF393FC24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C199-9AD4-4DF7-BB0C-AA8310467BED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00E0-8AA0-4DE9-9D51-BAF8D2D33D11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327D-68EE-4344-B45C-F652B337C4DA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CBA2-3C41-41BF-A152-2629271665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4A7B-EAE8-415B-8B4C-5D3048A152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6C94-7C86-4B8D-8CDA-D4B6781124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9A94-BCBC-45DA-9857-ED3F6296C8D7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D99B-2406-4E8E-B14F-D050CBBAEBD4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78A8-7593-446C-B179-15B342E8FD3B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FA6A-E35D-4492-8195-CBD11291EC2D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60DC-1ECA-48F5-8AAE-BEE7F4662102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2008519168511_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WordArt 3"/>
          <p:cNvSpPr txBox="1"/>
          <p:nvPr/>
        </p:nvSpPr>
        <p:spPr>
          <a:xfrm>
            <a:off x="1692360" y="981000"/>
            <a:ext cx="5904000" cy="17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latin typeface="隶书"/>
              </a:rPr>
              <a:t>静默草原</a:t>
            </a:r>
            <a:endParaRPr b="0" lang="en-US" sz="4800" spc="-1" strike="noStrike">
              <a:ln w="9360">
                <a:solidFill>
                  <a:srgbClr val="ffff00"/>
                </a:solidFill>
                <a:miter/>
              </a:ln>
              <a:solidFill>
                <a:srgbClr val="008000"/>
              </a:solidFill>
              <a:latin typeface="隶书"/>
              <a:ea typeface="隶书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2844720" y="1917720"/>
            <a:ext cx="42498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3127320" y="1949400"/>
            <a:ext cx="2525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6"/>
          <p:cNvSpPr/>
          <p:nvPr/>
        </p:nvSpPr>
        <p:spPr>
          <a:xfrm>
            <a:off x="4284720" y="3284640"/>
            <a:ext cx="322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鲍尔吉</a:t>
            </a:r>
            <a:r>
              <a:rPr b="0" lang="en-US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·</a:t>
            </a:r>
            <a:r>
              <a:rPr b="0" lang="zh-CN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原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6"/>
          <p:cNvSpPr/>
          <p:nvPr/>
        </p:nvSpPr>
        <p:spPr>
          <a:xfrm>
            <a:off x="4489560" y="5877000"/>
            <a:ext cx="30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3"/>
          <p:cNvSpPr/>
          <p:nvPr/>
        </p:nvSpPr>
        <p:spPr>
          <a:xfrm>
            <a:off x="250920" y="2276640"/>
            <a:ext cx="8893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鲍     前瞻    簇立    迥然不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摩挲   面颊    长鬃      翡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嘤     衣襟    咆哮      冥想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2987640" y="24922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4643280" y="24922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6"/>
          <p:cNvSpPr/>
          <p:nvPr/>
        </p:nvSpPr>
        <p:spPr>
          <a:xfrm>
            <a:off x="6877080" y="242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7"/>
          <p:cNvSpPr/>
          <p:nvPr/>
        </p:nvSpPr>
        <p:spPr>
          <a:xfrm>
            <a:off x="971640" y="414972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8"/>
          <p:cNvSpPr/>
          <p:nvPr/>
        </p:nvSpPr>
        <p:spPr>
          <a:xfrm>
            <a:off x="2987640" y="407664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9"/>
          <p:cNvSpPr/>
          <p:nvPr/>
        </p:nvSpPr>
        <p:spPr>
          <a:xfrm>
            <a:off x="5219640" y="414972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0"/>
          <p:cNvSpPr/>
          <p:nvPr/>
        </p:nvSpPr>
        <p:spPr>
          <a:xfrm>
            <a:off x="7451640" y="407664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1"/>
          <p:cNvSpPr/>
          <p:nvPr/>
        </p:nvSpPr>
        <p:spPr>
          <a:xfrm>
            <a:off x="468360" y="566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2"/>
          <p:cNvSpPr/>
          <p:nvPr/>
        </p:nvSpPr>
        <p:spPr>
          <a:xfrm>
            <a:off x="2987640" y="566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3"/>
          <p:cNvSpPr/>
          <p:nvPr/>
        </p:nvSpPr>
        <p:spPr>
          <a:xfrm>
            <a:off x="4643280" y="566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4"/>
          <p:cNvSpPr/>
          <p:nvPr/>
        </p:nvSpPr>
        <p:spPr>
          <a:xfrm>
            <a:off x="5219640" y="566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5"/>
          <p:cNvSpPr/>
          <p:nvPr/>
        </p:nvSpPr>
        <p:spPr>
          <a:xfrm>
            <a:off x="7451640" y="566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6"/>
          <p:cNvSpPr/>
          <p:nvPr/>
        </p:nvSpPr>
        <p:spPr>
          <a:xfrm>
            <a:off x="395280" y="242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7"/>
          <p:cNvSpPr/>
          <p:nvPr/>
        </p:nvSpPr>
        <p:spPr>
          <a:xfrm>
            <a:off x="181080" y="1700280"/>
            <a:ext cx="109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bà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8"/>
          <p:cNvSpPr/>
          <p:nvPr/>
        </p:nvSpPr>
        <p:spPr>
          <a:xfrm>
            <a:off x="2558160" y="1628640"/>
            <a:ext cx="14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zhān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9"/>
          <p:cNvSpPr/>
          <p:nvPr/>
        </p:nvSpPr>
        <p:spPr>
          <a:xfrm>
            <a:off x="4503240" y="1628640"/>
            <a:ext cx="106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cù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20"/>
          <p:cNvSpPr/>
          <p:nvPr/>
        </p:nvSpPr>
        <p:spPr>
          <a:xfrm>
            <a:off x="6516720" y="1628640"/>
            <a:ext cx="136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jiǒng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21"/>
          <p:cNvSpPr/>
          <p:nvPr/>
        </p:nvSpPr>
        <p:spPr>
          <a:xfrm>
            <a:off x="826920" y="328464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uō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22"/>
          <p:cNvSpPr/>
          <p:nvPr/>
        </p:nvSpPr>
        <p:spPr>
          <a:xfrm>
            <a:off x="2845440" y="321300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jiá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23"/>
          <p:cNvSpPr/>
          <p:nvPr/>
        </p:nvSpPr>
        <p:spPr>
          <a:xfrm>
            <a:off x="4935240" y="3284640"/>
            <a:ext cx="145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zōng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4"/>
          <p:cNvSpPr/>
          <p:nvPr/>
        </p:nvSpPr>
        <p:spPr>
          <a:xfrm>
            <a:off x="7236000" y="3284640"/>
            <a:ext cx="122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fěi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25"/>
          <p:cNvSpPr/>
          <p:nvPr/>
        </p:nvSpPr>
        <p:spPr>
          <a:xfrm>
            <a:off x="58320" y="4869000"/>
            <a:ext cx="111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yī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6"/>
          <p:cNvSpPr/>
          <p:nvPr/>
        </p:nvSpPr>
        <p:spPr>
          <a:xfrm>
            <a:off x="2759400" y="494172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jī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7"/>
          <p:cNvSpPr/>
          <p:nvPr/>
        </p:nvSpPr>
        <p:spPr>
          <a:xfrm>
            <a:off x="4141080" y="4941720"/>
            <a:ext cx="200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páo xià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8"/>
          <p:cNvSpPr/>
          <p:nvPr/>
        </p:nvSpPr>
        <p:spPr>
          <a:xfrm>
            <a:off x="6950880" y="4869000"/>
            <a:ext cx="12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mí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29"/>
          <p:cNvSpPr/>
          <p:nvPr/>
        </p:nvSpPr>
        <p:spPr>
          <a:xfrm>
            <a:off x="120600" y="216000"/>
            <a:ext cx="438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幼圆"/>
              </a:rPr>
              <a:t>检查预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4"/>
          <p:cNvSpPr/>
          <p:nvPr/>
        </p:nvSpPr>
        <p:spPr>
          <a:xfrm>
            <a:off x="168120" y="155520"/>
            <a:ext cx="455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幼圆"/>
              </a:rPr>
              <a:t>感知课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539640" y="1413000"/>
            <a:ext cx="808056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舒缓的语气阅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原的特点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伫立草原，产生了那些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用笔划出来，和同学交流一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3"/>
          <p:cNvSpPr/>
          <p:nvPr/>
        </p:nvSpPr>
        <p:spPr>
          <a:xfrm>
            <a:off x="396720" y="234936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草原的特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395280" y="4365720"/>
            <a:ext cx="319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产生的感受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5"/>
          <p:cNvSpPr/>
          <p:nvPr/>
        </p:nvSpPr>
        <p:spPr>
          <a:xfrm>
            <a:off x="3635280" y="2349360"/>
            <a:ext cx="505080" cy="935280"/>
          </a:xfrm>
          <a:custGeom>
            <a:avLst/>
            <a:gdLst>
              <a:gd name="textAreaLeft" fmla="*/ 322920 w 505080"/>
              <a:gd name="textAreaRight" fmla="*/ 505440 w 50508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6"/>
          <p:cNvSpPr/>
          <p:nvPr/>
        </p:nvSpPr>
        <p:spPr>
          <a:xfrm>
            <a:off x="4429080" y="1844640"/>
            <a:ext cx="37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辽远、苍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7"/>
          <p:cNvSpPr/>
          <p:nvPr/>
        </p:nvSpPr>
        <p:spPr>
          <a:xfrm>
            <a:off x="4429080" y="2852640"/>
            <a:ext cx="402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看不到、看不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8"/>
          <p:cNvSpPr/>
          <p:nvPr/>
        </p:nvSpPr>
        <p:spPr>
          <a:xfrm>
            <a:off x="3637080" y="4149720"/>
            <a:ext cx="144360" cy="1368360"/>
          </a:xfrm>
          <a:custGeom>
            <a:avLst/>
            <a:gdLst>
              <a:gd name="textAreaLeft" fmla="*/ 92160 w 144360"/>
              <a:gd name="textAreaRight" fmla="*/ 144360 w 1443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9"/>
          <p:cNvSpPr/>
          <p:nvPr/>
        </p:nvSpPr>
        <p:spPr>
          <a:xfrm>
            <a:off x="4429080" y="3933720"/>
            <a:ext cx="34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自由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0"/>
          <p:cNvSpPr/>
          <p:nvPr/>
        </p:nvSpPr>
        <p:spPr>
          <a:xfrm>
            <a:off x="4429080" y="4797360"/>
            <a:ext cx="323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不自由、局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3"/>
          <p:cNvSpPr/>
          <p:nvPr/>
        </p:nvSpPr>
        <p:spPr>
          <a:xfrm>
            <a:off x="684360" y="1628640"/>
            <a:ext cx="77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读课文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－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2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   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1332000" y="3284640"/>
            <a:ext cx="52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755640" y="3068640"/>
            <a:ext cx="795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段只有一句话，是什么句式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设问句，引起读者的好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6"/>
          <p:cNvSpPr/>
          <p:nvPr/>
        </p:nvSpPr>
        <p:spPr>
          <a:xfrm>
            <a:off x="168120" y="155520"/>
            <a:ext cx="455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幼圆"/>
              </a:rPr>
              <a:t>精读课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读课文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3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－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6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，思考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1532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作者在这里运用了什么修辞手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草原的景观与他处的风景相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蒙古牧人看草原风景的方式与城里人看草原风景的方式相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蒙古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想在眼里装填一些苍茫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 该如何理解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苍茫是草原人面对草原的一种心情，一种感受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在眼里装填一些苍茫，实际上是用心去体会草原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齐读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7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—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8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。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为什么草原具有看不到与看不尽这两种特点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草原是辽阔无边的，所以看不到也看不尽。而草原的变化多端，就使得我们无法抓住草原得某一特点，所以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看不到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；因为变化多端，我们可以看到草原各种各样的特点，所以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看不尽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读课文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9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——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0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 ，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1532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草原在单一中呈现丰富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单一与丰富是否矛盾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不矛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草原与大海一样在单一中呈现丰富，那二者又有什么区别呢？用了什么写法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从观海者的不同角度（岸上、船上），比较出草原的另一特点：中心不定和可接触性，再进一步指出草原的辽远与苍茫，和给人的亲切感。对比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50920" y="-170280"/>
            <a:ext cx="85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学生齐读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1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—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2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 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1532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在草原上，辽阔首先给人以自由感，第二个感觉是不自由，也可以说局促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该如何理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因为它太广阔了，无遮无拦，因而首先带给人以自由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但是，在旷远天地的面前，人只会觉得自己如此渺小与微不足道，产生一种局促感、不自由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如何理解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段最后一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人被突然放置在大自然面前，显得那样渺小，由此感受大自然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草原的博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思考：如何理解作者将自己比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母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烈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母牛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品尝清水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温柔的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烈马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摩挲草尖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热烈的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这里运用了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比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修辞。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母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表达了作者对草原的温柔之爱，全身心投入的敬仰之爱；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烈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表达了作者对草原的火热的爱，不顾一切的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324000" y="260280"/>
            <a:ext cx="5236920" cy="764280"/>
          </a:xfrm>
          <a:prstGeom prst="rect">
            <a:avLst/>
          </a:prstGeom>
          <a:solidFill>
            <a:srgbClr val="ccffcc"/>
          </a:solidFill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阅读第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3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，讨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分析课文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14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  <a:ea typeface="楷体_GB2312"/>
              </a:rPr>
              <a:t>—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15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段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草原与我一样，也是善忘者，只在静默中观望未来。 该如何理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</a:rPr>
              <a:t>这句话点明题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善忘实际上是对人生的豁达与洒脱，是一种对荣誉金钱地位等的不计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在静默中观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一种坦然自若的不张扬的沉稳。观望未来需要我们用心去感受生活，永葆一颗纯净的心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014[1]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581" name="cymg.mp3" descr="cymg"/>
          <p:cNvPicPr/>
          <p:nvPr/>
        </p:nvPicPr>
        <p:blipFill>
          <a:blip r:embed="rId2"/>
          <a:stretch/>
        </p:blipFill>
        <p:spPr>
          <a:xfrm>
            <a:off x="250920" y="6093000"/>
            <a:ext cx="50472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3"/>
          <p:cNvSpPr/>
          <p:nvPr/>
        </p:nvSpPr>
        <p:spPr>
          <a:xfrm>
            <a:off x="122400" y="139680"/>
            <a:ext cx="4954320" cy="1099440"/>
          </a:xfrm>
          <a:prstGeom prst="rect">
            <a:avLst/>
          </a:prstGeom>
          <a:solidFill>
            <a:srgbClr val="99ff66">
              <a:alpha val="76000"/>
            </a:srgbClr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对比</a:t>
            </a:r>
            <a:r>
              <a:rPr b="0" lang="zh-CN" sz="6000" spc="-1" strike="noStrike">
                <a:solidFill>
                  <a:srgbClr val="990099"/>
                </a:solidFill>
                <a:latin typeface="Arial"/>
                <a:ea typeface="方正舒体"/>
              </a:rPr>
              <a:t>手法赏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611280" y="1989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文章为了表现草原的特点和自己的感受，多处运用了对比手法，找出文中运用对比手法的地方，和同学探讨一下他们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152280" y="216000"/>
            <a:ext cx="3556080" cy="916920"/>
          </a:xfrm>
          <a:prstGeom prst="rect">
            <a:avLst/>
          </a:prstGeom>
          <a:solidFill>
            <a:srgbClr val="ffff00">
              <a:alpha val="58000"/>
            </a:srgbClr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方正舒体"/>
              </a:rPr>
              <a:t>我的探究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725400" y="1486080"/>
            <a:ext cx="73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市景色和草原景色的对比 ，  表现了草原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4"/>
          <p:cNvSpPr/>
          <p:nvPr/>
        </p:nvSpPr>
        <p:spPr>
          <a:xfrm>
            <a:off x="833400" y="3127320"/>
            <a:ext cx="7123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草原和大海的对比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海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原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5"/>
          <p:cNvSpPr/>
          <p:nvPr/>
        </p:nvSpPr>
        <p:spPr>
          <a:xfrm>
            <a:off x="3635280" y="2060640"/>
            <a:ext cx="31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辽远而苍茫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2211480" y="3838680"/>
            <a:ext cx="63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观者在岸边，景色受到限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7"/>
          <p:cNvSpPr/>
          <p:nvPr/>
        </p:nvSpPr>
        <p:spPr>
          <a:xfrm>
            <a:off x="2268360" y="4797360"/>
            <a:ext cx="632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可以是草原的中心，草原的内涵更富有直观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2"/>
          <p:cNvSpPr/>
          <p:nvPr/>
        </p:nvSpPr>
        <p:spPr>
          <a:xfrm>
            <a:off x="539640" y="620640"/>
            <a:ext cx="836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牧人与城市人的比较，引入作者的感受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城里的人大睁眼睛看草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城市人是在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原 ，牧人，却是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3"/>
          <p:cNvSpPr/>
          <p:nvPr/>
        </p:nvSpPr>
        <p:spPr>
          <a:xfrm>
            <a:off x="3348000" y="162864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寻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4"/>
          <p:cNvSpPr/>
          <p:nvPr/>
        </p:nvSpPr>
        <p:spPr>
          <a:xfrm>
            <a:off x="4067280" y="2421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享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3"/>
          <p:cNvSpPr/>
          <p:nvPr/>
        </p:nvSpPr>
        <p:spPr>
          <a:xfrm>
            <a:off x="395280" y="333360"/>
            <a:ext cx="435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 u="sng">
                <a:solidFill>
                  <a:srgbClr val="ff0066"/>
                </a:solidFill>
                <a:uFillTx/>
                <a:latin typeface="Arial"/>
                <a:ea typeface="方正舒体"/>
              </a:rPr>
              <a:t>主旨探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4"/>
          <p:cNvSpPr/>
          <p:nvPr/>
        </p:nvSpPr>
        <p:spPr>
          <a:xfrm>
            <a:off x="755640" y="2492280"/>
            <a:ext cx="75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作者运用对比手法，婉转而含蓄的表达了对草原的喜爱。在对草原的独特的情感基础上，抒发了对生命的富有哲理性的感悟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912f147533f15d8202f669a3f5bbc970[1]"/>
          <p:cNvPicPr/>
          <p:nvPr/>
        </p:nvPicPr>
        <p:blipFill>
          <a:blip r:embed="rId1"/>
          <a:stretch/>
        </p:blipFill>
        <p:spPr>
          <a:xfrm>
            <a:off x="-120600" y="0"/>
            <a:ext cx="9399600" cy="70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" dur="5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1" dur="5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51929_c2[1]"/>
          <p:cNvPicPr/>
          <p:nvPr/>
        </p:nvPicPr>
        <p:blipFill>
          <a:blip r:embed="rId1"/>
          <a:stretch/>
        </p:blipFill>
        <p:spPr>
          <a:xfrm>
            <a:off x="1440" y="-6480"/>
            <a:ext cx="9142560" cy="689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" dur="5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" dur="5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8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200891711405494016[1]"/>
          <p:cNvPicPr/>
          <p:nvPr/>
        </p:nvPicPr>
        <p:blipFill>
          <a:blip r:embed="rId1"/>
          <a:stretch/>
        </p:blipFill>
        <p:spPr>
          <a:xfrm>
            <a:off x="0" y="-371520"/>
            <a:ext cx="9144000" cy="754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" dur="5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" dur="5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8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20080812092516[1]"/>
          <p:cNvPicPr/>
          <p:nvPr/>
        </p:nvPicPr>
        <p:blipFill>
          <a:blip r:embed="rId1"/>
          <a:stretch/>
        </p:blipFill>
        <p:spPr>
          <a:xfrm>
            <a:off x="0" y="-9360"/>
            <a:ext cx="9288360" cy="689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5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xit" presetID="21" presetSubtype="3">
                                  <p:stCondLst>
                                    <p:cond delay="0"/>
                                  </p:stCondLst>
                                  <p:childTnLst>
                                    <p:animEffect filter="wheel(3)" transition="out">
                                      <p:cBhvr additive="repl">
                                        <p:cTn id="54" dur="5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1243302875zmnCeFZy[1]"/>
          <p:cNvPicPr/>
          <p:nvPr/>
        </p:nvPicPr>
        <p:blipFill>
          <a:blip r:embed="rId1"/>
          <a:stretch/>
        </p:blipFill>
        <p:spPr>
          <a:xfrm>
            <a:off x="1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5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2"/>
          <p:cNvSpPr/>
          <p:nvPr/>
        </p:nvSpPr>
        <p:spPr>
          <a:xfrm>
            <a:off x="7888320" y="44280"/>
            <a:ext cx="1185840" cy="66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幼圆"/>
              </a:rPr>
              <a:t>走近作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3" descr="图片1"/>
          <p:cNvPicPr/>
          <p:nvPr/>
        </p:nvPicPr>
        <p:blipFill>
          <a:blip r:embed="rId1"/>
          <a:stretch/>
        </p:blipFill>
        <p:spPr>
          <a:xfrm>
            <a:off x="7165800" y="3575160"/>
            <a:ext cx="1978200" cy="324144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4"/>
          <p:cNvSpPr/>
          <p:nvPr/>
        </p:nvSpPr>
        <p:spPr>
          <a:xfrm>
            <a:off x="0" y="260280"/>
            <a:ext cx="716580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鲍尔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野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5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生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著名的蒙古族作家、儿童作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著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随感录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脱口而出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，散文集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百变人生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、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酒到唇边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、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善良是一棵矮树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、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思想起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ff"/>
                </a:solidFill>
                <a:uFillTx/>
                <a:latin typeface="Arial"/>
                <a:ea typeface="楷体_GB2312"/>
              </a:rPr>
              <a:t>“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草原三剑客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腾格尔、朝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作品特点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豪放、幽默、睿智、细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0" y="1557360"/>
            <a:ext cx="2303640" cy="1099440"/>
          </a:xfrm>
          <a:prstGeom prst="rect">
            <a:avLst/>
          </a:prstGeom>
          <a:solidFill>
            <a:srgbClr val="990099">
              <a:alpha val="63000"/>
            </a:srgbClr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幼圆"/>
              </a:rPr>
              <a:t>释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3"/>
          <p:cNvSpPr/>
          <p:nvPr/>
        </p:nvSpPr>
        <p:spPr>
          <a:xfrm>
            <a:off x="1206360" y="0"/>
            <a:ext cx="7937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敕勒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学习，我们看本文所写的内容和敕勒歌有何不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何理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静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320760" y="2781360"/>
            <a:ext cx="882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文景物描写较少了，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更侧重于抒情、感悟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是以感悟为主，是在对草原的一种独特的情感基础上，抒发了对生命的富有哲理性的感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原是辽远的苍茫的。一个人，站在在草原上，可以任意遐想，悟出一些我们以前根本没悟出的哲理。这时的草原是静的，也就是作者所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1:04:38Z</dcterms:created>
  <dc:creator>第一PPT模板网-WWW.1PPT.COM</dc:creator>
  <dc:description>第一PPT模板网-WWW.1PPT.COM
</dc:description>
  <cp:keywords>第一PPT模板网-WWW.1PPT.COM</cp:keywords>
  <dc:language>en-US</dc:language>
  <cp:lastModifiedBy>微软用户</cp:lastModifiedBy>
  <cp:lastPrinted>1899-12-30T00:00:00Z</cp:lastPrinted>
  <dcterms:modified xsi:type="dcterms:W3CDTF">2015-11-02T08:09:22Z</dcterms:modified>
  <cp:revision>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