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13.gif" ContentType="image/gif"/>
  <Override PartName="/ppt/media/image4.jpeg" ContentType="image/jpeg"/>
  <Override PartName="/ppt/media/image10.wmf" ContentType="image/x-wmf"/>
  <Override PartName="/ppt/media/image22.gif" ContentType="image/gif"/>
  <Override PartName="/ppt/media/image3.png" ContentType="image/png"/>
  <Override PartName="/ppt/media/image23.gif" ContentType="image/gif"/>
  <Override PartName="/ppt/media/image27.png" ContentType="image/png"/>
  <Override PartName="/ppt/media/image21.wmf" ContentType="image/x-wmf"/>
  <Override PartName="/ppt/media/image18.gif" ContentType="image/gif"/>
  <Override PartName="/ppt/media/image17.gif" ContentType="image/gif"/>
  <Override PartName="/ppt/media/image16.gif" ContentType="image/gif"/>
  <Override PartName="/ppt/media/image15.wmf" ContentType="image/x-wmf"/>
  <Override PartName="/ppt/media/image14.gif" ContentType="image/gif"/>
  <Override PartName="/ppt/media/image19.gif" ContentType="image/gif"/>
  <Override PartName="/ppt/media/image24.png" ContentType="image/png"/>
  <Override PartName="/ppt/media/image1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314-242C-4EE5-8EF5-AE297570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55D-8467-43D2-8F05-5AA7F092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A54-85DA-4406-B3F5-251473BD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F23-17A4-468E-BAFF-154E368C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0FA-D184-47DD-9DB1-5180C4E0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D10-91AD-4AED-A5D2-1C5F1AAE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81E-6E0B-49A6-86AA-F992354A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BDB-B514-4EDE-8CDF-CA770F32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B8A-A761-4C5D-887B-19176457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66B-5084-4168-9DED-7D07434B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782-6554-4AC2-AF52-2DAABADE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2AE-36C6-425E-A0F9-670819B7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9002-F403-40C8-B7B7-2C6F151A0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2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airydream.net/html/books/ende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158920" cy="1309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猜 一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8006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打一动物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94120" y="1905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脖子能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4120" y="2438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腰上背大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4120" y="3048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水陆两处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99840" y="36576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寿命它第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52440"/>
            <a:ext cx="9396360" cy="650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蜘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嘲笑、同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蜗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迷糊、难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壁虎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傲慢、困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乌鸦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闷闷不乐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劝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小乌龟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自信、执著、坚定不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1053000">
            <a:off x="1752480" y="0"/>
            <a:ext cx="4810680" cy="306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未知"/>
          <p:cNvSpPr/>
          <p:nvPr/>
        </p:nvSpPr>
        <p:spPr>
          <a:xfrm>
            <a:off x="95400" y="50760"/>
            <a:ext cx="2044440" cy="186840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未知"/>
          <p:cNvSpPr/>
          <p:nvPr/>
        </p:nvSpPr>
        <p:spPr>
          <a:xfrm>
            <a:off x="0" y="0"/>
            <a:ext cx="9070920" cy="679752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未知"/>
          <p:cNvSpPr/>
          <p:nvPr/>
        </p:nvSpPr>
        <p:spPr>
          <a:xfrm>
            <a:off x="723960" y="4187880"/>
            <a:ext cx="409680" cy="89676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未知"/>
          <p:cNvSpPr/>
          <p:nvPr/>
        </p:nvSpPr>
        <p:spPr>
          <a:xfrm>
            <a:off x="1739880" y="5934240"/>
            <a:ext cx="1354320" cy="26964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3497400" y="5934240"/>
            <a:ext cx="1465200" cy="32040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未知"/>
          <p:cNvSpPr/>
          <p:nvPr/>
        </p:nvSpPr>
        <p:spPr>
          <a:xfrm>
            <a:off x="5727600" y="5923080"/>
            <a:ext cx="1305000" cy="29988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8051760" y="13320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8091360" y="2749680"/>
            <a:ext cx="312840" cy="112536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8026560" y="4214880"/>
            <a:ext cx="377640" cy="8604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6080040" y="31284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2354400" y="37296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4141800" y="380880"/>
            <a:ext cx="1357200" cy="26856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801720" y="125100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363600" y="526104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>
            <a:off x="7423200" y="7776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7521480" y="534996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676440" y="11592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820800" y="279576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566640" y="4232160"/>
            <a:ext cx="405000" cy="8971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7889760" y="13762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7929720" y="279576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7864560" y="426096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5918040" y="357120"/>
            <a:ext cx="115920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2192400" y="41760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3979800" y="42552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>
            <a:off x="639720" y="129528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>
            <a:off x="201600" y="5305320"/>
            <a:ext cx="129240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>
            <a:off x="7261200" y="12240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>
            <a:off x="7359480" y="539424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>
            <a:off x="514440" y="160200"/>
            <a:ext cx="129204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658800" y="28400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062000"/>
            <a:ext cx="1714680" cy="1486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11280" y="4435560"/>
            <a:ext cx="1943280" cy="1716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19280" y="2487600"/>
            <a:ext cx="2881440" cy="2165400"/>
          </a:xfrm>
          <a:prstGeom prst="wedgeEllipseCallout">
            <a:avLst>
              <a:gd name="adj1" fmla="val -10384"/>
              <a:gd name="adj2" fmla="val 70236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我的腿不但比你的灵巧，而且还多一倍呢。可连我都觉得路途太远了，你还是赶快回去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2808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509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很遗憾，我不能这样，我的决定是不可能改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2421000"/>
            <a:ext cx="2951280" cy="1728720"/>
          </a:xfrm>
          <a:prstGeom prst="wedgeEllipseCallout">
            <a:avLst>
              <a:gd name="adj1" fmla="val -4759"/>
              <a:gd name="adj2" fmla="val 10096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婚礼两周后就要开始了，慢的出奇的你怎么能赶的上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4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会准时赶到那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952880" y="4799160"/>
            <a:ext cx="2438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-0.00509 L -0.82066 0.00555 E">
                                      <p:cBhvr>
                                        <p:cTn id="30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未知"/>
          <p:cNvSpPr/>
          <p:nvPr/>
        </p:nvSpPr>
        <p:spPr>
          <a:xfrm>
            <a:off x="95400" y="55440"/>
            <a:ext cx="2044440" cy="1835280"/>
          </a:xfrm>
          <a:custGeom>
            <a:avLst/>
            <a:gdLst/>
            <a:ahLst/>
            <a:rect l="l" t="t" r="r" b="b"/>
            <a:pathLst>
              <a:path w="1288" h="1156">
                <a:moveTo>
                  <a:pt x="49" y="59"/>
                </a:moveTo>
                <a:lnTo>
                  <a:pt x="459" y="0"/>
                </a:lnTo>
                <a:lnTo>
                  <a:pt x="807" y="78"/>
                </a:lnTo>
                <a:lnTo>
                  <a:pt x="1203" y="39"/>
                </a:lnTo>
                <a:lnTo>
                  <a:pt x="1288" y="266"/>
                </a:lnTo>
                <a:lnTo>
                  <a:pt x="1251" y="484"/>
                </a:lnTo>
                <a:lnTo>
                  <a:pt x="1041" y="850"/>
                </a:lnTo>
                <a:lnTo>
                  <a:pt x="744" y="800"/>
                </a:lnTo>
                <a:lnTo>
                  <a:pt x="807" y="1156"/>
                </a:lnTo>
                <a:lnTo>
                  <a:pt x="781" y="1136"/>
                </a:lnTo>
                <a:lnTo>
                  <a:pt x="753" y="1110"/>
                </a:lnTo>
                <a:lnTo>
                  <a:pt x="716" y="1079"/>
                </a:lnTo>
                <a:lnTo>
                  <a:pt x="674" y="1040"/>
                </a:lnTo>
                <a:lnTo>
                  <a:pt x="626" y="997"/>
                </a:lnTo>
                <a:lnTo>
                  <a:pt x="575" y="951"/>
                </a:lnTo>
                <a:lnTo>
                  <a:pt x="522" y="903"/>
                </a:lnTo>
                <a:lnTo>
                  <a:pt x="471" y="855"/>
                </a:lnTo>
                <a:lnTo>
                  <a:pt x="420" y="809"/>
                </a:lnTo>
                <a:lnTo>
                  <a:pt x="373" y="763"/>
                </a:lnTo>
                <a:lnTo>
                  <a:pt x="329" y="722"/>
                </a:lnTo>
                <a:lnTo>
                  <a:pt x="294" y="685"/>
                </a:lnTo>
                <a:lnTo>
                  <a:pt x="269" y="658"/>
                </a:lnTo>
                <a:lnTo>
                  <a:pt x="248" y="622"/>
                </a:lnTo>
                <a:lnTo>
                  <a:pt x="241" y="593"/>
                </a:lnTo>
                <a:lnTo>
                  <a:pt x="216" y="539"/>
                </a:lnTo>
                <a:lnTo>
                  <a:pt x="197" y="506"/>
                </a:lnTo>
                <a:lnTo>
                  <a:pt x="176" y="471"/>
                </a:lnTo>
                <a:lnTo>
                  <a:pt x="153" y="432"/>
                </a:lnTo>
                <a:lnTo>
                  <a:pt x="130" y="395"/>
                </a:lnTo>
                <a:lnTo>
                  <a:pt x="105" y="357"/>
                </a:lnTo>
                <a:lnTo>
                  <a:pt x="81" y="321"/>
                </a:lnTo>
                <a:lnTo>
                  <a:pt x="42" y="259"/>
                </a:lnTo>
                <a:lnTo>
                  <a:pt x="12" y="214"/>
                </a:lnTo>
                <a:lnTo>
                  <a:pt x="0" y="198"/>
                </a:lnTo>
                <a:lnTo>
                  <a:pt x="49" y="59"/>
                </a:lnTo>
                <a:lnTo>
                  <a:pt x="49" y="5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6480"/>
            <a:ext cx="9070920" cy="6675480"/>
          </a:xfrm>
          <a:custGeom>
            <a:avLst/>
            <a:gdLst/>
            <a:ahLst/>
            <a:rect l="l" t="t" r="r" b="b"/>
            <a:pathLst>
              <a:path w="5714" h="4205">
                <a:moveTo>
                  <a:pt x="60" y="179"/>
                </a:moveTo>
                <a:lnTo>
                  <a:pt x="209" y="692"/>
                </a:lnTo>
                <a:lnTo>
                  <a:pt x="234" y="1196"/>
                </a:lnTo>
                <a:lnTo>
                  <a:pt x="97" y="1523"/>
                </a:lnTo>
                <a:lnTo>
                  <a:pt x="222" y="1860"/>
                </a:lnTo>
                <a:lnTo>
                  <a:pt x="60" y="2166"/>
                </a:lnTo>
                <a:lnTo>
                  <a:pt x="171" y="2918"/>
                </a:lnTo>
                <a:lnTo>
                  <a:pt x="148" y="3147"/>
                </a:lnTo>
                <a:lnTo>
                  <a:pt x="0" y="3790"/>
                </a:lnTo>
                <a:lnTo>
                  <a:pt x="148" y="3819"/>
                </a:lnTo>
                <a:lnTo>
                  <a:pt x="123" y="3996"/>
                </a:lnTo>
                <a:lnTo>
                  <a:pt x="568" y="3987"/>
                </a:lnTo>
                <a:lnTo>
                  <a:pt x="1163" y="4085"/>
                </a:lnTo>
                <a:lnTo>
                  <a:pt x="1374" y="4026"/>
                </a:lnTo>
                <a:lnTo>
                  <a:pt x="2850" y="4176"/>
                </a:lnTo>
                <a:lnTo>
                  <a:pt x="2850" y="4076"/>
                </a:lnTo>
                <a:lnTo>
                  <a:pt x="3258" y="4105"/>
                </a:lnTo>
                <a:lnTo>
                  <a:pt x="3346" y="4164"/>
                </a:lnTo>
                <a:lnTo>
                  <a:pt x="3679" y="4046"/>
                </a:lnTo>
                <a:lnTo>
                  <a:pt x="3964" y="4105"/>
                </a:lnTo>
                <a:lnTo>
                  <a:pt x="4361" y="4055"/>
                </a:lnTo>
                <a:lnTo>
                  <a:pt x="5118" y="4085"/>
                </a:lnTo>
                <a:lnTo>
                  <a:pt x="5500" y="4205"/>
                </a:lnTo>
                <a:lnTo>
                  <a:pt x="5688" y="3887"/>
                </a:lnTo>
                <a:lnTo>
                  <a:pt x="5514" y="3799"/>
                </a:lnTo>
                <a:lnTo>
                  <a:pt x="5714" y="3452"/>
                </a:lnTo>
                <a:lnTo>
                  <a:pt x="5514" y="3295"/>
                </a:lnTo>
                <a:lnTo>
                  <a:pt x="5341" y="2484"/>
                </a:lnTo>
                <a:lnTo>
                  <a:pt x="5500" y="2028"/>
                </a:lnTo>
                <a:lnTo>
                  <a:pt x="5463" y="1771"/>
                </a:lnTo>
                <a:lnTo>
                  <a:pt x="5674" y="1365"/>
                </a:lnTo>
                <a:lnTo>
                  <a:pt x="5463" y="515"/>
                </a:lnTo>
                <a:lnTo>
                  <a:pt x="5700" y="179"/>
                </a:lnTo>
                <a:lnTo>
                  <a:pt x="5514" y="50"/>
                </a:lnTo>
                <a:lnTo>
                  <a:pt x="5304" y="99"/>
                </a:lnTo>
                <a:lnTo>
                  <a:pt x="4697" y="0"/>
                </a:lnTo>
                <a:lnTo>
                  <a:pt x="4212" y="179"/>
                </a:lnTo>
                <a:lnTo>
                  <a:pt x="3753" y="90"/>
                </a:lnTo>
                <a:lnTo>
                  <a:pt x="2861" y="40"/>
                </a:lnTo>
                <a:lnTo>
                  <a:pt x="2377" y="79"/>
                </a:lnTo>
                <a:lnTo>
                  <a:pt x="1710" y="61"/>
                </a:lnTo>
                <a:lnTo>
                  <a:pt x="1003" y="120"/>
                </a:lnTo>
                <a:lnTo>
                  <a:pt x="841" y="545"/>
                </a:lnTo>
                <a:lnTo>
                  <a:pt x="1844" y="613"/>
                </a:lnTo>
                <a:lnTo>
                  <a:pt x="2106" y="504"/>
                </a:lnTo>
                <a:lnTo>
                  <a:pt x="2699" y="604"/>
                </a:lnTo>
                <a:lnTo>
                  <a:pt x="3109" y="535"/>
                </a:lnTo>
                <a:lnTo>
                  <a:pt x="3557" y="594"/>
                </a:lnTo>
                <a:lnTo>
                  <a:pt x="4076" y="504"/>
                </a:lnTo>
                <a:lnTo>
                  <a:pt x="4523" y="554"/>
                </a:lnTo>
                <a:lnTo>
                  <a:pt x="4560" y="751"/>
                </a:lnTo>
                <a:lnTo>
                  <a:pt x="4819" y="801"/>
                </a:lnTo>
                <a:lnTo>
                  <a:pt x="4708" y="1158"/>
                </a:lnTo>
                <a:lnTo>
                  <a:pt x="4882" y="1246"/>
                </a:lnTo>
                <a:lnTo>
                  <a:pt x="4720" y="1732"/>
                </a:lnTo>
                <a:lnTo>
                  <a:pt x="4856" y="1900"/>
                </a:lnTo>
                <a:lnTo>
                  <a:pt x="4734" y="2275"/>
                </a:lnTo>
                <a:lnTo>
                  <a:pt x="4734" y="2484"/>
                </a:lnTo>
                <a:lnTo>
                  <a:pt x="4819" y="2672"/>
                </a:lnTo>
                <a:lnTo>
                  <a:pt x="4622" y="3027"/>
                </a:lnTo>
                <a:lnTo>
                  <a:pt x="4819" y="3256"/>
                </a:lnTo>
                <a:lnTo>
                  <a:pt x="4646" y="3522"/>
                </a:lnTo>
                <a:lnTo>
                  <a:pt x="4361" y="3592"/>
                </a:lnTo>
                <a:lnTo>
                  <a:pt x="3705" y="3531"/>
                </a:lnTo>
                <a:lnTo>
                  <a:pt x="3469" y="3699"/>
                </a:lnTo>
                <a:lnTo>
                  <a:pt x="3024" y="3551"/>
                </a:lnTo>
                <a:lnTo>
                  <a:pt x="2588" y="3560"/>
                </a:lnTo>
                <a:lnTo>
                  <a:pt x="1995" y="3572"/>
                </a:lnTo>
                <a:lnTo>
                  <a:pt x="1633" y="3669"/>
                </a:lnTo>
                <a:lnTo>
                  <a:pt x="1499" y="3512"/>
                </a:lnTo>
                <a:lnTo>
                  <a:pt x="1163" y="3651"/>
                </a:lnTo>
                <a:lnTo>
                  <a:pt x="1163" y="3392"/>
                </a:lnTo>
                <a:lnTo>
                  <a:pt x="816" y="3295"/>
                </a:lnTo>
                <a:lnTo>
                  <a:pt x="1040" y="2899"/>
                </a:lnTo>
                <a:lnTo>
                  <a:pt x="816" y="2720"/>
                </a:lnTo>
                <a:lnTo>
                  <a:pt x="1003" y="2375"/>
                </a:lnTo>
                <a:lnTo>
                  <a:pt x="755" y="2295"/>
                </a:lnTo>
                <a:lnTo>
                  <a:pt x="890" y="1287"/>
                </a:lnTo>
                <a:lnTo>
                  <a:pt x="841" y="881"/>
                </a:lnTo>
                <a:lnTo>
                  <a:pt x="741" y="733"/>
                </a:lnTo>
                <a:lnTo>
                  <a:pt x="704" y="465"/>
                </a:lnTo>
                <a:lnTo>
                  <a:pt x="804" y="258"/>
                </a:lnTo>
                <a:lnTo>
                  <a:pt x="60" y="179"/>
                </a:lnTo>
                <a:lnTo>
                  <a:pt x="60" y="17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723960" y="4119480"/>
            <a:ext cx="409680" cy="879480"/>
          </a:xfrm>
          <a:custGeom>
            <a:avLst/>
            <a:gdLst/>
            <a:ahLst/>
            <a:rect l="l" t="t" r="r" b="b"/>
            <a:pathLst>
              <a:path w="258" h="554">
                <a:moveTo>
                  <a:pt x="258" y="77"/>
                </a:moveTo>
                <a:lnTo>
                  <a:pt x="244" y="371"/>
                </a:lnTo>
                <a:lnTo>
                  <a:pt x="223" y="469"/>
                </a:lnTo>
                <a:lnTo>
                  <a:pt x="211" y="508"/>
                </a:lnTo>
                <a:lnTo>
                  <a:pt x="183" y="534"/>
                </a:lnTo>
                <a:lnTo>
                  <a:pt x="146" y="550"/>
                </a:lnTo>
                <a:lnTo>
                  <a:pt x="107" y="554"/>
                </a:lnTo>
                <a:lnTo>
                  <a:pt x="31" y="528"/>
                </a:lnTo>
                <a:lnTo>
                  <a:pt x="0" y="460"/>
                </a:lnTo>
                <a:lnTo>
                  <a:pt x="12" y="351"/>
                </a:lnTo>
                <a:lnTo>
                  <a:pt x="24" y="275"/>
                </a:lnTo>
                <a:lnTo>
                  <a:pt x="42" y="210"/>
                </a:lnTo>
                <a:lnTo>
                  <a:pt x="75" y="68"/>
                </a:lnTo>
                <a:lnTo>
                  <a:pt x="84" y="37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2"/>
                </a:lnTo>
                <a:lnTo>
                  <a:pt x="258" y="77"/>
                </a:lnTo>
                <a:lnTo>
                  <a:pt x="258" y="7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1739880" y="5834160"/>
            <a:ext cx="1354320" cy="264960"/>
          </a:xfrm>
          <a:custGeom>
            <a:avLst/>
            <a:gdLst/>
            <a:ahLst/>
            <a:rect l="l" t="t" r="r" b="b"/>
            <a:pathLst>
              <a:path w="853" h="167">
                <a:moveTo>
                  <a:pt x="72" y="34"/>
                </a:moveTo>
                <a:lnTo>
                  <a:pt x="252" y="41"/>
                </a:lnTo>
                <a:lnTo>
                  <a:pt x="410" y="28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1"/>
                </a:lnTo>
                <a:lnTo>
                  <a:pt x="795" y="159"/>
                </a:lnTo>
                <a:lnTo>
                  <a:pt x="748" y="167"/>
                </a:lnTo>
                <a:lnTo>
                  <a:pt x="401" y="161"/>
                </a:lnTo>
                <a:lnTo>
                  <a:pt x="53" y="133"/>
                </a:lnTo>
                <a:lnTo>
                  <a:pt x="12" y="111"/>
                </a:lnTo>
                <a:lnTo>
                  <a:pt x="0" y="76"/>
                </a:lnTo>
                <a:lnTo>
                  <a:pt x="7" y="58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3497400" y="583416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2"/>
                </a:lnTo>
                <a:lnTo>
                  <a:pt x="818" y="32"/>
                </a:lnTo>
                <a:lnTo>
                  <a:pt x="865" y="39"/>
                </a:lnTo>
                <a:lnTo>
                  <a:pt x="897" y="58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1"/>
                </a:lnTo>
                <a:lnTo>
                  <a:pt x="818" y="198"/>
                </a:lnTo>
                <a:lnTo>
                  <a:pt x="621" y="198"/>
                </a:lnTo>
                <a:lnTo>
                  <a:pt x="357" y="189"/>
                </a:lnTo>
                <a:lnTo>
                  <a:pt x="93" y="165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未知"/>
          <p:cNvSpPr/>
          <p:nvPr/>
        </p:nvSpPr>
        <p:spPr>
          <a:xfrm>
            <a:off x="5727600" y="5823000"/>
            <a:ext cx="1305000" cy="293760"/>
          </a:xfrm>
          <a:custGeom>
            <a:avLst/>
            <a:gdLst/>
            <a:ahLst/>
            <a:rect l="l" t="t" r="r" b="b"/>
            <a:pathLst>
              <a:path w="822" h="185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9"/>
                </a:lnTo>
                <a:lnTo>
                  <a:pt x="780" y="175"/>
                </a:lnTo>
                <a:lnTo>
                  <a:pt x="746" y="185"/>
                </a:lnTo>
                <a:lnTo>
                  <a:pt x="706" y="181"/>
                </a:lnTo>
                <a:lnTo>
                  <a:pt x="583" y="161"/>
                </a:lnTo>
                <a:lnTo>
                  <a:pt x="458" y="157"/>
                </a:lnTo>
                <a:lnTo>
                  <a:pt x="252" y="140"/>
                </a:lnTo>
                <a:lnTo>
                  <a:pt x="157" y="127"/>
                </a:lnTo>
                <a:lnTo>
                  <a:pt x="46" y="118"/>
                </a:lnTo>
                <a:lnTo>
                  <a:pt x="9" y="105"/>
                </a:lnTo>
                <a:lnTo>
                  <a:pt x="0" y="76"/>
                </a:lnTo>
                <a:lnTo>
                  <a:pt x="13" y="50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8051760" y="1312920"/>
            <a:ext cx="379440" cy="971640"/>
          </a:xfrm>
          <a:custGeom>
            <a:avLst/>
            <a:gdLst/>
            <a:ahLst/>
            <a:rect l="l" t="t" r="r" b="b"/>
            <a:pathLst>
              <a:path w="239" h="612">
                <a:moveTo>
                  <a:pt x="239" y="95"/>
                </a:moveTo>
                <a:lnTo>
                  <a:pt x="222" y="209"/>
                </a:lnTo>
                <a:lnTo>
                  <a:pt x="201" y="313"/>
                </a:lnTo>
                <a:lnTo>
                  <a:pt x="194" y="530"/>
                </a:lnTo>
                <a:lnTo>
                  <a:pt x="192" y="562"/>
                </a:lnTo>
                <a:lnTo>
                  <a:pt x="174" y="588"/>
                </a:lnTo>
                <a:lnTo>
                  <a:pt x="146" y="604"/>
                </a:lnTo>
                <a:lnTo>
                  <a:pt x="113" y="612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5"/>
                </a:lnTo>
                <a:lnTo>
                  <a:pt x="239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未知"/>
          <p:cNvSpPr/>
          <p:nvPr/>
        </p:nvSpPr>
        <p:spPr>
          <a:xfrm>
            <a:off x="8091360" y="2706840"/>
            <a:ext cx="312840" cy="1104840"/>
          </a:xfrm>
          <a:custGeom>
            <a:avLst/>
            <a:gdLst/>
            <a:ahLst/>
            <a:rect l="l" t="t" r="r" b="b"/>
            <a:pathLst>
              <a:path w="197" h="696">
                <a:moveTo>
                  <a:pt x="174" y="68"/>
                </a:moveTo>
                <a:lnTo>
                  <a:pt x="197" y="626"/>
                </a:lnTo>
                <a:lnTo>
                  <a:pt x="188" y="657"/>
                </a:lnTo>
                <a:lnTo>
                  <a:pt x="165" y="679"/>
                </a:lnTo>
                <a:lnTo>
                  <a:pt x="135" y="692"/>
                </a:lnTo>
                <a:lnTo>
                  <a:pt x="102" y="696"/>
                </a:lnTo>
                <a:lnTo>
                  <a:pt x="40" y="674"/>
                </a:lnTo>
                <a:lnTo>
                  <a:pt x="14" y="618"/>
                </a:lnTo>
                <a:lnTo>
                  <a:pt x="19" y="472"/>
                </a:lnTo>
                <a:lnTo>
                  <a:pt x="14" y="345"/>
                </a:lnTo>
                <a:lnTo>
                  <a:pt x="0" y="70"/>
                </a:lnTo>
                <a:lnTo>
                  <a:pt x="7" y="40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8"/>
                </a:lnTo>
                <a:lnTo>
                  <a:pt x="174" y="6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>
            <a:off x="8026560" y="4146480"/>
            <a:ext cx="377640" cy="843120"/>
          </a:xfrm>
          <a:custGeom>
            <a:avLst/>
            <a:gdLst/>
            <a:ahLst/>
            <a:rect l="l" t="t" r="r" b="b"/>
            <a:pathLst>
              <a:path w="238" h="531">
                <a:moveTo>
                  <a:pt x="180" y="60"/>
                </a:moveTo>
                <a:lnTo>
                  <a:pt x="238" y="469"/>
                </a:lnTo>
                <a:lnTo>
                  <a:pt x="220" y="502"/>
                </a:lnTo>
                <a:lnTo>
                  <a:pt x="206" y="515"/>
                </a:lnTo>
                <a:lnTo>
                  <a:pt x="190" y="524"/>
                </a:lnTo>
                <a:lnTo>
                  <a:pt x="113" y="531"/>
                </a:lnTo>
                <a:lnTo>
                  <a:pt x="48" y="500"/>
                </a:lnTo>
                <a:lnTo>
                  <a:pt x="34" y="470"/>
                </a:lnTo>
                <a:lnTo>
                  <a:pt x="34" y="434"/>
                </a:lnTo>
                <a:lnTo>
                  <a:pt x="48" y="341"/>
                </a:lnTo>
                <a:lnTo>
                  <a:pt x="41" y="258"/>
                </a:lnTo>
                <a:lnTo>
                  <a:pt x="20" y="177"/>
                </a:lnTo>
                <a:lnTo>
                  <a:pt x="0" y="83"/>
                </a:lnTo>
                <a:lnTo>
                  <a:pt x="2" y="51"/>
                </a:lnTo>
                <a:lnTo>
                  <a:pt x="18" y="25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0"/>
                </a:lnTo>
                <a:lnTo>
                  <a:pt x="180" y="6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6080040" y="314280"/>
            <a:ext cx="1158840" cy="250920"/>
          </a:xfrm>
          <a:custGeom>
            <a:avLst/>
            <a:gdLst/>
            <a:ahLst/>
            <a:rect l="l" t="t" r="r" b="b"/>
            <a:pathLst>
              <a:path w="730" h="158">
                <a:moveTo>
                  <a:pt x="63" y="42"/>
                </a:moveTo>
                <a:lnTo>
                  <a:pt x="345" y="20"/>
                </a:lnTo>
                <a:lnTo>
                  <a:pt x="480" y="7"/>
                </a:lnTo>
                <a:lnTo>
                  <a:pt x="630" y="0"/>
                </a:lnTo>
                <a:lnTo>
                  <a:pt x="672" y="7"/>
                </a:lnTo>
                <a:lnTo>
                  <a:pt x="704" y="25"/>
                </a:lnTo>
                <a:lnTo>
                  <a:pt x="730" y="79"/>
                </a:lnTo>
                <a:lnTo>
                  <a:pt x="723" y="109"/>
                </a:lnTo>
                <a:lnTo>
                  <a:pt x="704" y="133"/>
                </a:lnTo>
                <a:lnTo>
                  <a:pt x="672" y="151"/>
                </a:lnTo>
                <a:lnTo>
                  <a:pt x="630" y="158"/>
                </a:lnTo>
                <a:lnTo>
                  <a:pt x="63" y="142"/>
                </a:lnTo>
                <a:lnTo>
                  <a:pt x="14" y="125"/>
                </a:lnTo>
                <a:lnTo>
                  <a:pt x="0" y="92"/>
                </a:lnTo>
                <a:lnTo>
                  <a:pt x="14" y="57"/>
                </a:lnTo>
                <a:lnTo>
                  <a:pt x="35" y="46"/>
                </a:lnTo>
                <a:lnTo>
                  <a:pt x="63" y="42"/>
                </a:lnTo>
                <a:lnTo>
                  <a:pt x="63" y="4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>
            <a:off x="2354400" y="37296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7"/>
                </a:lnTo>
                <a:lnTo>
                  <a:pt x="829" y="40"/>
                </a:lnTo>
                <a:lnTo>
                  <a:pt x="853" y="62"/>
                </a:lnTo>
                <a:lnTo>
                  <a:pt x="862" y="116"/>
                </a:lnTo>
                <a:lnTo>
                  <a:pt x="848" y="142"/>
                </a:lnTo>
                <a:lnTo>
                  <a:pt x="825" y="160"/>
                </a:lnTo>
                <a:lnTo>
                  <a:pt x="792" y="171"/>
                </a:lnTo>
                <a:lnTo>
                  <a:pt x="751" y="171"/>
                </a:lnTo>
                <a:lnTo>
                  <a:pt x="584" y="151"/>
                </a:lnTo>
                <a:lnTo>
                  <a:pt x="433" y="153"/>
                </a:lnTo>
                <a:lnTo>
                  <a:pt x="116" y="190"/>
                </a:lnTo>
                <a:lnTo>
                  <a:pt x="72" y="190"/>
                </a:lnTo>
                <a:lnTo>
                  <a:pt x="37" y="177"/>
                </a:lnTo>
                <a:lnTo>
                  <a:pt x="2" y="127"/>
                </a:lnTo>
                <a:lnTo>
                  <a:pt x="0" y="112"/>
                </a:lnTo>
                <a:lnTo>
                  <a:pt x="2" y="97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>
            <a:off x="4141800" y="380880"/>
            <a:ext cx="1357200" cy="263520"/>
          </a:xfrm>
          <a:custGeom>
            <a:avLst/>
            <a:gdLst/>
            <a:ahLst/>
            <a:rect l="l" t="t" r="r" b="b"/>
            <a:pathLst>
              <a:path w="855" h="166">
                <a:moveTo>
                  <a:pt x="90" y="0"/>
                </a:moveTo>
                <a:lnTo>
                  <a:pt x="429" y="9"/>
                </a:lnTo>
                <a:lnTo>
                  <a:pt x="765" y="19"/>
                </a:lnTo>
                <a:lnTo>
                  <a:pt x="804" y="24"/>
                </a:lnTo>
                <a:lnTo>
                  <a:pt x="832" y="41"/>
                </a:lnTo>
                <a:lnTo>
                  <a:pt x="855" y="92"/>
                </a:lnTo>
                <a:lnTo>
                  <a:pt x="850" y="118"/>
                </a:lnTo>
                <a:lnTo>
                  <a:pt x="832" y="142"/>
                </a:lnTo>
                <a:lnTo>
                  <a:pt x="804" y="159"/>
                </a:lnTo>
                <a:lnTo>
                  <a:pt x="765" y="166"/>
                </a:lnTo>
                <a:lnTo>
                  <a:pt x="429" y="155"/>
                </a:lnTo>
                <a:lnTo>
                  <a:pt x="90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801720" y="1235160"/>
            <a:ext cx="371520" cy="1292040"/>
          </a:xfrm>
          <a:custGeom>
            <a:avLst/>
            <a:gdLst/>
            <a:ahLst/>
            <a:rect l="l" t="t" r="r" b="b"/>
            <a:pathLst>
              <a:path w="234" h="814">
                <a:moveTo>
                  <a:pt x="234" y="83"/>
                </a:moveTo>
                <a:lnTo>
                  <a:pt x="211" y="262"/>
                </a:lnTo>
                <a:lnTo>
                  <a:pt x="195" y="343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4" y="799"/>
                </a:lnTo>
                <a:lnTo>
                  <a:pt x="67" y="814"/>
                </a:lnTo>
                <a:lnTo>
                  <a:pt x="21" y="799"/>
                </a:lnTo>
                <a:lnTo>
                  <a:pt x="0" y="759"/>
                </a:lnTo>
                <a:lnTo>
                  <a:pt x="12" y="417"/>
                </a:lnTo>
                <a:lnTo>
                  <a:pt x="35" y="73"/>
                </a:lnTo>
                <a:lnTo>
                  <a:pt x="46" y="40"/>
                </a:lnTo>
                <a:lnTo>
                  <a:pt x="72" y="16"/>
                </a:lnTo>
                <a:lnTo>
                  <a:pt x="104" y="3"/>
                </a:lnTo>
                <a:lnTo>
                  <a:pt x="139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363600" y="517212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9"/>
                </a:lnTo>
                <a:lnTo>
                  <a:pt x="503" y="133"/>
                </a:lnTo>
                <a:lnTo>
                  <a:pt x="533" y="177"/>
                </a:lnTo>
                <a:lnTo>
                  <a:pt x="626" y="164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0" y="198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1"/>
                </a:lnTo>
                <a:lnTo>
                  <a:pt x="668" y="299"/>
                </a:lnTo>
                <a:lnTo>
                  <a:pt x="640" y="318"/>
                </a:lnTo>
                <a:lnTo>
                  <a:pt x="675" y="377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6"/>
                </a:lnTo>
                <a:lnTo>
                  <a:pt x="473" y="517"/>
                </a:lnTo>
                <a:lnTo>
                  <a:pt x="448" y="500"/>
                </a:lnTo>
                <a:lnTo>
                  <a:pt x="424" y="486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7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2"/>
                </a:lnTo>
                <a:lnTo>
                  <a:pt x="146" y="548"/>
                </a:lnTo>
                <a:lnTo>
                  <a:pt x="163" y="487"/>
                </a:lnTo>
                <a:lnTo>
                  <a:pt x="179" y="443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5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7423200" y="8244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18" y="266"/>
                </a:moveTo>
                <a:lnTo>
                  <a:pt x="27" y="251"/>
                </a:lnTo>
                <a:lnTo>
                  <a:pt x="51" y="236"/>
                </a:lnTo>
                <a:lnTo>
                  <a:pt x="129" y="218"/>
                </a:lnTo>
                <a:lnTo>
                  <a:pt x="280" y="199"/>
                </a:lnTo>
                <a:lnTo>
                  <a:pt x="299" y="127"/>
                </a:lnTo>
                <a:lnTo>
                  <a:pt x="315" y="64"/>
                </a:lnTo>
                <a:lnTo>
                  <a:pt x="333" y="38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8"/>
                </a:lnTo>
                <a:lnTo>
                  <a:pt x="475" y="88"/>
                </a:lnTo>
                <a:lnTo>
                  <a:pt x="500" y="133"/>
                </a:lnTo>
                <a:lnTo>
                  <a:pt x="530" y="179"/>
                </a:lnTo>
                <a:lnTo>
                  <a:pt x="623" y="164"/>
                </a:lnTo>
                <a:lnTo>
                  <a:pt x="702" y="153"/>
                </a:lnTo>
                <a:lnTo>
                  <a:pt x="799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1"/>
                </a:lnTo>
                <a:lnTo>
                  <a:pt x="734" y="247"/>
                </a:lnTo>
                <a:lnTo>
                  <a:pt x="713" y="264"/>
                </a:lnTo>
                <a:lnTo>
                  <a:pt x="690" y="280"/>
                </a:lnTo>
                <a:lnTo>
                  <a:pt x="665" y="299"/>
                </a:lnTo>
                <a:lnTo>
                  <a:pt x="637" y="319"/>
                </a:lnTo>
                <a:lnTo>
                  <a:pt x="674" y="378"/>
                </a:lnTo>
                <a:lnTo>
                  <a:pt x="702" y="439"/>
                </a:lnTo>
                <a:lnTo>
                  <a:pt x="732" y="567"/>
                </a:lnTo>
                <a:lnTo>
                  <a:pt x="723" y="613"/>
                </a:lnTo>
                <a:lnTo>
                  <a:pt x="711" y="624"/>
                </a:lnTo>
                <a:lnTo>
                  <a:pt x="692" y="628"/>
                </a:lnTo>
                <a:lnTo>
                  <a:pt x="588" y="591"/>
                </a:lnTo>
                <a:lnTo>
                  <a:pt x="558" y="574"/>
                </a:lnTo>
                <a:lnTo>
                  <a:pt x="528" y="556"/>
                </a:lnTo>
                <a:lnTo>
                  <a:pt x="498" y="537"/>
                </a:lnTo>
                <a:lnTo>
                  <a:pt x="470" y="517"/>
                </a:lnTo>
                <a:lnTo>
                  <a:pt x="445" y="500"/>
                </a:lnTo>
                <a:lnTo>
                  <a:pt x="421" y="485"/>
                </a:lnTo>
                <a:lnTo>
                  <a:pt x="389" y="467"/>
                </a:lnTo>
                <a:lnTo>
                  <a:pt x="352" y="487"/>
                </a:lnTo>
                <a:lnTo>
                  <a:pt x="317" y="508"/>
                </a:lnTo>
                <a:lnTo>
                  <a:pt x="285" y="528"/>
                </a:lnTo>
                <a:lnTo>
                  <a:pt x="255" y="546"/>
                </a:lnTo>
                <a:lnTo>
                  <a:pt x="229" y="561"/>
                </a:lnTo>
                <a:lnTo>
                  <a:pt x="206" y="574"/>
                </a:lnTo>
                <a:lnTo>
                  <a:pt x="169" y="587"/>
                </a:lnTo>
                <a:lnTo>
                  <a:pt x="148" y="581"/>
                </a:lnTo>
                <a:lnTo>
                  <a:pt x="143" y="550"/>
                </a:lnTo>
                <a:lnTo>
                  <a:pt x="160" y="487"/>
                </a:lnTo>
                <a:lnTo>
                  <a:pt x="176" y="445"/>
                </a:lnTo>
                <a:lnTo>
                  <a:pt x="197" y="391"/>
                </a:lnTo>
                <a:lnTo>
                  <a:pt x="146" y="373"/>
                </a:lnTo>
                <a:lnTo>
                  <a:pt x="65" y="341"/>
                </a:lnTo>
                <a:lnTo>
                  <a:pt x="4" y="304"/>
                </a:lnTo>
                <a:lnTo>
                  <a:pt x="0" y="284"/>
                </a:lnTo>
                <a:lnTo>
                  <a:pt x="18" y="266"/>
                </a:lnTo>
                <a:lnTo>
                  <a:pt x="18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7521480" y="5259240"/>
            <a:ext cx="128772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9"/>
                </a:lnTo>
                <a:lnTo>
                  <a:pt x="130" y="218"/>
                </a:lnTo>
                <a:lnTo>
                  <a:pt x="283" y="200"/>
                </a:lnTo>
                <a:lnTo>
                  <a:pt x="299" y="128"/>
                </a:lnTo>
                <a:lnTo>
                  <a:pt x="315" y="67"/>
                </a:lnTo>
                <a:lnTo>
                  <a:pt x="334" y="39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1"/>
                </a:lnTo>
                <a:lnTo>
                  <a:pt x="501" y="135"/>
                </a:lnTo>
                <a:lnTo>
                  <a:pt x="531" y="179"/>
                </a:lnTo>
                <a:lnTo>
                  <a:pt x="626" y="165"/>
                </a:lnTo>
                <a:lnTo>
                  <a:pt x="705" y="154"/>
                </a:lnTo>
                <a:lnTo>
                  <a:pt x="802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5" y="250"/>
                </a:lnTo>
                <a:lnTo>
                  <a:pt x="714" y="264"/>
                </a:lnTo>
                <a:lnTo>
                  <a:pt x="691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3"/>
                </a:lnTo>
                <a:lnTo>
                  <a:pt x="712" y="625"/>
                </a:lnTo>
                <a:lnTo>
                  <a:pt x="693" y="628"/>
                </a:lnTo>
                <a:lnTo>
                  <a:pt x="591" y="591"/>
                </a:lnTo>
                <a:lnTo>
                  <a:pt x="559" y="575"/>
                </a:lnTo>
                <a:lnTo>
                  <a:pt x="528" y="556"/>
                </a:lnTo>
                <a:lnTo>
                  <a:pt x="501" y="538"/>
                </a:lnTo>
                <a:lnTo>
                  <a:pt x="471" y="519"/>
                </a:lnTo>
                <a:lnTo>
                  <a:pt x="445" y="501"/>
                </a:lnTo>
                <a:lnTo>
                  <a:pt x="422" y="486"/>
                </a:lnTo>
                <a:lnTo>
                  <a:pt x="389" y="468"/>
                </a:lnTo>
                <a:lnTo>
                  <a:pt x="352" y="488"/>
                </a:lnTo>
                <a:lnTo>
                  <a:pt x="318" y="510"/>
                </a:lnTo>
                <a:lnTo>
                  <a:pt x="285" y="529"/>
                </a:lnTo>
                <a:lnTo>
                  <a:pt x="257" y="547"/>
                </a:lnTo>
                <a:lnTo>
                  <a:pt x="230" y="562"/>
                </a:lnTo>
                <a:lnTo>
                  <a:pt x="206" y="575"/>
                </a:lnTo>
                <a:lnTo>
                  <a:pt x="169" y="589"/>
                </a:lnTo>
                <a:lnTo>
                  <a:pt x="149" y="582"/>
                </a:lnTo>
                <a:lnTo>
                  <a:pt x="146" y="551"/>
                </a:lnTo>
                <a:lnTo>
                  <a:pt x="160" y="490"/>
                </a:lnTo>
                <a:lnTo>
                  <a:pt x="176" y="445"/>
                </a:lnTo>
                <a:lnTo>
                  <a:pt x="199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676440" y="12060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4"/>
                </a:moveTo>
                <a:lnTo>
                  <a:pt x="30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3" y="197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7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7" y="500"/>
                </a:lnTo>
                <a:lnTo>
                  <a:pt x="424" y="485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6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4"/>
                </a:lnTo>
                <a:lnTo>
                  <a:pt x="21" y="26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820800" y="274968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7" y="503"/>
                </a:lnTo>
                <a:lnTo>
                  <a:pt x="204" y="516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2" y="434"/>
                </a:lnTo>
                <a:lnTo>
                  <a:pt x="46" y="342"/>
                </a:lnTo>
                <a:lnTo>
                  <a:pt x="39" y="259"/>
                </a:lnTo>
                <a:lnTo>
                  <a:pt x="21" y="178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566640" y="4164120"/>
            <a:ext cx="405000" cy="879480"/>
          </a:xfrm>
          <a:custGeom>
            <a:avLst/>
            <a:gdLst/>
            <a:ahLst/>
            <a:rect l="l" t="t" r="r" b="b"/>
            <a:pathLst>
              <a:path w="255" h="554">
                <a:moveTo>
                  <a:pt x="255" y="77"/>
                </a:moveTo>
                <a:lnTo>
                  <a:pt x="241" y="371"/>
                </a:lnTo>
                <a:lnTo>
                  <a:pt x="220" y="469"/>
                </a:lnTo>
                <a:lnTo>
                  <a:pt x="208" y="507"/>
                </a:lnTo>
                <a:lnTo>
                  <a:pt x="181" y="533"/>
                </a:lnTo>
                <a:lnTo>
                  <a:pt x="146" y="550"/>
                </a:lnTo>
                <a:lnTo>
                  <a:pt x="104" y="554"/>
                </a:lnTo>
                <a:lnTo>
                  <a:pt x="30" y="528"/>
                </a:lnTo>
                <a:lnTo>
                  <a:pt x="0" y="459"/>
                </a:lnTo>
                <a:lnTo>
                  <a:pt x="9" y="350"/>
                </a:lnTo>
                <a:lnTo>
                  <a:pt x="23" y="275"/>
                </a:lnTo>
                <a:lnTo>
                  <a:pt x="42" y="210"/>
                </a:lnTo>
                <a:lnTo>
                  <a:pt x="72" y="70"/>
                </a:lnTo>
                <a:lnTo>
                  <a:pt x="81" y="37"/>
                </a:lnTo>
                <a:lnTo>
                  <a:pt x="104" y="14"/>
                </a:lnTo>
                <a:lnTo>
                  <a:pt x="134" y="3"/>
                </a:lnTo>
                <a:lnTo>
                  <a:pt x="169" y="0"/>
                </a:lnTo>
                <a:lnTo>
                  <a:pt x="229" y="20"/>
                </a:lnTo>
                <a:lnTo>
                  <a:pt x="255" y="77"/>
                </a:lnTo>
                <a:lnTo>
                  <a:pt x="255" y="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1577880" y="5878440"/>
            <a:ext cx="1354320" cy="263520"/>
          </a:xfrm>
          <a:custGeom>
            <a:avLst/>
            <a:gdLst/>
            <a:ahLst/>
            <a:rect l="l" t="t" r="r" b="b"/>
            <a:pathLst>
              <a:path w="853" h="166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0"/>
                </a:lnTo>
                <a:lnTo>
                  <a:pt x="795" y="159"/>
                </a:lnTo>
                <a:lnTo>
                  <a:pt x="748" y="166"/>
                </a:lnTo>
                <a:lnTo>
                  <a:pt x="401" y="161"/>
                </a:lnTo>
                <a:lnTo>
                  <a:pt x="56" y="133"/>
                </a:lnTo>
                <a:lnTo>
                  <a:pt x="12" y="111"/>
                </a:lnTo>
                <a:lnTo>
                  <a:pt x="0" y="76"/>
                </a:lnTo>
                <a:lnTo>
                  <a:pt x="9" y="59"/>
                </a:lnTo>
                <a:lnTo>
                  <a:pt x="23" y="44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3335400" y="587844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7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0"/>
                </a:lnTo>
                <a:lnTo>
                  <a:pt x="818" y="198"/>
                </a:lnTo>
                <a:lnTo>
                  <a:pt x="621" y="198"/>
                </a:lnTo>
                <a:lnTo>
                  <a:pt x="357" y="188"/>
                </a:lnTo>
                <a:lnTo>
                  <a:pt x="93" y="166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4"/>
                </a:lnTo>
                <a:lnTo>
                  <a:pt x="33" y="20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未知"/>
          <p:cNvSpPr/>
          <p:nvPr/>
        </p:nvSpPr>
        <p:spPr>
          <a:xfrm>
            <a:off x="5565600" y="5867280"/>
            <a:ext cx="1305000" cy="292320"/>
          </a:xfrm>
          <a:custGeom>
            <a:avLst/>
            <a:gdLst/>
            <a:ahLst/>
            <a:rect l="l" t="t" r="r" b="b"/>
            <a:pathLst>
              <a:path w="822" h="184">
                <a:moveTo>
                  <a:pt x="53" y="38"/>
                </a:moveTo>
                <a:lnTo>
                  <a:pt x="257" y="22"/>
                </a:lnTo>
                <a:lnTo>
                  <a:pt x="354" y="7"/>
                </a:lnTo>
                <a:lnTo>
                  <a:pt x="463" y="0"/>
                </a:lnTo>
                <a:lnTo>
                  <a:pt x="616" y="9"/>
                </a:lnTo>
                <a:lnTo>
                  <a:pt x="764" y="40"/>
                </a:lnTo>
                <a:lnTo>
                  <a:pt x="801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8"/>
                </a:lnTo>
                <a:lnTo>
                  <a:pt x="780" y="175"/>
                </a:lnTo>
                <a:lnTo>
                  <a:pt x="748" y="184"/>
                </a:lnTo>
                <a:lnTo>
                  <a:pt x="706" y="181"/>
                </a:lnTo>
                <a:lnTo>
                  <a:pt x="586" y="160"/>
                </a:lnTo>
                <a:lnTo>
                  <a:pt x="461" y="157"/>
                </a:lnTo>
                <a:lnTo>
                  <a:pt x="254" y="140"/>
                </a:lnTo>
                <a:lnTo>
                  <a:pt x="157" y="127"/>
                </a:lnTo>
                <a:lnTo>
                  <a:pt x="48" y="118"/>
                </a:lnTo>
                <a:lnTo>
                  <a:pt x="11" y="105"/>
                </a:lnTo>
                <a:lnTo>
                  <a:pt x="0" y="75"/>
                </a:lnTo>
                <a:lnTo>
                  <a:pt x="13" y="49"/>
                </a:lnTo>
                <a:lnTo>
                  <a:pt x="53" y="38"/>
                </a:lnTo>
                <a:lnTo>
                  <a:pt x="53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未知"/>
          <p:cNvSpPr/>
          <p:nvPr/>
        </p:nvSpPr>
        <p:spPr>
          <a:xfrm>
            <a:off x="7889760" y="1357200"/>
            <a:ext cx="379440" cy="970200"/>
          </a:xfrm>
          <a:custGeom>
            <a:avLst/>
            <a:gdLst/>
            <a:ahLst/>
            <a:rect l="l" t="t" r="r" b="b"/>
            <a:pathLst>
              <a:path w="239" h="611">
                <a:moveTo>
                  <a:pt x="239" y="94"/>
                </a:moveTo>
                <a:lnTo>
                  <a:pt x="222" y="209"/>
                </a:lnTo>
                <a:lnTo>
                  <a:pt x="204" y="312"/>
                </a:lnTo>
                <a:lnTo>
                  <a:pt x="195" y="530"/>
                </a:lnTo>
                <a:lnTo>
                  <a:pt x="192" y="562"/>
                </a:lnTo>
                <a:lnTo>
                  <a:pt x="174" y="587"/>
                </a:lnTo>
                <a:lnTo>
                  <a:pt x="146" y="604"/>
                </a:lnTo>
                <a:lnTo>
                  <a:pt x="113" y="611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3"/>
                </a:lnTo>
                <a:lnTo>
                  <a:pt x="30" y="44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4"/>
                </a:lnTo>
                <a:lnTo>
                  <a:pt x="239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>
            <a:off x="7929720" y="2749680"/>
            <a:ext cx="317520" cy="1106280"/>
          </a:xfrm>
          <a:custGeom>
            <a:avLst/>
            <a:gdLst/>
            <a:ahLst/>
            <a:rect l="l" t="t" r="r" b="b"/>
            <a:pathLst>
              <a:path w="200" h="697">
                <a:moveTo>
                  <a:pt x="174" y="69"/>
                </a:moveTo>
                <a:lnTo>
                  <a:pt x="200" y="626"/>
                </a:lnTo>
                <a:lnTo>
                  <a:pt x="188" y="658"/>
                </a:lnTo>
                <a:lnTo>
                  <a:pt x="167" y="680"/>
                </a:lnTo>
                <a:lnTo>
                  <a:pt x="137" y="693"/>
                </a:lnTo>
                <a:lnTo>
                  <a:pt x="102" y="697"/>
                </a:lnTo>
                <a:lnTo>
                  <a:pt x="40" y="676"/>
                </a:lnTo>
                <a:lnTo>
                  <a:pt x="14" y="619"/>
                </a:lnTo>
                <a:lnTo>
                  <a:pt x="19" y="473"/>
                </a:lnTo>
                <a:lnTo>
                  <a:pt x="14" y="346"/>
                </a:lnTo>
                <a:lnTo>
                  <a:pt x="0" y="71"/>
                </a:lnTo>
                <a:lnTo>
                  <a:pt x="7" y="41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>
            <a:off x="7864560" y="4189320"/>
            <a:ext cx="377640" cy="844560"/>
          </a:xfrm>
          <a:custGeom>
            <a:avLst/>
            <a:gdLst/>
            <a:ahLst/>
            <a:rect l="l" t="t" r="r" b="b"/>
            <a:pathLst>
              <a:path w="238" h="532">
                <a:moveTo>
                  <a:pt x="183" y="61"/>
                </a:moveTo>
                <a:lnTo>
                  <a:pt x="238" y="469"/>
                </a:lnTo>
                <a:lnTo>
                  <a:pt x="220" y="503"/>
                </a:lnTo>
                <a:lnTo>
                  <a:pt x="206" y="515"/>
                </a:lnTo>
                <a:lnTo>
                  <a:pt x="190" y="525"/>
                </a:lnTo>
                <a:lnTo>
                  <a:pt x="113" y="532"/>
                </a:lnTo>
                <a:lnTo>
                  <a:pt x="48" y="501"/>
                </a:lnTo>
                <a:lnTo>
                  <a:pt x="34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3" y="178"/>
                </a:lnTo>
                <a:lnTo>
                  <a:pt x="0" y="83"/>
                </a:lnTo>
                <a:lnTo>
                  <a:pt x="2" y="52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3" y="9"/>
                </a:lnTo>
                <a:lnTo>
                  <a:pt x="183" y="61"/>
                </a:lnTo>
                <a:lnTo>
                  <a:pt x="183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>
            <a:off x="5918040" y="357120"/>
            <a:ext cx="1159200" cy="252360"/>
          </a:xfrm>
          <a:custGeom>
            <a:avLst/>
            <a:gdLst/>
            <a:ahLst/>
            <a:rect l="l" t="t" r="r" b="b"/>
            <a:pathLst>
              <a:path w="730" h="159">
                <a:moveTo>
                  <a:pt x="63" y="43"/>
                </a:moveTo>
                <a:lnTo>
                  <a:pt x="345" y="22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6"/>
                </a:lnTo>
                <a:lnTo>
                  <a:pt x="730" y="80"/>
                </a:lnTo>
                <a:lnTo>
                  <a:pt x="723" y="109"/>
                </a:lnTo>
                <a:lnTo>
                  <a:pt x="704" y="133"/>
                </a:lnTo>
                <a:lnTo>
                  <a:pt x="674" y="152"/>
                </a:lnTo>
                <a:lnTo>
                  <a:pt x="630" y="159"/>
                </a:lnTo>
                <a:lnTo>
                  <a:pt x="63" y="143"/>
                </a:lnTo>
                <a:lnTo>
                  <a:pt x="16" y="126"/>
                </a:lnTo>
                <a:lnTo>
                  <a:pt x="0" y="93"/>
                </a:lnTo>
                <a:lnTo>
                  <a:pt x="16" y="58"/>
                </a:lnTo>
                <a:lnTo>
                  <a:pt x="35" y="46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2192400" y="41580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3"/>
                </a:lnTo>
                <a:lnTo>
                  <a:pt x="862" y="117"/>
                </a:lnTo>
                <a:lnTo>
                  <a:pt x="848" y="142"/>
                </a:lnTo>
                <a:lnTo>
                  <a:pt x="825" y="161"/>
                </a:lnTo>
                <a:lnTo>
                  <a:pt x="792" y="174"/>
                </a:lnTo>
                <a:lnTo>
                  <a:pt x="753" y="172"/>
                </a:lnTo>
                <a:lnTo>
                  <a:pt x="584" y="154"/>
                </a:lnTo>
                <a:lnTo>
                  <a:pt x="433" y="154"/>
                </a:lnTo>
                <a:lnTo>
                  <a:pt x="116" y="190"/>
                </a:lnTo>
                <a:lnTo>
                  <a:pt x="72" y="190"/>
                </a:lnTo>
                <a:lnTo>
                  <a:pt x="37" y="178"/>
                </a:lnTo>
                <a:lnTo>
                  <a:pt x="2" y="128"/>
                </a:lnTo>
                <a:lnTo>
                  <a:pt x="0" y="113"/>
                </a:lnTo>
                <a:lnTo>
                  <a:pt x="2" y="98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3979800" y="425520"/>
            <a:ext cx="1360440" cy="260280"/>
          </a:xfrm>
          <a:custGeom>
            <a:avLst/>
            <a:gdLst/>
            <a:ahLst/>
            <a:rect l="l" t="t" r="r" b="b"/>
            <a:pathLst>
              <a:path w="857" h="164">
                <a:moveTo>
                  <a:pt x="93" y="0"/>
                </a:moveTo>
                <a:lnTo>
                  <a:pt x="429" y="9"/>
                </a:lnTo>
                <a:lnTo>
                  <a:pt x="765" y="18"/>
                </a:lnTo>
                <a:lnTo>
                  <a:pt x="804" y="24"/>
                </a:lnTo>
                <a:lnTo>
                  <a:pt x="834" y="40"/>
                </a:lnTo>
                <a:lnTo>
                  <a:pt x="857" y="92"/>
                </a:lnTo>
                <a:lnTo>
                  <a:pt x="850" y="118"/>
                </a:lnTo>
                <a:lnTo>
                  <a:pt x="834" y="142"/>
                </a:lnTo>
                <a:lnTo>
                  <a:pt x="804" y="159"/>
                </a:lnTo>
                <a:lnTo>
                  <a:pt x="765" y="164"/>
                </a:lnTo>
                <a:lnTo>
                  <a:pt x="429" y="155"/>
                </a:lnTo>
                <a:lnTo>
                  <a:pt x="93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5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639720" y="1278000"/>
            <a:ext cx="371520" cy="1293840"/>
          </a:xfrm>
          <a:custGeom>
            <a:avLst/>
            <a:gdLst/>
            <a:ahLst/>
            <a:rect l="l" t="t" r="r" b="b"/>
            <a:pathLst>
              <a:path w="234" h="815">
                <a:moveTo>
                  <a:pt x="234" y="83"/>
                </a:moveTo>
                <a:lnTo>
                  <a:pt x="211" y="263"/>
                </a:lnTo>
                <a:lnTo>
                  <a:pt x="195" y="344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6" y="800"/>
                </a:lnTo>
                <a:lnTo>
                  <a:pt x="67" y="815"/>
                </a:lnTo>
                <a:lnTo>
                  <a:pt x="21" y="800"/>
                </a:lnTo>
                <a:lnTo>
                  <a:pt x="0" y="759"/>
                </a:lnTo>
                <a:lnTo>
                  <a:pt x="12" y="418"/>
                </a:lnTo>
                <a:lnTo>
                  <a:pt x="37" y="74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201600" y="5216400"/>
            <a:ext cx="129240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1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6" y="38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4" y="166"/>
                </a:lnTo>
                <a:lnTo>
                  <a:pt x="793" y="197"/>
                </a:lnTo>
                <a:lnTo>
                  <a:pt x="767" y="219"/>
                </a:lnTo>
                <a:lnTo>
                  <a:pt x="735" y="247"/>
                </a:lnTo>
                <a:lnTo>
                  <a:pt x="716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6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8" y="500"/>
                </a:lnTo>
                <a:lnTo>
                  <a:pt x="424" y="485"/>
                </a:lnTo>
                <a:lnTo>
                  <a:pt x="390" y="465"/>
                </a:lnTo>
                <a:lnTo>
                  <a:pt x="355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4"/>
                </a:lnTo>
                <a:lnTo>
                  <a:pt x="232" y="561"/>
                </a:lnTo>
                <a:lnTo>
                  <a:pt x="209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7261200" y="12528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2"/>
                </a:lnTo>
                <a:lnTo>
                  <a:pt x="51" y="239"/>
                </a:lnTo>
                <a:lnTo>
                  <a:pt x="129" y="218"/>
                </a:lnTo>
                <a:lnTo>
                  <a:pt x="280" y="200"/>
                </a:lnTo>
                <a:lnTo>
                  <a:pt x="299" y="128"/>
                </a:lnTo>
                <a:lnTo>
                  <a:pt x="315" y="67"/>
                </a:lnTo>
                <a:lnTo>
                  <a:pt x="333" y="39"/>
                </a:lnTo>
                <a:lnTo>
                  <a:pt x="350" y="21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89"/>
                </a:lnTo>
                <a:lnTo>
                  <a:pt x="500" y="133"/>
                </a:lnTo>
                <a:lnTo>
                  <a:pt x="530" y="180"/>
                </a:lnTo>
                <a:lnTo>
                  <a:pt x="623" y="165"/>
                </a:lnTo>
                <a:lnTo>
                  <a:pt x="702" y="154"/>
                </a:lnTo>
                <a:lnTo>
                  <a:pt x="799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4" y="250"/>
                </a:lnTo>
                <a:lnTo>
                  <a:pt x="713" y="265"/>
                </a:lnTo>
                <a:lnTo>
                  <a:pt x="690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4"/>
                </a:lnTo>
                <a:lnTo>
                  <a:pt x="711" y="625"/>
                </a:lnTo>
                <a:lnTo>
                  <a:pt x="692" y="628"/>
                </a:lnTo>
                <a:lnTo>
                  <a:pt x="588" y="591"/>
                </a:lnTo>
                <a:lnTo>
                  <a:pt x="558" y="575"/>
                </a:lnTo>
                <a:lnTo>
                  <a:pt x="528" y="556"/>
                </a:lnTo>
                <a:lnTo>
                  <a:pt x="500" y="538"/>
                </a:lnTo>
                <a:lnTo>
                  <a:pt x="470" y="519"/>
                </a:lnTo>
                <a:lnTo>
                  <a:pt x="445" y="501"/>
                </a:lnTo>
                <a:lnTo>
                  <a:pt x="421" y="486"/>
                </a:lnTo>
                <a:lnTo>
                  <a:pt x="389" y="468"/>
                </a:lnTo>
                <a:lnTo>
                  <a:pt x="352" y="488"/>
                </a:lnTo>
                <a:lnTo>
                  <a:pt x="317" y="508"/>
                </a:lnTo>
                <a:lnTo>
                  <a:pt x="285" y="529"/>
                </a:lnTo>
                <a:lnTo>
                  <a:pt x="257" y="547"/>
                </a:lnTo>
                <a:lnTo>
                  <a:pt x="229" y="562"/>
                </a:lnTo>
                <a:lnTo>
                  <a:pt x="206" y="575"/>
                </a:lnTo>
                <a:lnTo>
                  <a:pt x="169" y="590"/>
                </a:lnTo>
                <a:lnTo>
                  <a:pt x="148" y="582"/>
                </a:lnTo>
                <a:lnTo>
                  <a:pt x="143" y="551"/>
                </a:lnTo>
                <a:lnTo>
                  <a:pt x="160" y="488"/>
                </a:lnTo>
                <a:lnTo>
                  <a:pt x="176" y="446"/>
                </a:lnTo>
                <a:lnTo>
                  <a:pt x="197" y="392"/>
                </a:lnTo>
                <a:lnTo>
                  <a:pt x="146" y="373"/>
                </a:lnTo>
                <a:lnTo>
                  <a:pt x="65" y="342"/>
                </a:lnTo>
                <a:lnTo>
                  <a:pt x="4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7359480" y="5303880"/>
            <a:ext cx="128772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8"/>
                </a:lnTo>
                <a:lnTo>
                  <a:pt x="130" y="218"/>
                </a:lnTo>
                <a:lnTo>
                  <a:pt x="283" y="199"/>
                </a:lnTo>
                <a:lnTo>
                  <a:pt x="301" y="127"/>
                </a:lnTo>
                <a:lnTo>
                  <a:pt x="315" y="67"/>
                </a:lnTo>
                <a:lnTo>
                  <a:pt x="334" y="39"/>
                </a:lnTo>
                <a:lnTo>
                  <a:pt x="352" y="20"/>
                </a:lnTo>
                <a:lnTo>
                  <a:pt x="383" y="0"/>
                </a:lnTo>
                <a:lnTo>
                  <a:pt x="408" y="2"/>
                </a:lnTo>
                <a:lnTo>
                  <a:pt x="429" y="18"/>
                </a:lnTo>
                <a:lnTo>
                  <a:pt x="475" y="91"/>
                </a:lnTo>
                <a:lnTo>
                  <a:pt x="501" y="135"/>
                </a:lnTo>
                <a:lnTo>
                  <a:pt x="533" y="179"/>
                </a:lnTo>
                <a:lnTo>
                  <a:pt x="626" y="164"/>
                </a:lnTo>
                <a:lnTo>
                  <a:pt x="705" y="153"/>
                </a:lnTo>
                <a:lnTo>
                  <a:pt x="802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2"/>
                </a:lnTo>
                <a:lnTo>
                  <a:pt x="735" y="249"/>
                </a:lnTo>
                <a:lnTo>
                  <a:pt x="714" y="264"/>
                </a:lnTo>
                <a:lnTo>
                  <a:pt x="691" y="281"/>
                </a:lnTo>
                <a:lnTo>
                  <a:pt x="668" y="299"/>
                </a:lnTo>
                <a:lnTo>
                  <a:pt x="637" y="320"/>
                </a:lnTo>
                <a:lnTo>
                  <a:pt x="675" y="379"/>
                </a:lnTo>
                <a:lnTo>
                  <a:pt x="702" y="440"/>
                </a:lnTo>
                <a:lnTo>
                  <a:pt x="735" y="569"/>
                </a:lnTo>
                <a:lnTo>
                  <a:pt x="725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7"/>
                </a:lnTo>
                <a:lnTo>
                  <a:pt x="473" y="519"/>
                </a:lnTo>
                <a:lnTo>
                  <a:pt x="445" y="501"/>
                </a:lnTo>
                <a:lnTo>
                  <a:pt x="424" y="486"/>
                </a:lnTo>
                <a:lnTo>
                  <a:pt x="390" y="467"/>
                </a:lnTo>
                <a:lnTo>
                  <a:pt x="352" y="488"/>
                </a:lnTo>
                <a:lnTo>
                  <a:pt x="318" y="510"/>
                </a:lnTo>
                <a:lnTo>
                  <a:pt x="288" y="528"/>
                </a:lnTo>
                <a:lnTo>
                  <a:pt x="257" y="547"/>
                </a:lnTo>
                <a:lnTo>
                  <a:pt x="230" y="563"/>
                </a:lnTo>
                <a:lnTo>
                  <a:pt x="206" y="574"/>
                </a:lnTo>
                <a:lnTo>
                  <a:pt x="169" y="589"/>
                </a:lnTo>
                <a:lnTo>
                  <a:pt x="149" y="582"/>
                </a:lnTo>
                <a:lnTo>
                  <a:pt x="146" y="550"/>
                </a:lnTo>
                <a:lnTo>
                  <a:pt x="162" y="489"/>
                </a:lnTo>
                <a:lnTo>
                  <a:pt x="176" y="445"/>
                </a:lnTo>
                <a:lnTo>
                  <a:pt x="200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>
            <a:off x="514440" y="163440"/>
            <a:ext cx="129204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0" y="250"/>
                </a:lnTo>
                <a:lnTo>
                  <a:pt x="54" y="237"/>
                </a:lnTo>
                <a:lnTo>
                  <a:pt x="130" y="217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89"/>
                </a:lnTo>
                <a:lnTo>
                  <a:pt x="503" y="133"/>
                </a:lnTo>
                <a:lnTo>
                  <a:pt x="533" y="178"/>
                </a:lnTo>
                <a:lnTo>
                  <a:pt x="626" y="165"/>
                </a:lnTo>
                <a:lnTo>
                  <a:pt x="705" y="152"/>
                </a:lnTo>
                <a:lnTo>
                  <a:pt x="802" y="152"/>
                </a:lnTo>
                <a:lnTo>
                  <a:pt x="814" y="167"/>
                </a:lnTo>
                <a:lnTo>
                  <a:pt x="793" y="198"/>
                </a:lnTo>
                <a:lnTo>
                  <a:pt x="770" y="220"/>
                </a:lnTo>
                <a:lnTo>
                  <a:pt x="735" y="248"/>
                </a:lnTo>
                <a:lnTo>
                  <a:pt x="716" y="265"/>
                </a:lnTo>
                <a:lnTo>
                  <a:pt x="693" y="281"/>
                </a:lnTo>
                <a:lnTo>
                  <a:pt x="668" y="300"/>
                </a:lnTo>
                <a:lnTo>
                  <a:pt x="640" y="318"/>
                </a:lnTo>
                <a:lnTo>
                  <a:pt x="675" y="377"/>
                </a:lnTo>
                <a:lnTo>
                  <a:pt x="705" y="440"/>
                </a:lnTo>
                <a:lnTo>
                  <a:pt x="735" y="567"/>
                </a:lnTo>
                <a:lnTo>
                  <a:pt x="726" y="614"/>
                </a:lnTo>
                <a:lnTo>
                  <a:pt x="714" y="625"/>
                </a:lnTo>
                <a:lnTo>
                  <a:pt x="695" y="628"/>
                </a:lnTo>
                <a:lnTo>
                  <a:pt x="591" y="591"/>
                </a:lnTo>
                <a:lnTo>
                  <a:pt x="561" y="575"/>
                </a:lnTo>
                <a:lnTo>
                  <a:pt x="531" y="556"/>
                </a:lnTo>
                <a:lnTo>
                  <a:pt x="501" y="536"/>
                </a:lnTo>
                <a:lnTo>
                  <a:pt x="473" y="518"/>
                </a:lnTo>
                <a:lnTo>
                  <a:pt x="448" y="501"/>
                </a:lnTo>
                <a:lnTo>
                  <a:pt x="424" y="486"/>
                </a:lnTo>
                <a:lnTo>
                  <a:pt x="390" y="466"/>
                </a:lnTo>
                <a:lnTo>
                  <a:pt x="355" y="488"/>
                </a:lnTo>
                <a:lnTo>
                  <a:pt x="320" y="508"/>
                </a:lnTo>
                <a:lnTo>
                  <a:pt x="288" y="529"/>
                </a:lnTo>
                <a:lnTo>
                  <a:pt x="258" y="547"/>
                </a:lnTo>
                <a:lnTo>
                  <a:pt x="232" y="562"/>
                </a:lnTo>
                <a:lnTo>
                  <a:pt x="209" y="575"/>
                </a:lnTo>
                <a:lnTo>
                  <a:pt x="172" y="588"/>
                </a:lnTo>
                <a:lnTo>
                  <a:pt x="151" y="582"/>
                </a:lnTo>
                <a:lnTo>
                  <a:pt x="146" y="551"/>
                </a:lnTo>
                <a:lnTo>
                  <a:pt x="163" y="488"/>
                </a:lnTo>
                <a:lnTo>
                  <a:pt x="179" y="444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7" y="303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未知"/>
          <p:cNvSpPr/>
          <p:nvPr/>
        </p:nvSpPr>
        <p:spPr>
          <a:xfrm>
            <a:off x="658800" y="279396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8" y="502"/>
                </a:lnTo>
                <a:lnTo>
                  <a:pt x="204" y="515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1" y="177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3719520"/>
            <a:ext cx="166212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477120" y="4648320"/>
            <a:ext cx="113328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0" y="1905120"/>
            <a:ext cx="3281400" cy="1079280"/>
          </a:xfrm>
          <a:prstGeom prst="wedgeEllipseCallout">
            <a:avLst>
              <a:gd name="adj1" fmla="val -7476"/>
              <a:gd name="adj2" fmla="val 154703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非常感谢你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指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52680" y="1830240"/>
            <a:ext cx="3438360" cy="1698840"/>
          </a:xfrm>
          <a:prstGeom prst="wedgeEllipseCallout">
            <a:avLst>
              <a:gd name="adj1" fmla="val 1939"/>
              <a:gd name="adj2" fmla="val 11009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你走的方向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全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019920" y="838080"/>
            <a:ext cx="904680" cy="914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879640" y="1182600"/>
            <a:ext cx="754200" cy="71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 rot="5191200">
            <a:off x="5392440" y="4360680"/>
            <a:ext cx="1382760" cy="585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 flipH="1" rot="21418800">
            <a:off x="2665080" y="4231800"/>
            <a:ext cx="144936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5880" y="2421000"/>
            <a:ext cx="1494000" cy="3379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64000" y="1052640"/>
            <a:ext cx="3311640" cy="2952720"/>
          </a:xfrm>
          <a:prstGeom prst="wedgeEllipseCallout">
            <a:avLst>
              <a:gd name="adj1" fmla="val -15101"/>
              <a:gd name="adj2" fmla="val 719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婚礼暂时取消了。由于非常突然的原因，狮王二十八世不得不和老虎开战。你可以回去了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523880"/>
            <a:ext cx="2438280" cy="2011320"/>
          </a:xfrm>
          <a:prstGeom prst="wedgeEllipseCallout">
            <a:avLst>
              <a:gd name="adj1" fmla="val 14064"/>
              <a:gd name="adj2" fmla="val 91671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很遗憾，我的决定是不可改变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553080" y="35053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708120" cy="708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 rot="17180400">
            <a:off x="4599360" y="3761280"/>
            <a:ext cx="168300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 flipH="1">
            <a:off x="1674360" y="4935600"/>
            <a:ext cx="2287800" cy="104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L 0.85833 3.33333E-006 E">
                                      <p:cBhvr>
                                        <p:cTn id="319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未知"/>
          <p:cNvSpPr/>
          <p:nvPr/>
        </p:nvSpPr>
        <p:spPr>
          <a:xfrm>
            <a:off x="95400" y="57240"/>
            <a:ext cx="204444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0" y="6480"/>
            <a:ext cx="9070920" cy="679104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未知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未知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363600" y="52624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7521480" y="5351400"/>
            <a:ext cx="128772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566640" y="4235400"/>
            <a:ext cx="40500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未知"/>
          <p:cNvSpPr/>
          <p:nvPr/>
        </p:nvSpPr>
        <p:spPr>
          <a:xfrm>
            <a:off x="7889760" y="138096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未知"/>
          <p:cNvSpPr/>
          <p:nvPr/>
        </p:nvSpPr>
        <p:spPr>
          <a:xfrm>
            <a:off x="7929720" y="279864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未知"/>
          <p:cNvSpPr/>
          <p:nvPr/>
        </p:nvSpPr>
        <p:spPr>
          <a:xfrm>
            <a:off x="7864560" y="4262400"/>
            <a:ext cx="377640" cy="85896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未知"/>
          <p:cNvSpPr/>
          <p:nvPr/>
        </p:nvSpPr>
        <p:spPr>
          <a:xfrm>
            <a:off x="5918040" y="363600"/>
            <a:ext cx="115920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未知"/>
          <p:cNvSpPr/>
          <p:nvPr/>
        </p:nvSpPr>
        <p:spPr>
          <a:xfrm>
            <a:off x="2192400" y="42372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3979800" y="43164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未知"/>
          <p:cNvSpPr/>
          <p:nvPr/>
        </p:nvSpPr>
        <p:spPr>
          <a:xfrm>
            <a:off x="639720" y="1300320"/>
            <a:ext cx="371520" cy="13158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未知"/>
          <p:cNvSpPr/>
          <p:nvPr/>
        </p:nvSpPr>
        <p:spPr>
          <a:xfrm>
            <a:off x="201600" y="53071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未知"/>
          <p:cNvSpPr/>
          <p:nvPr/>
        </p:nvSpPr>
        <p:spPr>
          <a:xfrm>
            <a:off x="7261200" y="12852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7359480" y="5396040"/>
            <a:ext cx="128772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未知"/>
          <p:cNvSpPr/>
          <p:nvPr/>
        </p:nvSpPr>
        <p:spPr>
          <a:xfrm>
            <a:off x="514440" y="166680"/>
            <a:ext cx="129204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658800" y="284328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 flipH="1" rot="20930400">
            <a:off x="1115640" y="4437000"/>
            <a:ext cx="1944720" cy="1110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21408000">
            <a:off x="3657240" y="3200400"/>
            <a:ext cx="3600360" cy="2160720"/>
          </a:xfrm>
          <a:prstGeom prst="wedgeEllipseCallout">
            <a:avLst>
              <a:gd name="adj1" fmla="val -67861"/>
              <a:gd name="adj2" fmla="val 1236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很遗憾，我不能这样。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1052640"/>
            <a:ext cx="2737080" cy="1655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065960" y="609480"/>
            <a:ext cx="4108680" cy="2743200"/>
          </a:xfrm>
          <a:prstGeom prst="cloudCallout">
            <a:avLst>
              <a:gd name="adj1" fmla="val -69824"/>
              <a:gd name="adj2" fmla="val 1284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狮王在与老虎的拼杀中身负重伤，已经不幸去世了。你还是回去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 flipH="1" rot="25200">
            <a:off x="5936400" y="1947960"/>
            <a:ext cx="2376720" cy="204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3 0.00324 L 0.95677 2.22222E-006 E">
                                      <p:cBhvr>
                                        <p:cTn id="33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2601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乌龟最后没有赶上狮王二十八世的婚礼，却参加了狮王二十九世的婚礼，你认为它是成功了还是失败了？为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小乌龟赶到目的地，没有狮王二十九世的婚礼，那小乌龟此行还有没有意义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c6de2"/>
                </a:solidFill>
                <a:latin typeface="Arial"/>
              </a:rPr>
              <a:t>提示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意义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小乌龟锻炼了意志，增长了见识，充实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成功不在于一定达到预定目标，只要在追求的过程中，能有收获，能证明自我，能使自己成长，就是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33"/>
                </a:solidFill>
                <a:latin typeface="Arial"/>
                <a:ea typeface="华文行楷"/>
              </a:rPr>
              <a:t>主题概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4080" y="2438280"/>
            <a:ext cx="639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做任何事情要想获得成功，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仅要认准一个目标坚持到底，还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有战胜各种困难的坚强意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0"/>
            <a:ext cx="27432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比较阅读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2" name=""/>
          <p:cNvSpPr/>
          <p:nvPr/>
        </p:nvSpPr>
        <p:spPr>
          <a:xfrm>
            <a:off x="2393280" y="83808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认真听儿歌，说说歌曲中的蜗牛与小犟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有什么相同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99960" y="18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蜗牛与黄鹂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5146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门阿前一棵葡萄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嫩阿嫩绿地刚发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蜗牛背著那重重的壳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一步一步地往上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树阿上两只黄鹂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嘻阿嘻哈哈在笑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葡萄成熟还早得很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现在上来干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黄阿黄鹂儿不要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等我爬上它就成熟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蜗牛与黄鹂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9738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33"/>
                </a:solidFill>
                <a:latin typeface="Arial"/>
                <a:ea typeface="华文行楷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了这篇课文，我们从小乌龟的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到了些什么呢？用我们的笔对小乌龟说几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话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3962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你还知道哪些具有“犟龟精神”的名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事迹，给大家说一说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14600" y="1143000"/>
            <a:ext cx="46483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3300"/>
                </a:solidFill>
                <a:latin typeface="Arial"/>
                <a:ea typeface="120"/>
              </a:rPr>
              <a:t>犟  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5373720"/>
            <a:ext cx="115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376360" cy="132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3276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米切尔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恩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我们每个人的一生都可能会像犟龟一样经历很多的挫折和磨难，就如那首歌中唱的那样“不经历风雨，怎能见彩虹，没有人能够随随便便成功”，愿我们的同学们都能像犟龟那样具有“犟”的精神，相信大家一定会见到最美的彩虹！谢谢大家，再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380880"/>
            <a:ext cx="3962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5320" y="5257800"/>
            <a:ext cx="23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米切尔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恩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32480" y="-73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990720"/>
            <a:ext cx="327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德国当代著名的儿童文学作家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97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发表小说《毛毛》后成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世纪登峰造极的儿童文学作家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什么是童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童话是儿童文学的一种。通过丰富的想象、幻想和夸张来塑造形象、反映生活，对儿童进行思想教育。如我们接触过的《白雪公主》、《丑小鸭》、《小红帽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67080" y="1125360"/>
            <a:ext cx="4716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边听边在段前标上自然段序号，并圈出不太理解的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了解文章大意，找出描述小乌龟途中所遇到的困难和阻碍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12520" y="352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7160" y="41076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行楷"/>
              </a:rPr>
              <a:t>听录音，晓文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553080" y="495288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lay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49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" y="0"/>
            <a:ext cx="8990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200" y="7632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155736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倔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：刚强不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64500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脾气：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倔强执拗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niù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）的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1557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64500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2349360"/>
            <a:ext cx="1728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1844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15238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39306E-006 L 0.53177 0.12578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4971E-006 L 0.61024 -0.10474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1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1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2960" y="369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乌龟的梦想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87160" y="97956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参加这有史以来最热闹的婚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2160" y="1523880"/>
            <a:ext cx="398124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它追寻梦想的过程中，遇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困难和阻碍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是怎么克服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666880"/>
            <a:ext cx="802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腿短路长，方向走反；婚礼取消，狮王去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其他小动物的劝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23840" y="3884040"/>
            <a:ext cx="538848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小乌龟面对这些困难和阻碍时反复强调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句话是什么？文中反复强调这句话有什么作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78080" y="5133960"/>
            <a:ext cx="44478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反复强调：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突出小乌龟决心坚定，认准目标不动摇，给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留下深刻印象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5880" y="0"/>
            <a:ext cx="27432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行楷"/>
              </a:rPr>
              <a:t>想一想？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2133720"/>
            <a:ext cx="1752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8954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19520" y="24379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4760" y="1817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实现自己的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达到自己的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3:23:14Z</dcterms:created>
  <dc:creator/>
  <dc:description/>
  <dc:language>en-US</dc:language>
  <cp:lastModifiedBy>育星教育网</cp:lastModifiedBy>
  <dcterms:modified xsi:type="dcterms:W3CDTF">2012-11-19T06:41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  <property fmtid="{D5CDD505-2E9C-101B-9397-08002B2CF9AE}" pid="3" name="Version">
    <vt:r8>1</vt:r8>
  </property>
</Properties>
</file>