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91834-549C-4162-9A10-7B03E6012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5956C-B077-4753-A1A7-B44732BA2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2B104-2BC4-430A-A7D4-F90EA3B15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1E4AB-3233-4944-A4F3-42F2F49A5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D815F-4895-4D96-B859-372A84EA6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21DFF-6441-41BB-B1D0-8BDEC87F6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642FC-5054-4E6D-8D55-2B6DDF64C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566F0-15E2-4127-9F78-1A15D16E2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DA345-B861-44D2-9023-DE71FEA44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1DE3A-5366-4D61-A2B4-D98D6314F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37843-5233-4509-A175-FE556FF60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D762D-2CE4-4A7B-9696-52CC6C9C0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6EE3-0C60-4D2A-9A8D-49F9CDC346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7391520" cy="6858000"/>
          </a:xfrm>
          <a:prstGeom prst="rect">
            <a:avLst/>
          </a:prstGeom>
          <a:ln w="0">
            <a:noFill/>
          </a:ln>
        </p:spPr>
      </p:pic>
      <p:sp>
        <p:nvSpPr>
          <p:cNvPr id="42" name=""/>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霍拉旭  不要作声！谁来了？”）</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奥斯里克上”到“不是更好吗随她去”）</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一贵族上”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比剑决斗”一共有多少矛盾冲突？</a:t>
            </a:r>
            <a:endParaRPr b="0" lang="en-US" sz="2800" spc="-1" strike="noStrike">
              <a:solidFill>
                <a:srgbClr val="000000"/>
              </a:solidFill>
              <a:latin typeface="Arial"/>
            </a:endParaRPr>
          </a:p>
        </p:txBody>
      </p:sp>
      <p:sp>
        <p:nvSpPr>
          <p:cNvPr id="103" name=""/>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害”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Tahoma"/>
                <a:ea typeface="华文新魏"/>
              </a:rPr>
              <a:t>“比剑”（明）</a:t>
            </a:r>
            <a:r>
              <a:rPr b="1" lang="zh-CN" sz="3600" spc="-1" strike="noStrike">
                <a:solidFill>
                  <a:srgbClr val="333399"/>
                </a:solidFill>
                <a:latin typeface="Tahoma"/>
                <a:ea typeface="华文新魏"/>
              </a:rPr>
              <a:t>和</a:t>
            </a:r>
            <a:r>
              <a:rPr b="1" lang="zh-CN" sz="3600" spc="-1" strike="noStrike">
                <a:solidFill>
                  <a:srgbClr val="ff3300"/>
                </a:solidFill>
                <a:latin typeface="Tahoma"/>
                <a:ea typeface="华文新魏"/>
              </a:rPr>
              <a:t>“毒计”（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
          <p:cNvGrpSpPr/>
          <p:nvPr/>
        </p:nvGrpSpPr>
        <p:grpSpPr>
          <a:xfrm>
            <a:off x="1447920" y="1600200"/>
            <a:ext cx="6324480" cy="2286000"/>
            <a:chOff x="1447920" y="1600200"/>
            <a:chExt cx="6324480" cy="2286000"/>
          </a:xfrm>
        </p:grpSpPr>
        <p:sp>
          <p:nvSpPr>
            <p:cNvPr id="109" name=""/>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Tahoma"/>
                  <a:ea typeface="黑体"/>
                </a:rPr>
                <a:t>——</a:t>
              </a:r>
              <a:endParaRPr b="0" lang="en-US" sz="2800" spc="-1" strike="noStrike">
                <a:solidFill>
                  <a:srgbClr val="000000"/>
                </a:solidFill>
                <a:latin typeface="Arial"/>
              </a:endParaRPr>
            </a:p>
          </p:txBody>
        </p:sp>
        <p:sp>
          <p:nvSpPr>
            <p:cNvPr id="110" name=""/>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Tahoma"/>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 descr="">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 descr=""/>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重整乾坤”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 descr="">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13T02:11:07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