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458-45C8-4A80-A9E5-0D485456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46C-6460-4F12-9E46-E36CCC28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A2D-3173-480B-B7AD-503CAF57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6C94-CEE8-4711-B3F8-45B101D3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98DD-51AF-4B8B-B35A-88C46240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D67-D1D9-4521-BFA3-612CBDEB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313A-8249-4880-9F47-6187C21F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6896-540F-4214-B76D-42FDFC57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3679-7CE6-42A0-9D9B-62D0BE27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8AB-474C-4410-8DA5-90A43D3B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37E3-9BEF-4976-A202-821D32DA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A1E5-A834-4B10-BE29-4026C9DE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C417-CC8E-47E0-B2A5-F353B375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EE54-4C88-4EC5-B762-33788F58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90EB-EE66-448A-AF07-979A2778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E6F8-E53B-48B3-9232-AA31E141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4420-9D9F-42E5-BE65-A118EB9A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E546-DBD5-4D44-B10C-001360C5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91C1-2507-4ED5-912B-B39614A7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3536E-2D5F-4557-81D6-65555AEE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329-7524-4FDC-A806-4CFF833A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B1C95-C412-4E0E-93B9-D0A82336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E3254-F743-404C-BB0C-6E243F15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F5D01-18D1-4C53-BFB1-B14B10F4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59173-41EC-4FAB-8916-0CB124B6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6376E-0203-4F9D-A5A1-9846CD7C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DA9FD-462F-4A25-81FC-9F258617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59489-315B-4C84-92BD-A04E600D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B88B4-DBE6-4E6E-9BAE-7586628F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5D139-429B-402C-8809-68735F6D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2F437-ABB4-4F56-818F-0EABDC2F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BE7-646A-4843-B64B-07A244D6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EE35E-9E5E-46E9-9C61-C37E0385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C070F-5A34-492C-A011-95724258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805A8-B34C-4D81-9D8B-D4B0713C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B023C-960F-4F73-9F6A-340F2AFF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35437-C95E-4264-94AE-2B4010EC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03CAC-C30C-413B-959D-09EE6545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B35EC-8BEC-4DED-A262-686EFD5D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51166-0DCF-472A-8069-A80BBB24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9869C-1E49-43DA-85B4-CD96F957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06325-27D4-429C-B7B2-DA2F3A8B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30E-1B3C-4B32-88FD-F1BBA0EA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4A626-3327-4E70-8CE3-3A7957EE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8E2BE-8B3F-4E06-AEA3-36B5F2BE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7C4B0-7CA1-4986-8D4E-BF85311F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B1387-A90F-4BEC-9EA7-AAEBC474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C3B3A-CDAB-4BC0-81FE-28A6BA82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1E8FB-8DED-4EC8-8646-943DBF82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48657-CAC9-4906-83D8-CC710B36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C04AC-8A97-4C9D-8BF0-E7703479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80DCB-D191-4027-BB64-BF4BDB8A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C944B-9A69-4EA8-B8A9-4CE00F6F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5DA-C174-4F6C-AB6D-C18B6DA2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D090D-9830-42F0-B240-CE206594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1B398-C14C-46A7-8BF2-2858B551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5702F-0918-4F31-9554-0785291A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F7375-0F5C-4DC6-9199-346C5495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C4328-9F0D-4753-9612-8A94E512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BDE8A-ED76-4FF2-AB13-72A3AA3B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5DC67-77B3-40AC-A725-C56490A5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E21B9-B58C-4C16-9345-91179B6C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5467A-D59F-4CF5-BC10-26E7408A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A7874-7A74-4F50-A773-AB2FAF60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5B3-8570-470A-A493-8349FF01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E92E5-1AC1-462D-BCE3-E6017457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7EC8F-5839-4FF4-B1C7-9346AC04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D934C-F348-4F85-89B9-14B8BF2D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0C40C-F1F7-42AF-8A76-6B43A02C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F72C6-D6E2-4EED-AB5A-002281DA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FC144-5E5D-4F3A-88BB-E752FA8D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1CC3F-0946-4455-9FE3-8E5043E5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F018-27DE-48B6-BCBC-C8C1AD944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272c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a9272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37080" y="1593720"/>
            <a:ext cx="3995640" cy="540000"/>
          </a:xfrm>
          <a:prstGeom prst="roundRect">
            <a:avLst>
              <a:gd name="adj" fmla="val 37699"/>
            </a:avLst>
          </a:prstGeom>
          <a:gradFill rotWithShape="0">
            <a:gsLst>
              <a:gs pos="0">
                <a:srgbClr val="2b0d26">
                  <a:alpha val="19215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272c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>
              <a:gd name="textAreaLeft" fmla="*/ 237960 w 1625400"/>
              <a:gd name="textAreaRight" fmla="*/ 1387440 w 1625400"/>
              <a:gd name="textAreaTop" fmla="*/ 237960 h 1625400"/>
              <a:gd name="textAreaBottom" fmla="*/ 1387440 h 162540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20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1407960"/>
            <a:ext cx="231840" cy="225360"/>
            <a:chOff x="914400" y="1407960"/>
            <a:chExt cx="231840" cy="225360"/>
          </a:xfrm>
        </p:grpSpPr>
        <p:pic>
          <p:nvPicPr>
            <p:cNvPr id="125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952560" y="1444320"/>
              <a:ext cx="1490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0310-4840-4D75-B00B-7BD163AFE50A}" type="slidenum">
              <a:rPr b="0" lang="zh-CN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>
              <a:gd name="textAreaLeft" fmla="*/ 237960 w 1625400"/>
              <a:gd name="textAreaRight" fmla="*/ 1387440 w 1625400"/>
              <a:gd name="textAreaTop" fmla="*/ 237960 h 1625400"/>
              <a:gd name="textAreaBottom" fmla="*/ 1387440 h 162540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72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C510-5509-4535-93B3-72D6BF9DB0E0}" type="slidenum">
              <a:rPr b="0" lang="zh-CN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A041-2E91-4786-AF43-0FAF61DDAF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B277-400C-4B0A-9949-AA3A1CDE2B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07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308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311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2CDA-4502-4BF0-A498-94092D0B07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52280" y="152280"/>
            <a:ext cx="8839080" cy="831960"/>
            <a:chOff x="152280" y="152280"/>
            <a:chExt cx="8839080" cy="831960"/>
          </a:xfrm>
        </p:grpSpPr>
        <p:grpSp>
          <p:nvGrpSpPr>
            <p:cNvPr id="357" name=""/>
            <p:cNvGrpSpPr/>
            <p:nvPr/>
          </p:nvGrpSpPr>
          <p:grpSpPr>
            <a:xfrm>
              <a:off x="152280" y="409320"/>
              <a:ext cx="8628480" cy="574920"/>
              <a:chOff x="152280" y="409320"/>
              <a:chExt cx="8628480" cy="574920"/>
            </a:xfrm>
          </p:grpSpPr>
          <p:pic>
            <p:nvPicPr>
              <p:cNvPr id="358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63400" y="697680"/>
                <a:ext cx="731736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52280" y="409320"/>
                <a:ext cx="1288080" cy="57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0" name="Rectangle 6"/>
            <p:cNvSpPr/>
            <p:nvPr/>
          </p:nvSpPr>
          <p:spPr>
            <a:xfrm>
              <a:off x="3047400" y="152280"/>
              <a:ext cx="5943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高三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0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班第一次月考分析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7"/>
          <p:cNvSpPr/>
          <p:nvPr/>
        </p:nvSpPr>
        <p:spPr>
          <a:xfrm>
            <a:off x="304920" y="1916280"/>
            <a:ext cx="87487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隶书"/>
              </a:rPr>
              <a:t>欢迎各位家长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76320" y="4005360"/>
            <a:ext cx="8964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您的到来，让孩子们在高考路上有更大的信心，更强劲的动力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华文新魏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152280" y="1163520"/>
            <a:ext cx="87631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明确现状，但不能对号入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月考不等于高考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高考才是真功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年的时间变数极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认识，心态，方法，时间安排，毅力，投入，家庭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帮助孩子调整，在稳定中进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面对“月考分析”，家长应有的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2"/>
          <p:cNvSpPr txBox="1"/>
          <p:nvPr/>
        </p:nvSpPr>
        <p:spPr>
          <a:xfrm>
            <a:off x="971640" y="1989000"/>
            <a:ext cx="669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23a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二、表扬名单</a:t>
            </a:r>
            <a:endParaRPr b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f23a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54"/>
          <p:cNvSpPr/>
          <p:nvPr/>
        </p:nvSpPr>
        <p:spPr>
          <a:xfrm>
            <a:off x="1695240" y="76320"/>
            <a:ext cx="1521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六科成绩班级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5" descr="9"/>
          <p:cNvPicPr/>
          <p:nvPr/>
        </p:nvPicPr>
        <p:blipFill>
          <a:blip r:embed="rId1"/>
          <a:stretch/>
        </p:blipFill>
        <p:spPr>
          <a:xfrm>
            <a:off x="304920" y="4114800"/>
            <a:ext cx="1006200" cy="20620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8"/>
          <p:cNvSpPr/>
          <p:nvPr/>
        </p:nvSpPr>
        <p:spPr>
          <a:xfrm>
            <a:off x="0" y="685800"/>
            <a:ext cx="2514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154400" y="76320"/>
          <a:ext cx="4608360" cy="6629400"/>
        </p:xfrm>
        <a:graphic>
          <a:graphicData uri="http://schemas.openxmlformats.org/drawingml/2006/table">
            <a:tbl>
              <a:tblPr/>
              <a:tblGrid>
                <a:gridCol w="1135080"/>
                <a:gridCol w="1436760"/>
                <a:gridCol w="1144440"/>
                <a:gridCol w="892080"/>
              </a:tblGrid>
              <a:tr h="117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永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8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蔡子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沈伟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王美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思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54"/>
          <p:cNvSpPr/>
          <p:nvPr/>
        </p:nvSpPr>
        <p:spPr>
          <a:xfrm>
            <a:off x="1695240" y="76320"/>
            <a:ext cx="1521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六科成绩班级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55" descr="9"/>
          <p:cNvPicPr/>
          <p:nvPr/>
        </p:nvPicPr>
        <p:blipFill>
          <a:blip r:embed="rId1"/>
          <a:stretch/>
        </p:blipFill>
        <p:spPr>
          <a:xfrm>
            <a:off x="304920" y="4114800"/>
            <a:ext cx="1006200" cy="20620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8"/>
          <p:cNvSpPr/>
          <p:nvPr/>
        </p:nvSpPr>
        <p:spPr>
          <a:xfrm>
            <a:off x="0" y="685800"/>
            <a:ext cx="2514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506760" y="0"/>
          <a:ext cx="5486400" cy="6737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0160"/>
                <a:gridCol w="1373040"/>
              </a:tblGrid>
              <a:tr h="181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张梓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向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彭志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卢俊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陈子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4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533520" y="7621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89"/>
          <p:cNvSpPr/>
          <p:nvPr/>
        </p:nvSpPr>
        <p:spPr>
          <a:xfrm>
            <a:off x="1969200" y="330120"/>
            <a:ext cx="139932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科（语数英）班级前十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90" descr="9"/>
          <p:cNvPicPr/>
          <p:nvPr/>
        </p:nvPicPr>
        <p:blipFill>
          <a:blip r:embed="rId1"/>
          <a:stretch/>
        </p:blipFill>
        <p:spPr>
          <a:xfrm>
            <a:off x="179280" y="4267080"/>
            <a:ext cx="860400" cy="17654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92"/>
          <p:cNvSpPr/>
          <p:nvPr/>
        </p:nvSpPr>
        <p:spPr>
          <a:xfrm>
            <a:off x="0" y="685800"/>
            <a:ext cx="2590920" cy="30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191120" y="0"/>
          <a:ext cx="4572000" cy="6707160"/>
        </p:xfrm>
        <a:graphic>
          <a:graphicData uri="http://schemas.openxmlformats.org/drawingml/2006/table">
            <a:tbl>
              <a:tblPr/>
              <a:tblGrid>
                <a:gridCol w="1463760"/>
                <a:gridCol w="974520"/>
                <a:gridCol w="1019160"/>
                <a:gridCol w="1114560"/>
              </a:tblGrid>
              <a:tr h="1084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三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彭志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3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戚安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周梓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永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陈子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杨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锦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蔡子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温可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思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刘诚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2"/>
          <p:cNvSpPr txBox="1"/>
          <p:nvPr/>
        </p:nvSpPr>
        <p:spPr>
          <a:xfrm>
            <a:off x="2268360" y="189000"/>
            <a:ext cx="504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单科前三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35080" y="914400"/>
            <a:ext cx="8299440" cy="59799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：刘诚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1,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戚安怡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卢俊宇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王美琪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学：彭志壕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向往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子健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：戚安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0,3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李杨坤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2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梓强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2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WordArt 2"/>
          <p:cNvSpPr txBox="1"/>
          <p:nvPr/>
        </p:nvSpPr>
        <p:spPr>
          <a:xfrm>
            <a:off x="2268360" y="189000"/>
            <a:ext cx="504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单科前三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6" name="AutoShape 3"/>
          <p:cNvSpPr/>
          <p:nvPr/>
        </p:nvSpPr>
        <p:spPr>
          <a:xfrm>
            <a:off x="76320" y="609480"/>
            <a:ext cx="9067680" cy="64771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理：李永泉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卢俊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沈伟坤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：沈伟坤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张栩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梓峰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物：王美琪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张栩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思华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3168720" y="266760"/>
          <a:ext cx="5213160" cy="5972040"/>
        </p:xfrm>
        <a:graphic>
          <a:graphicData uri="http://schemas.openxmlformats.org/drawingml/2006/table">
            <a:tbl>
              <a:tblPr/>
              <a:tblGrid>
                <a:gridCol w="1933200"/>
                <a:gridCol w="1171440"/>
                <a:gridCol w="1054080"/>
                <a:gridCol w="105444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+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排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进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思华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5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彭志壕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锦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7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梁晓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祈月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2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子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向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梓强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6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曹杰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永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0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2" name=""/>
          <p:cNvGraphicFramePr/>
          <p:nvPr/>
        </p:nvGraphicFramePr>
        <p:xfrm>
          <a:off x="2666880" y="0"/>
          <a:ext cx="6324480" cy="4915080"/>
        </p:xfrm>
        <a:graphic>
          <a:graphicData uri="http://schemas.openxmlformats.org/drawingml/2006/table">
            <a:tbl>
              <a:tblPr/>
              <a:tblGrid>
                <a:gridCol w="2346480"/>
                <a:gridCol w="1420560"/>
                <a:gridCol w="1278000"/>
                <a:gridCol w="1279440"/>
              </a:tblGrid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子健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曹锐平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梓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一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浩然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杰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沈伟坤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结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0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古丽尼沙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2666880" y="77760"/>
          <a:ext cx="6400800" cy="6399360"/>
        </p:xfrm>
        <a:graphic>
          <a:graphicData uri="http://schemas.openxmlformats.org/drawingml/2006/table">
            <a:tbl>
              <a:tblPr/>
              <a:tblGrid>
                <a:gridCol w="2374920"/>
                <a:gridCol w="1438200"/>
                <a:gridCol w="1293840"/>
                <a:gridCol w="1293840"/>
              </a:tblGrid>
              <a:tr h="101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$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美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文君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5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静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叶智源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6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子煦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智翔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$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再努尔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0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结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3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古丽尼沙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5"/>
          <p:cNvSpPr/>
          <p:nvPr/>
        </p:nvSpPr>
        <p:spPr>
          <a:xfrm>
            <a:off x="304920" y="3886200"/>
            <a:ext cx="845028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高三（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）班班主任：章 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533520" y="1676520"/>
            <a:ext cx="80010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信心  智慧  成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4038480" y="51055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304920" y="990720"/>
            <a:ext cx="853416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高考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全体同学过本科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势严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本次考试有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人没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76320" y="228600"/>
            <a:ext cx="533376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三、章老师的建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533520" y="1219320"/>
            <a:ext cx="8458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考是选拔性考试，是对考生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文化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身体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心理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人格品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全面考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52280" y="3657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知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勤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信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耐力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体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是对考生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心态、意志品质、细节和习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非智力因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综合考核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 三大复习阶段划分与八次月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一阶段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础储备过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阶段，落实考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二阶段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专题归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应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适应（限时）训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三阶段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下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高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查漏补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阶段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关注临界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密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心态调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轻松赴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WordArt 4"/>
          <p:cNvSpPr txBox="1"/>
          <p:nvPr/>
        </p:nvSpPr>
        <p:spPr>
          <a:xfrm>
            <a:off x="399960" y="123840"/>
            <a:ext cx="40197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信心 智慧 成功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   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八次考试时间安排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0" lang="zh-CN" sz="4000" spc="-1" strike="noStrike">
                <a:solidFill>
                  <a:srgbClr val="a9272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次：暑假补课结束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9—3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 不合卷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次：国庆后（理科三科开始合卷，高考模式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中旬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四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底（广州市调研考试）（家长会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五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寒假放假前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考听说考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一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中旬 （家长会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下旬 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下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决战考试：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2014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年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月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日高考（家长会）</a:t>
            </a:r>
            <a:endParaRPr b="0" lang="en-US" sz="36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  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2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、开学以来我们的工作</a:t>
            </a:r>
            <a:endParaRPr b="0" lang="en-US" sz="44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语文、数学、英语每周都有一次统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学每周两次晨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六科每周都有一次周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二、周三、周四晚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:00—19:3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各科老师到班指导学生背诵相关知识点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五第八节培优补差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天晚上的晚修科任老师下班辅导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六早上第一、二节科任老师下班辅导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六第三节——第八节各科统测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304920" y="773280"/>
            <a:ext cx="86868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焦虑、浮躁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沮丧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的心态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进入高三，大家都想好好拼一下，突出表现为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焦虑、浮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主要是有的人由于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急于提高成绩，结果欲速则不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有的人则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思想上想好成绩，盼着考上理想大学，但在行动上又不想在复习中付出艰苦努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于是就产生了焦虑、浮躁、彷徨的心理情绪。特别是月考之后，有些同学比较沮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0" y="44280"/>
            <a:ext cx="85345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家长要了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三学生常见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良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WordArt 4" descr=""/>
          <p:cNvPicPr/>
          <p:nvPr/>
        </p:nvPicPr>
        <p:blipFill>
          <a:blip r:embed="rId1"/>
          <a:stretch/>
        </p:blipFill>
        <p:spPr>
          <a:xfrm>
            <a:off x="133200" y="5888160"/>
            <a:ext cx="887760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阶段希望得到家长的帮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树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高三第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思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周日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督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孩及时完成作业，少玩电脑，少玩手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“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外松内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，营造一种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温馨、轻松的家庭气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要与学校步调一致，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注意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方法的引导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引导子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而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不要由他（她）指挥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激励，多交流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少唠叨，不打骂，理解相信自己的孩子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重视成绩背后的问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而不仅仅是成绩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3720" y="153720"/>
            <a:ext cx="8762760" cy="64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三第一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效天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8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多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三拼一年，一定可以实现或者接近梦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与学校步调一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状态和习惯很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堂和作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各科的资料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动与老师沟通、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各科重要资料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语文：《备考指南》 《名师面对面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数学：《备考指南》《锁定高考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英语：《备考指南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：《名师》《导与练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化学：《备考指南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物：《名师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228600" y="228600"/>
            <a:ext cx="876312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寂寞、枯燥的心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由于高三学生的学习、生活相对比较单调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缺少交流与沟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一部分学生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心理上呈现出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寂寞、焦燥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的心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他们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渴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父母、老师、同学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交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他人那里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获得安慰、同情和鼓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但又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不愿意主动行动，总是被动地等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待得不到满足，则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怨天尤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为人家对他（她）有偏见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产生误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于是他们表现为渴望放假，喜欢回到家里看电视或独自躲在房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228600" y="200160"/>
            <a:ext cx="8762760" cy="790560"/>
            <a:chOff x="228600" y="200160"/>
            <a:chExt cx="8762760" cy="790560"/>
          </a:xfrm>
        </p:grpSpPr>
        <p:grpSp>
          <p:nvGrpSpPr>
            <p:cNvPr id="367" name=""/>
            <p:cNvGrpSpPr/>
            <p:nvPr/>
          </p:nvGrpSpPr>
          <p:grpSpPr>
            <a:xfrm>
              <a:off x="228600" y="416160"/>
              <a:ext cx="8553960" cy="574560"/>
              <a:chOff x="228600" y="416160"/>
              <a:chExt cx="8553960" cy="574560"/>
            </a:xfrm>
          </p:grpSpPr>
          <p:pic>
            <p:nvPicPr>
              <p:cNvPr id="368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528560" y="704520"/>
                <a:ext cx="725400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228600" y="416160"/>
                <a:ext cx="12769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0" name="Rectangle 6"/>
            <p:cNvSpPr/>
            <p:nvPr/>
          </p:nvSpPr>
          <p:spPr>
            <a:xfrm>
              <a:off x="3983400" y="200160"/>
              <a:ext cx="5007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7"/>
          <p:cNvSpPr/>
          <p:nvPr/>
        </p:nvSpPr>
        <p:spPr>
          <a:xfrm>
            <a:off x="468360" y="1484280"/>
            <a:ext cx="849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250920" y="2852640"/>
            <a:ext cx="85312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十八年成长、十二年苦读，孩子即将面临一生中最重要的考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这特殊的一个阶段，孩子高考必将是您的家庭今年的头等大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80880" y="981000"/>
            <a:ext cx="86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您在百忙之中抽空来参加此次家长会，关心、帮助、督促贵子女是我们共同的心愿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有几句话供您与孩子沟通时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到最后一刻，绝不亲言放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才能做到的勤奋可以做到，天才做不到的勤奋也能做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为失败找借口，要为成功找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永远不要以粗心为借口原谅自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把容易题作对，难题就会变容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脚踏实地，心无旁骛，分秒必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152280" y="228600"/>
            <a:ext cx="8763120" cy="14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家长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做孩子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定心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自己的沉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给孩子烦乱的心以慰籍，给他（她）传达一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坚定而稳重的信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0" y="40384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533520" y="2514600"/>
            <a:ext cx="8001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家长们，你们有信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你们的孩子就会有信心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让你们的信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给孩子们拼搏的动力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47560" y="480060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信心，比金子重要！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"/>
          <p:cNvSpPr/>
          <p:nvPr/>
        </p:nvSpPr>
        <p:spPr>
          <a:xfrm>
            <a:off x="304920" y="76212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相信老师，相信孩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给自已信心，给孩子信心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612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文：方诚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91865909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楼南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学：龚壁君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8000025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楷体_GB2312"/>
              </a:rPr>
              <a:t>英语：章静     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楷体_GB2312"/>
              </a:rPr>
              <a:t>150117021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理：马一克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01189827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四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学：王道春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82843738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三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物：邱莹莹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99832129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南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533520" y="228600"/>
            <a:ext cx="678168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考科目科任教师的电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-360" y="151920"/>
            <a:ext cx="914724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语老师寄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是主科，是很容易拉分的科目，也是很容易上去的科目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只要态度好，只要坚持下去就一定会学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功从来都是属于有准备的人，英语领先的和进步的同学都在努力进取，课堂上认真听讲，课下的作业不打折扣（可以把孩子的《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语高考备考指南》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，看看孩子这两天的对英语的态度，有没有做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至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7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页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没有用红笔改正，有没有记下老师的笔记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,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没有，那么这就是孩子学习退步或者停滞不前的原因了）。没有付出是绝对没有回报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33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语高考包括两个部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014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年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的听说考试（在电脑上进行录音的）和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份统一考试的笔试部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两部分都不能放松，所以，如果你有空，一定要监督孩子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早读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或者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晚读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大声地朗读，另外，每周布置的套题必须严格控制时间，认真作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家长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0e04"/>
                </a:solidFill>
                <a:latin typeface="Gill Sans MT"/>
              </a:rPr>
              <a:t>高三（</a:t>
            </a: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10</a:t>
            </a:r>
            <a:r>
              <a:rPr b="1" lang="zh-CN" sz="3200" spc="-1" strike="noStrike">
                <a:solidFill>
                  <a:srgbClr val="320e04"/>
                </a:solidFill>
                <a:latin typeface="Gill Sans MT"/>
              </a:rPr>
              <a:t>班）语文老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班级平均分：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98.13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分以上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分以下（不及格）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表扬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陈洁铟、陈祈月、陈子健、黄楚雯、梁晓新、卢俊宇、潘智翔、彭志壕、向往、钟毓芷、周梓强、曾锦隆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语文的重要性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前十名中一半同学语文进步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名以上，且这些同学总分都有进步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李永泉、蔡子杰、沈伟坤、张梓峰是前十名中语文没上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分的同学。语文成绩多少影响了他们的总分和级排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很多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分以上的同学，也有因为语文拉低了分数的情况。退步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名及以上都需要注意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语文不是可有可无，也是会被拉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学生自己总结出的问题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八月份时间分配不平均，顾此失彼，没有足够重视语文学习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对语文太过自信，认为不怎么学习也不会影响成绩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考试时太过紧张，做题时间没有分配好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做题方法掌握得不好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高一、高二基础落下得太多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十一年漫漫的准备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终于到了要拉开战幕，拼命一战的时刻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班的很多同学开始</a:t>
            </a:r>
            <a:r>
              <a:rPr b="1" lang="zh-CN" sz="4400" spc="-1" strike="noStrike">
                <a:solidFill>
                  <a:srgbClr val="ff3300"/>
                </a:solidFill>
                <a:latin typeface="楷体"/>
                <a:ea typeface="楷体"/>
              </a:rPr>
              <a:t>跟自己散漫、拖拉、不负责任的过去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说再见。 　　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几点建议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34960" y="1447920"/>
            <a:ext cx="7499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重视基础知识的落实，不能在基础的、简单的题上丢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重视课堂的学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多做、多练、多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相信学校老师布置的任务和复习计划，积极配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——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当认为自己基础不好时，只有靠认真；当认为自己总分不够完美时，也只有靠认真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609480" y="2286000"/>
            <a:ext cx="792504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黑体"/>
              </a:rPr>
              <a:t>分析总结是前进的主要动力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838080" y="6858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为什么要月考分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31240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月考分析分析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1828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解好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阶段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与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终结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14400" y="4267080"/>
            <a:ext cx="822960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一段学习做的好的地方和存在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一段学习如何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对密集大考的策略（尤其是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心理、情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调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4920" y="533520"/>
            <a:ext cx="685800" cy="68580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048120"/>
            <a:ext cx="685800" cy="68580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152280"/>
            <a:ext cx="7848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第一次月考数据（个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52280" y="4800600"/>
            <a:ext cx="6629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一阶段如何调整自己的学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" y="1981080"/>
            <a:ext cx="8305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体到每一科的知识，哪些知识点掌握的好，哪些知识还没有    理解透彻？（落实到以后的学习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4920" y="3124080"/>
            <a:ext cx="830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体到 每一种题型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客观题、主观题；基础题、中档题、难题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哪一部分做得好？哪一部分有待改进？（认真填写好自评表，面对问题，积极改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143000" y="2590920"/>
            <a:ext cx="6248520" cy="31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情绪与心理的调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级与个人的有机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609480"/>
            <a:ext cx="7848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学习，生活，娱乐是有机整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以下方面请大家在今后关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如何面对月考失败的挫折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63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2009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年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月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11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日迈克尔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·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乔丹正式入选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NBA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名人堂，这里把乔丹的几句话送给这次月考失意的同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在我的职业生涯中，投丢了超过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0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球，我差不多输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场比赛，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次，教练把最后一投的机会交给我，我却没有投进。在我的生命中，经历过一次又一次的失败。而这，正是我成功的原因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我可以接受失败，但无法接受放弃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有百分之一的机会，就要付出百分之一百二十的努力。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有几句话供您与孩子沟通时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到最后一刻，绝不亲言放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才能做到的勤奋可以做到，天才做不到的勤奋也能做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为失败找借口，要为成功找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永远不要以粗心为借口原谅自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把容易题作对，难题就会变容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脚踏实地，心无旁骛，分秒必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394920" y="981000"/>
            <a:ext cx="806292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物理没有捷径，物理差的同学必须要多花时间和精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保持八月份的状态不动摇，不懈怠，不骄不躁，不气馁，继续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建议个别物理不太入门的同学，有必要时可以请家庭教师辅导，当然也可以自己努力，但是必须有措施，有行动，有落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711520" y="401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老师寄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WordArt 2"/>
          <p:cNvSpPr txBox="1"/>
          <p:nvPr/>
        </p:nvSpPr>
        <p:spPr>
          <a:xfrm>
            <a:off x="380880" y="2971800"/>
            <a:ext cx="76964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感谢家长的大力支持！</a:t>
            </a:r>
            <a:endParaRPr b="1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76320" y="152280"/>
            <a:ext cx="883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各位家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孩子们会因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您的付出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而成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您会因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孩子的成功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而骄傲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两点提醒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周周六晚不留宿，孩子回家可以好好聊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于医保事宜，需要续保的，在下周一前交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作为下一年的续保金。（名单在后面黑板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2"/>
          <p:cNvSpPr txBox="1"/>
          <p:nvPr/>
        </p:nvSpPr>
        <p:spPr>
          <a:xfrm>
            <a:off x="971640" y="1989000"/>
            <a:ext cx="669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23a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一、月考分析</a:t>
            </a:r>
            <a:endParaRPr b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f23a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514600" y="417240"/>
            <a:ext cx="4114800" cy="100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次月考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7760" y="1828800"/>
          <a:ext cx="9067680" cy="4343400"/>
        </p:xfrm>
        <a:graphic>
          <a:graphicData uri="http://schemas.openxmlformats.org/drawingml/2006/table">
            <a:tbl>
              <a:tblPr/>
              <a:tblGrid>
                <a:gridCol w="955800"/>
                <a:gridCol w="1058760"/>
                <a:gridCol w="1008000"/>
                <a:gridCol w="1006560"/>
                <a:gridCol w="1008000"/>
                <a:gridCol w="1008000"/>
                <a:gridCol w="1008000"/>
                <a:gridCol w="1006560"/>
                <a:gridCol w="1008000"/>
              </a:tblGrid>
              <a:tr h="1072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高三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33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三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83.3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71.0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7.5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6.2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6.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1.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1.4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9.2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179280" y="123840"/>
            <a:ext cx="8812080" cy="790560"/>
            <a:chOff x="179280" y="123840"/>
            <a:chExt cx="8812080" cy="790560"/>
          </a:xfrm>
        </p:grpSpPr>
        <p:grpSp>
          <p:nvGrpSpPr>
            <p:cNvPr id="379" name=""/>
            <p:cNvGrpSpPr/>
            <p:nvPr/>
          </p:nvGrpSpPr>
          <p:grpSpPr>
            <a:xfrm>
              <a:off x="179280" y="339840"/>
              <a:ext cx="8602200" cy="574560"/>
              <a:chOff x="179280" y="339840"/>
              <a:chExt cx="8602200" cy="574560"/>
            </a:xfrm>
          </p:grpSpPr>
          <p:pic>
            <p:nvPicPr>
              <p:cNvPr id="380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86440" y="628200"/>
                <a:ext cx="729504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79280" y="339840"/>
                <a:ext cx="12841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2" name="Rectangle 6"/>
            <p:cNvSpPr/>
            <p:nvPr/>
          </p:nvSpPr>
          <p:spPr>
            <a:xfrm>
              <a:off x="3955320" y="123840"/>
              <a:ext cx="50360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7"/>
          <p:cNvSpPr/>
          <p:nvPr/>
        </p:nvSpPr>
        <p:spPr>
          <a:xfrm>
            <a:off x="304920" y="9907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方向及现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609480" y="22050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0" y="1143000"/>
            <a:ext cx="861048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如何解读您手中的成绩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3546360" y="2089080"/>
            <a:ext cx="963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您孩子的历次六科排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您小孩的成绩趋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解孩子的高考终极目标和梦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保持优势科目，补短板科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37"/>
          <p:cNvSpPr/>
          <p:nvPr/>
        </p:nvSpPr>
        <p:spPr>
          <a:xfrm>
            <a:off x="533520" y="4495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更多详细信息请登录“广东省教育考试院”官方网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80880" y="304920"/>
          <a:ext cx="8305920" cy="3747960"/>
        </p:xfrm>
        <a:graphic>
          <a:graphicData uri="http://schemas.openxmlformats.org/drawingml/2006/table">
            <a:tbl>
              <a:tblPr/>
              <a:tblGrid>
                <a:gridCol w="1665360"/>
                <a:gridCol w="1555560"/>
                <a:gridCol w="1403640"/>
                <a:gridCol w="1139760"/>
                <a:gridCol w="1401480"/>
                <a:gridCol w="1140120"/>
              </a:tblGrid>
              <a:tr h="77328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近三年广东高考录取分数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重本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专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专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7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43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8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2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8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4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6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0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8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47600" y="123840"/>
            <a:ext cx="8767440" cy="790560"/>
            <a:chOff x="147600" y="123840"/>
            <a:chExt cx="8767440" cy="790560"/>
          </a:xfrm>
        </p:grpSpPr>
        <p:grpSp>
          <p:nvGrpSpPr>
            <p:cNvPr id="390" name=""/>
            <p:cNvGrpSpPr/>
            <p:nvPr/>
          </p:nvGrpSpPr>
          <p:grpSpPr>
            <a:xfrm>
              <a:off x="147600" y="339840"/>
              <a:ext cx="8558640" cy="574560"/>
              <a:chOff x="147600" y="339840"/>
              <a:chExt cx="8558640" cy="574560"/>
            </a:xfrm>
          </p:grpSpPr>
          <p:pic>
            <p:nvPicPr>
              <p:cNvPr id="391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48280" y="628200"/>
                <a:ext cx="725796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47600" y="339840"/>
                <a:ext cx="127764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3" name="Rectangle 6"/>
            <p:cNvSpPr/>
            <p:nvPr/>
          </p:nvSpPr>
          <p:spPr>
            <a:xfrm>
              <a:off x="3904560" y="123840"/>
              <a:ext cx="50104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7"/>
          <p:cNvSpPr/>
          <p:nvPr/>
        </p:nvSpPr>
        <p:spPr>
          <a:xfrm>
            <a:off x="304920" y="9907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方向及现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228600" y="2128680"/>
            <a:ext cx="8686800" cy="35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以往的经验，结合今年的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 60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2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 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5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专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 97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1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9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52280" y="1143000"/>
            <a:ext cx="86868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如何解读您手中的成绩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1:50:47Z</dcterms:created>
  <dc:creator/>
  <dc:description/>
  <dc:language>en-US</dc:language>
  <cp:lastModifiedBy>勿急勿躁</cp:lastModifiedBy>
  <dcterms:modified xsi:type="dcterms:W3CDTF">2013-09-06T05:46:19Z</dcterms:modified>
  <cp:revision>3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