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34C-A641-4147-87A6-016215C3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DA0-0856-43AF-846F-170E8518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DD1-3A78-43EF-BA78-69C6EE1B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02D-3AB7-4A44-9F25-54DBB05F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DD5-733B-472C-A0CD-CBAE47FE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269-596C-4367-963D-4157F032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2451-07D3-4595-A1F6-2E2118F1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CCAF-A030-490A-8A26-201ADC06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B4D5-2E72-4893-8E7B-AFEA284B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D7C-903F-4267-83EC-56550D37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F0E5-20CF-427D-A1C2-B2CF679F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016A-9C5A-437E-9556-61EFFF9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E74B-402B-49E4-B191-C320A4E4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5758-63A9-4456-97AB-3BE7982F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3BD3-AED0-4AD4-A102-3A81B017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997E-6797-4E1C-A7DB-F1A5AC9C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5C2C-C1E8-41AE-9D3D-FBA0114A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FA0A-C15E-4FC6-B334-6AB03464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12EF-FEF9-4EA7-B39A-D89C6030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65B8-602D-43D7-B3FF-BF5FC016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E99-9CD1-486F-A242-87100226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7B20-E608-49D8-B390-023C2621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A92F9-8994-4BD9-BDEC-BA137CB2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59DD-ECE4-44AD-B330-25644876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BF47-EBA6-4785-AFE7-5771F4D3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A1511-2DD7-4DE7-B235-EB350B98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ADCF-489B-467B-9429-04AEECCF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493E-6B41-4C49-ADAB-26202F86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FF13-8017-47AF-BA00-88F8A056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AB40-A4F6-4F78-80C5-3F2C86A9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1958-45BD-4A8F-8A87-AA7306E9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8A3-6ED7-41A7-9638-79B1B63D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6644-3C6C-411C-8BCC-6B344DF5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1C65-8489-4AEC-AE0E-FA7BAE9C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9599-75DB-43E4-9FBC-AB1C7107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5E846-6AB2-42ED-8BB2-7AB78C3E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3AC6-34D3-44DE-9301-F96E27DF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97765-BA98-4407-AA35-2CFC0D09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0A7D9-8F40-4822-9878-F3AE393B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83F62-FC84-4177-B28E-FC088422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15F3-A963-4E34-B531-26A76366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09AC-59B7-411A-8239-A3B7B317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B2D-F169-4950-BF48-06B3F3FE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30FB-6B92-47A6-A1BA-599E4674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72B3-5F6E-4F96-8DAE-47884485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BC57F-2B83-47BB-82F2-4E0A5ADE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45B86-946D-4BBB-AD7F-9CFBCF7B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06EA-D81E-45AD-8FBC-59D7D5F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52BC6-B518-4F57-A0B2-9C8523A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4B5B5-98DC-4DEE-96A3-9E4A3E04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E61E-9DC2-41E7-A39E-D7600F2B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60E77-F0A4-4F23-B27B-67CB5112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717A0-291B-4A79-92C6-D5451A9B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32D-E9EF-4CA1-BA4F-9FEC5CBD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C7C7E-89B0-4C85-B648-B3289C4F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64355-A108-4207-BD2F-B2B3918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5EA7A-1191-43E0-AB4E-BB5FF072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737CF-BD18-4FD7-8F14-245481ED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D0FF-2EB4-4578-877D-CC486DA2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3E7CA-5BC5-4ABC-BEE8-D1D852BF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CCEA4-6CFF-41A7-8D37-27F0AE3D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A01A2-336A-472C-AD5E-4C259B25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9CE44-A980-413B-94B1-350E3599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A0AE6-9FE1-48F5-8A25-EF5758C4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4F5-1010-4983-BC30-A842403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7D725-85F7-4D39-B0F0-266C66B5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0968B-E2D1-4BE9-8A4F-C9E1C3F7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06160-0CC1-4FF4-9BC9-A701FF6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49388-629B-4AD9-A454-4BF3D89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0942B-9194-4E1D-8349-5C1CC4E8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A8A70-1E49-4C41-B129-C3451B6B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F12B4-D0BD-420D-AD21-FE8A8FFD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2DE1-595D-4E04-8920-54F03D490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a927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37080" y="1593720"/>
            <a:ext cx="3995640" cy="540000"/>
          </a:xfrm>
          <a:prstGeom prst="roundRect">
            <a:avLst>
              <a:gd name="adj" fmla="val 37699"/>
            </a:avLst>
          </a:prstGeom>
          <a:gradFill rotWithShape="0">
            <a:gsLst>
              <a:gs pos="0">
                <a:srgbClr val="2b0d26">
                  <a:alpha val="1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20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125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9B65-F556-4CE8-B62F-D00C6E7B5058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9CCA-BBE6-44AF-9F28-FEA68A142C9F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6757-A920-4434-9C94-D4F1A9C86C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837E-D7DA-40C0-A231-832AA776F2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07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08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11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0322-95E7-4A17-B24E-D73639C3AF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2280" y="152280"/>
            <a:ext cx="8839080" cy="831960"/>
            <a:chOff x="152280" y="152280"/>
            <a:chExt cx="8839080" cy="831960"/>
          </a:xfrm>
        </p:grpSpPr>
        <p:grpSp>
          <p:nvGrpSpPr>
            <p:cNvPr id="357" name=""/>
            <p:cNvGrpSpPr/>
            <p:nvPr/>
          </p:nvGrpSpPr>
          <p:grpSpPr>
            <a:xfrm>
              <a:off x="152280" y="409320"/>
              <a:ext cx="8628480" cy="574920"/>
              <a:chOff x="152280" y="409320"/>
              <a:chExt cx="8628480" cy="574920"/>
            </a:xfrm>
          </p:grpSpPr>
          <p:pic>
            <p:nvPicPr>
              <p:cNvPr id="35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63400" y="697680"/>
                <a:ext cx="73173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52280" y="409320"/>
                <a:ext cx="1288080" cy="57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0" name="Rectangle 6"/>
            <p:cNvSpPr/>
            <p:nvPr/>
          </p:nvSpPr>
          <p:spPr>
            <a:xfrm>
              <a:off x="3047400" y="152280"/>
              <a:ext cx="5943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高三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班第一次月考分析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7"/>
          <p:cNvSpPr/>
          <p:nvPr/>
        </p:nvSpPr>
        <p:spPr>
          <a:xfrm>
            <a:off x="304920" y="1916280"/>
            <a:ext cx="87487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欢迎各位家长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76320" y="4005360"/>
            <a:ext cx="8964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您的到来，让孩子们在高考路上有更大的信心，更强劲的动力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2280" y="1163520"/>
            <a:ext cx="87631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确现状，但不能对号入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考不等于高考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考才是真功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年的时间变数极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认识，心态，方法，时间安排，毅力，投入，家庭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帮助孩子调整，在稳定中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面对“月考分析”，家长应有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二、表扬名单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154400" y="76320"/>
          <a:ext cx="4608360" cy="6629400"/>
        </p:xfrm>
        <a:graphic>
          <a:graphicData uri="http://schemas.openxmlformats.org/drawingml/2006/table">
            <a:tbl>
              <a:tblPr/>
              <a:tblGrid>
                <a:gridCol w="1135080"/>
                <a:gridCol w="1436760"/>
                <a:gridCol w="1144440"/>
                <a:gridCol w="892080"/>
              </a:tblGrid>
              <a:tr h="11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沈伟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王美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506760" y="0"/>
          <a:ext cx="5486400" cy="673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0160"/>
                <a:gridCol w="1373040"/>
              </a:tblGrid>
              <a:tr h="18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梓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向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卢俊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4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53352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9"/>
          <p:cNvSpPr/>
          <p:nvPr/>
        </p:nvSpPr>
        <p:spPr>
          <a:xfrm>
            <a:off x="1969200" y="330120"/>
            <a:ext cx="13993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科（语数英）班级前十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90" descr="9"/>
          <p:cNvPicPr/>
          <p:nvPr/>
        </p:nvPicPr>
        <p:blipFill>
          <a:blip r:embed="rId1"/>
          <a:stretch/>
        </p:blipFill>
        <p:spPr>
          <a:xfrm>
            <a:off x="179280" y="4267080"/>
            <a:ext cx="860400" cy="17654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92"/>
          <p:cNvSpPr/>
          <p:nvPr/>
        </p:nvSpPr>
        <p:spPr>
          <a:xfrm>
            <a:off x="0" y="685800"/>
            <a:ext cx="259092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191120" y="0"/>
          <a:ext cx="4572000" cy="6707160"/>
        </p:xfrm>
        <a:graphic>
          <a:graphicData uri="http://schemas.openxmlformats.org/drawingml/2006/table">
            <a:tbl>
              <a:tblPr/>
              <a:tblGrid>
                <a:gridCol w="1463760"/>
                <a:gridCol w="974520"/>
                <a:gridCol w="1019160"/>
                <a:gridCol w="1114560"/>
              </a:tblGrid>
              <a:tr h="10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3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戚安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周梓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杨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锦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温可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刘诚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35080" y="914400"/>
            <a:ext cx="8299440" cy="5979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刘诚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1,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戚安怡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俊宇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王美琪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：彭志壕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向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健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：戚安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0,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李杨坤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梓强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76320" y="609480"/>
            <a:ext cx="9067680" cy="6477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理：李永泉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卢俊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：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梓峰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：王美琪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思华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168720" y="266760"/>
          <a:ext cx="5213160" cy="5972040"/>
        </p:xfrm>
        <a:graphic>
          <a:graphicData uri="http://schemas.openxmlformats.org/drawingml/2006/table">
            <a:tbl>
              <a:tblPr/>
              <a:tblGrid>
                <a:gridCol w="1933200"/>
                <a:gridCol w="1171440"/>
                <a:gridCol w="1054080"/>
                <a:gridCol w="10544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锦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7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晓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祈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2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梓强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6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杰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666880" y="0"/>
          <a:ext cx="6324480" cy="4915080"/>
        </p:xfrm>
        <a:graphic>
          <a:graphicData uri="http://schemas.openxmlformats.org/drawingml/2006/table">
            <a:tbl>
              <a:tblPr/>
              <a:tblGrid>
                <a:gridCol w="2346480"/>
                <a:gridCol w="1420560"/>
                <a:gridCol w="1278000"/>
                <a:gridCol w="1279440"/>
              </a:tblGrid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锐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梓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一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浩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杰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伟坤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2666880" y="77760"/>
          <a:ext cx="6400800" cy="6399360"/>
        </p:xfrm>
        <a:graphic>
          <a:graphicData uri="http://schemas.openxmlformats.org/drawingml/2006/table">
            <a:tbl>
              <a:tblPr/>
              <a:tblGrid>
                <a:gridCol w="2374920"/>
                <a:gridCol w="1438200"/>
                <a:gridCol w="1293840"/>
                <a:gridCol w="129384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美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文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静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智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子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智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再努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5"/>
          <p:cNvSpPr/>
          <p:nvPr/>
        </p:nvSpPr>
        <p:spPr>
          <a:xfrm>
            <a:off x="304920" y="3886200"/>
            <a:ext cx="8450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高三（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）班班主任：章 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信心  智慧  成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038480" y="5105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304920" y="990720"/>
            <a:ext cx="85341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高考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全体同学过本科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势严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本次考试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人没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6320" y="228600"/>
            <a:ext cx="53337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、章老师的建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33520" y="1219320"/>
            <a:ext cx="8458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考是选拔性考试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文化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身体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理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人格品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全面考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52280" y="3657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知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耐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体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态、意志品质、细节和习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智力因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综合考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 三大复习阶段划分与八次月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阶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础储备过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，落实考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二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题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应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适应（限时）训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三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下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查漏补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注临界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态调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轻松赴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399960" y="123840"/>
            <a:ext cx="40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信心 智慧 成功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八次考试时间安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4000" spc="-1" strike="noStrike">
                <a:solidFill>
                  <a:srgbClr val="a9272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次：暑假补课结束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—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 不合卷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次：国庆后（理科三科开始合卷，高考模式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中旬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底（广州市调研考试）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寒假放假前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考听说考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一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 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决战考试：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2014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日高考（家长会）</a:t>
            </a:r>
            <a:endParaRPr b="0" lang="en-US" sz="36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、开学以来我们的工作</a:t>
            </a:r>
            <a:endParaRPr b="0" lang="en-US" sz="44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语文、数学、英语每周都有一次统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学每周两次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科每周都有一次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二、周三、周四晚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:00—19: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科老师到班指导学生背诵相关知识点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五第八节培优补差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晚上的晚修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早上第一、二节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第三节——第八节各科统测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04920" y="773280"/>
            <a:ext cx="86868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焦虑、浮躁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沮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心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入高三，大家都想好好拼一下，突出表现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焦虑、浮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主要是有的人由于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急于提高成绩，结果欲速则不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的人则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思想上想好成绩，盼着考上理想大学，但在行动上又不想在复习中付出艰苦努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就产生了焦虑、浮躁、彷徨的心理情绪。特别是月考之后，有些同学比较沮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0" y="44280"/>
            <a:ext cx="8534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长要了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学生常见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良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WordArt 4" descr=""/>
          <p:cNvPicPr/>
          <p:nvPr/>
        </p:nvPicPr>
        <p:blipFill>
          <a:blip r:embed="rId1"/>
          <a:stretch/>
        </p:blipFill>
        <p:spPr>
          <a:xfrm>
            <a:off x="133200" y="5888160"/>
            <a:ext cx="8877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阶段希望得到家长的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树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三第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周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督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孩及时完成作业，少玩电脑，少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外松内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营造一种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温馨、轻松的家庭气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要与学校步调一致，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方法的引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引导子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不要由他（她）指挥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激励，多交流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唠叨，不打骂，理解相信自己的孩子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重视成绩背后的问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不仅仅是成绩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3720" y="153720"/>
            <a:ext cx="876276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三第一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效天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拼一年，一定可以实现或者接近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与学校步调一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状态和习惯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和作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各科的资料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动与老师沟通、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科重要资料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：《备考指南》 《名师面对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：《备考指南》《锁定高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：《名师》《导与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化学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：《名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228600" y="228600"/>
            <a:ext cx="87631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、枯燥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由于高三学生的学习、生活相对比较单调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缺少交流与沟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部分学生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心理上呈现出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寂寞、焦燥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们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父母、老师、同学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他人那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获得安慰、同情和鼓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但又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不愿意主动行动，总是被动地等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待得不到满足，则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怨天尤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为人家对他（她）有偏见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产生误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他们表现为渴望放假，喜欢回到家里看电视或独自躲在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228600" y="200160"/>
            <a:ext cx="8762760" cy="790560"/>
            <a:chOff x="228600" y="200160"/>
            <a:chExt cx="8762760" cy="790560"/>
          </a:xfrm>
        </p:grpSpPr>
        <p:grpSp>
          <p:nvGrpSpPr>
            <p:cNvPr id="367" name=""/>
            <p:cNvGrpSpPr/>
            <p:nvPr/>
          </p:nvGrpSpPr>
          <p:grpSpPr>
            <a:xfrm>
              <a:off x="228600" y="416160"/>
              <a:ext cx="8553960" cy="574560"/>
              <a:chOff x="228600" y="416160"/>
              <a:chExt cx="8553960" cy="574560"/>
            </a:xfrm>
          </p:grpSpPr>
          <p:pic>
            <p:nvPicPr>
              <p:cNvPr id="36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528560" y="704520"/>
                <a:ext cx="725400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228600" y="416160"/>
                <a:ext cx="1276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Rectangle 6"/>
            <p:cNvSpPr/>
            <p:nvPr/>
          </p:nvSpPr>
          <p:spPr>
            <a:xfrm>
              <a:off x="3983400" y="200160"/>
              <a:ext cx="5007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468360" y="1484280"/>
            <a:ext cx="849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50920" y="2852640"/>
            <a:ext cx="8531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八年成长、十二年苦读，孩子即将面临一生中最重要的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这特殊的一个阶段，孩子高考必将是您的家庭今年的头等大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80880" y="9810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在百忙之中抽空来参加此次家长会，关心、帮助、督促贵子女是我们共同的心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52280" y="228600"/>
            <a:ext cx="8763120" cy="14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做孩子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定心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自己的沉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孩子烦乱的心以慰籍，给他（她）传达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坚定而稳重的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4038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33520" y="2514600"/>
            <a:ext cx="8001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家长们，你们有信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你们的孩子就会有信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让你们的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给孩子们拼搏的动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信心，比金子重要！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"/>
          <p:cNvSpPr/>
          <p:nvPr/>
        </p:nvSpPr>
        <p:spPr>
          <a:xfrm>
            <a:off x="304920" y="76212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信老师，相信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自已信心，给孩子信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612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文：方诚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9186590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：龚壁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000025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英语：章静    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150117021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理：马一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1189827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学：王道春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8284373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物：邱莹莹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9983212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533520" y="228600"/>
            <a:ext cx="67816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科目科任教师的电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914724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语老师寄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是主科，是很容易拉分的科目，也是很容易上去的科目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要态度好，只要坚持下去就一定会学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从来都是属于有准备的人，英语领先的和进步的同学都在努力进取，课堂上认真听讲，课下的作业不打折扣（可以把孩子的《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备考指南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，看看孩子这两天的对英语的态度，有没有做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至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页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没有用红笔改正，有没有记下老师的笔记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，那么这就是孩子学习退步或者停滞不前的原因了）。没有付出是绝对没有回报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包括两个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14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听说考试（在电脑上进行录音的）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份统一考试的笔试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部分都不能放松，所以，如果你有空，一定要监督孩子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者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晚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大声地朗读，另外，每周布置的套题必须严格控制时间，认真作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家长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高三（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10</a:t>
            </a: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班）语文老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班级平均分：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8.13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上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下（不及格）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表扬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陈洁铟、陈祈月、陈子健、黄楚雯、梁晓新、卢俊宇、潘智翔、彭志壕、向往、钟毓芷、周梓强、曾锦隆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语文的重要性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前十名中一半同学语文进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以上，且这些同学总分都有进步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李永泉、蔡子杰、沈伟坤、张梓峰是前十名中语文没上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的同学。语文成绩多少影响了他们的总分和级排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很多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以上的同学，也有因为语文拉低了分数的情况。退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及以上都需要注意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语文不是可有可无，也是会被拉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生自己总结出的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八月份时间分配不平均，顾此失彼，没有足够重视语文学习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对语文太过自信，认为不怎么学习也不会影响成绩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考试时太过紧张，做题时间没有分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做题方法掌握得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高一、高二基础落下得太多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十一年漫漫的准备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终于到了要拉开战幕，拼命一战的时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班的很多同学开始</a:t>
            </a: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跟自己散漫、拖拉、不负责任的过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说再见。 　　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几点建议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920"/>
            <a:ext cx="7499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基础知识的落实，不能在基础的、简单的题上丢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课堂的学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多做、多练、多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相信学校老师布置的任务和复习计划，积极配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当认为自己基础不好时，只有靠认真；当认为自己总分不够完美时，也只有靠认真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09480" y="2286000"/>
            <a:ext cx="79250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分析总结是前进的主要动力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38080" y="685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要月考分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31240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月考分析分析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828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好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阶段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终结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4267080"/>
            <a:ext cx="822960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一段学习做的好的地方和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段学习如何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对密集大考的策略（尤其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心理、情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调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5335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481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第一次月考数据（个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48006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一阶段如何调整自己的学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198108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每一科的知识，哪些知识点掌握的好，哪些知识还没有    理解透彻？（落实到以后的学习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3124080"/>
            <a:ext cx="830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 每一种题型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客观题、主观题；基础题、中档题、难题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哪一部分做得好？哪一部分有待改进？（认真填写好自评表，面对问题，积极改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2590920"/>
            <a:ext cx="62485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绪与心理的调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级与个人的有机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609480"/>
            <a:ext cx="7848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学习，生活，娱乐是有机整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以下方面请大家在今后关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面对月考失败的挫折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200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日迈克尔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乔丹正式入选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NBA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名人堂，这里把乔丹的几句话送给这次月考失意的同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在我的职业生涯中，投丢了超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球，我差不多输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比赛，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，教练把最后一投的机会交给我，我却没有投进。在我的生命中，经历过一次又一次的失败。而这，正是我成功的原因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我可以接受失败，但无法接受放弃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有百分之一的机会，就要付出百分之一百二十的努力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29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物理没有捷径，物理差的同学必须要多花时间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持八月份的状态不动摇，不懈怠，不骄不躁，不气馁，继续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个别物理不太入门的同学，有必要时可以请家庭教师辅导，当然也可以自己努力，但是必须有措施，有行动，有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11520" y="401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老师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380880" y="29718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感谢家长的大力支持！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320" y="15228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各位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孩子们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您的付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成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您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孩子的成功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骄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点提醒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周周六晚不留宿，孩子回家可以好好聊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医保事宜，需要续保的，在下周一前交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作为下一年的续保金。（名单在后面黑板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、月考分析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14600" y="417240"/>
            <a:ext cx="41148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次月考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7760" y="1828800"/>
          <a:ext cx="9067680" cy="4343400"/>
        </p:xfrm>
        <a:graphic>
          <a:graphicData uri="http://schemas.openxmlformats.org/drawingml/2006/table">
            <a:tbl>
              <a:tblPr/>
              <a:tblGrid>
                <a:gridCol w="955800"/>
                <a:gridCol w="1058760"/>
                <a:gridCol w="1008000"/>
                <a:gridCol w="1006560"/>
                <a:gridCol w="1008000"/>
                <a:gridCol w="1008000"/>
                <a:gridCol w="1008000"/>
                <a:gridCol w="1006560"/>
                <a:gridCol w="1008000"/>
              </a:tblGrid>
              <a:tr h="1072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高三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33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83.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1.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7.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9.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79280" y="123840"/>
            <a:ext cx="8812080" cy="790560"/>
            <a:chOff x="179280" y="123840"/>
            <a:chExt cx="8812080" cy="790560"/>
          </a:xfrm>
        </p:grpSpPr>
        <p:grpSp>
          <p:nvGrpSpPr>
            <p:cNvPr id="379" name=""/>
            <p:cNvGrpSpPr/>
            <p:nvPr/>
          </p:nvGrpSpPr>
          <p:grpSpPr>
            <a:xfrm>
              <a:off x="179280" y="339840"/>
              <a:ext cx="8602200" cy="574560"/>
              <a:chOff x="179280" y="339840"/>
              <a:chExt cx="8602200" cy="574560"/>
            </a:xfrm>
          </p:grpSpPr>
          <p:pic>
            <p:nvPicPr>
              <p:cNvPr id="380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86440" y="628200"/>
                <a:ext cx="729504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79280" y="339840"/>
                <a:ext cx="12841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2" name="Rectangle 6"/>
            <p:cNvSpPr/>
            <p:nvPr/>
          </p:nvSpPr>
          <p:spPr>
            <a:xfrm>
              <a:off x="3955320" y="123840"/>
              <a:ext cx="5036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609480" y="22050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0" y="1143000"/>
            <a:ext cx="86104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3546360" y="2089080"/>
            <a:ext cx="96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孩子的历次六科排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小孩的成绩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孩子的高考终极目标和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持优势科目，补短板科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37"/>
          <p:cNvSpPr/>
          <p:nvPr/>
        </p:nvSpPr>
        <p:spPr>
          <a:xfrm>
            <a:off x="5335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多详细信息请登录“广东省教育考试院”官方网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304920"/>
          <a:ext cx="8305920" cy="3747960"/>
        </p:xfrm>
        <a:graphic>
          <a:graphicData uri="http://schemas.openxmlformats.org/drawingml/2006/table">
            <a:tbl>
              <a:tblPr/>
              <a:tblGrid>
                <a:gridCol w="1665360"/>
                <a:gridCol w="1555560"/>
                <a:gridCol w="1403640"/>
                <a:gridCol w="1139760"/>
                <a:gridCol w="1401480"/>
                <a:gridCol w="1140120"/>
              </a:tblGrid>
              <a:tr h="7732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近三年广东高考录取分数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8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47600" y="123840"/>
            <a:ext cx="8767440" cy="790560"/>
            <a:chOff x="147600" y="123840"/>
            <a:chExt cx="8767440" cy="790560"/>
          </a:xfrm>
        </p:grpSpPr>
        <p:grpSp>
          <p:nvGrpSpPr>
            <p:cNvPr id="390" name=""/>
            <p:cNvGrpSpPr/>
            <p:nvPr/>
          </p:nvGrpSpPr>
          <p:grpSpPr>
            <a:xfrm>
              <a:off x="147600" y="339840"/>
              <a:ext cx="8558640" cy="574560"/>
              <a:chOff x="147600" y="339840"/>
              <a:chExt cx="8558640" cy="574560"/>
            </a:xfrm>
          </p:grpSpPr>
          <p:pic>
            <p:nvPicPr>
              <p:cNvPr id="391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48280" y="628200"/>
                <a:ext cx="72579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47600" y="339840"/>
                <a:ext cx="127764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3" name="Rectangle 6"/>
            <p:cNvSpPr/>
            <p:nvPr/>
          </p:nvSpPr>
          <p:spPr>
            <a:xfrm>
              <a:off x="3904560" y="123840"/>
              <a:ext cx="5010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28600" y="2128680"/>
            <a:ext cx="868680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以往的经验，结合今年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60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5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97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52280" y="1143000"/>
            <a:ext cx="8686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0:47Z</dcterms:created>
  <dc:creator/>
  <dc:description/>
  <dc:language>en-US</dc:language>
  <cp:lastModifiedBy>勿急勿躁</cp:lastModifiedBy>
  <dcterms:modified xsi:type="dcterms:W3CDTF">2013-09-06T05:46:19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