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gif" ContentType="image/gif"/>
  <Override PartName="/ppt/media/image7.gif" ContentType="image/gif"/>
  <Override PartName="/ppt/media/image8.gif" ContentType="image/gif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2AA2-8986-44E0-9EE5-F8CA0FA27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9901-05EF-407E-A1AF-C50AE9595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09B2-55DC-49E7-8B6B-9C5F9E6EA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6ECC-CA6E-4D59-B8ED-690641E99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DC73-7EB4-4646-AE09-221733568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CC26-046F-4631-8FB8-419D9E29F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C05E1-BDB4-4B30-A8EE-8C5E828A0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18242-A717-4621-B14C-F5F17DCCE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03D23-0BFD-4CC5-8CB3-92376E396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6B31-5F75-44FE-9022-9AE1938E5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71EA6-AEAE-43A2-8462-5F23ABF46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8D829-9C6C-47E6-947F-DF421A2D7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18FEE-75D9-4153-AC18-9990CB739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C2167-6AEF-4AE6-B2D5-14E2AD517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5E89F-A7DE-414D-A2A5-8A8F4BF5D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F135B-51CA-455C-8EFA-0A8ABCDD0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90BEF-9344-4395-8F1A-B7B10CE5F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02D3E-949C-4AB0-837B-4416059CF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7BC47-319B-4484-B77A-419D99802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7CFD4-2081-4048-9C2F-E96935AC6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319E-43B8-4067-985A-2EA3FF17E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9950B-9302-46A9-92A3-79B24CE8E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8DAE4-C22C-4BD1-A114-1DFCA7FFE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9142B-58B6-4B44-A1F6-5DCA30128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8D8B0-127C-40A2-95DB-06F81BDF9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70354-027E-4B45-94B8-D94B071BE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426E9-5D95-4715-AA4D-3BA48689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66BA6-35AF-400C-A481-505CAB579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6362F-18C4-4404-B88D-3518A745F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CE149-80C2-45EF-90E3-9F694DED8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12B9F-D16D-43BE-811E-9ABE12677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312A-EC33-4B5A-BF5A-30B9BC3A8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C5DBE-5DC0-4136-BB5F-2358E01B9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F7020-E974-458D-B92F-6D7195A79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A7C2A-02FD-424B-A53D-8BDA9B741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D69BF-F79C-4B98-90DA-DC640A752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60831-5A36-4541-817A-27D289927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8373D-F629-414E-890D-FD68A025B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9ACFC-7C82-432C-B741-8ABB209FB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FA246-5462-4717-88C7-8DAF5AB5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4F7BB-7845-43B0-9FA3-4837C18D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86A5E-4172-4ED1-AD98-FAC56AE7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3AED-B93C-4B93-9156-04C3DDFB4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F05DE-60DB-4E7A-BCBC-E76598C4E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5AAE0-0B25-4F52-9BE3-8C6D2D89A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E05A4-2150-47D0-9695-FAC93DFCD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229BA4-435E-4A57-B549-71B9E8A75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5C0A2-FA3E-449E-B289-DFC85FE22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6B5259-60B1-45DD-B0DC-159BE942D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D7EA76-19E9-4886-AF8F-CBA623056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970E5-80DD-496E-934A-688CEDCE0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3E4B9-E912-4DDC-8600-7972957E6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6581C-C1C3-4C8B-A1FC-D83347FB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900E-6B18-46FE-9258-93258097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2F545-A60F-4B11-9E72-9D7D256C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EFA66-0073-42C5-A8FD-27F8BC64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75D7C-859C-436E-87F6-55D4D078E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B103C-EC7A-416D-86BA-95D1B27A1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448080-896C-44E3-A3AB-DF4513D15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34460D-E359-4830-B59A-6889779DD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4E4331-D1BF-4D4C-8E62-7F98A5F8D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6AE99-4047-424D-9D6C-6F777C418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DA2180-CA01-420D-9271-5B06B3AB1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EFF676-706A-4BA8-A36B-8BBB91E6B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74F6-7382-4441-BF12-4ED7CC90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38B4F5-1204-4BDA-9145-47893400F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3267CA-A75F-4563-909E-6E49B8633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CB94C0-C61E-45DD-A183-321D1AD6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1B8E31-0DCB-4196-9F1D-39FCEECD9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1925AE-8699-4514-B651-F057B14A6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A09FED-155D-483C-B514-E3579D8E0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168586-2698-4BC1-9DDA-A811AC04C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ECF81-C607-46EB-A356-C74471F6EA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9272c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a9272c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a927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272c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a9272c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a9272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272c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a9272c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a927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272c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a9272c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a9272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272c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a9272c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a9272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272c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a9272c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272c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a9272c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272c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a9272c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537080" y="1593720"/>
            <a:ext cx="3995640" cy="540000"/>
          </a:xfrm>
          <a:prstGeom prst="roundRect">
            <a:avLst>
              <a:gd name="adj" fmla="val 37699"/>
            </a:avLst>
          </a:prstGeom>
          <a:gradFill rotWithShape="0">
            <a:gsLst>
              <a:gs pos="0">
                <a:srgbClr val="2b0d26">
                  <a:alpha val="19215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272c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a9272c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饼形 6"/>
          <p:cNvSpPr/>
          <p:nvPr/>
        </p:nvSpPr>
        <p:spPr>
          <a:xfrm>
            <a:off x="-803160" y="-803160"/>
            <a:ext cx="1625400" cy="1625400"/>
          </a:xfrm>
          <a:custGeom>
            <a:avLst/>
            <a:gdLst>
              <a:gd name="textAreaLeft" fmla="*/ 237960 w 1625400"/>
              <a:gd name="textAreaRight" fmla="*/ 1387440 w 1625400"/>
              <a:gd name="textAreaTop" fmla="*/ 237960 h 1625400"/>
              <a:gd name="textAreaBottom" fmla="*/ 1387440 h 162540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椭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7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20" name="同心圆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矩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914400" y="1407960"/>
            <a:ext cx="231840" cy="225360"/>
            <a:chOff x="914400" y="1407960"/>
            <a:chExt cx="231840" cy="225360"/>
          </a:xfrm>
        </p:grpSpPr>
        <p:pic>
          <p:nvPicPr>
            <p:cNvPr id="125" name="椭圆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952560" y="1444320"/>
              <a:ext cx="14904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椭圆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SzPct val="80000"/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SzPct val="80000"/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47EF9-088A-4EFF-8EFA-152EC2E04B52}" type="slidenum">
              <a:rPr b="0" lang="zh-CN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饼形 6"/>
          <p:cNvSpPr/>
          <p:nvPr/>
        </p:nvSpPr>
        <p:spPr>
          <a:xfrm>
            <a:off x="-803160" y="-803160"/>
            <a:ext cx="1625400" cy="1625400"/>
          </a:xfrm>
          <a:custGeom>
            <a:avLst/>
            <a:gdLst>
              <a:gd name="textAreaLeft" fmla="*/ 237960 w 1625400"/>
              <a:gd name="textAreaRight" fmla="*/ 1387440 w 1625400"/>
              <a:gd name="textAreaTop" fmla="*/ 237960 h 1625400"/>
              <a:gd name="textAreaBottom" fmla="*/ 1387440 h 162540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7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72" name="同心圆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矩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SzPct val="80000"/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SzPct val="80000"/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21D89-0F7A-440F-A684-A3476686709A}" type="slidenum">
              <a:rPr b="0" lang="zh-CN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BFAD0-3948-4909-A614-004CCA62430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3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4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718E6-9E8E-4E41-A77B-48F6FB50DAF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307" name=""/>
            <p:cNvGrpSpPr/>
            <p:nvPr/>
          </p:nvGrpSpPr>
          <p:grpSpPr>
            <a:xfrm>
              <a:off x="290520" y="2546280"/>
              <a:ext cx="711360" cy="474480"/>
              <a:chOff x="290520" y="2546280"/>
              <a:chExt cx="711360" cy="474480"/>
            </a:xfrm>
          </p:grpSpPr>
          <p:sp>
            <p:nvSpPr>
              <p:cNvPr id="308" name=""/>
              <p:cNvSpPr/>
              <p:nvPr/>
            </p:nvSpPr>
            <p:spPr>
              <a:xfrm>
                <a:off x="290520" y="254628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73560" y="254628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414360" y="2968560"/>
              <a:ext cx="737640" cy="474480"/>
              <a:chOff x="414360" y="2968560"/>
              <a:chExt cx="737640" cy="474480"/>
            </a:xfrm>
          </p:grpSpPr>
          <p:sp>
            <p:nvSpPr>
              <p:cNvPr id="311" name=""/>
              <p:cNvSpPr/>
              <p:nvPr/>
            </p:nvSpPr>
            <p:spPr>
              <a:xfrm>
                <a:off x="414360" y="2968560"/>
                <a:ext cx="42156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83360" y="2968560"/>
                <a:ext cx="36864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3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16080" y="325944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dt" idx="16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ftr" idx="17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sldNum" idx="18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E453C-861C-4263-B458-B7CB0872DDD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"/>
          <p:cNvGrpSpPr/>
          <p:nvPr/>
        </p:nvGrpSpPr>
        <p:grpSpPr>
          <a:xfrm>
            <a:off x="152280" y="152280"/>
            <a:ext cx="8839080" cy="831960"/>
            <a:chOff x="152280" y="152280"/>
            <a:chExt cx="8839080" cy="831960"/>
          </a:xfrm>
        </p:grpSpPr>
        <p:grpSp>
          <p:nvGrpSpPr>
            <p:cNvPr id="357" name=""/>
            <p:cNvGrpSpPr/>
            <p:nvPr/>
          </p:nvGrpSpPr>
          <p:grpSpPr>
            <a:xfrm>
              <a:off x="152280" y="409320"/>
              <a:ext cx="8628480" cy="574920"/>
              <a:chOff x="152280" y="409320"/>
              <a:chExt cx="8628480" cy="574920"/>
            </a:xfrm>
          </p:grpSpPr>
          <p:pic>
            <p:nvPicPr>
              <p:cNvPr id="358" name="Picture 4" descr="0001"/>
              <p:cNvPicPr/>
              <p:nvPr/>
            </p:nvPicPr>
            <p:blipFill>
              <a:blip r:embed="rId1"/>
              <a:stretch/>
            </p:blipFill>
            <p:spPr>
              <a:xfrm flipH="1" rot="10800000">
                <a:off x="1463400" y="697680"/>
                <a:ext cx="7317360" cy="13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9" name="Picture 5" descr="Q_039"/>
              <p:cNvPicPr/>
              <p:nvPr/>
            </p:nvPicPr>
            <p:blipFill>
              <a:blip r:embed="rId2">
                <a:lum bright="6000"/>
              </a:blip>
              <a:stretch/>
            </p:blipFill>
            <p:spPr>
              <a:xfrm>
                <a:off x="152280" y="409320"/>
                <a:ext cx="1288080" cy="574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60" name="Rectangle 6"/>
            <p:cNvSpPr/>
            <p:nvPr/>
          </p:nvSpPr>
          <p:spPr>
            <a:xfrm>
              <a:off x="3047400" y="152280"/>
              <a:ext cx="594396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隶书"/>
                </a:rPr>
                <a:t>高三</a:t>
              </a:r>
              <a:r>
                <a:rPr b="1" lang="en-US" sz="3200" spc="-1" strike="noStrike">
                  <a:solidFill>
                    <a:srgbClr val="ff0000"/>
                  </a:solidFill>
                  <a:latin typeface="Arial"/>
                  <a:ea typeface="隶书"/>
                </a:rPr>
                <a:t>1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隶书"/>
                </a:rPr>
                <a:t>0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隶书"/>
                </a:rPr>
                <a:t>班第一次月考分析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Rectangle 7"/>
          <p:cNvSpPr/>
          <p:nvPr/>
        </p:nvSpPr>
        <p:spPr>
          <a:xfrm>
            <a:off x="304920" y="1916280"/>
            <a:ext cx="8748720" cy="12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3300"/>
                </a:solidFill>
                <a:latin typeface="Arial"/>
                <a:ea typeface="隶书"/>
              </a:rPr>
              <a:t>欢迎各位家长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8"/>
          <p:cNvSpPr/>
          <p:nvPr/>
        </p:nvSpPr>
        <p:spPr>
          <a:xfrm>
            <a:off x="76320" y="4005360"/>
            <a:ext cx="8964360" cy="24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  <a:ea typeface="华文新魏"/>
              </a:rPr>
              <a:t>    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华文新魏"/>
              </a:rPr>
              <a:t>您的到来，让孩子们在高考路上有更大的信心，更强劲的动力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  <a:ea typeface="华文新魏"/>
              </a:rPr>
              <a:t>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2"/>
          <p:cNvSpPr/>
          <p:nvPr/>
        </p:nvSpPr>
        <p:spPr>
          <a:xfrm>
            <a:off x="152280" y="1163520"/>
            <a:ext cx="8763120" cy="41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明确现状，但不能对号入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月考不等于高考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高考才是真功夫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一年的时间变数极大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（认识，心态，方法，时间安排，毅力，投入，家庭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帮助孩子调整，在稳定中进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二、面对“月考分析”，家长应有的认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WordArt 2"/>
          <p:cNvSpPr txBox="1"/>
          <p:nvPr/>
        </p:nvSpPr>
        <p:spPr>
          <a:xfrm>
            <a:off x="971640" y="1989000"/>
            <a:ext cx="669744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2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23a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二、表扬名单</a:t>
            </a:r>
            <a:endParaRPr b="1" lang="en-US" sz="7200" spc="1" strike="noStrike">
              <a:ln w="12600">
                <a:solidFill>
                  <a:srgbClr val="ffff00"/>
                </a:solidFill>
                <a:miter/>
              </a:ln>
              <a:solidFill>
                <a:srgbClr val="f23a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54"/>
          <p:cNvSpPr/>
          <p:nvPr/>
        </p:nvSpPr>
        <p:spPr>
          <a:xfrm>
            <a:off x="1695240" y="76320"/>
            <a:ext cx="1521000" cy="65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六科成绩班级前十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55" descr="9"/>
          <p:cNvPicPr/>
          <p:nvPr/>
        </p:nvPicPr>
        <p:blipFill>
          <a:blip r:embed="rId1"/>
          <a:stretch/>
        </p:blipFill>
        <p:spPr>
          <a:xfrm>
            <a:off x="304920" y="4114800"/>
            <a:ext cx="1006200" cy="206208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58"/>
          <p:cNvSpPr/>
          <p:nvPr/>
        </p:nvSpPr>
        <p:spPr>
          <a:xfrm>
            <a:off x="0" y="685800"/>
            <a:ext cx="25146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级最高分（理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普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6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重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6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154400" y="76320"/>
          <a:ext cx="4608360" cy="6629400"/>
        </p:xfrm>
        <a:graphic>
          <a:graphicData uri="http://schemas.openxmlformats.org/drawingml/2006/table">
            <a:tbl>
              <a:tblPr/>
              <a:tblGrid>
                <a:gridCol w="1135080"/>
                <a:gridCol w="1436760"/>
                <a:gridCol w="1144440"/>
                <a:gridCol w="892080"/>
              </a:tblGrid>
              <a:tr h="1179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姓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+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8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排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级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090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李永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80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9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蔡子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9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沈伟坤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6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0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王美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0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曾思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55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54"/>
          <p:cNvSpPr/>
          <p:nvPr/>
        </p:nvSpPr>
        <p:spPr>
          <a:xfrm>
            <a:off x="1695240" y="76320"/>
            <a:ext cx="1521000" cy="65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六科成绩班级前十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55" descr="9"/>
          <p:cNvPicPr/>
          <p:nvPr/>
        </p:nvPicPr>
        <p:blipFill>
          <a:blip r:embed="rId1"/>
          <a:stretch/>
        </p:blipFill>
        <p:spPr>
          <a:xfrm>
            <a:off x="304920" y="4114800"/>
            <a:ext cx="1006200" cy="206208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58"/>
          <p:cNvSpPr/>
          <p:nvPr/>
        </p:nvSpPr>
        <p:spPr>
          <a:xfrm>
            <a:off x="0" y="685800"/>
            <a:ext cx="25146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级最高分（理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普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6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重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6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3506760" y="0"/>
          <a:ext cx="5486400" cy="673740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0160"/>
                <a:gridCol w="1373040"/>
              </a:tblGrid>
              <a:tr h="1816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姓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+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8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班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99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张梓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54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4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向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彭志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53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卢俊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5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5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陈子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49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4"/>
          <p:cNvSpPr/>
          <p:nvPr/>
        </p:nvSpPr>
        <p:spPr>
          <a:xfrm>
            <a:off x="533520" y="762120"/>
            <a:ext cx="7772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489"/>
          <p:cNvSpPr/>
          <p:nvPr/>
        </p:nvSpPr>
        <p:spPr>
          <a:xfrm>
            <a:off x="1969200" y="330120"/>
            <a:ext cx="1399320" cy="62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三科（语数英）班级前十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490" descr="9"/>
          <p:cNvPicPr/>
          <p:nvPr/>
        </p:nvPicPr>
        <p:blipFill>
          <a:blip r:embed="rId1"/>
          <a:stretch/>
        </p:blipFill>
        <p:spPr>
          <a:xfrm>
            <a:off x="179280" y="4267080"/>
            <a:ext cx="860400" cy="176544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492"/>
          <p:cNvSpPr/>
          <p:nvPr/>
        </p:nvSpPr>
        <p:spPr>
          <a:xfrm>
            <a:off x="0" y="685800"/>
            <a:ext cx="2590920" cy="30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级最高分（理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平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重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8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2" name=""/>
          <p:cNvGraphicFramePr/>
          <p:nvPr/>
        </p:nvGraphicFramePr>
        <p:xfrm>
          <a:off x="4191120" y="0"/>
          <a:ext cx="4572000" cy="6707160"/>
        </p:xfrm>
        <a:graphic>
          <a:graphicData uri="http://schemas.openxmlformats.org/drawingml/2006/table">
            <a:tbl>
              <a:tblPr/>
              <a:tblGrid>
                <a:gridCol w="1463760"/>
                <a:gridCol w="974520"/>
                <a:gridCol w="1019160"/>
                <a:gridCol w="1114560"/>
              </a:tblGrid>
              <a:tr h="1084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姓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三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8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班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92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彭志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33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戚安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周梓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21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9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李永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17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陈子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17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李杨坤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16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曾锦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14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蔡子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温可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7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曾思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6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刘诚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6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WordArt 2"/>
          <p:cNvSpPr txBox="1"/>
          <p:nvPr/>
        </p:nvSpPr>
        <p:spPr>
          <a:xfrm>
            <a:off x="2268360" y="189000"/>
            <a:ext cx="50403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华文行楷"/>
              </a:rPr>
              <a:t>单科前三名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14" name="AutoShape 3"/>
          <p:cNvSpPr/>
          <p:nvPr/>
        </p:nvSpPr>
        <p:spPr>
          <a:xfrm>
            <a:off x="235080" y="914400"/>
            <a:ext cx="8299440" cy="59799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文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文：刘诚延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21,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 戚安怡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卢俊宇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王美琪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学：彭志壕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 向往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陈子健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英语：戚安怡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20,3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李杨坤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2.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周梓强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2.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WordArt 2"/>
          <p:cNvSpPr txBox="1"/>
          <p:nvPr/>
        </p:nvSpPr>
        <p:spPr>
          <a:xfrm>
            <a:off x="2268360" y="189000"/>
            <a:ext cx="50403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华文行楷"/>
              </a:rPr>
              <a:t>单科前三名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16" name="AutoShape 3"/>
          <p:cNvSpPr/>
          <p:nvPr/>
        </p:nvSpPr>
        <p:spPr>
          <a:xfrm>
            <a:off x="76320" y="609480"/>
            <a:ext cx="9067680" cy="64771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物理：李永泉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9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卢俊宇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7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沈伟坤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化学：沈伟坤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张栩均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张梓峰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物：王美琪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张栩均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9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7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曾思华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8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 Box 1067"/>
          <p:cNvSpPr/>
          <p:nvPr/>
        </p:nvSpPr>
        <p:spPr>
          <a:xfrm>
            <a:off x="416160" y="304920"/>
            <a:ext cx="1642680" cy="56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六科进步表扬名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1080" descr="9"/>
          <p:cNvPicPr/>
          <p:nvPr/>
        </p:nvPicPr>
        <p:blipFill>
          <a:blip r:embed="rId1"/>
          <a:stretch/>
        </p:blipFill>
        <p:spPr>
          <a:xfrm>
            <a:off x="250920" y="4114800"/>
            <a:ext cx="1004760" cy="206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9" name=""/>
          <p:cNvGraphicFramePr/>
          <p:nvPr/>
        </p:nvGraphicFramePr>
        <p:xfrm>
          <a:off x="3168720" y="266760"/>
          <a:ext cx="5213160" cy="5972040"/>
        </p:xfrm>
        <a:graphic>
          <a:graphicData uri="http://schemas.openxmlformats.org/drawingml/2006/table">
            <a:tbl>
              <a:tblPr/>
              <a:tblGrid>
                <a:gridCol w="1933200"/>
                <a:gridCol w="1171440"/>
                <a:gridCol w="1054080"/>
                <a:gridCol w="1054440"/>
              </a:tblGrid>
              <a:tr h="838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姓名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+</a:t>
                      </a: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理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排名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进退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669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曾思华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55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4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彭志壕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53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4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9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曾锦隆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17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3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梁晓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8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17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9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陈祈月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02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8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周林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23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2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9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蔡子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7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6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向往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5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4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周梓强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46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6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9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曹杰豪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19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4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李永泉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80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1067"/>
          <p:cNvSpPr/>
          <p:nvPr/>
        </p:nvSpPr>
        <p:spPr>
          <a:xfrm>
            <a:off x="416160" y="304920"/>
            <a:ext cx="1642680" cy="56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六科进步表扬名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1080" descr="9"/>
          <p:cNvPicPr/>
          <p:nvPr/>
        </p:nvPicPr>
        <p:blipFill>
          <a:blip r:embed="rId1"/>
          <a:stretch/>
        </p:blipFill>
        <p:spPr>
          <a:xfrm>
            <a:off x="250920" y="4114800"/>
            <a:ext cx="1004760" cy="206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2" name=""/>
          <p:cNvGraphicFramePr/>
          <p:nvPr/>
        </p:nvGraphicFramePr>
        <p:xfrm>
          <a:off x="2666880" y="0"/>
          <a:ext cx="6324480" cy="4915080"/>
        </p:xfrm>
        <a:graphic>
          <a:graphicData uri="http://schemas.openxmlformats.org/drawingml/2006/table">
            <a:tbl>
              <a:tblPr/>
              <a:tblGrid>
                <a:gridCol w="2346480"/>
                <a:gridCol w="1420560"/>
                <a:gridCol w="1278000"/>
                <a:gridCol w="1279440"/>
              </a:tblGrid>
              <a:tr h="77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陈子健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49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5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曹锐平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33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2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9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张梓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54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4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张一帆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07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7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9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罗浩然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19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4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刘杰辉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2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3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9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沈伟坤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6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陈结铟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9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1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8701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古丽尼沙汗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88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8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 Box 1067"/>
          <p:cNvSpPr/>
          <p:nvPr/>
        </p:nvSpPr>
        <p:spPr>
          <a:xfrm>
            <a:off x="416160" y="304920"/>
            <a:ext cx="1642680" cy="56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六科进步表扬名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1080" descr="9"/>
          <p:cNvPicPr/>
          <p:nvPr/>
        </p:nvPicPr>
        <p:blipFill>
          <a:blip r:embed="rId1"/>
          <a:stretch/>
        </p:blipFill>
        <p:spPr>
          <a:xfrm>
            <a:off x="250920" y="4114800"/>
            <a:ext cx="1004760" cy="206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5" name=""/>
          <p:cNvGraphicFramePr/>
          <p:nvPr/>
        </p:nvGraphicFramePr>
        <p:xfrm>
          <a:off x="2666880" y="77760"/>
          <a:ext cx="6400800" cy="6399360"/>
        </p:xfrm>
        <a:graphic>
          <a:graphicData uri="http://schemas.openxmlformats.org/drawingml/2006/table">
            <a:tbl>
              <a:tblPr/>
              <a:tblGrid>
                <a:gridCol w="2374920"/>
                <a:gridCol w="1438200"/>
                <a:gridCol w="1293840"/>
                <a:gridCol w="1293840"/>
              </a:tblGrid>
              <a:tr h="101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$</a:t>
                      </a: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王美琪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5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066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蔡文君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85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2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094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李静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99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87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066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叶智源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4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6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062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朱子煦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7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2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08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潘智翔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5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8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08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$</a:t>
                      </a: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再努尔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30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1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08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陈结铟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9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1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33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古丽尼沙汗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88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8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5"/>
          <p:cNvSpPr/>
          <p:nvPr/>
        </p:nvSpPr>
        <p:spPr>
          <a:xfrm>
            <a:off x="304920" y="3886200"/>
            <a:ext cx="8450280" cy="825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高三（</a:t>
            </a:r>
            <a:r>
              <a:rPr b="1" lang="en-US" sz="48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）班班主任：章 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6"/>
          <p:cNvSpPr/>
          <p:nvPr/>
        </p:nvSpPr>
        <p:spPr>
          <a:xfrm>
            <a:off x="533520" y="1676520"/>
            <a:ext cx="8001000" cy="1191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隶书"/>
                <a:ea typeface="隶书"/>
              </a:rPr>
              <a:t> </a:t>
            </a:r>
            <a:r>
              <a:rPr b="1" lang="zh-CN" sz="7200" spc="-1" strike="noStrike">
                <a:solidFill>
                  <a:srgbClr val="ff0000"/>
                </a:solidFill>
                <a:latin typeface="隶书"/>
                <a:ea typeface="隶书"/>
              </a:rPr>
              <a:t>信心  智慧  成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7"/>
          <p:cNvSpPr/>
          <p:nvPr/>
        </p:nvSpPr>
        <p:spPr>
          <a:xfrm>
            <a:off x="4038480" y="510552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013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月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 Box 2"/>
          <p:cNvSpPr/>
          <p:nvPr/>
        </p:nvSpPr>
        <p:spPr>
          <a:xfrm>
            <a:off x="304920" y="990720"/>
            <a:ext cx="8534160" cy="41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班高考目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全体同学过本科线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形势严峻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：本次考试有</a:t>
            </a:r>
            <a:r>
              <a:rPr b="1" lang="zh-CN" sz="5400" spc="-1" strike="noStrike" u="sng">
                <a:solidFill>
                  <a:srgbClr val="ff0000"/>
                </a:solidFill>
                <a:uFillTx/>
                <a:latin typeface="Arial"/>
              </a:rPr>
              <a:t>9</a:t>
            </a:r>
            <a:r>
              <a:rPr b="1" lang="zh-CN" sz="5400" spc="-1" strike="noStrike" u="sng">
                <a:solidFill>
                  <a:srgbClr val="ff0000"/>
                </a:solidFill>
                <a:uFillTx/>
                <a:latin typeface="Arial"/>
              </a:rPr>
              <a:t>人没过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分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2"/>
          <p:cNvSpPr/>
          <p:nvPr/>
        </p:nvSpPr>
        <p:spPr>
          <a:xfrm>
            <a:off x="76320" y="228600"/>
            <a:ext cx="5333760" cy="764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三、章老师的建议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3"/>
          <p:cNvSpPr/>
          <p:nvPr/>
        </p:nvSpPr>
        <p:spPr>
          <a:xfrm>
            <a:off x="533520" y="1219320"/>
            <a:ext cx="84582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高考是选拔性考试，是对考生的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文化素质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身体素质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心理素质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人格品质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全面考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152280" y="3657600"/>
            <a:ext cx="88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它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考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知识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、考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勤奋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、考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信心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、考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耐力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、考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体能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是对考生的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心态、意志品质、细节和习惯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等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非智力因素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综合考核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 三大复习阶段划分与八次月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第一阶段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1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日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1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基础储备过关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阶段，落实考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第二阶段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1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1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月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专题归纳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应考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适应（限时）训练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第三阶段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1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月下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高考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查漏补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阶段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关注临界生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密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注意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心态调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轻松赴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WordArt 4"/>
          <p:cNvSpPr txBox="1"/>
          <p:nvPr/>
        </p:nvSpPr>
        <p:spPr>
          <a:xfrm>
            <a:off x="399960" y="123840"/>
            <a:ext cx="401976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黑体"/>
              </a:rPr>
              <a:t>信心 智慧 成功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7f"/>
                </a:solidFill>
                <a:latin typeface="Calibri"/>
              </a:rPr>
              <a:t>   </a:t>
            </a:r>
            <a:r>
              <a:rPr b="1" lang="zh-CN" sz="4400" spc="-1" strike="noStrike">
                <a:solidFill>
                  <a:srgbClr val="00007f"/>
                </a:solidFill>
                <a:latin typeface="Calibri"/>
              </a:rPr>
              <a:t>八次考试时间安排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黑体"/>
              </a:rPr>
              <a:t> </a:t>
            </a:r>
            <a:r>
              <a:rPr b="0" lang="zh-CN" sz="4000" spc="-1" strike="noStrike">
                <a:solidFill>
                  <a:srgbClr val="a9272c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a9272c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4247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一次：暑假补课结束（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9—3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日 不合卷）</a:t>
            </a:r>
            <a:endParaRPr b="0" lang="en-US" sz="2400" spc="-1" strike="noStrike">
              <a:solidFill>
                <a:srgbClr val="a9272c"/>
              </a:solidFill>
              <a:latin typeface="Calibri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二次：国庆后（理科三科开始合卷，高考模式）</a:t>
            </a:r>
            <a:endParaRPr b="0" lang="en-US" sz="2400" spc="-1" strike="noStrike">
              <a:solidFill>
                <a:srgbClr val="a9272c"/>
              </a:solidFill>
              <a:latin typeface="Calibri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三次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月中旬</a:t>
            </a:r>
            <a:endParaRPr b="0" lang="en-US" sz="2400" spc="-1" strike="noStrike">
              <a:solidFill>
                <a:srgbClr val="a9272c"/>
              </a:solidFill>
              <a:latin typeface="Calibri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四次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月底（广州市调研考试）（家长会）</a:t>
            </a:r>
            <a:endParaRPr b="0" lang="en-US" sz="2400" spc="-1" strike="noStrike">
              <a:solidFill>
                <a:srgbClr val="a9272c"/>
              </a:solidFill>
              <a:latin typeface="Calibri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五次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01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寒假放假前</a:t>
            </a:r>
            <a:endParaRPr b="0" lang="en-US" sz="2400" spc="-1" strike="noStrike">
              <a:solidFill>
                <a:srgbClr val="a9272c"/>
              </a:solidFill>
              <a:latin typeface="Calibri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高考听说考试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和一模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中旬 （家长会）</a:t>
            </a:r>
            <a:endParaRPr b="0" lang="en-US" sz="2400" spc="-1" strike="noStrike">
              <a:solidFill>
                <a:srgbClr val="a9272c"/>
              </a:solidFill>
              <a:latin typeface="Calibri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二模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下旬 </a:t>
            </a:r>
            <a:endParaRPr b="0" lang="en-US" sz="2400" spc="-1" strike="noStrike">
              <a:solidFill>
                <a:srgbClr val="a9272c"/>
              </a:solidFill>
              <a:latin typeface="Calibri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三模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下旬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a9272c"/>
              </a:solidFill>
              <a:latin typeface="Calibri"/>
            </a:endParaRPr>
          </a:p>
          <a:p>
            <a:pPr marL="34308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9272c"/>
                </a:solidFill>
                <a:latin typeface="黑体"/>
                <a:ea typeface="黑体"/>
              </a:rPr>
              <a:t>决战考试：</a:t>
            </a:r>
            <a:r>
              <a:rPr b="1" lang="zh-CN" sz="3600" spc="-1" strike="noStrike">
                <a:solidFill>
                  <a:srgbClr val="a9272c"/>
                </a:solidFill>
                <a:latin typeface="黑体"/>
                <a:ea typeface="黑体"/>
              </a:rPr>
              <a:t>2014</a:t>
            </a:r>
            <a:r>
              <a:rPr b="1" lang="zh-CN" sz="3600" spc="-1" strike="noStrike">
                <a:solidFill>
                  <a:srgbClr val="a9272c"/>
                </a:solidFill>
                <a:latin typeface="黑体"/>
                <a:ea typeface="黑体"/>
              </a:rPr>
              <a:t>年</a:t>
            </a:r>
            <a:r>
              <a:rPr b="1" lang="zh-CN" sz="3600" spc="-1" strike="noStrike">
                <a:solidFill>
                  <a:srgbClr val="a9272c"/>
                </a:solidFill>
                <a:latin typeface="黑体"/>
                <a:ea typeface="黑体"/>
              </a:rPr>
              <a:t>6</a:t>
            </a:r>
            <a:r>
              <a:rPr b="1" lang="zh-CN" sz="3600" spc="-1" strike="noStrike">
                <a:solidFill>
                  <a:srgbClr val="a9272c"/>
                </a:solidFill>
                <a:latin typeface="黑体"/>
                <a:ea typeface="黑体"/>
              </a:rPr>
              <a:t>月</a:t>
            </a:r>
            <a:r>
              <a:rPr b="1" lang="zh-CN" sz="3600" spc="-1" strike="noStrike">
                <a:solidFill>
                  <a:srgbClr val="a9272c"/>
                </a:solidFill>
                <a:latin typeface="黑体"/>
                <a:ea typeface="黑体"/>
              </a:rPr>
              <a:t>7</a:t>
            </a:r>
            <a:r>
              <a:rPr b="1" lang="zh-CN" sz="3600" spc="-1" strike="noStrike">
                <a:solidFill>
                  <a:srgbClr val="a9272c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a9272c"/>
                </a:solidFill>
                <a:latin typeface="黑体"/>
                <a:ea typeface="黑体"/>
              </a:rPr>
              <a:t>8</a:t>
            </a:r>
            <a:r>
              <a:rPr b="1" lang="zh-CN" sz="3600" spc="-1" strike="noStrike">
                <a:solidFill>
                  <a:srgbClr val="a9272c"/>
                </a:solidFill>
                <a:latin typeface="黑体"/>
                <a:ea typeface="黑体"/>
              </a:rPr>
              <a:t>日高考（家长会）</a:t>
            </a:r>
            <a:endParaRPr b="0" lang="en-US" sz="3600" spc="-1" strike="noStrike">
              <a:solidFill>
                <a:srgbClr val="a9272c"/>
              </a:solidFill>
              <a:latin typeface="Calibri"/>
            </a:endParaRPr>
          </a:p>
        </p:txBody>
      </p:sp>
    </p:spTree>
  </p:cSld>
  <p:transition>
    <p:checke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7f"/>
                </a:solidFill>
                <a:latin typeface="Calibri"/>
              </a:rPr>
              <a:t>  </a:t>
            </a:r>
            <a:r>
              <a:rPr b="1" lang="zh-CN" sz="4400" spc="-1" strike="noStrike">
                <a:solidFill>
                  <a:srgbClr val="00007f"/>
                </a:solidFill>
                <a:latin typeface="Calibri"/>
              </a:rPr>
              <a:t>2</a:t>
            </a:r>
            <a:r>
              <a:rPr b="1" lang="zh-CN" sz="4400" spc="-1" strike="noStrike">
                <a:solidFill>
                  <a:srgbClr val="00007f"/>
                </a:solidFill>
                <a:latin typeface="Calibri"/>
              </a:rPr>
              <a:t>、开学以来我们的工作</a:t>
            </a:r>
            <a:endParaRPr b="0" lang="en-US" sz="4400" spc="-1" strike="noStrike">
              <a:solidFill>
                <a:srgbClr val="a9272c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8496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语文、数学、英语每周都有一次统练</a:t>
            </a:r>
            <a:endParaRPr b="0" lang="en-US" sz="2800" spc="-1" strike="noStrike">
              <a:solidFill>
                <a:srgbClr val="a9272c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数学每周两次晨练</a:t>
            </a:r>
            <a:endParaRPr b="0" lang="en-US" sz="2800" spc="-1" strike="noStrike">
              <a:solidFill>
                <a:srgbClr val="a9272c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六科每周都有一次周练</a:t>
            </a:r>
            <a:endParaRPr b="0" lang="en-US" sz="2800" spc="-1" strike="noStrike">
              <a:solidFill>
                <a:srgbClr val="a9272c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二、周三、周四晚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9:00—19:3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各科老师到班指导学生背诵相关知识点</a:t>
            </a:r>
            <a:endParaRPr b="0" lang="en-US" sz="2800" spc="-1" strike="noStrike">
              <a:solidFill>
                <a:srgbClr val="a9272c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五第八节培优补差</a:t>
            </a:r>
            <a:endParaRPr b="0" lang="en-US" sz="2800" spc="-1" strike="noStrike">
              <a:solidFill>
                <a:srgbClr val="a9272c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每天晚上的晚修科任老师下班辅导</a:t>
            </a:r>
            <a:endParaRPr b="0" lang="en-US" sz="2800" spc="-1" strike="noStrike">
              <a:solidFill>
                <a:srgbClr val="a9272c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六早上第一、二节科任老师下班辅导</a:t>
            </a:r>
            <a:endParaRPr b="0" lang="en-US" sz="2800" spc="-1" strike="noStrike">
              <a:solidFill>
                <a:srgbClr val="a9272c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六第三节——第八节各科统测</a:t>
            </a:r>
            <a:endParaRPr b="0" lang="en-US" sz="2800" spc="-1" strike="noStrike">
              <a:solidFill>
                <a:srgbClr val="a9272c"/>
              </a:solidFill>
              <a:latin typeface="Calibri"/>
            </a:endParaRPr>
          </a:p>
        </p:txBody>
      </p:sp>
    </p:spTree>
  </p:cSld>
  <p:transition>
    <p:checker dir="horz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4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 Box 2"/>
          <p:cNvSpPr/>
          <p:nvPr/>
        </p:nvSpPr>
        <p:spPr>
          <a:xfrm>
            <a:off x="304920" y="773280"/>
            <a:ext cx="868680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焦虑、浮躁、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沮丧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的心态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进入高三，大家都想好好拼一下，突出表现为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焦虑、浮躁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主要是有的人由于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急于提高成绩，结果欲速则不达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；有的人则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思想上想好成绩，盼着考上理想大学，但在行动上又不想在复习中付出艰苦努力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于是就产生了焦虑、浮躁、彷徨的心理情绪。特别是月考之后，有些同学比较沮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3"/>
          <p:cNvSpPr/>
          <p:nvPr/>
        </p:nvSpPr>
        <p:spPr>
          <a:xfrm>
            <a:off x="0" y="44280"/>
            <a:ext cx="853452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家长要了解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高三学生常见的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不良心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WordArt 4" descr=""/>
          <p:cNvPicPr/>
          <p:nvPr/>
        </p:nvPicPr>
        <p:blipFill>
          <a:blip r:embed="rId1"/>
          <a:stretch/>
        </p:blipFill>
        <p:spPr>
          <a:xfrm>
            <a:off x="133200" y="5888160"/>
            <a:ext cx="8877600" cy="64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一阶段希望得到家长的帮助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树立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高三第一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思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周日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督促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小孩及时完成作业，少玩电脑，少玩手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“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外松内紧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”，营造一种</a:t>
            </a:r>
            <a:r>
              <a:rPr b="1" lang="zh-CN" sz="36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温馨、轻松的家庭气氛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要与学校步调一致，但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注意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方法的引导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引导子女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而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不要由他（她）指挥您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多激励，多交流，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少唠叨，不打骂，理解相信自己的孩子，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重视成绩背后的问题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而不仅仅是成绩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53720" y="153720"/>
            <a:ext cx="8762760" cy="64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高三第一：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有效天数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183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多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高三拼一年，一定可以实现或者接近梦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与学校步调一致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状态和习惯很重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课堂和作业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看各科的资料书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主动与老师沟通、交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各科重要资料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语文：《备考指南》 《名师面对面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数学：《备考指南》《锁定高考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英语：《备考指南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物理：《名师》《导与练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化学：《备考指南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生物：《名师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2"/>
          <p:cNvSpPr/>
          <p:nvPr/>
        </p:nvSpPr>
        <p:spPr>
          <a:xfrm>
            <a:off x="228600" y="228600"/>
            <a:ext cx="8763120" cy="32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寂寞、枯燥的心态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由于高三学生的学习、生活相对比较单调，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缺少交流与沟通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一部分学生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心理上呈现出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寂寞、焦燥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的心态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他们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渴望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与父母、老师、同学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交流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希望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从他人那里</a:t>
            </a:r>
            <a:r>
              <a:rPr b="1" lang="zh-CN" sz="36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获得安慰、同情和鼓励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但又</a:t>
            </a:r>
            <a:r>
              <a:rPr b="1" lang="zh-CN" sz="36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不愿意主动行动，总是被动地等待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等待得不到满足，则会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怨天尤人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以为人家对他（她）有偏见，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产生误解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于是他们表现为渴望放假，喜欢回到家里看电视或独自躲在房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"/>
          <p:cNvGrpSpPr/>
          <p:nvPr/>
        </p:nvGrpSpPr>
        <p:grpSpPr>
          <a:xfrm>
            <a:off x="228600" y="200160"/>
            <a:ext cx="8762760" cy="790560"/>
            <a:chOff x="228600" y="200160"/>
            <a:chExt cx="8762760" cy="790560"/>
          </a:xfrm>
        </p:grpSpPr>
        <p:grpSp>
          <p:nvGrpSpPr>
            <p:cNvPr id="367" name=""/>
            <p:cNvGrpSpPr/>
            <p:nvPr/>
          </p:nvGrpSpPr>
          <p:grpSpPr>
            <a:xfrm>
              <a:off x="228600" y="416160"/>
              <a:ext cx="8553960" cy="574560"/>
              <a:chOff x="228600" y="416160"/>
              <a:chExt cx="8553960" cy="574560"/>
            </a:xfrm>
          </p:grpSpPr>
          <p:pic>
            <p:nvPicPr>
              <p:cNvPr id="368" name="Picture 4" descr="0001"/>
              <p:cNvPicPr/>
              <p:nvPr/>
            </p:nvPicPr>
            <p:blipFill>
              <a:blip r:embed="rId1"/>
              <a:stretch/>
            </p:blipFill>
            <p:spPr>
              <a:xfrm flipH="1" rot="10800000">
                <a:off x="1528560" y="704520"/>
                <a:ext cx="7254000" cy="13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9" name="Picture 5" descr="Q_039"/>
              <p:cNvPicPr/>
              <p:nvPr/>
            </p:nvPicPr>
            <p:blipFill>
              <a:blip r:embed="rId2">
                <a:lum bright="6000"/>
              </a:blip>
              <a:stretch/>
            </p:blipFill>
            <p:spPr>
              <a:xfrm>
                <a:off x="228600" y="416160"/>
                <a:ext cx="1276920" cy="57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70" name="Rectangle 6"/>
            <p:cNvSpPr/>
            <p:nvPr/>
          </p:nvSpPr>
          <p:spPr>
            <a:xfrm>
              <a:off x="3983400" y="200160"/>
              <a:ext cx="500796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隶书"/>
                </a:rPr>
                <a:t>欢迎家长的到来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Text Box 7"/>
          <p:cNvSpPr/>
          <p:nvPr/>
        </p:nvSpPr>
        <p:spPr>
          <a:xfrm>
            <a:off x="468360" y="1484280"/>
            <a:ext cx="8496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8"/>
          <p:cNvSpPr/>
          <p:nvPr/>
        </p:nvSpPr>
        <p:spPr>
          <a:xfrm>
            <a:off x="250920" y="2852640"/>
            <a:ext cx="8531280" cy="37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十八年成长、十二年苦读，孩子即将面临一生中最重要的考试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在这特殊的一个阶段，孩子高考必将是您的家庭今年的头等大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9"/>
          <p:cNvSpPr/>
          <p:nvPr/>
        </p:nvSpPr>
        <p:spPr>
          <a:xfrm>
            <a:off x="380880" y="981000"/>
            <a:ext cx="864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感谢您在百忙之中抽空来参加此次家长会，关心、帮助、督促贵子女是我们共同的心愿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有几句话供您与孩子沟通时用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不到最后一刻，绝不亲言放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天才能做到的勤奋可以做到，天才做不到的勤奋也能做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不为失败找借口，要为成功找方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永远不要以粗心为借口原谅自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把容易题作对，难题就会变容易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脚踏实地，心无旁骛，分秒必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Text Box 2"/>
          <p:cNvSpPr/>
          <p:nvPr/>
        </p:nvSpPr>
        <p:spPr>
          <a:xfrm>
            <a:off x="152280" y="228600"/>
            <a:ext cx="8763120" cy="1410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家长要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做孩子的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定心丸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以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自己的沉稳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给孩子烦乱的心以慰籍，给他（她）传达一种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坚定而稳重的信心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3"/>
          <p:cNvSpPr/>
          <p:nvPr/>
        </p:nvSpPr>
        <p:spPr>
          <a:xfrm>
            <a:off x="0" y="403848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4"/>
          <p:cNvSpPr/>
          <p:nvPr/>
        </p:nvSpPr>
        <p:spPr>
          <a:xfrm>
            <a:off x="533520" y="2514600"/>
            <a:ext cx="80010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隶书"/>
                <a:ea typeface="隶书"/>
              </a:rPr>
              <a:t>家长们，你们有信心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隶书"/>
                <a:ea typeface="隶书"/>
              </a:rPr>
              <a:t>        </a:t>
            </a:r>
            <a:r>
              <a:rPr b="1" lang="zh-CN" sz="4000" spc="-1" strike="noStrike">
                <a:solidFill>
                  <a:srgbClr val="ff3399"/>
                </a:solidFill>
                <a:latin typeface="隶书"/>
                <a:ea typeface="隶书"/>
              </a:rPr>
              <a:t>你们的孩子就会有信心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隶书"/>
                <a:ea typeface="隶书"/>
              </a:rPr>
              <a:t>让你们的信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隶书"/>
                <a:ea typeface="隶书"/>
              </a:rPr>
              <a:t>        </a:t>
            </a:r>
            <a:r>
              <a:rPr b="1" lang="zh-CN" sz="4000" spc="-1" strike="noStrike">
                <a:solidFill>
                  <a:srgbClr val="ff3399"/>
                </a:solidFill>
                <a:latin typeface="隶书"/>
                <a:ea typeface="隶书"/>
              </a:rPr>
              <a:t>给孩子们拼搏的动力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447560" y="4800600"/>
            <a:ext cx="5257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信心，比金子重要！</a:t>
            </a: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谢谢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3"/>
          <p:cNvSpPr/>
          <p:nvPr/>
        </p:nvSpPr>
        <p:spPr>
          <a:xfrm>
            <a:off x="304920" y="762120"/>
            <a:ext cx="8610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相信老师，相信孩子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给自已信心，给孩子信心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4" descr="9"/>
          <p:cNvPicPr/>
          <p:nvPr/>
        </p:nvPicPr>
        <p:blipFill>
          <a:blip r:embed="rId1"/>
          <a:stretch/>
        </p:blipFill>
        <p:spPr>
          <a:xfrm>
            <a:off x="250920" y="4114800"/>
            <a:ext cx="1004760" cy="20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6122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语文：方诚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591865909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楼南翼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数学：龚壁君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580000256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五楼中庭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3333ff"/>
                </a:solidFill>
                <a:uFillTx/>
                <a:latin typeface="Times New Roman"/>
                <a:ea typeface="楷体_GB2312"/>
              </a:rPr>
              <a:t>英语：章静     </a:t>
            </a:r>
            <a:r>
              <a:rPr b="1" lang="zh-CN" sz="3200" spc="-1" strike="noStrike" u="sng">
                <a:solidFill>
                  <a:srgbClr val="3333ff"/>
                </a:solidFill>
                <a:uFillTx/>
                <a:latin typeface="Times New Roman"/>
                <a:ea typeface="楷体_GB2312"/>
              </a:rPr>
              <a:t>1501170216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五楼中庭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物理：马一克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8011898277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四楼中庭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化学：王道春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382843738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三楼中庭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生物：邱莹莹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899832129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五楼南翼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2"/>
          <p:cNvSpPr/>
          <p:nvPr/>
        </p:nvSpPr>
        <p:spPr>
          <a:xfrm>
            <a:off x="533520" y="228600"/>
            <a:ext cx="6781680" cy="7034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高考科目科任教师的电话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-360" y="151920"/>
            <a:ext cx="9147240" cy="67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英语老师寄语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英语是主科，是很容易拉分的科目，也是很容易上去的科目，</a:t>
            </a: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只要态度好，只要坚持下去就一定会学好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功从来都是属于有准备的人，英语领先的和进步的同学都在努力进取，课堂上认真听讲，课下的作业不打折扣（可以把孩子的《</a:t>
            </a: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英语高考备考指南》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打开，看看孩子这两天的对英语的态度，有没有做完</a:t>
            </a: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第</a:t>
            </a:r>
            <a:r>
              <a:rPr b="1" lang="en-US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1</a:t>
            </a: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至</a:t>
            </a:r>
            <a:r>
              <a:rPr b="1" lang="en-US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7</a:t>
            </a: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页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有没有用红笔改正，有没有记下老师的笔记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,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没有，那么这就是孩子学习退步或者停滞不前的原因了）。没有付出是绝对没有回报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3300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英语高考包括两个部分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2014</a:t>
            </a: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年</a:t>
            </a:r>
            <a:r>
              <a:rPr b="1" lang="en-US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3</a:t>
            </a: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月的听说考试（在电脑上进行录音的）和</a:t>
            </a:r>
            <a:r>
              <a:rPr b="1" lang="en-US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6</a:t>
            </a: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月份统一考试的笔试部分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两部分都不能放松，所以，如果你有空，一定要监督孩子</a:t>
            </a: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早读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或者</a:t>
            </a: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晚读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30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，大声地朗读，另外，每周布置的套题必须严格控制时间，认真作答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572314"/>
                </a:solidFill>
                <a:latin typeface="Gill Sans MT"/>
              </a:rPr>
              <a:t>家长会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20e04"/>
                </a:solidFill>
                <a:latin typeface="Gill Sans MT"/>
              </a:rPr>
              <a:t>高三（</a:t>
            </a:r>
            <a:r>
              <a:rPr b="1" lang="en-US" sz="3200" spc="-1" strike="noStrike">
                <a:solidFill>
                  <a:srgbClr val="320e04"/>
                </a:solidFill>
                <a:latin typeface="Gill Sans MT"/>
              </a:rPr>
              <a:t>10</a:t>
            </a:r>
            <a:r>
              <a:rPr b="1" lang="zh-CN" sz="3200" spc="-1" strike="noStrike">
                <a:solidFill>
                  <a:srgbClr val="320e04"/>
                </a:solidFill>
                <a:latin typeface="Gill Sans MT"/>
              </a:rPr>
              <a:t>班）语文老师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Gill Sans MT"/>
              </a:rPr>
              <a:t>班级平均分：</a:t>
            </a:r>
            <a:r>
              <a:rPr b="1" lang="en-US" sz="4000" spc="-1" strike="noStrike">
                <a:solidFill>
                  <a:srgbClr val="000000"/>
                </a:solidFill>
                <a:latin typeface="Gill Sans MT"/>
              </a:rPr>
              <a:t>98.13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ill Sans MT"/>
              </a:rPr>
              <a:t>100</a:t>
            </a:r>
            <a:r>
              <a:rPr b="1" lang="zh-CN" sz="4000" spc="-1" strike="noStrike">
                <a:solidFill>
                  <a:srgbClr val="000000"/>
                </a:solidFill>
                <a:latin typeface="Gill Sans MT"/>
              </a:rPr>
              <a:t>分以上</a:t>
            </a:r>
            <a:r>
              <a:rPr b="1" lang="zh-CN" sz="4000" spc="-1" strike="noStrike">
                <a:solidFill>
                  <a:srgbClr val="000000"/>
                </a:solidFill>
                <a:latin typeface="Gill Sans MT"/>
              </a:rPr>
              <a:t>24</a:t>
            </a:r>
            <a:r>
              <a:rPr b="1" lang="zh-CN" sz="4000" spc="-1" strike="noStrike">
                <a:solidFill>
                  <a:srgbClr val="000000"/>
                </a:solidFill>
                <a:latin typeface="Gill Sans MT"/>
              </a:rPr>
              <a:t>人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ill Sans MT"/>
              </a:rPr>
              <a:t>90</a:t>
            </a:r>
            <a:r>
              <a:rPr b="1" lang="zh-CN" sz="4000" spc="-1" strike="noStrike">
                <a:solidFill>
                  <a:srgbClr val="000000"/>
                </a:solidFill>
                <a:latin typeface="Gill Sans MT"/>
              </a:rPr>
              <a:t>分以下（不及格）</a:t>
            </a:r>
            <a:r>
              <a:rPr b="1" lang="zh-CN" sz="4000" spc="-1" strike="noStrike">
                <a:solidFill>
                  <a:srgbClr val="000000"/>
                </a:solidFill>
                <a:latin typeface="Gill Sans MT"/>
              </a:rPr>
              <a:t>14</a:t>
            </a:r>
            <a:r>
              <a:rPr b="1" lang="zh-CN" sz="4000" spc="-1" strike="noStrike">
                <a:solidFill>
                  <a:srgbClr val="000000"/>
                </a:solidFill>
                <a:latin typeface="Gill Sans MT"/>
              </a:rPr>
              <a:t>人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572314"/>
                </a:solidFill>
                <a:latin typeface="Gill Sans MT"/>
              </a:rPr>
              <a:t>表扬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Gill Sans MT"/>
              </a:rPr>
              <a:t>陈洁铟、陈祈月、陈子健、黄楚雯、梁晓新、卢俊宇、潘智翔、彭志壕、向往、钟毓芷、周梓强、曾锦隆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572314"/>
                </a:solidFill>
                <a:latin typeface="Gill Sans MT"/>
              </a:rPr>
              <a:t>语文的重要性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前十名中一半同学语文进步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名以上，且这些同学总分都有进步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李永泉、蔡子杰、沈伟坤、张梓峰是前十名中语文没上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分的同学。语文成绩多少影响了他们的总分和级排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很多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500</a:t>
            </a: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分以上的同学，也有因为语文拉低了分数的情况。退步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名及以上都需要注意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语文不是可有可无，也是会被拉分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572314"/>
                </a:solidFill>
                <a:latin typeface="Gill Sans MT"/>
              </a:rPr>
              <a:t>学生自己总结出的问题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Gill Sans MT"/>
              </a:rPr>
              <a:t>、八月份时间分配不平均，顾此失彼，没有足够重视语文学习。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Gill Sans MT"/>
              </a:rPr>
              <a:t>、对语文太过自信，认为不怎么学习也不会影响成绩。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Gill Sans MT"/>
              </a:rPr>
              <a:t>、考试时太过紧张，做题时间没有分配好。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Gill Sans MT"/>
              </a:rPr>
              <a:t>、做题方法掌握得不好。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Gill Sans MT"/>
              </a:rPr>
              <a:t>、高一、高二基础落下得太多。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十一年漫漫的准备期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终于到了要拉开战幕，拼命一战的时刻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0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班的很多同学开始</a:t>
            </a:r>
            <a:r>
              <a:rPr b="1" lang="zh-CN" sz="4400" spc="-1" strike="noStrike">
                <a:solidFill>
                  <a:srgbClr val="ff3300"/>
                </a:solidFill>
                <a:latin typeface="楷体"/>
                <a:ea typeface="楷体"/>
              </a:rPr>
              <a:t>跟自己散漫、拖拉、不负责任的过去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说再见。 　　</a:t>
            </a: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楷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572314"/>
                </a:solidFill>
                <a:latin typeface="Gill Sans MT"/>
              </a:rPr>
              <a:t>几点建议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1434960" y="1447920"/>
            <a:ext cx="749952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、重视基础知识的落实，不能在基础的、简单的题上丢分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、重视课堂的学习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、多做、多练、多问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、相信学校老师布置的任务和复习计划，积极配合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 ——</a:t>
            </a: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当认为自己基础不好时，只有靠认真；当认为自己总分不够完美时，也只有靠认真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609480" y="2286000"/>
            <a:ext cx="7925040" cy="163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78000"/>
                    </a:srgbClr>
                  </a:outerShdw>
                </a:effectLst>
                <a:latin typeface="黑体"/>
              </a:rPr>
              <a:t>分析总结是前进的主要动力</a:t>
            </a:r>
            <a:endParaRPr b="1" lang="en-US" sz="18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78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838080" y="68580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为什么要月考分析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33520" y="3124080"/>
            <a:ext cx="78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月考分析分析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09480" y="182880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理解好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阶段性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”与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终结性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914400" y="4267080"/>
            <a:ext cx="8229600" cy="18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前一段学习做的好的地方和存在的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下一段学习如何调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应对密集大考的策略（尤其是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心理、情绪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调控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04920" y="533520"/>
            <a:ext cx="685800" cy="68580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3048120"/>
            <a:ext cx="685800" cy="68580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0" y="152280"/>
            <a:ext cx="78487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第一次月考数据（个人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52280" y="4800600"/>
            <a:ext cx="66294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下一阶段如何调整自己的学习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28600" y="1981080"/>
            <a:ext cx="83059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具体到每一科的知识，哪些知识点掌握的好，哪些知识还没有    理解透彻？（落实到以后的学习中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04920" y="3124080"/>
            <a:ext cx="83055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具体到 每一种题型，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客观题、主观题；基础题、中档题、难题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哪一部分做得好？哪一部分有待改进？（认真填写好自评表，面对问题，积极改正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1143000" y="2590920"/>
            <a:ext cx="6248520" cy="314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学习习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生活习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情绪与心理的调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班级与个人的有机联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57200" y="609480"/>
            <a:ext cx="784872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黑体"/>
              </a:rPr>
              <a:t>学习，生活，娱乐是有机整体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，以下方面请大家在今后关注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540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如何面对月考失败的挫折？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15400" cy="563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3200" spc="-1" strike="noStrike">
                <a:solidFill>
                  <a:srgbClr val="800080"/>
                </a:solidFill>
                <a:latin typeface="Tahoma"/>
              </a:rPr>
              <a:t>2009</a:t>
            </a:r>
            <a:r>
              <a:rPr b="1" lang="zh-CN" sz="3200" spc="-1" strike="noStrike">
                <a:solidFill>
                  <a:srgbClr val="800080"/>
                </a:solidFill>
                <a:latin typeface="Tahoma"/>
              </a:rPr>
              <a:t>年</a:t>
            </a:r>
            <a:r>
              <a:rPr b="1" lang="en-US" sz="3200" spc="-1" strike="noStrike">
                <a:solidFill>
                  <a:srgbClr val="800080"/>
                </a:solidFill>
                <a:latin typeface="Tahoma"/>
              </a:rPr>
              <a:t>9</a:t>
            </a:r>
            <a:r>
              <a:rPr b="1" lang="zh-CN" sz="3200" spc="-1" strike="noStrike">
                <a:solidFill>
                  <a:srgbClr val="800080"/>
                </a:solidFill>
                <a:latin typeface="Tahoma"/>
              </a:rPr>
              <a:t>月</a:t>
            </a:r>
            <a:r>
              <a:rPr b="1" lang="en-US" sz="3200" spc="-1" strike="noStrike">
                <a:solidFill>
                  <a:srgbClr val="800080"/>
                </a:solidFill>
                <a:latin typeface="Tahoma"/>
              </a:rPr>
              <a:t>11</a:t>
            </a:r>
            <a:r>
              <a:rPr b="1" lang="zh-CN" sz="3200" spc="-1" strike="noStrike">
                <a:solidFill>
                  <a:srgbClr val="800080"/>
                </a:solidFill>
                <a:latin typeface="Tahoma"/>
              </a:rPr>
              <a:t>日迈克尔</a:t>
            </a:r>
            <a:r>
              <a:rPr b="1" lang="en-US" sz="3200" spc="-1" strike="noStrike">
                <a:solidFill>
                  <a:srgbClr val="800080"/>
                </a:solidFill>
                <a:latin typeface="Tahoma"/>
              </a:rPr>
              <a:t>·</a:t>
            </a:r>
            <a:r>
              <a:rPr b="1" lang="zh-CN" sz="3200" spc="-1" strike="noStrike">
                <a:solidFill>
                  <a:srgbClr val="800080"/>
                </a:solidFill>
                <a:latin typeface="Tahoma"/>
              </a:rPr>
              <a:t>乔丹正式入选</a:t>
            </a:r>
            <a:r>
              <a:rPr b="1" lang="en-US" sz="3200" spc="-1" strike="noStrike">
                <a:solidFill>
                  <a:srgbClr val="800080"/>
                </a:solidFill>
                <a:latin typeface="Tahoma"/>
              </a:rPr>
              <a:t>NBA</a:t>
            </a:r>
            <a:r>
              <a:rPr b="1" lang="zh-CN" sz="3200" spc="-1" strike="noStrike">
                <a:solidFill>
                  <a:srgbClr val="800080"/>
                </a:solidFill>
                <a:latin typeface="Tahoma"/>
              </a:rPr>
              <a:t>名人堂，这里把乔丹的几句话送给这次月考失意的同学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乔丹说：“在我的职业生涯中，投丢了超过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9000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个球，我差不多输了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00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场比赛，有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6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次，教练把最后一投的机会交给我，我却没有投进。在我的生命中，经历过一次又一次的失败。而这，正是我成功的原因。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乔丹说：“我可以接受失败，但无法接受放弃。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乔丹说：“有百分之一的机会，就要付出百分之一百二十的努力。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有几句话供您与孩子沟通时用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不到最后一刻，绝不亲言放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天才能做到的勤奋可以做到，天才做不到的勤奋也能做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不为失败找借口，要为成功找方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永远不要以粗心为借口原谅自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把容易题作对，难题就会变容易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脚踏实地，心无旁骛，分秒必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394920" y="981000"/>
            <a:ext cx="806292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学物理没有捷径，物理差的同学必须要多花时间和精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保持八月份的状态不动摇，不懈怠，不骄不躁，不气馁，继续努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建议个别物理不太入门的同学，有必要时可以请家庭教师辅导，当然也可以自己努力，但是必须有措施，有行动，有落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711520" y="4017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物理老师寄语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WordArt 2"/>
          <p:cNvSpPr txBox="1"/>
          <p:nvPr/>
        </p:nvSpPr>
        <p:spPr>
          <a:xfrm>
            <a:off x="380880" y="2971800"/>
            <a:ext cx="76964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宋体"/>
              </a:rPr>
              <a:t>感谢家长的大力支持！</a:t>
            </a:r>
            <a:endParaRPr b="1" lang="en-US" sz="40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92" name="Text Box 3"/>
          <p:cNvSpPr/>
          <p:nvPr/>
        </p:nvSpPr>
        <p:spPr>
          <a:xfrm>
            <a:off x="76320" y="152280"/>
            <a:ext cx="8839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各位家长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    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孩子们会因</a:t>
            </a:r>
            <a:r>
              <a:rPr b="0" lang="zh-CN" sz="4000" spc="-1" strike="noStrike" u="sng">
                <a:solidFill>
                  <a:srgbClr val="ff0000"/>
                </a:solidFill>
                <a:uFillTx/>
                <a:latin typeface="隶书"/>
                <a:ea typeface="隶书"/>
              </a:rPr>
              <a:t>您的付出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而成功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          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您会因</a:t>
            </a:r>
            <a:r>
              <a:rPr b="0" lang="zh-CN" sz="4000" spc="-1" strike="noStrike" u="sng">
                <a:solidFill>
                  <a:srgbClr val="ff0000"/>
                </a:solidFill>
                <a:uFillTx/>
                <a:latin typeface="隶书"/>
                <a:ea typeface="隶书"/>
              </a:rPr>
              <a:t>孩子的成功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而骄傲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两点提醒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本周周六晚不留宿，孩子回家可以好好聊聊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关于医保事宜，需要续保的，在下周一前交纳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2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元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人作为下一年的续保金。（名单在后面黑板上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WordArt 2"/>
          <p:cNvSpPr txBox="1"/>
          <p:nvPr/>
        </p:nvSpPr>
        <p:spPr>
          <a:xfrm>
            <a:off x="971640" y="1989000"/>
            <a:ext cx="669744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2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23a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一、月考分析</a:t>
            </a:r>
            <a:endParaRPr b="1" lang="en-US" sz="7200" spc="1" strike="noStrike">
              <a:ln w="12600">
                <a:solidFill>
                  <a:srgbClr val="ffff00"/>
                </a:solidFill>
                <a:miter/>
              </a:ln>
              <a:solidFill>
                <a:srgbClr val="f23a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2514600" y="417240"/>
            <a:ext cx="4114800" cy="1000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第一次月考情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77760" y="1828800"/>
          <a:ext cx="9067680" cy="4343400"/>
        </p:xfrm>
        <a:graphic>
          <a:graphicData uri="http://schemas.openxmlformats.org/drawingml/2006/table">
            <a:tbl>
              <a:tblPr/>
              <a:tblGrid>
                <a:gridCol w="955800"/>
                <a:gridCol w="1058760"/>
                <a:gridCol w="1008000"/>
                <a:gridCol w="1006560"/>
                <a:gridCol w="1008000"/>
                <a:gridCol w="1008000"/>
                <a:gridCol w="1008000"/>
                <a:gridCol w="1006560"/>
                <a:gridCol w="1008000"/>
              </a:tblGrid>
              <a:tr h="107280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高三（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33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+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排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三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排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语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排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数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排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83.34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71.0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97.57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6.27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英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排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物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排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化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排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生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排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7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6.82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1.82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1.44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9.28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"/>
          <p:cNvGrpSpPr/>
          <p:nvPr/>
        </p:nvGrpSpPr>
        <p:grpSpPr>
          <a:xfrm>
            <a:off x="179280" y="123840"/>
            <a:ext cx="8812080" cy="790560"/>
            <a:chOff x="179280" y="123840"/>
            <a:chExt cx="8812080" cy="790560"/>
          </a:xfrm>
        </p:grpSpPr>
        <p:grpSp>
          <p:nvGrpSpPr>
            <p:cNvPr id="379" name=""/>
            <p:cNvGrpSpPr/>
            <p:nvPr/>
          </p:nvGrpSpPr>
          <p:grpSpPr>
            <a:xfrm>
              <a:off x="179280" y="339840"/>
              <a:ext cx="8602200" cy="574560"/>
              <a:chOff x="179280" y="339840"/>
              <a:chExt cx="8602200" cy="574560"/>
            </a:xfrm>
          </p:grpSpPr>
          <p:pic>
            <p:nvPicPr>
              <p:cNvPr id="380" name="Picture 4" descr="0001"/>
              <p:cNvPicPr/>
              <p:nvPr/>
            </p:nvPicPr>
            <p:blipFill>
              <a:blip r:embed="rId1"/>
              <a:stretch/>
            </p:blipFill>
            <p:spPr>
              <a:xfrm flipH="1" rot="10800000">
                <a:off x="1486440" y="628200"/>
                <a:ext cx="7295040" cy="13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1" name="Picture 5" descr="Q_039"/>
              <p:cNvPicPr/>
              <p:nvPr/>
            </p:nvPicPr>
            <p:blipFill>
              <a:blip r:embed="rId2">
                <a:lum bright="6000"/>
              </a:blip>
              <a:stretch/>
            </p:blipFill>
            <p:spPr>
              <a:xfrm>
                <a:off x="179280" y="339840"/>
                <a:ext cx="1284120" cy="57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82" name="Rectangle 6"/>
            <p:cNvSpPr/>
            <p:nvPr/>
          </p:nvSpPr>
          <p:spPr>
            <a:xfrm>
              <a:off x="3955320" y="123840"/>
              <a:ext cx="503604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隶书"/>
                </a:rPr>
                <a:t>欢迎家长的到来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Rectangle 7"/>
          <p:cNvSpPr/>
          <p:nvPr/>
        </p:nvSpPr>
        <p:spPr>
          <a:xfrm>
            <a:off x="304920" y="99072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我们的方向及现状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8"/>
          <p:cNvSpPr/>
          <p:nvPr/>
        </p:nvSpPr>
        <p:spPr>
          <a:xfrm>
            <a:off x="609480" y="2205000"/>
            <a:ext cx="81536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9"/>
          <p:cNvSpPr/>
          <p:nvPr/>
        </p:nvSpPr>
        <p:spPr>
          <a:xfrm>
            <a:off x="0" y="1143000"/>
            <a:ext cx="8610480" cy="7034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一、如何解读您手中的成绩单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0"/>
          <p:cNvSpPr/>
          <p:nvPr/>
        </p:nvSpPr>
        <p:spPr>
          <a:xfrm>
            <a:off x="3546360" y="2089080"/>
            <a:ext cx="963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看您孩子的历次六科排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看您小孩的成绩趋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了解孩子的高考终极目标和梦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保持优势科目，补短板科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矩形 37"/>
          <p:cNvSpPr/>
          <p:nvPr/>
        </p:nvSpPr>
        <p:spPr>
          <a:xfrm>
            <a:off x="533520" y="449568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更多详细信息请登录“广东省教育考试院”官方网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380880" y="304920"/>
          <a:ext cx="8305920" cy="3747960"/>
        </p:xfrm>
        <a:graphic>
          <a:graphicData uri="http://schemas.openxmlformats.org/drawingml/2006/table">
            <a:tbl>
              <a:tblPr/>
              <a:tblGrid>
                <a:gridCol w="1665360"/>
                <a:gridCol w="1555560"/>
                <a:gridCol w="1403640"/>
                <a:gridCol w="1139760"/>
                <a:gridCol w="1401480"/>
                <a:gridCol w="1140120"/>
              </a:tblGrid>
              <a:tr h="773280">
                <a:tc grid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近三年广东高考录取分数线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2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　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重本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本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本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专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专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01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57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51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48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4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3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743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01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58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52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48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4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3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744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01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56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50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46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38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33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147600" y="123840"/>
            <a:ext cx="8767440" cy="790560"/>
            <a:chOff x="147600" y="123840"/>
            <a:chExt cx="8767440" cy="790560"/>
          </a:xfrm>
        </p:grpSpPr>
        <p:grpSp>
          <p:nvGrpSpPr>
            <p:cNvPr id="390" name=""/>
            <p:cNvGrpSpPr/>
            <p:nvPr/>
          </p:nvGrpSpPr>
          <p:grpSpPr>
            <a:xfrm>
              <a:off x="147600" y="339840"/>
              <a:ext cx="8558640" cy="574560"/>
              <a:chOff x="147600" y="339840"/>
              <a:chExt cx="8558640" cy="574560"/>
            </a:xfrm>
          </p:grpSpPr>
          <p:pic>
            <p:nvPicPr>
              <p:cNvPr id="391" name="Picture 4" descr="0001"/>
              <p:cNvPicPr/>
              <p:nvPr/>
            </p:nvPicPr>
            <p:blipFill>
              <a:blip r:embed="rId1"/>
              <a:stretch/>
            </p:blipFill>
            <p:spPr>
              <a:xfrm flipH="1" rot="10800000">
                <a:off x="1448280" y="628200"/>
                <a:ext cx="7257960" cy="13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2" name="Picture 5" descr="Q_039"/>
              <p:cNvPicPr/>
              <p:nvPr/>
            </p:nvPicPr>
            <p:blipFill>
              <a:blip r:embed="rId2">
                <a:lum bright="6000"/>
              </a:blip>
              <a:stretch/>
            </p:blipFill>
            <p:spPr>
              <a:xfrm>
                <a:off x="147600" y="339840"/>
                <a:ext cx="1277640" cy="57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93" name="Rectangle 6"/>
            <p:cNvSpPr/>
            <p:nvPr/>
          </p:nvSpPr>
          <p:spPr>
            <a:xfrm>
              <a:off x="3904560" y="123840"/>
              <a:ext cx="501048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隶书"/>
                </a:rPr>
                <a:t>欢迎家长的到来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Rectangle 7"/>
          <p:cNvSpPr/>
          <p:nvPr/>
        </p:nvSpPr>
        <p:spPr>
          <a:xfrm>
            <a:off x="304920" y="99072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我们的方向及现状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8"/>
          <p:cNvSpPr/>
          <p:nvPr/>
        </p:nvSpPr>
        <p:spPr>
          <a:xfrm>
            <a:off x="228600" y="2128680"/>
            <a:ext cx="8686800" cy="35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从以往的经验，结合今年的目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重本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%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：理科前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96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名，分数线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7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本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A 60%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：理科前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32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名，分数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85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本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B 8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%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：理科前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455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名，分数线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6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专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A 97%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：理科前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519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名，分数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96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9"/>
          <p:cNvSpPr/>
          <p:nvPr/>
        </p:nvSpPr>
        <p:spPr>
          <a:xfrm>
            <a:off x="152280" y="1143000"/>
            <a:ext cx="8686800" cy="7034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一、如何解读您手中的成绩表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5T11:50:47Z</dcterms:created>
  <dc:creator/>
  <dc:description/>
  <dc:language>en-US</dc:language>
  <cp:lastModifiedBy>勿急勿躁</cp:lastModifiedBy>
  <dcterms:modified xsi:type="dcterms:W3CDTF">2013-09-06T05:46:19Z</dcterms:modified>
  <cp:revision>30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249</vt:lpwstr>
  </property>
  <property fmtid="{D5CDD505-2E9C-101B-9397-08002B2CF9AE}" pid="3" name="Version">
    <vt:r8>1</vt:r8>
  </property>
</Properties>
</file>