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EB84-38E5-4119-82D3-BD56946CC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B74-55FF-4231-B70F-4B453B276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0CE-DE97-4F6A-B34B-DEEE980C6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A52-4399-4C6E-B4A2-424B6897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7E5-48C1-4BAA-B9AC-5CC0AEBD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E1B-4FA2-4F3D-8754-6C3A58E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F943-8ECB-4549-851C-6AA1A09A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804D-7ACE-45F1-8C8A-F9A477DE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C01A-71F4-46DD-AE85-C907D328F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A02A-2201-4287-8FF8-394E851D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4112-BA46-4974-B99A-0B155757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145AB-173A-4863-B6BC-0E9173A0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53E1-DD54-4F16-B699-0B097F979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3758-9D35-49E0-A1DB-D4F74D64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FA8D2-B7B1-4B83-87E1-C04E8E94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B765-20C9-4FB5-8EF7-8C00044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EC4-A02C-42FE-8DD7-5C6BE62E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3EB0-2A17-42BC-BC72-1C863643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A790-BEDF-48DB-B205-E6AAAEFC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BF7F-1A49-4A5F-A991-6D8DEEDC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0AA1-8336-4AA7-8D44-C6240045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7D93A-8D43-47FA-BDAC-B60E270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C511-C691-43CB-A51A-3E18AC95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359FF-B483-40C0-B7D7-76123E54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8846-6618-4D17-810A-C90FC900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0D602-1442-4137-8AC0-221DD532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300EA-929D-4788-84FC-A030A8E7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B14FC-A28E-4D5A-B14D-56503DE8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5B3EB-C6CE-498E-84F9-2DCA67F7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CE7FE-5C36-42B9-814A-0D347238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6BD67-341D-4AFD-8BE5-72461A45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03C2-3703-4EE1-BC73-021A957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9AB7A-C8DF-45D5-9B43-18936F1B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8280D-A11C-447E-8005-C10E6F9A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1D0EA-AD1B-4C97-91CC-8E4084CE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C3010-B744-4238-B474-DBE876A2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6E0ED-90CE-4E19-99DD-87E32BE0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BD869-FD2D-4B01-9D3B-BBE25A08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BC630-ED7E-437E-9F86-8E8AEC352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1AD4A-81B4-4FB5-AFC1-D6B3D494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42821-E871-463B-B560-848FAB69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63226-98DD-4B0E-93D5-862DEF16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03A1-C0DC-48AD-9B82-4E84ED67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B9DB9-A5C4-46BF-8850-72BDE137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FF38B-0F70-4BFB-8757-6A13CF46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E6FB-1F7A-4D5B-AB08-E8B11AB68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DE302-6399-472A-8744-F4CCBF79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6860-78B8-4FE0-A9AF-55270EB4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D0C08-A758-42E7-9965-87CBA1881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E1D42-A446-4BB4-B01B-BB3B6260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BBDC4-48A6-41CF-8887-5228A681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825B1-26BD-4A6E-8BE9-9BBBFF9F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11AC6-3221-40C7-91DC-3A22F9AA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17D-6241-4044-B425-8AE8E524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52A5C-6521-442C-A861-3AC7EFBD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81B2D-4124-44B9-B1E3-E7211D2D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F3E10-C5F9-4D50-A035-7120AB92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3ADED-1ABD-47CA-8E54-AF14ED20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94FBB-1789-4FD8-925B-0233905DB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52FA2-C45B-4914-92FD-28F883B4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3B51F-EB24-49FF-B606-2D8AEA44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0E79E-2874-4EE2-A132-56B2A769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F9493-3B17-49D4-8B6E-8B534B548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E2005-7C41-4B73-8FF2-04007C04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B84-171B-4D10-B3AC-0618189B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9A76F-1612-4CC5-93D9-853D9343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89F5E-54B0-4FB7-A625-6108D5CC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00DDB-5C9F-4497-8F65-2F84500B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94B3C-7CC3-452D-803D-79D7B4DC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10207-C609-427D-9CCD-53243F4A8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D8F0E-336F-46DA-B157-D2AFF0E8A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34A3-1A67-4D66-846C-EDFD6165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F999-462C-41C7-881D-3AA04433B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a927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a9272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a9272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272c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37080" y="1593720"/>
            <a:ext cx="3995640" cy="540000"/>
          </a:xfrm>
          <a:prstGeom prst="roundRect">
            <a:avLst>
              <a:gd name="adj" fmla="val 37699"/>
            </a:avLst>
          </a:prstGeom>
          <a:gradFill rotWithShape="0">
            <a:gsLst>
              <a:gs pos="0">
                <a:srgbClr val="2b0d26">
                  <a:alpha val="19215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9272c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20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914400" y="1407960"/>
            <a:ext cx="231840" cy="225360"/>
            <a:chOff x="914400" y="1407960"/>
            <a:chExt cx="231840" cy="225360"/>
          </a:xfrm>
        </p:grpSpPr>
        <p:pic>
          <p:nvPicPr>
            <p:cNvPr id="125" name="椭圆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952560" y="1444320"/>
              <a:ext cx="14904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椭圆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5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A6BBA-C0CA-4961-8564-82A5AF0B8BFC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饼形 6"/>
          <p:cNvSpPr/>
          <p:nvPr/>
        </p:nvSpPr>
        <p:spPr>
          <a:xfrm>
            <a:off x="-803160" y="-803160"/>
            <a:ext cx="1625400" cy="1625400"/>
          </a:xfrm>
          <a:custGeom>
            <a:avLst/>
            <a:gdLst>
              <a:gd name="textAreaLeft" fmla="*/ 237960 w 1625400"/>
              <a:gd name="textAreaRight" fmla="*/ 1387440 w 1625400"/>
              <a:gd name="textAreaTop" fmla="*/ 237960 h 1625400"/>
              <a:gd name="textAreaBottom" fmla="*/ 1387440 h 162540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7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72" name="同心圆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矩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3891a7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SzPct val="80000"/>
              <a:buFont typeface="Verdana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251F-DF20-4991-B902-CE4F3CA96749}" type="slidenum">
              <a:rPr b="0" lang="zh-CN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C6F9-03B8-48F0-AAFA-48ED07524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6838C-973A-43A8-836C-BC7751FED3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07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08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11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5C25-9E4E-4049-8972-2DA3E39D33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152280" y="152280"/>
            <a:ext cx="8839080" cy="831960"/>
            <a:chOff x="152280" y="152280"/>
            <a:chExt cx="8839080" cy="831960"/>
          </a:xfrm>
        </p:grpSpPr>
        <p:grpSp>
          <p:nvGrpSpPr>
            <p:cNvPr id="357" name=""/>
            <p:cNvGrpSpPr/>
            <p:nvPr/>
          </p:nvGrpSpPr>
          <p:grpSpPr>
            <a:xfrm>
              <a:off x="152280" y="409320"/>
              <a:ext cx="8628480" cy="574920"/>
              <a:chOff x="152280" y="409320"/>
              <a:chExt cx="8628480" cy="574920"/>
            </a:xfrm>
          </p:grpSpPr>
          <p:pic>
            <p:nvPicPr>
              <p:cNvPr id="35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63400" y="697680"/>
                <a:ext cx="73173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52280" y="409320"/>
                <a:ext cx="1288080" cy="57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0" name="Rectangle 6"/>
            <p:cNvSpPr/>
            <p:nvPr/>
          </p:nvSpPr>
          <p:spPr>
            <a:xfrm>
              <a:off x="3047400" y="152280"/>
              <a:ext cx="5943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高三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0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班第一次月考分析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Rectangle 7"/>
          <p:cNvSpPr/>
          <p:nvPr/>
        </p:nvSpPr>
        <p:spPr>
          <a:xfrm>
            <a:off x="304920" y="1916280"/>
            <a:ext cx="87487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欢迎各位家长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6320" y="4005360"/>
            <a:ext cx="89643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华文新魏"/>
              </a:rPr>
              <a:t>您的到来，让孩子们在高考路上有更大的信心，更强劲的动力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2280" y="1163520"/>
            <a:ext cx="8763120" cy="41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明确现状，但不能对号入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月考不等于高考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高考才是真功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年的时间变数极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认识，心态，方法，时间安排，毅力，投入，家庭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帮助孩子调整，在稳定中进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二、面对“月考分析”，家长应有的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二、表扬名单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154400" y="76320"/>
          <a:ext cx="4608360" cy="6629400"/>
        </p:xfrm>
        <a:graphic>
          <a:graphicData uri="http://schemas.openxmlformats.org/drawingml/2006/table">
            <a:tbl>
              <a:tblPr/>
              <a:tblGrid>
                <a:gridCol w="1135080"/>
                <a:gridCol w="1436760"/>
                <a:gridCol w="1144440"/>
                <a:gridCol w="892080"/>
              </a:tblGrid>
              <a:tr h="1179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沈伟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王美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54"/>
          <p:cNvSpPr/>
          <p:nvPr/>
        </p:nvSpPr>
        <p:spPr>
          <a:xfrm>
            <a:off x="1695240" y="76320"/>
            <a:ext cx="1521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六科成绩班级前十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55" descr="9"/>
          <p:cNvPicPr/>
          <p:nvPr/>
        </p:nvPicPr>
        <p:blipFill>
          <a:blip r:embed="rId1"/>
          <a:stretch/>
        </p:blipFill>
        <p:spPr>
          <a:xfrm>
            <a:off x="304920" y="4114800"/>
            <a:ext cx="1006200" cy="206208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8"/>
          <p:cNvSpPr/>
          <p:nvPr/>
        </p:nvSpPr>
        <p:spPr>
          <a:xfrm>
            <a:off x="0" y="685800"/>
            <a:ext cx="2514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普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6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3506760" y="0"/>
          <a:ext cx="5486400" cy="6737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0160"/>
                <a:gridCol w="1373040"/>
              </a:tblGrid>
              <a:tr h="181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张梓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向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卢俊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4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4"/>
          <p:cNvSpPr/>
          <p:nvPr/>
        </p:nvSpPr>
        <p:spPr>
          <a:xfrm>
            <a:off x="533520" y="76212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89"/>
          <p:cNvSpPr/>
          <p:nvPr/>
        </p:nvSpPr>
        <p:spPr>
          <a:xfrm>
            <a:off x="1969200" y="330120"/>
            <a:ext cx="1399320" cy="62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科（语数英）班级前十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90" descr="9"/>
          <p:cNvPicPr/>
          <p:nvPr/>
        </p:nvPicPr>
        <p:blipFill>
          <a:blip r:embed="rId1"/>
          <a:stretch/>
        </p:blipFill>
        <p:spPr>
          <a:xfrm>
            <a:off x="179280" y="4267080"/>
            <a:ext cx="860400" cy="17654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92"/>
          <p:cNvSpPr/>
          <p:nvPr/>
        </p:nvSpPr>
        <p:spPr>
          <a:xfrm>
            <a:off x="0" y="685800"/>
            <a:ext cx="2590920" cy="30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级最高分（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2" name=""/>
          <p:cNvGraphicFramePr/>
          <p:nvPr/>
        </p:nvGraphicFramePr>
        <p:xfrm>
          <a:off x="4191120" y="0"/>
          <a:ext cx="4572000" cy="6707160"/>
        </p:xfrm>
        <a:graphic>
          <a:graphicData uri="http://schemas.openxmlformats.org/drawingml/2006/table">
            <a:tbl>
              <a:tblPr/>
              <a:tblGrid>
                <a:gridCol w="1463760"/>
                <a:gridCol w="974520"/>
                <a:gridCol w="1019160"/>
                <a:gridCol w="1114560"/>
              </a:tblGrid>
              <a:tr h="108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姓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12240">
                      <a:solidFill>
                        <a:srgbClr val="008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2240">
                      <a:solidFill>
                        <a:srgbClr val="008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级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班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彭志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戚安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周梓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1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永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陈子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李杨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锦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蔡子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温可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7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曾思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刘诚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35080" y="914400"/>
            <a:ext cx="8299440" cy="59799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：刘诚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1,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戚安怡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卢俊宇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王美琪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学：彭志壕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 向往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健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：戚安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20,3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李杨坤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梓强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2.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2"/>
          <p:cNvSpPr txBox="1"/>
          <p:nvPr/>
        </p:nvSpPr>
        <p:spPr>
          <a:xfrm>
            <a:off x="2268360" y="189000"/>
            <a:ext cx="5040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单科前三名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6" name="AutoShape 3"/>
          <p:cNvSpPr/>
          <p:nvPr/>
        </p:nvSpPr>
        <p:spPr>
          <a:xfrm>
            <a:off x="76320" y="609480"/>
            <a:ext cx="9067680" cy="64771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理：李永泉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卢俊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学：沈伟坤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梓峰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物：王美琪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张栩均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曾思华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9" name=""/>
          <p:cNvGraphicFramePr/>
          <p:nvPr/>
        </p:nvGraphicFramePr>
        <p:xfrm>
          <a:off x="3168720" y="266760"/>
          <a:ext cx="5213160" cy="5972040"/>
        </p:xfrm>
        <a:graphic>
          <a:graphicData uri="http://schemas.openxmlformats.org/drawingml/2006/table">
            <a:tbl>
              <a:tblPr/>
              <a:tblGrid>
                <a:gridCol w="1933200"/>
                <a:gridCol w="1171440"/>
                <a:gridCol w="1054080"/>
                <a:gridCol w="1054440"/>
              </a:tblGrid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姓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+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排名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进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思华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彭志壕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曾锦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7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梁晓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祈月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2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子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向往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周梓强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6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杰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永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8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2" name=""/>
          <p:cNvGraphicFramePr/>
          <p:nvPr/>
        </p:nvGraphicFramePr>
        <p:xfrm>
          <a:off x="2666880" y="0"/>
          <a:ext cx="6324480" cy="4915080"/>
        </p:xfrm>
        <a:graphic>
          <a:graphicData uri="http://schemas.openxmlformats.org/drawingml/2006/table">
            <a:tbl>
              <a:tblPr/>
              <a:tblGrid>
                <a:gridCol w="2346480"/>
                <a:gridCol w="1420560"/>
                <a:gridCol w="1278000"/>
                <a:gridCol w="1279440"/>
              </a:tblGrid>
              <a:tr h="77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子健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曹锐平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3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梓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4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一帆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罗浩然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1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4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刘杰辉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2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3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沈伟坤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6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8701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067"/>
          <p:cNvSpPr/>
          <p:nvPr/>
        </p:nvSpPr>
        <p:spPr>
          <a:xfrm>
            <a:off x="416160" y="304920"/>
            <a:ext cx="164268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六科进步表扬名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1080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5" name=""/>
          <p:cNvGraphicFramePr/>
          <p:nvPr/>
        </p:nvGraphicFramePr>
        <p:xfrm>
          <a:off x="2666880" y="77760"/>
          <a:ext cx="6400800" cy="6399360"/>
        </p:xfrm>
        <a:graphic>
          <a:graphicData uri="http://schemas.openxmlformats.org/drawingml/2006/table">
            <a:tbl>
              <a:tblPr/>
              <a:tblGrid>
                <a:gridCol w="2374920"/>
                <a:gridCol w="1438200"/>
                <a:gridCol w="1293840"/>
                <a:gridCol w="1293840"/>
              </a:tblGrid>
              <a:tr h="101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王美琪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蔡文君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5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9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静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9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叶智源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4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6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朱子煦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7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潘智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$</a:t>
                      </a: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再努尔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30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1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08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陈结铟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9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336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古丽尼沙汗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88.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8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5"/>
          <p:cNvSpPr/>
          <p:nvPr/>
        </p:nvSpPr>
        <p:spPr>
          <a:xfrm>
            <a:off x="304920" y="3886200"/>
            <a:ext cx="8450280" cy="825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高三（</a:t>
            </a: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）班班主任：章 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隶书"/>
                <a:ea typeface="隶书"/>
              </a:rPr>
              <a:t>信心  智慧  成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510552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304920" y="990720"/>
            <a:ext cx="8534160" cy="41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班高考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黑体"/>
                <a:ea typeface="黑体"/>
              </a:rPr>
              <a:t>全体同学过本科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形势严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本次考试有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r>
              <a:rPr b="1" lang="zh-CN" sz="5400" spc="-1" strike="noStrike" u="sng">
                <a:solidFill>
                  <a:srgbClr val="ff0000"/>
                </a:solidFill>
                <a:uFillTx/>
                <a:latin typeface="Arial"/>
              </a:rPr>
              <a:t>人没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76320" y="228600"/>
            <a:ext cx="53337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三、章老师的建议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533520" y="1219320"/>
            <a:ext cx="84582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考是选拔性考试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文化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身体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理素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人格品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全面考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52280" y="3657600"/>
            <a:ext cx="883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知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信心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耐力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、考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体能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是对考生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态、意志品质、细节和习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非智力因素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综合考核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 三大复习阶段划分与八次月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一阶段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基础储备过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，落实考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二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专题归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应考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适应（限时）训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第三阶段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月下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高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查漏补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阶段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注临界生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密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心态调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轻松赴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399960" y="123840"/>
            <a:ext cx="401976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信心 智慧 成功</a:t>
            </a:r>
            <a:endParaRPr b="1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4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4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4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八次考试时间安排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 </a:t>
            </a:r>
            <a:r>
              <a:rPr b="0" lang="zh-CN" sz="4000" spc="-1" strike="noStrike">
                <a:solidFill>
                  <a:srgbClr val="a9272c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一次：暑假补课结束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9—3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日 不合卷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次：国庆后（理科三科开始合卷，高考模式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三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中旬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四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月底（广州市调研考试）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五次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寒假放假前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高考听说考试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一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中旬 （家长会）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三模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下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决战考试：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2014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年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6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月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7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8</a:t>
            </a:r>
            <a:r>
              <a:rPr b="1" lang="zh-CN" sz="3600" spc="-1" strike="noStrike">
                <a:solidFill>
                  <a:srgbClr val="a9272c"/>
                </a:solidFill>
                <a:latin typeface="黑体"/>
                <a:ea typeface="黑体"/>
              </a:rPr>
              <a:t>日高考（家长会）</a:t>
            </a:r>
            <a:endParaRPr b="0" lang="en-US" sz="36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  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2</a:t>
            </a:r>
            <a:r>
              <a:rPr b="1" lang="zh-CN" sz="4400" spc="-1" strike="noStrike">
                <a:solidFill>
                  <a:srgbClr val="00007f"/>
                </a:solidFill>
                <a:latin typeface="Calibri"/>
              </a:rPr>
              <a:t>、开学以来我们的工作</a:t>
            </a:r>
            <a:endParaRPr b="0" lang="en-US" sz="4400" spc="-1" strike="noStrike">
              <a:solidFill>
                <a:srgbClr val="a9272c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8496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语文、数学、英语每周都有一次统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学每周两次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六科每周都有一次周练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二、周三、周四晚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9:00—19:3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各科老师到班指导学生背诵相关知识点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五第八节培优补差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晚上的晚修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早上第一、二节科任老师下班辅导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六第三节——第八节各科统测</a:t>
            </a:r>
            <a:endParaRPr b="0" lang="en-US" sz="2800" spc="-1" strike="noStrike">
              <a:solidFill>
                <a:srgbClr val="a9272c"/>
              </a:solidFill>
              <a:latin typeface="Calibri"/>
            </a:endParaRPr>
          </a:p>
        </p:txBody>
      </p:sp>
    </p:spTree>
  </p:cSld>
  <p:transition>
    <p:checker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4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304920" y="773280"/>
            <a:ext cx="86868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焦虑、浮躁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沮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的心态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进入高三，大家都想好好拼一下，突出表现为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焦虑、浮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主要是有的人由于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急于提高成绩，结果欲速则不达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；有的人则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思想上想好成绩，盼着考上理想大学，但在行动上又不想在复习中付出艰苦努力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于是就产生了焦虑、浮躁、彷徨的心理情绪。特别是月考之后，有些同学比较沮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0" y="44280"/>
            <a:ext cx="85345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家长要了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学生常见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良心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WordArt 4" descr=""/>
          <p:cNvPicPr/>
          <p:nvPr/>
        </p:nvPicPr>
        <p:blipFill>
          <a:blip r:embed="rId1"/>
          <a:stretch/>
        </p:blipFill>
        <p:spPr>
          <a:xfrm>
            <a:off x="133200" y="5888160"/>
            <a:ext cx="8877600" cy="64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第一阶段希望得到家长的帮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树立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高三第一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思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周日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督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小孩及时完成作业，少玩电脑，少玩手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“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外松内紧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”，营造一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温馨、轻松的家庭气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要与学校步调一致，但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方法的引导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；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引导子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不要由他（她）指挥您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多激励，多交流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少唠叨，不打骂，理解相信自己的孩子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重视成绩背后的问题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而不仅仅是成绩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3720" y="153720"/>
            <a:ext cx="8762760" cy="647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三第一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效天数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8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多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三拼一年，一定可以实现或者接近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与学校步调一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状态和习惯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课堂和作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各科的资料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动与老师沟通、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各科重要资料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语文：《备考指南》 《名师面对面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数学：《备考指南》《锁定高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英语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：《名师》《导与练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化学：《备考指南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生物：《名师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228600" y="228600"/>
            <a:ext cx="876312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寂寞、枯燥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由于高三学生的学习、生活相对比较单调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缺少交流与沟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一部分学生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心理上呈现出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寂寞、焦燥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的心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他们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渴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父母、老师、同学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交流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他人那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获得安慰、同情和鼓励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但又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不愿意主动行动，总是被动地等待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待得不到满足，则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怨天尤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为人家对他（她）有偏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产生误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是他们表现为渴望放假，喜欢回到家里看电视或独自躲在房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"/>
          <p:cNvGrpSpPr/>
          <p:nvPr/>
        </p:nvGrpSpPr>
        <p:grpSpPr>
          <a:xfrm>
            <a:off x="228600" y="200160"/>
            <a:ext cx="8762760" cy="790560"/>
            <a:chOff x="228600" y="200160"/>
            <a:chExt cx="8762760" cy="790560"/>
          </a:xfrm>
        </p:grpSpPr>
        <p:grpSp>
          <p:nvGrpSpPr>
            <p:cNvPr id="367" name=""/>
            <p:cNvGrpSpPr/>
            <p:nvPr/>
          </p:nvGrpSpPr>
          <p:grpSpPr>
            <a:xfrm>
              <a:off x="228600" y="416160"/>
              <a:ext cx="8553960" cy="574560"/>
              <a:chOff x="228600" y="416160"/>
              <a:chExt cx="8553960" cy="574560"/>
            </a:xfrm>
          </p:grpSpPr>
          <p:pic>
            <p:nvPicPr>
              <p:cNvPr id="368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528560" y="704520"/>
                <a:ext cx="725400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228600" y="416160"/>
                <a:ext cx="12769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0" name="Rectangle 6"/>
            <p:cNvSpPr/>
            <p:nvPr/>
          </p:nvSpPr>
          <p:spPr>
            <a:xfrm>
              <a:off x="3983400" y="200160"/>
              <a:ext cx="5007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 Box 7"/>
          <p:cNvSpPr/>
          <p:nvPr/>
        </p:nvSpPr>
        <p:spPr>
          <a:xfrm>
            <a:off x="468360" y="1484280"/>
            <a:ext cx="8496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250920" y="2852640"/>
            <a:ext cx="8531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十八年成长、十二年苦读，孩子即将面临一生中最重要的考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在这特殊的一个阶段，孩子高考必将是您的家庭今年的头等大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"/>
          <p:cNvSpPr/>
          <p:nvPr/>
        </p:nvSpPr>
        <p:spPr>
          <a:xfrm>
            <a:off x="380880" y="981000"/>
            <a:ext cx="864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感谢您在百忙之中抽空来参加此次家长会，关心、帮助、督促贵子女是我们共同的心愿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152280" y="228600"/>
            <a:ext cx="8763120" cy="1410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家长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做孩子的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定心丸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自己的沉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给孩子烦乱的心以慰籍，给他（她）传达一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坚定而稳重的信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"/>
          <p:cNvSpPr/>
          <p:nvPr/>
        </p:nvSpPr>
        <p:spPr>
          <a:xfrm>
            <a:off x="0" y="4038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533520" y="2514600"/>
            <a:ext cx="80010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家长们，你们有信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你们的孩子就会有信心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让你们的信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99"/>
                </a:solidFill>
                <a:latin typeface="隶书"/>
                <a:ea typeface="隶书"/>
              </a:rPr>
              <a:t>给孩子们拼搏的动力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47560" y="480060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信心，比金子重要！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"/>
          <p:cNvSpPr/>
          <p:nvPr/>
        </p:nvSpPr>
        <p:spPr>
          <a:xfrm>
            <a:off x="304920" y="76212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相信老师，相信孩子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给自已信心，给孩子信心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4" descr="9"/>
          <p:cNvPicPr/>
          <p:nvPr/>
        </p:nvPicPr>
        <p:blipFill>
          <a:blip r:embed="rId1"/>
          <a:stretch/>
        </p:blipFill>
        <p:spPr>
          <a:xfrm>
            <a:off x="250920" y="4114800"/>
            <a:ext cx="1004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6122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文：方诚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91865909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二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：龚壁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8000025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英语：章静     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Times New Roman"/>
                <a:ea typeface="楷体_GB2312"/>
              </a:rPr>
              <a:t>1501170216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物理：马一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1189827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学：王道春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82843738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楼中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物：邱莹莹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99832129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五楼南翼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533520" y="228600"/>
            <a:ext cx="67816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高考科目科任教师的电话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-360" y="151920"/>
            <a:ext cx="9147240" cy="67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英语老师寄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英语是主科，是很容易拉分的科目，也是很容易上去的科目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只要态度好，只要坚持下去就一定会学好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功从来都是属于有准备的人，英语领先的和进步的同学都在努力进取，课堂上认真听讲，课下的作业不打折扣（可以把孩子的《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备考指南》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开，看看孩子这两天的对英语的态度，有没有做完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至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页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没有用红笔改正，有没有记下老师的笔记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,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没有，那么这就是孩子学习退步或者停滞不前的原因了）。没有付出是绝对没有回报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3300"/>
              </a:buClr>
              <a:buFont typeface="楷体_GB231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英语高考包括两个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14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的听说考试（在电脑上进行录音的）和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月份统一考试的笔试部分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两部分都不能放松，所以，如果你有空，一定要监督孩子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早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或者</a:t>
            </a:r>
            <a:r>
              <a:rPr b="1" lang="zh-CN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晚读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3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钟，大声地朗读，另外，每周布置的套题必须严格控制时间，认真作答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家长会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高三（</a:t>
            </a:r>
            <a:r>
              <a:rPr b="1" lang="en-US" sz="3200" spc="-1" strike="noStrike">
                <a:solidFill>
                  <a:srgbClr val="320e04"/>
                </a:solidFill>
                <a:latin typeface="Gill Sans MT"/>
              </a:rPr>
              <a:t>10</a:t>
            </a:r>
            <a:r>
              <a:rPr b="1" lang="zh-CN" sz="3200" spc="-1" strike="noStrike">
                <a:solidFill>
                  <a:srgbClr val="320e04"/>
                </a:solidFill>
                <a:latin typeface="Gill Sans MT"/>
              </a:rPr>
              <a:t>班）语文老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班级平均分：</a:t>
            </a: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8.13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上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2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分以下（不及格）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表扬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ill Sans MT"/>
              </a:rPr>
              <a:t>陈洁铟、陈祈月、陈子健、黄楚雯、梁晓新、卢俊宇、潘智翔、彭志壕、向往、钟毓芷、周梓强、曾锦隆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语文的重要性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前十名中一半同学语文进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以上，且这些同学总分都有进步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李永泉、蔡子杰、沈伟坤、张梓峰是前十名中语文没上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的同学。语文成绩多少影响了他们的总分和级排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很多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分以上的同学，也有因为语文拉低了分数的情况。退步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名及以上都需要注意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语文不是可有可无，也是会被拉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学生自己总结出的问题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八月份时间分配不平均，顾此失彼，没有足够重视语文学习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对语文太过自信，认为不怎么学习也不会影响成绩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考试时太过紧张，做题时间没有分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做题方法掌握得不好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Gill Sans MT"/>
              </a:rPr>
              <a:t>、高一、高二基础落下得太多。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十一年漫漫的准备期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终于到了要拉开战幕，拼命一战的时刻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班的很多同学开始</a:t>
            </a:r>
            <a:r>
              <a:rPr b="1" lang="zh-CN" sz="4400" spc="-1" strike="noStrike">
                <a:solidFill>
                  <a:srgbClr val="ff3300"/>
                </a:solidFill>
                <a:latin typeface="楷体"/>
                <a:ea typeface="楷体"/>
              </a:rPr>
              <a:t>跟自己散漫、拖拉、不负责任的过去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说再见。 　　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572314"/>
                </a:solidFill>
                <a:latin typeface="Gill Sans MT"/>
              </a:rPr>
              <a:t>几点建议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1434960" y="1447920"/>
            <a:ext cx="7499520" cy="52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基础知识的落实，不能在基础的、简单的题上丢分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重视课堂的学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多做、多练、多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、相信学校老师布置的任务和复习计划，积极配合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 ——</a:t>
            </a:r>
            <a:r>
              <a:rPr b="1" lang="zh-CN" sz="3200" spc="-1" strike="noStrike">
                <a:solidFill>
                  <a:srgbClr val="000000"/>
                </a:solidFill>
                <a:latin typeface="Gill Sans MT"/>
              </a:rPr>
              <a:t>当认为自己基础不好时，只有靠认真；当认为自己总分不够完美时，也只有靠认真。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609480" y="2286000"/>
            <a:ext cx="7925040" cy="163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78000"/>
                    </a:srgbClr>
                  </a:outerShdw>
                </a:effectLst>
                <a:latin typeface="黑体"/>
              </a:rPr>
              <a:t>分析总结是前进的主要动力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838080" y="68580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为什么要月考分析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312408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月考分析分析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828800"/>
            <a:ext cx="70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理解好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阶段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与“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终结性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914400" y="4267080"/>
            <a:ext cx="8229600" cy="18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前一段学习做的好的地方和存在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下一段学习如何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应对密集大考的策略（尤其是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心理、情绪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调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5335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48120"/>
            <a:ext cx="685800" cy="68580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152280"/>
            <a:ext cx="78487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第一次月考数据（个人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52280" y="4800600"/>
            <a:ext cx="66294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下一阶段如何调整自己的学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28600" y="1981080"/>
            <a:ext cx="83059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每一科的知识，哪些知识点掌握的好，哪些知识还没有    理解透彻？（落实到以后的学习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04920" y="3124080"/>
            <a:ext cx="830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体到 每一种题型，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客观题、主观题；基础题、中档题、难题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哪一部分做得好？哪一部分有待改进？（认真填写好自评表，面对问题，积极改正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2590920"/>
            <a:ext cx="6248520" cy="314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习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活习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情绪与心理的调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级与个人的有机联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7200" y="609480"/>
            <a:ext cx="78487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学习，生活，娱乐是有机整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，以下方面请大家在今后关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如何面对月考失败的挫折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154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200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年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月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11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日迈克尔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·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乔丹正式入选</a:t>
            </a:r>
            <a:r>
              <a:rPr b="1" lang="en-US" sz="3200" spc="-1" strike="noStrike">
                <a:solidFill>
                  <a:srgbClr val="800080"/>
                </a:solidFill>
                <a:latin typeface="Tahoma"/>
              </a:rPr>
              <a:t>NBA</a:t>
            </a:r>
            <a:r>
              <a:rPr b="1" lang="zh-CN" sz="3200" spc="-1" strike="noStrike">
                <a:solidFill>
                  <a:srgbClr val="800080"/>
                </a:solidFill>
                <a:latin typeface="Tahoma"/>
              </a:rPr>
              <a:t>名人堂，这里把乔丹的几句话送给这次月考失意的同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在我的职业生涯中，投丢了超过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90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个球，我差不多输了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场比赛，有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次，教练把最后一投的机会交给我，我却没有投进。在我的生命中，经历过一次又一次的失败。而这，正是我成功的原因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我可以接受失败，但无法接受放弃。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乔丹说：“有百分之一的机会，就要付出百分之一百二十的努力。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有几句话供您与孩子沟通时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到最后一刻，绝不亲言放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天才能做到的勤奋可以做到，天才做不到的勤奋也能做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不为失败找借口，要为成功找方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永远不要以粗心为借口原谅自己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把容易题作对，难题就会变容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脚踏实地，心无旁骛，分秒必争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394920" y="981000"/>
            <a:ext cx="806292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物理没有捷径，物理差的同学必须要多花时间和精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保持八月份的状态不动摇，不懈怠，不骄不躁，不气馁，继续努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建议个别物理不太入门的同学，有必要时可以请家庭教师辅导，当然也可以自己努力，但是必须有措施，有行动，有落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711520" y="4017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物理老师寄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WordArt 2"/>
          <p:cNvSpPr txBox="1"/>
          <p:nvPr/>
        </p:nvSpPr>
        <p:spPr>
          <a:xfrm>
            <a:off x="380880" y="2971800"/>
            <a:ext cx="76964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宋体"/>
              </a:rPr>
              <a:t>感谢家长的大力支持！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2" name="Text Box 3"/>
          <p:cNvSpPr/>
          <p:nvPr/>
        </p:nvSpPr>
        <p:spPr>
          <a:xfrm>
            <a:off x="76320" y="152280"/>
            <a:ext cx="883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各位家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孩子们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您的付出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成功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          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您会因</a:t>
            </a:r>
            <a:r>
              <a:rPr b="0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孩子的成功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而骄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两点提醒</a:t>
            </a: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周周六晚不留宿，孩子回家可以好好聊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关于医保事宜，需要续保的，在下周一前交纳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元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人作为下一年的续保金。（名单在后面黑板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WordArt 2"/>
          <p:cNvSpPr txBox="1"/>
          <p:nvPr/>
        </p:nvSpPr>
        <p:spPr>
          <a:xfrm>
            <a:off x="971640" y="1989000"/>
            <a:ext cx="66974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23a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一、月考分析</a:t>
            </a:r>
            <a:endParaRPr b="1" lang="en-US" sz="7200" spc="1" strike="noStrike">
              <a:ln w="12600">
                <a:solidFill>
                  <a:srgbClr val="ffff00"/>
                </a:solidFill>
                <a:miter/>
              </a:ln>
              <a:solidFill>
                <a:srgbClr val="f23a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2514600" y="417240"/>
            <a:ext cx="4114800" cy="1000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一次月考情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77760" y="1828800"/>
          <a:ext cx="9067680" cy="4343400"/>
        </p:xfrm>
        <a:graphic>
          <a:graphicData uri="http://schemas.openxmlformats.org/drawingml/2006/table">
            <a:tbl>
              <a:tblPr/>
              <a:tblGrid>
                <a:gridCol w="955800"/>
                <a:gridCol w="1058760"/>
                <a:gridCol w="1008000"/>
                <a:gridCol w="1006560"/>
                <a:gridCol w="1008000"/>
                <a:gridCol w="1008000"/>
                <a:gridCol w="1008000"/>
                <a:gridCol w="1006560"/>
                <a:gridCol w="1008000"/>
              </a:tblGrid>
              <a:tr h="107280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高三（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）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2240">
                      <a:solidFill>
                        <a:srgbClr val="0033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+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三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语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数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83.3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1.0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7.5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英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物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化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生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排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7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6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8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1.4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9.2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"/>
          <p:cNvGrpSpPr/>
          <p:nvPr/>
        </p:nvGrpSpPr>
        <p:grpSpPr>
          <a:xfrm>
            <a:off x="179280" y="123840"/>
            <a:ext cx="8812080" cy="790560"/>
            <a:chOff x="179280" y="123840"/>
            <a:chExt cx="8812080" cy="790560"/>
          </a:xfrm>
        </p:grpSpPr>
        <p:grpSp>
          <p:nvGrpSpPr>
            <p:cNvPr id="379" name=""/>
            <p:cNvGrpSpPr/>
            <p:nvPr/>
          </p:nvGrpSpPr>
          <p:grpSpPr>
            <a:xfrm>
              <a:off x="179280" y="339840"/>
              <a:ext cx="8602200" cy="574560"/>
              <a:chOff x="179280" y="339840"/>
              <a:chExt cx="8602200" cy="574560"/>
            </a:xfrm>
          </p:grpSpPr>
          <p:pic>
            <p:nvPicPr>
              <p:cNvPr id="380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86440" y="628200"/>
                <a:ext cx="729504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79280" y="339840"/>
                <a:ext cx="128412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2" name="Rectangle 6"/>
            <p:cNvSpPr/>
            <p:nvPr/>
          </p:nvSpPr>
          <p:spPr>
            <a:xfrm>
              <a:off x="3955320" y="123840"/>
              <a:ext cx="50360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8"/>
          <p:cNvSpPr/>
          <p:nvPr/>
        </p:nvSpPr>
        <p:spPr>
          <a:xfrm>
            <a:off x="609480" y="2205000"/>
            <a:ext cx="8153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0" y="1143000"/>
            <a:ext cx="861048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3546360" y="2089080"/>
            <a:ext cx="963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孩子的历次六科排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看您小孩的成绩趋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了解孩子的高考终极目标和梦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保持优势科目，补短板科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矩形 37"/>
          <p:cNvSpPr/>
          <p:nvPr/>
        </p:nvSpPr>
        <p:spPr>
          <a:xfrm>
            <a:off x="5335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更多详细信息请登录“广东省教育考试院”官方网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80880" y="304920"/>
          <a:ext cx="8305920" cy="3747960"/>
        </p:xfrm>
        <a:graphic>
          <a:graphicData uri="http://schemas.openxmlformats.org/drawingml/2006/table">
            <a:tbl>
              <a:tblPr/>
              <a:tblGrid>
                <a:gridCol w="1665360"/>
                <a:gridCol w="1555560"/>
                <a:gridCol w="1403640"/>
                <a:gridCol w="1139760"/>
                <a:gridCol w="1401480"/>
                <a:gridCol w="1140120"/>
              </a:tblGrid>
              <a:tr h="773280">
                <a:tc grid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近三年广东高考录取分数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42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重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专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7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3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8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2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8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1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6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50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4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8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隶书"/>
                          <a:ea typeface="隶书"/>
                        </a:rPr>
                        <a:t>33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147600" y="123840"/>
            <a:ext cx="8767440" cy="790560"/>
            <a:chOff x="147600" y="123840"/>
            <a:chExt cx="8767440" cy="790560"/>
          </a:xfrm>
        </p:grpSpPr>
        <p:grpSp>
          <p:nvGrpSpPr>
            <p:cNvPr id="390" name=""/>
            <p:cNvGrpSpPr/>
            <p:nvPr/>
          </p:nvGrpSpPr>
          <p:grpSpPr>
            <a:xfrm>
              <a:off x="147600" y="339840"/>
              <a:ext cx="8558640" cy="574560"/>
              <a:chOff x="147600" y="339840"/>
              <a:chExt cx="8558640" cy="574560"/>
            </a:xfrm>
          </p:grpSpPr>
          <p:pic>
            <p:nvPicPr>
              <p:cNvPr id="391" name="Picture 4" descr="0001"/>
              <p:cNvPicPr/>
              <p:nvPr/>
            </p:nvPicPr>
            <p:blipFill>
              <a:blip r:embed="rId1"/>
              <a:stretch/>
            </p:blipFill>
            <p:spPr>
              <a:xfrm flipH="1" rot="10800000">
                <a:off x="1448280" y="628200"/>
                <a:ext cx="7257960" cy="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5" descr="Q_039"/>
              <p:cNvPicPr/>
              <p:nvPr/>
            </p:nvPicPr>
            <p:blipFill>
              <a:blip r:embed="rId2">
                <a:lum bright="6000"/>
              </a:blip>
              <a:stretch/>
            </p:blipFill>
            <p:spPr>
              <a:xfrm>
                <a:off x="147600" y="339840"/>
                <a:ext cx="1277640" cy="57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3" name="Rectangle 6"/>
            <p:cNvSpPr/>
            <p:nvPr/>
          </p:nvSpPr>
          <p:spPr>
            <a:xfrm>
              <a:off x="3904560" y="123840"/>
              <a:ext cx="501048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欢迎家长的到来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Rectangle 7"/>
          <p:cNvSpPr/>
          <p:nvPr/>
        </p:nvSpPr>
        <p:spPr>
          <a:xfrm>
            <a:off x="304920" y="990720"/>
            <a:ext cx="854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们的方向及现状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228600" y="2128680"/>
            <a:ext cx="8686800" cy="35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从以往的经验，结合今年的目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7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60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2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8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本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 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专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 97%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理科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51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名，分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96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9"/>
          <p:cNvSpPr/>
          <p:nvPr/>
        </p:nvSpPr>
        <p:spPr>
          <a:xfrm>
            <a:off x="152280" y="1143000"/>
            <a:ext cx="86868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如何解读您手中的成绩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1:50:47Z</dcterms:created>
  <dc:creator/>
  <dc:description/>
  <dc:language>en-US</dc:language>
  <cp:lastModifiedBy>勿急勿躁</cp:lastModifiedBy>
  <dcterms:modified xsi:type="dcterms:W3CDTF">2013-09-06T05:46:19Z</dcterms:modified>
  <cp:revision>3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