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2.wmf" ContentType="image/x-wmf"/>
  <Override PartName="/ppt/media/image8.jpeg" ContentType="image/jpeg"/>
  <Override PartName="/ppt/media/image10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projctor.wav" ContentType="audio/x-wav"/>
  <Override PartName="/ppt/media/image24.wmf" ContentType="image/x-wmf"/>
  <Override PartName="/ppt/media/image23.wmf" ContentType="image/x-wmf"/>
  <Override PartName="/ppt/media/image11.jpeg" ContentType="image/jpeg"/>
  <Override PartName="/ppt/media/TYPE.WAV" ContentType="audio/x-wav"/>
  <Override PartName="/ppt/media/image12.wmf" ContentType="image/x-wmf"/>
  <Override PartName="/ppt/media/image27.wmf" ContentType="image/x-wmf"/>
  <Override PartName="/ppt/media/image30.png" ContentType="image/png"/>
  <Override PartName="/ppt/media/image28.wmf" ContentType="image/x-wmf"/>
  <Override PartName="/ppt/media/image29.wmf" ContentType="image/x-wmf"/>
  <Override PartName="/ppt/media/image7.png" ContentType="image/png"/>
  <Override PartName="/ppt/media/image1.jpeg" ContentType="image/jpeg"/>
  <Override PartName="/ppt/media/image5.jpeg" ContentType="image/jpeg"/>
  <Override PartName="/ppt/media/image4.jpeg" ContentType="image/jpeg"/>
  <Override PartName="/ppt/media/image2.gif" ContentType="image/gif"/>
  <Override PartName="/ppt/media/image19.jpeg" ContentType="image/jpeg"/>
  <Override PartName="/ppt/media/image25.png" ContentType="image/png"/>
  <Override PartName="/ppt/media/image3.png" ContentType="image/png"/>
  <Override PartName="/ppt/media/image6.png" ContentType="image/png"/>
  <Override PartName="/ppt/media/image14.wmf" ContentType="image/x-wmf"/>
  <Override PartName="/ppt/media/image15.png" ContentType="image/png"/>
  <Override PartName="/ppt/media/image16.png" ContentType="image/png"/>
  <Override PartName="/ppt/media/image20.png" ContentType="image/png"/>
  <Override PartName="/ppt/media/image21.wmf" ContentType="image/x-wmf"/>
  <Override PartName="/ppt/media/image18.png" ContentType="image/png"/>
  <Override PartName="/ppt/media/type.wav" ContentType="audio/x-wav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25FA-D692-430C-9183-7AA2C6B262E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28D-B086-4BE6-AB2E-B52D4843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E363-3DA2-48B5-A99E-099C2092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9EB6-7EDA-432B-B7E3-C1BD5577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4856-6A4F-477C-8979-FBFE17DA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D8A-B10E-42FC-9017-C3DEB286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3712-5562-4A66-8DBB-53C44764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975-FE72-4817-9479-66592E7A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4BF-F314-42D3-A2A2-26E7E673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D81-067C-400E-934A-9E670D17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D24-EAEA-4721-B746-21F212F9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4BF-F782-4663-88A0-86AB111F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BD1-D8E0-4BE2-963E-6CEE2BDC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1F46-232E-4474-AE1D-DEC127FF0A4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hyperlink" Target="file:///&#28201;&#23460;&#25928;&#24212;.flv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5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26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7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8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课题</a:t>
            </a: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3    </a:t>
            </a: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二氧化碳和一氧化碳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1733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08440" y="177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48006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ff66"/>
                </a:solidFill>
                <a:latin typeface="Arial"/>
              </a:rPr>
              <a:t>西藏民族中学     张云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678168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304920" y="1676520"/>
          <a:ext cx="8080200" cy="3093840"/>
        </p:xfrm>
        <a:graphic>
          <a:graphicData uri="http://schemas.openxmlformats.org/drawingml/2006/table">
            <a:tbl>
              <a:tblPr/>
              <a:tblGrid>
                <a:gridCol w="612000"/>
                <a:gridCol w="951480"/>
                <a:gridCol w="1116000"/>
                <a:gridCol w="1043640"/>
                <a:gridCol w="1740600"/>
                <a:gridCol w="2401200"/>
                <a:gridCol w="216000"/>
              </a:tblGrid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颜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状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气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密度（与空气比较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溶解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二氧化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609480" y="3049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一、二氧化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（一）二氧化碳的物理性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22200" y="3200400"/>
            <a:ext cx="546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无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335268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气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3352680"/>
            <a:ext cx="54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无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040" y="3200400"/>
            <a:ext cx="91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比空气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66880" y="3200400"/>
            <a:ext cx="91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可溶于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952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（二）二氧化碳的化学性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56674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二氧化碳不可以燃烧，也不可以支持燃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i="1" lang="zh-CN" sz="4400" spc="-1" strike="noStrike" baseline="-30000">
                <a:solidFill>
                  <a:srgbClr val="e3ebf1"/>
                </a:solidFill>
                <a:latin typeface="Arial"/>
              </a:rPr>
              <a:t>2</a:t>
            </a:r>
            <a:r>
              <a:rPr b="0" i="1" lang="zh-CN" sz="4400" spc="-1" strike="noStrike">
                <a:solidFill>
                  <a:srgbClr val="e3ebf1"/>
                </a:solidFill>
                <a:latin typeface="宋体"/>
              </a:rPr>
              <a:t>溶于水变化的探究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4343400"/>
          <a:ext cx="7772400" cy="23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343400"/>
                    <a:ext cx="7772400" cy="23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09480" y="5486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4343400"/>
            <a:ext cx="7925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828800"/>
            <a:ext cx="7543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用四朵用石蕊溶液染成紫色的干燥的小花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一朵小花喷上稀醋酸；第二朵小花喷上水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三朵小花直接放入盛满二氧化碳的集气瓶中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四朵小花喷上水，放入盛满二氧化碳的集气瓶中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⑤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将第四朵小花取出小心烘烤，观察现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762120" y="762120"/>
          <a:ext cx="8153280" cy="3983040"/>
        </p:xfrm>
        <a:graphic>
          <a:graphicData uri="http://schemas.openxmlformats.org/drawingml/2006/table">
            <a:tbl>
              <a:tblPr/>
              <a:tblGrid>
                <a:gridCol w="546120"/>
                <a:gridCol w="982440"/>
                <a:gridCol w="1444680"/>
                <a:gridCol w="1598760"/>
                <a:gridCol w="2052360"/>
                <a:gridCol w="152892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现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不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不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红色褪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紫色石蕊遇酸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水不能使紫色石蕊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二氧化碳气体不能使紫色石蕊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与水反应，生成碳酸使紫色石蕊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碳酸不稳定，加热时易分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457200" y="51055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汽水中溶解了二氧化碳，所以也可以把汽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称之为“碳酸饮料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150920"/>
            <a:ext cx="8077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3ebf1"/>
                </a:solidFill>
                <a:latin typeface="宋体"/>
              </a:rPr>
              <a:t>将变红的溶液加热观察变化</a:t>
            </a:r>
            <a:br>
              <a:rPr sz="4400"/>
            </a:b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82296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观察现象：变红的溶液加热后又褪成紫色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3946680"/>
            <a:ext cx="82296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碳酸不稳定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H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===H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O+CO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常温下就可以缓慢分解，加热分解速率更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895480" y="1143000"/>
            <a:ext cx="5184720" cy="718200"/>
            <a:chOff x="2895480" y="1143000"/>
            <a:chExt cx="5184720" cy="718200"/>
          </a:xfrm>
        </p:grpSpPr>
        <p:sp>
          <p:nvSpPr>
            <p:cNvPr id="108" name=""/>
            <p:cNvSpPr/>
            <p:nvPr/>
          </p:nvSpPr>
          <p:spPr>
            <a:xfrm>
              <a:off x="2895480" y="1143000"/>
              <a:ext cx="5184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  +  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          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20960" y="136260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20960" y="141336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057400" y="304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氧化碳与水反应生成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09320" y="19047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碳酸很不稳定，容易分解为水和二氧化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743200" y="2590920"/>
            <a:ext cx="5409720" cy="718200"/>
            <a:chOff x="2743200" y="2590920"/>
            <a:chExt cx="5409720" cy="718200"/>
          </a:xfrm>
        </p:grpSpPr>
        <p:grpSp>
          <p:nvGrpSpPr>
            <p:cNvPr id="114" name=""/>
            <p:cNvGrpSpPr/>
            <p:nvPr/>
          </p:nvGrpSpPr>
          <p:grpSpPr>
            <a:xfrm>
              <a:off x="2743200" y="2590920"/>
              <a:ext cx="5409720" cy="718200"/>
              <a:chOff x="2743200" y="2590920"/>
              <a:chExt cx="5409720" cy="718200"/>
            </a:xfrm>
          </p:grpSpPr>
          <p:sp>
            <p:nvSpPr>
              <p:cNvPr id="115" name=""/>
              <p:cNvSpPr/>
              <p:nvPr/>
            </p:nvSpPr>
            <p:spPr>
              <a:xfrm>
                <a:off x="2743200" y="2590920"/>
                <a:ext cx="54097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         H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O   +  CO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75720" y="2893680"/>
                <a:ext cx="808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75720" y="2822400"/>
                <a:ext cx="808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7924680" y="266652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482120" y="3459240"/>
            <a:ext cx="5398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氧化碳能使澄清石灰水变浑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71600" y="4724280"/>
            <a:ext cx="6629400" cy="774000"/>
            <a:chOff x="1371600" y="4724280"/>
            <a:chExt cx="6629400" cy="774000"/>
          </a:xfrm>
        </p:grpSpPr>
        <p:sp>
          <p:nvSpPr>
            <p:cNvPr id="121" name=""/>
            <p:cNvSpPr/>
            <p:nvPr/>
          </p:nvSpPr>
          <p:spPr>
            <a:xfrm>
              <a:off x="1371600" y="4724280"/>
              <a:ext cx="6629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Ca(O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)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       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 +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Ca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22960" y="5119560"/>
              <a:ext cx="911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22960" y="5030640"/>
              <a:ext cx="911160" cy="2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25040" y="4838040"/>
              <a:ext cx="0" cy="660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7200" y="5670720"/>
            <a:ext cx="816912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思考：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了让用石灰浆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[Ca(OH)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抹的墙壁快点干燥，人们常在室内生个炭火盆，这是为什么？为什么开始放炭火盆时，墙壁反而变潮湿了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324480" cy="5181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320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干冰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2742840"/>
            <a:ext cx="71625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干冰”不是冰，而是由无色气体──二氧化碳通过降温加压变成的，所以，干冰就是固态二氧化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干冰升华时，吸收大量的热，使周围空气温度降低。如果用飞机从高空撒播干冰，由于干冰升华吸热，空气中的水蒸气迅速冷凝变成水滴，于是就开始下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1523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38480" y="304920"/>
            <a:ext cx="40514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40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在自然界中是怎样完成它的的循环的呢？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）如果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40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含量减少或增多各有什么影响？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403848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575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575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bf1"/>
                </a:solidFill>
                <a:latin typeface="Arial"/>
              </a:rPr>
              <a:t>（三）二氧化碳对生活和环境的影响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209680" y="2527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209680" y="2527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Object 5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962280" cy="115704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6" descr=""/>
          <p:cNvPicPr/>
          <p:nvPr/>
        </p:nvPicPr>
        <p:blipFill>
          <a:blip r:embed="rId2"/>
          <a:stretch/>
        </p:blipFill>
        <p:spPr>
          <a:xfrm>
            <a:off x="3886200" y="990720"/>
            <a:ext cx="1486080" cy="158724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7" descr=""/>
          <p:cNvPicPr/>
          <p:nvPr/>
        </p:nvPicPr>
        <p:blipFill>
          <a:blip r:embed="rId3"/>
          <a:stretch/>
        </p:blipFill>
        <p:spPr>
          <a:xfrm>
            <a:off x="3071880" y="3857760"/>
            <a:ext cx="2566800" cy="27432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8"/>
          <p:cNvSpPr/>
          <p:nvPr/>
        </p:nvSpPr>
        <p:spPr>
          <a:xfrm rot="18552600">
            <a:off x="1218960" y="1917360"/>
            <a:ext cx="2057400" cy="16002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 rot="7894200">
            <a:off x="5257080" y="4127040"/>
            <a:ext cx="2057400" cy="16002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486400" y="533520"/>
            <a:ext cx="1600200" cy="650880"/>
            <a:chOff x="5486400" y="533520"/>
            <a:chExt cx="1600200" cy="650880"/>
          </a:xfrm>
        </p:grpSpPr>
        <p:pic>
          <p:nvPicPr>
            <p:cNvPr id="145" name="Object 11" descr=""/>
            <p:cNvPicPr/>
            <p:nvPr/>
          </p:nvPicPr>
          <p:blipFill>
            <a:blip r:embed="rId4"/>
            <a:stretch/>
          </p:blipFill>
          <p:spPr>
            <a:xfrm flipH="1">
              <a:off x="5486400" y="609840"/>
              <a:ext cx="99072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12"/>
            <p:cNvSpPr/>
            <p:nvPr/>
          </p:nvSpPr>
          <p:spPr>
            <a:xfrm>
              <a:off x="6553080" y="533520"/>
              <a:ext cx="533520" cy="304920"/>
            </a:xfrm>
            <a:prstGeom prst="cloudCallout">
              <a:avLst>
                <a:gd name="adj1" fmla="val -80060"/>
                <a:gd name="adj2" fmla="val 54166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715000" y="2374920"/>
            <a:ext cx="1676520" cy="1752480"/>
            <a:chOff x="5715000" y="2374920"/>
            <a:chExt cx="1676520" cy="1752480"/>
          </a:xfrm>
        </p:grpSpPr>
        <p:sp>
          <p:nvSpPr>
            <p:cNvPr id="148" name="AutoShape 14"/>
            <p:cNvSpPr/>
            <p:nvPr/>
          </p:nvSpPr>
          <p:spPr>
            <a:xfrm>
              <a:off x="5715000" y="2374920"/>
              <a:ext cx="1600200" cy="1752480"/>
            </a:xfrm>
            <a:prstGeom prst="cloudCallout">
              <a:avLst>
                <a:gd name="adj1" fmla="val -113592"/>
                <a:gd name="adj2" fmla="val -9121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5"/>
            <p:cNvSpPr/>
            <p:nvPr/>
          </p:nvSpPr>
          <p:spPr>
            <a:xfrm>
              <a:off x="5791320" y="2895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二氧化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295280" y="3670200"/>
            <a:ext cx="1600200" cy="1752480"/>
            <a:chOff x="1295280" y="3670200"/>
            <a:chExt cx="1600200" cy="1752480"/>
          </a:xfrm>
        </p:grpSpPr>
        <p:sp>
          <p:nvSpPr>
            <p:cNvPr id="151" name="AutoShape 17"/>
            <p:cNvSpPr/>
            <p:nvPr/>
          </p:nvSpPr>
          <p:spPr>
            <a:xfrm>
              <a:off x="1295280" y="3670200"/>
              <a:ext cx="1600200" cy="1752480"/>
            </a:xfrm>
            <a:prstGeom prst="cloudCallout">
              <a:avLst>
                <a:gd name="adj1" fmla="val 98212"/>
                <a:gd name="adj2" fmla="val 327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1676160" y="4267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氧气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AutoShape 19"/>
          <p:cNvSpPr/>
          <p:nvPr/>
        </p:nvSpPr>
        <p:spPr>
          <a:xfrm>
            <a:off x="5791320" y="1219320"/>
            <a:ext cx="2895480" cy="838080"/>
          </a:xfrm>
          <a:prstGeom prst="wedgeRoundRectCallout">
            <a:avLst>
              <a:gd name="adj1" fmla="val -51041"/>
              <a:gd name="adj2" fmla="val 844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人、动植物的呼吸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煤等燃料的燃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20"/>
          <p:cNvSpPr/>
          <p:nvPr/>
        </p:nvSpPr>
        <p:spPr>
          <a:xfrm>
            <a:off x="1371600" y="5791320"/>
            <a:ext cx="1752480" cy="685800"/>
          </a:xfrm>
          <a:prstGeom prst="wedgeRoundRectCallout">
            <a:avLst>
              <a:gd name="adj1" fmla="val 49004"/>
              <a:gd name="adj2" fmla="val -14513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光合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857160" y="642960"/>
            <a:ext cx="3886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 氧 化 碳 的 循 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800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50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7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34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1600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57200" y="6094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空气中二氧化碳含量过多时会导致温室效应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种现象还与臭氧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甲烷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氟氯代烷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商品名为氟利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等气体有关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温室效应会使全球变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全球变暖可能导致两极的冰川溶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海平面升高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淹没部分城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及使土地沙漠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农业减产等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温室效应及其长期影响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们还需要进一步研究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类只有一个地球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了保护人类赖以生存的环境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应共同采取措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防止温室效应进一步增强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例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类应减少使用煤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石油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然气等化石燃料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更多的利用太阳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风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地热能等清洁资源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力植树造林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严禁乱砍滥伐森林等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52400" y="5867280"/>
            <a:ext cx="14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厄尔尼诺现象</a:t>
            </a:r>
            <a:r>
              <a:rPr b="0" lang="zh-CN" sz="24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ccff"/>
                </a:solidFill>
                <a:uFillTx/>
                <a:latin typeface="Arial"/>
                <a:ea typeface="楷体_GB2312"/>
                <a:hlinkClick r:id="rId4"/>
              </a:rPr>
              <a:t>温室效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猜一猜：      有一种物质，农民伯伯说它是“植物粮食”；消防官兵赞美它是“灭火先锋”；建筑师们却称它为“粉刷匠”；环境学家却指责它是造成全球变暖的罪魁祸首，你们猜这种物质是什么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  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厄尔尼诺现象是指地处太平洋热带地区的海水大范围异常增温现象。这一现象造成了地球温度的升高，使影响气候的各种因素失衡，从而导致气候异常。据历史记载，自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950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以来，世界上共发生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3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次厄尔尼诺现象。其中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997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发生的并且持续之今的这一次最为严重。主要表现在：从北半球到南半球，从非洲到拉美，气候变得古怪而不可思议，该凉爽的地方骄阳似火，温暖如春的季节突然下起来大雪，雨季到来却迟迟滴雨不下，正值旱季却洪水泛滥．．．．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   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科学家们认为，厄尔尼诺现象的发生与人类自然环境的日益恶化有关，是地球温室效应增加的直接结果，与人类向大自然过多索取而不注意环境保护有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月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日，来自世界各国的气象专家聚集曼谷，研讨对厄尔尼诺的良策。“拯救大自然，也就是拯救人类自己”是本次研讨会发出的最重要信息。专家们认为，本次厄尔尼诺现象将延续到今年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月份，在这之前气候异常将更加明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467480" y="8380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016360" y="1170000"/>
            <a:ext cx="40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请听听意大利“死狗洞”的故事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0574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在意大利那不勒斯中有一个著名的屠狗洞，洞中有一个屠狗妖，人进入洞内安然无恙，狗却死亡。科学家波曼尔决定弄个究竟。一天，他打着火把牵着狗走入洞内。他发现火把的燃烧有点飘忽不定，不一会儿狗就晕倒了。可是当他蹲下看个究竟时，他自己马上也感到呼吸困难了。他抱起狗走出洞外，哈哈大笑：这屠狗妖就是……</a:t>
            </a:r>
            <a:r>
              <a:rPr b="0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69880" y="304920"/>
            <a:ext cx="5821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含量增高对人体有什么影响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595680" y="4083120"/>
            <a:ext cx="5310000" cy="2489040"/>
            <a:chOff x="3595680" y="4083120"/>
            <a:chExt cx="5310000" cy="2489040"/>
          </a:xfrm>
        </p:grpSpPr>
        <p:sp>
          <p:nvSpPr>
            <p:cNvPr id="167" name="Rectangle 3"/>
            <p:cNvSpPr/>
            <p:nvPr/>
          </p:nvSpPr>
          <p:spPr>
            <a:xfrm>
              <a:off x="3595680" y="4156200"/>
              <a:ext cx="5310000" cy="241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399920" y="4083120"/>
              <a:ext cx="834480" cy="2269800"/>
              <a:chOff x="4399920" y="4083120"/>
              <a:chExt cx="834480" cy="22698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4399920" y="4083120"/>
                <a:ext cx="83448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AutoShape 6"/>
              <p:cNvSpPr/>
              <p:nvPr/>
            </p:nvSpPr>
            <p:spPr>
              <a:xfrm rot="5400000">
                <a:off x="4707360" y="5825880"/>
                <a:ext cx="219600" cy="83448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068880" y="4083120"/>
              <a:ext cx="832320" cy="2269800"/>
              <a:chOff x="6068880" y="4083120"/>
              <a:chExt cx="832320" cy="2269800"/>
            </a:xfrm>
          </p:grpSpPr>
          <p:sp>
            <p:nvSpPr>
              <p:cNvPr id="172" name="Rectangle 8"/>
              <p:cNvSpPr/>
              <p:nvPr/>
            </p:nvSpPr>
            <p:spPr>
              <a:xfrm>
                <a:off x="6068880" y="4083120"/>
                <a:ext cx="83232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AutoShape 9"/>
              <p:cNvSpPr/>
              <p:nvPr/>
            </p:nvSpPr>
            <p:spPr>
              <a:xfrm rot="5400000">
                <a:off x="6375240" y="5826960"/>
                <a:ext cx="219600" cy="83232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7585560" y="4083120"/>
              <a:ext cx="834480" cy="2269800"/>
              <a:chOff x="7585560" y="4083120"/>
              <a:chExt cx="834480" cy="2269800"/>
            </a:xfrm>
          </p:grpSpPr>
          <p:sp>
            <p:nvSpPr>
              <p:cNvPr id="175" name="Rectangle 11"/>
              <p:cNvSpPr/>
              <p:nvPr/>
            </p:nvSpPr>
            <p:spPr>
              <a:xfrm>
                <a:off x="7585560" y="4083120"/>
                <a:ext cx="83448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AutoShape 12"/>
              <p:cNvSpPr/>
              <p:nvPr/>
            </p:nvSpPr>
            <p:spPr>
              <a:xfrm rot="5400000">
                <a:off x="7893000" y="5825880"/>
                <a:ext cx="219600" cy="83448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Text Box 13"/>
          <p:cNvSpPr/>
          <p:nvPr/>
        </p:nvSpPr>
        <p:spPr>
          <a:xfrm>
            <a:off x="5375160" y="5149800"/>
            <a:ext cx="226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山    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638600" y="3778200"/>
            <a:ext cx="3517920" cy="2209680"/>
            <a:chOff x="4638600" y="3778200"/>
            <a:chExt cx="3517920" cy="2209680"/>
          </a:xfrm>
        </p:grpSpPr>
        <p:grpSp>
          <p:nvGrpSpPr>
            <p:cNvPr id="179" name=""/>
            <p:cNvGrpSpPr/>
            <p:nvPr/>
          </p:nvGrpSpPr>
          <p:grpSpPr>
            <a:xfrm>
              <a:off x="4638600" y="5454720"/>
              <a:ext cx="184320" cy="516600"/>
              <a:chOff x="4638600" y="5454720"/>
              <a:chExt cx="184320" cy="516600"/>
            </a:xfrm>
          </p:grpSpPr>
          <p:sp>
            <p:nvSpPr>
              <p:cNvPr id="180" name="AutoShape 16"/>
              <p:cNvSpPr/>
              <p:nvPr/>
            </p:nvSpPr>
            <p:spPr>
              <a:xfrm flipH="1" flipV="1">
                <a:off x="4638600" y="5454720"/>
                <a:ext cx="18432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4654440" y="5698800"/>
                <a:ext cx="152280" cy="272520"/>
                <a:chOff x="4654440" y="5698800"/>
                <a:chExt cx="152280" cy="272520"/>
              </a:xfrm>
            </p:grpSpPr>
            <p:sp>
              <p:nvSpPr>
                <p:cNvPr id="182" name="Line 18"/>
                <p:cNvSpPr/>
                <p:nvPr/>
              </p:nvSpPr>
              <p:spPr>
                <a:xfrm>
                  <a:off x="47307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9"/>
                <p:cNvSpPr/>
                <p:nvPr/>
              </p:nvSpPr>
              <p:spPr>
                <a:xfrm>
                  <a:off x="4654440" y="5721840"/>
                  <a:ext cx="15228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4651200" y="3778200"/>
              <a:ext cx="304920" cy="2209680"/>
              <a:chOff x="4651200" y="3778200"/>
              <a:chExt cx="304920" cy="2209680"/>
            </a:xfrm>
          </p:grpSpPr>
          <p:sp>
            <p:nvSpPr>
              <p:cNvPr id="185" name="Line 21"/>
              <p:cNvSpPr/>
              <p:nvPr/>
            </p:nvSpPr>
            <p:spPr>
              <a:xfrm>
                <a:off x="494316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2"/>
              <p:cNvSpPr/>
              <p:nvPr/>
            </p:nvSpPr>
            <p:spPr>
              <a:xfrm>
                <a:off x="465120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314760" y="5454720"/>
              <a:ext cx="183960" cy="516600"/>
              <a:chOff x="6314760" y="5454720"/>
              <a:chExt cx="183960" cy="516600"/>
            </a:xfrm>
          </p:grpSpPr>
          <p:sp>
            <p:nvSpPr>
              <p:cNvPr id="188" name="AutoShape 24"/>
              <p:cNvSpPr/>
              <p:nvPr/>
            </p:nvSpPr>
            <p:spPr>
              <a:xfrm flipH="1" flipV="1">
                <a:off x="6314400" y="5454720"/>
                <a:ext cx="18396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6330600" y="5698800"/>
                <a:ext cx="151920" cy="272520"/>
                <a:chOff x="6330600" y="5698800"/>
                <a:chExt cx="151920" cy="272520"/>
              </a:xfrm>
            </p:grpSpPr>
            <p:sp>
              <p:nvSpPr>
                <p:cNvPr id="190" name="Line 26"/>
                <p:cNvSpPr/>
                <p:nvPr/>
              </p:nvSpPr>
              <p:spPr>
                <a:xfrm>
                  <a:off x="64065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27"/>
                <p:cNvSpPr/>
                <p:nvPr/>
              </p:nvSpPr>
              <p:spPr>
                <a:xfrm>
                  <a:off x="6330600" y="5721840"/>
                  <a:ext cx="15192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6327720" y="3778200"/>
              <a:ext cx="304920" cy="2209680"/>
              <a:chOff x="6327720" y="3778200"/>
              <a:chExt cx="304920" cy="2209680"/>
            </a:xfrm>
          </p:grpSpPr>
          <p:sp>
            <p:nvSpPr>
              <p:cNvPr id="193" name="Line 29"/>
              <p:cNvSpPr/>
              <p:nvPr/>
            </p:nvSpPr>
            <p:spPr>
              <a:xfrm>
                <a:off x="661968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632772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839000" y="5454720"/>
              <a:ext cx="184320" cy="516600"/>
              <a:chOff x="7839000" y="5454720"/>
              <a:chExt cx="184320" cy="516600"/>
            </a:xfrm>
          </p:grpSpPr>
          <p:sp>
            <p:nvSpPr>
              <p:cNvPr id="196" name="AutoShape 32"/>
              <p:cNvSpPr/>
              <p:nvPr/>
            </p:nvSpPr>
            <p:spPr>
              <a:xfrm flipH="1" flipV="1">
                <a:off x="7839000" y="5454720"/>
                <a:ext cx="18432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7854840" y="5698800"/>
                <a:ext cx="152280" cy="272520"/>
                <a:chOff x="7854840" y="5698800"/>
                <a:chExt cx="152280" cy="272520"/>
              </a:xfrm>
            </p:grpSpPr>
            <p:sp>
              <p:nvSpPr>
                <p:cNvPr id="198" name="Line 34"/>
                <p:cNvSpPr/>
                <p:nvPr/>
              </p:nvSpPr>
              <p:spPr>
                <a:xfrm>
                  <a:off x="79311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35"/>
                <p:cNvSpPr/>
                <p:nvPr/>
              </p:nvSpPr>
              <p:spPr>
                <a:xfrm>
                  <a:off x="7854840" y="5721840"/>
                  <a:ext cx="15228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7851600" y="3778200"/>
              <a:ext cx="304920" cy="2209680"/>
              <a:chOff x="7851600" y="3778200"/>
              <a:chExt cx="304920" cy="2209680"/>
            </a:xfrm>
          </p:grpSpPr>
          <p:sp>
            <p:nvSpPr>
              <p:cNvPr id="201" name="Line 37"/>
              <p:cNvSpPr/>
              <p:nvPr/>
            </p:nvSpPr>
            <p:spPr>
              <a:xfrm>
                <a:off x="814356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38"/>
              <p:cNvSpPr/>
              <p:nvPr/>
            </p:nvSpPr>
            <p:spPr>
              <a:xfrm>
                <a:off x="785160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302520" y="5419800"/>
            <a:ext cx="1748880" cy="339120"/>
            <a:chOff x="6302520" y="5419800"/>
            <a:chExt cx="1748880" cy="339120"/>
          </a:xfrm>
        </p:grpSpPr>
        <p:sp>
          <p:nvSpPr>
            <p:cNvPr id="204" name="AutoShape 40"/>
            <p:cNvSpPr/>
            <p:nvPr/>
          </p:nvSpPr>
          <p:spPr>
            <a:xfrm flipH="1" flipV="1">
              <a:off x="7823160" y="5419800"/>
              <a:ext cx="228240" cy="336240"/>
            </a:xfrm>
            <a:prstGeom prst="pi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302520" y="5422680"/>
              <a:ext cx="228240" cy="336240"/>
              <a:chOff x="6302520" y="5422680"/>
              <a:chExt cx="228240" cy="336240"/>
            </a:xfrm>
          </p:grpSpPr>
          <p:sp>
            <p:nvSpPr>
              <p:cNvPr id="206" name="AutoShape 42"/>
              <p:cNvSpPr/>
              <p:nvPr/>
            </p:nvSpPr>
            <p:spPr>
              <a:xfrm flipH="1" flipV="1">
                <a:off x="6302520" y="5422680"/>
                <a:ext cx="228240" cy="33624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AutoShape 43"/>
              <p:cNvSpPr/>
              <p:nvPr/>
            </p:nvSpPr>
            <p:spPr>
              <a:xfrm flipH="1" flipV="1">
                <a:off x="6374520" y="5558040"/>
                <a:ext cx="75960" cy="183960"/>
              </a:xfrm>
              <a:prstGeom prst="pi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Rectangle 44"/>
          <p:cNvSpPr/>
          <p:nvPr/>
        </p:nvSpPr>
        <p:spPr>
          <a:xfrm>
            <a:off x="142920" y="501480"/>
            <a:ext cx="5267160" cy="34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下表为空气中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含量对人体的影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空气中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CO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的含量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/%        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2.5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经数小时无任何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3.0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无意识地呼吸次数增加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4.0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出现局部刺激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6.0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呼吸量增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8.0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呼吸困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10.0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意识不清，不久导致死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20.0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数秒后瘫痪，心脏停止跳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48960" y="809280"/>
            <a:ext cx="2923560" cy="2284920"/>
            <a:chOff x="5448960" y="809280"/>
            <a:chExt cx="2923560" cy="2284920"/>
          </a:xfrm>
        </p:grpSpPr>
        <p:sp>
          <p:nvSpPr>
            <p:cNvPr id="210" name="AutoShape 46"/>
            <p:cNvSpPr/>
            <p:nvPr/>
          </p:nvSpPr>
          <p:spPr>
            <a:xfrm rot="1594800">
              <a:off x="5553000" y="1186920"/>
              <a:ext cx="1905120" cy="914400"/>
            </a:xfrm>
            <a:custGeom>
              <a:avLst/>
              <a:gdLst>
                <a:gd name="textAreaLeft" fmla="*/ 333360 w 1905120"/>
                <a:gd name="textAreaRight" fmla="*/ 1381320 w 190512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Text Box 47"/>
            <p:cNvSpPr/>
            <p:nvPr/>
          </p:nvSpPr>
          <p:spPr>
            <a:xfrm>
              <a:off x="5933880" y="251280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灯火实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探险者进入一个久无人至的山洞考察，要注意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进入菜窖前的“灯火实验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----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蜡烛燃烧不旺或者熄灭，人就不能进入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019920" y="1828800"/>
          <a:ext cx="24382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4382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835280" y="188640"/>
            <a:ext cx="5400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二氧化碳的性质与用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1752480"/>
          <a:ext cx="8064360" cy="4760640"/>
        </p:xfrm>
        <a:graphic>
          <a:graphicData uri="http://schemas.openxmlformats.org/drawingml/2006/table">
            <a:tbl>
              <a:tblPr/>
              <a:tblGrid>
                <a:gridCol w="3994200"/>
                <a:gridCol w="40701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性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可溶于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用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汽水、碳酸饮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不能燃烧也不能支持一般可燃物的燃烧，密度比空气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灭火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能够参与光合作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光合作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温室气体肥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干冰升华吸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致冷剂、贮藏食物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人工降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能与别的一些物质发生化学反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化工原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533520" y="2514600"/>
            <a:ext cx="8035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6095880" cy="1333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447920" y="3808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二氧化碳的性质和用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28600" y="1066680"/>
            <a:ext cx="8001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向石蕊试液中通入二氧化碳，石蕊试液由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变成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。此现象说明了二氧化碳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溶于水且与水反应生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取上述变色了的溶液少许放入试管中并用带导管的胶塞塞住管口，导管通入澄清的石灰水中，给试管加热可看到溶液由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变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，同时澄清的石灰水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说明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不稳定，易分解，澄清的石灰水变化说明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分解后又生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066680" y="1557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4788000" y="1557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500720" y="1916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771640" y="2492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948360" y="42926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556000" y="47242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2920" y="5229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变浑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5364000" y="5300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3564000" y="616572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Arial"/>
                <a:ea typeface="黑体"/>
              </a:rPr>
              <a:t>二氧化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533520" y="3049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课堂练习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0920" y="42876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创新思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04920" y="369720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4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新鲜鸡蛋为什么经常放在石灰水中保鲜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80880" y="9540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如右图，在一密闭容器里放着一盆新鲜的绿色植物，它的一边放着一杯水，杯内悬浮着一个塑料小球，现将容器放在一黑暗处，问数天后，小球会如何变化？请说明理由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238880" y="1182600"/>
            <a:ext cx="1447560" cy="1980720"/>
            <a:chOff x="7238880" y="1182600"/>
            <a:chExt cx="1447560" cy="1980720"/>
          </a:xfrm>
        </p:grpSpPr>
        <p:sp>
          <p:nvSpPr>
            <p:cNvPr id="236" name="Rectangle 8"/>
            <p:cNvSpPr/>
            <p:nvPr/>
          </p:nvSpPr>
          <p:spPr>
            <a:xfrm>
              <a:off x="7238880" y="3102480"/>
              <a:ext cx="1447560" cy="561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7238880" y="1182600"/>
              <a:ext cx="1447560" cy="5832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 rot="5400000">
              <a:off x="7670880" y="2156760"/>
              <a:ext cx="1976040" cy="370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 rot="16200000">
              <a:off x="6298560" y="2175840"/>
              <a:ext cx="1917720" cy="370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7350120" y="2370240"/>
              <a:ext cx="111240" cy="76140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 flipH="1">
              <a:off x="7832880" y="2367720"/>
              <a:ext cx="111240" cy="79056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4"/>
            <p:cNvSpPr/>
            <p:nvPr/>
          </p:nvSpPr>
          <p:spPr>
            <a:xfrm>
              <a:off x="7350120" y="2367720"/>
              <a:ext cx="594360" cy="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 flipV="1">
              <a:off x="7647840" y="1690920"/>
              <a:ext cx="0" cy="676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6"/>
            <p:cNvSpPr/>
            <p:nvPr/>
          </p:nvSpPr>
          <p:spPr>
            <a:xfrm rot="20146200">
              <a:off x="7647840" y="1802880"/>
              <a:ext cx="259560" cy="170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17"/>
            <p:cNvSpPr/>
            <p:nvPr/>
          </p:nvSpPr>
          <p:spPr>
            <a:xfrm rot="13180200">
              <a:off x="7424280" y="1858320"/>
              <a:ext cx="260280" cy="170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18"/>
            <p:cNvSpPr/>
            <p:nvPr/>
          </p:nvSpPr>
          <p:spPr>
            <a:xfrm rot="18580200">
              <a:off x="7502040" y="1601640"/>
              <a:ext cx="393840" cy="111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8130960" y="2538000"/>
              <a:ext cx="334440" cy="5644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8130960" y="2367720"/>
              <a:ext cx="334440" cy="22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1"/>
            <p:cNvSpPr/>
            <p:nvPr/>
          </p:nvSpPr>
          <p:spPr>
            <a:xfrm>
              <a:off x="8240760" y="2649960"/>
              <a:ext cx="113400" cy="22608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Line 22"/>
          <p:cNvSpPr/>
          <p:nvPr/>
        </p:nvSpPr>
        <p:spPr>
          <a:xfrm>
            <a:off x="2340000" y="59500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304920" y="445932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5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石灰浆（主要成分是</a:t>
            </a:r>
            <a:r>
              <a:rPr b="1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Ca(OH)</a:t>
            </a:r>
            <a:r>
              <a:rPr b="1" lang="en-US" sz="3200" spc="-1" strike="noStrike" baseline="-25000">
                <a:solidFill>
                  <a:srgbClr val="e3ebf1"/>
                </a:solidFill>
                <a:latin typeface="华文楷体"/>
                <a:ea typeface="华文楷体"/>
              </a:rPr>
              <a:t>2</a:t>
            </a: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 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）抹墙一时间后会变硬变白，为什么？要使白灰浆的迅速变硬，通常在室内生一盆火，为什么墙璧反而会汗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o中毒新闻2"/>
          <p:cNvPicPr/>
          <p:nvPr/>
        </p:nvPicPr>
        <p:blipFill>
          <a:blip r:embed="rId1"/>
          <a:stretch/>
        </p:blipFill>
        <p:spPr>
          <a:xfrm>
            <a:off x="19080" y="714240"/>
            <a:ext cx="9272520" cy="5467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2533320" y="2333520"/>
            <a:ext cx="729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99"/>
                </a:solidFill>
                <a:latin typeface="Times New Roman"/>
              </a:rPr>
              <a:t>据报道</a:t>
            </a:r>
            <a:r>
              <a:rPr b="1" lang="zh-CN" sz="2800" spc="-1" strike="noStrike">
                <a:solidFill>
                  <a:srgbClr val="336699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336699"/>
                </a:solidFill>
                <a:latin typeface="Times New Roman"/>
              </a:rPr>
              <a:t>在短短的两年内，安徽芜湖市大约有五十人死于煤气中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6800" y="609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omic Sans MS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8600" y="2132640"/>
            <a:ext cx="8534520" cy="1220040"/>
            <a:chOff x="228600" y="2132640"/>
            <a:chExt cx="8534520" cy="1220040"/>
          </a:xfrm>
        </p:grpSpPr>
        <p:sp>
          <p:nvSpPr>
            <p:cNvPr id="256" name=""/>
            <p:cNvSpPr/>
            <p:nvPr/>
          </p:nvSpPr>
          <p:spPr>
            <a:xfrm>
              <a:off x="228600" y="2132640"/>
              <a:ext cx="853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        </a:t>
              </a: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一氧化碳和二氧化碳的分子构成有什么相似和不相似之处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480" y="2833560"/>
              <a:ext cx="174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" y="4266360"/>
            <a:ext cx="8242200" cy="1143720"/>
            <a:chOff x="228600" y="4266360"/>
            <a:chExt cx="8242200" cy="1143720"/>
          </a:xfrm>
        </p:grpSpPr>
        <p:sp>
          <p:nvSpPr>
            <p:cNvPr id="259" name=""/>
            <p:cNvSpPr/>
            <p:nvPr/>
          </p:nvSpPr>
          <p:spPr>
            <a:xfrm>
              <a:off x="228600" y="4266360"/>
              <a:ext cx="824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        </a:t>
              </a: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一氧化碳和二氧化碳的性质是否相同吗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31080" y="4890960"/>
              <a:ext cx="15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11120" y="3352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  <a:ea typeface=""/>
              </a:rPr>
              <a:t>学生猜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62720" y="490680"/>
            <a:ext cx="5262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物理性质的比较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219320"/>
          <a:ext cx="8077320" cy="50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0773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1676520" y="1371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气 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物理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2438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色、态、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505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溶解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密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13716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49960" y="137160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2362320"/>
            <a:ext cx="2438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色无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  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236232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色无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  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3657600"/>
            <a:ext cx="236232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能溶于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: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3657600"/>
            <a:ext cx="3200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难溶于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: 0.0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4495680"/>
            <a:ext cx="2514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比空气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97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升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562720" y="4495680"/>
            <a:ext cx="3581280" cy="1550520"/>
            <a:chOff x="5562720" y="4495680"/>
            <a:chExt cx="3581280" cy="1550520"/>
          </a:xfrm>
        </p:grpSpPr>
        <p:sp>
          <p:nvSpPr>
            <p:cNvPr id="278" name=""/>
            <p:cNvSpPr/>
            <p:nvPr/>
          </p:nvSpPr>
          <p:spPr>
            <a:xfrm>
              <a:off x="5562720" y="4495680"/>
              <a:ext cx="358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比空气略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67280" y="4876920"/>
              <a:ext cx="27432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1.250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克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升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838320" cy="31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05320" y="2286000"/>
            <a:ext cx="5410080" cy="4040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91120" y="7621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注意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倾倒二氧化碳时要沿着烧杯壁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 倾倒时动作要缓慢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349720" y="11606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你能说出二氧化碳的收集方法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31120" y="344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bf1"/>
                </a:solidFill>
                <a:latin typeface="Comic Sans MS"/>
              </a:rPr>
              <a:t>说一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28880" y="2021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e3ebf1"/>
                </a:solidFill>
                <a:latin typeface="Comic Sans MS"/>
              </a:rPr>
              <a:t>讨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2971800"/>
            <a:ext cx="808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一氧化碳气体可用什么方法来收集呢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 baseline="-25000">
                <a:solidFill>
                  <a:srgbClr val="e3ebf1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和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的收集方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28600" y="1981080"/>
          <a:ext cx="8534520" cy="6324840"/>
        </p:xfrm>
        <a:graphic>
          <a:graphicData uri="http://schemas.openxmlformats.org/drawingml/2006/table">
            <a:tbl>
              <a:tblPr/>
              <a:tblGrid>
                <a:gridCol w="2792520"/>
                <a:gridCol w="2541600"/>
                <a:gridCol w="3200400"/>
              </a:tblGrid>
              <a:tr h="21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4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﹥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能溶于水，不用排水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向上排空气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﹤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排水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密度与空气相差甚小，不能用向下排空气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毒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易与人体中血红蛋白结合，结合能力是氧气的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倍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2720" y="33480"/>
            <a:ext cx="14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3200" spc="-1" strike="noStrike">
                <a:solidFill>
                  <a:srgbClr val="e3ebf1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96160" y="3808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3ebf1"/>
                </a:solidFill>
                <a:latin typeface="Comic Sans MS"/>
              </a:rPr>
              <a:t>分析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15520" y="129528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、吸烟有害健康，为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2133720"/>
            <a:ext cx="786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、厨房中的烟气是女性的第二“隐性杀手”，为什么呢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3809880"/>
            <a:ext cx="91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ccff"/>
                </a:solidFill>
                <a:latin typeface="Comic Sans MS"/>
              </a:rPr>
              <a:t>呼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8098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Comic Sans MS"/>
              </a:rPr>
              <a:t>      </a:t>
            </a:r>
            <a:r>
              <a:rPr b="0" lang="zh-CN" sz="4400" spc="-1" strike="noStrike">
                <a:solidFill>
                  <a:srgbClr val="e3ebf1"/>
                </a:solidFill>
                <a:latin typeface="Comic Sans MS"/>
              </a:rPr>
              <a:t>我们特别是我们青少年学生要远离吸烟，禁止吸烟。吸烟不仅危害健康，而且污染环境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如何防止</a:t>
            </a: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C0</a:t>
            </a: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中毒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煤气中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和氢气，都是无色无味的气体，其中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是有毒的，如果煤气泄漏了，厂家为了防止煤气泄漏，特意加入一种有气味的物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硫醚。同学们应该怎么办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335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防止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中毒方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用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湿毛巾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捂住口和鼻子，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先关闭阀门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，然后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打开门窗通风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以降低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浓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609480" y="1066680"/>
            <a:ext cx="6705360" cy="1625040"/>
            <a:chOff x="609480" y="1066680"/>
            <a:chExt cx="6705360" cy="1625040"/>
          </a:xfrm>
        </p:grpSpPr>
        <p:sp>
          <p:nvSpPr>
            <p:cNvPr id="299" name=""/>
            <p:cNvSpPr/>
            <p:nvPr/>
          </p:nvSpPr>
          <p:spPr>
            <a:xfrm>
              <a:off x="609480" y="1066680"/>
              <a:ext cx="670536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可燃性：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2CO + 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          C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9880" y="2057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85840" y="251460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85840" y="259056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687000" y="22086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发出淡蓝色火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24200" y="1446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放出热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903200" y="2895480"/>
            <a:ext cx="2741040" cy="947160"/>
            <a:chOff x="4903200" y="2895480"/>
            <a:chExt cx="2741040" cy="947160"/>
          </a:xfrm>
        </p:grpSpPr>
        <p:sp>
          <p:nvSpPr>
            <p:cNvPr id="306" name=""/>
            <p:cNvSpPr/>
            <p:nvPr/>
          </p:nvSpPr>
          <p:spPr>
            <a:xfrm>
              <a:off x="5406840" y="289548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03200" y="33220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生成使石灰水变浑浊的气体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49120" y="3049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燃烧之前要验纯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燃烧之前一定要验纯，象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zh-CN" sz="5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zh-CN" sz="5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等气体一样，如果这些气体中混有空气或氧气，可能发生爆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990720" y="358920"/>
            <a:ext cx="3733200" cy="642600"/>
            <a:chOff x="990720" y="358920"/>
            <a:chExt cx="3733200" cy="642600"/>
          </a:xfrm>
        </p:grpSpPr>
        <p:sp>
          <p:nvSpPr>
            <p:cNvPr id="312" name="Text Box 3"/>
            <p:cNvSpPr/>
            <p:nvPr/>
          </p:nvSpPr>
          <p:spPr>
            <a:xfrm>
              <a:off x="1371240" y="3589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99"/>
                  </a:solidFill>
                  <a:latin typeface="Times New Roman"/>
                </a:rPr>
                <a:t>燃烧的煤炉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3" name="Picture 4" descr="BD14866_"/>
            <p:cNvPicPr/>
            <p:nvPr/>
          </p:nvPicPr>
          <p:blipFill>
            <a:blip r:embed="rId1"/>
            <a:stretch/>
          </p:blipFill>
          <p:spPr>
            <a:xfrm>
              <a:off x="990720" y="46656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5" descr="煤炉"/>
          <p:cNvPicPr/>
          <p:nvPr/>
        </p:nvPicPr>
        <p:blipFill>
          <a:blip r:embed="rId2"/>
          <a:stretch/>
        </p:blipFill>
        <p:spPr>
          <a:xfrm>
            <a:off x="152280" y="1066680"/>
            <a:ext cx="5639040" cy="5562720"/>
          </a:xfrm>
          <a:prstGeom prst="rect">
            <a:avLst/>
          </a:prstGeom>
          <a:ln w="0">
            <a:noFill/>
          </a:ln>
        </p:spPr>
      </p:pic>
      <p:grpSp>
        <p:nvGrpSpPr>
          <p:cNvPr id="315" name=""/>
          <p:cNvGrpSpPr/>
          <p:nvPr/>
        </p:nvGrpSpPr>
        <p:grpSpPr>
          <a:xfrm>
            <a:off x="6400800" y="2346480"/>
            <a:ext cx="2514600" cy="678240"/>
            <a:chOff x="6400800" y="2346480"/>
            <a:chExt cx="2514600" cy="678240"/>
          </a:xfrm>
        </p:grpSpPr>
        <p:sp>
          <p:nvSpPr>
            <p:cNvPr id="316" name="Text Box 7"/>
            <p:cNvSpPr/>
            <p:nvPr/>
          </p:nvSpPr>
          <p:spPr>
            <a:xfrm>
              <a:off x="6400800" y="251460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+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=== 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8"/>
            <p:cNvSpPr/>
            <p:nvPr/>
          </p:nvSpPr>
          <p:spPr>
            <a:xfrm>
              <a:off x="7423200" y="2346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400800" y="3200400"/>
            <a:ext cx="2438280" cy="678240"/>
            <a:chOff x="6400800" y="3200400"/>
            <a:chExt cx="2438280" cy="678240"/>
          </a:xfrm>
        </p:grpSpPr>
        <p:sp>
          <p:nvSpPr>
            <p:cNvPr id="319" name="Text Box 10"/>
            <p:cNvSpPr/>
            <p:nvPr/>
          </p:nvSpPr>
          <p:spPr>
            <a:xfrm>
              <a:off x="6400800" y="3368520"/>
              <a:ext cx="243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+C === 2C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1"/>
            <p:cNvSpPr/>
            <p:nvPr/>
          </p:nvSpPr>
          <p:spPr>
            <a:xfrm>
              <a:off x="7467480" y="32004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高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943600" y="4022640"/>
            <a:ext cx="3200400" cy="678240"/>
            <a:chOff x="5943600" y="4022640"/>
            <a:chExt cx="3200400" cy="678240"/>
          </a:xfrm>
        </p:grpSpPr>
        <p:sp>
          <p:nvSpPr>
            <p:cNvPr id="322" name="Text Box 13"/>
            <p:cNvSpPr/>
            <p:nvPr/>
          </p:nvSpPr>
          <p:spPr>
            <a:xfrm>
              <a:off x="5943600" y="4190760"/>
              <a:ext cx="320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+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不充足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==C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14"/>
            <p:cNvSpPr/>
            <p:nvPr/>
          </p:nvSpPr>
          <p:spPr>
            <a:xfrm>
              <a:off x="7848720" y="40226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943600" y="4784760"/>
            <a:ext cx="3200400" cy="678240"/>
            <a:chOff x="5943600" y="4784760"/>
            <a:chExt cx="3200400" cy="678240"/>
          </a:xfrm>
        </p:grpSpPr>
        <p:grpSp>
          <p:nvGrpSpPr>
            <p:cNvPr id="325" name=""/>
            <p:cNvGrpSpPr/>
            <p:nvPr/>
          </p:nvGrpSpPr>
          <p:grpSpPr>
            <a:xfrm>
              <a:off x="5943600" y="4784760"/>
              <a:ext cx="3200400" cy="678240"/>
              <a:chOff x="5943600" y="4784760"/>
              <a:chExt cx="3200400" cy="678240"/>
            </a:xfrm>
          </p:grpSpPr>
          <p:sp>
            <p:nvSpPr>
              <p:cNvPr id="326" name="Text Box 17"/>
              <p:cNvSpPr/>
              <p:nvPr/>
            </p:nvSpPr>
            <p:spPr>
              <a:xfrm>
                <a:off x="5943600" y="4952880"/>
                <a:ext cx="3200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+O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充足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)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=== CO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8"/>
              <p:cNvSpPr/>
              <p:nvPr/>
            </p:nvSpPr>
            <p:spPr>
              <a:xfrm>
                <a:off x="7848720" y="4784760"/>
                <a:ext cx="8380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Text Box 19"/>
            <p:cNvSpPr/>
            <p:nvPr/>
          </p:nvSpPr>
          <p:spPr>
            <a:xfrm>
              <a:off x="7588080" y="478476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407160" y="255996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50640" y="18360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u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66240" y="56840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澄清的石灰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3124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85080" y="114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Comic Sans MS"/>
              </a:rPr>
              <a:t>黑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51520" y="304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一氧化碳还原氧化铜实验装置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762120" y="2286000"/>
          <a:ext cx="7848360" cy="2614680"/>
        </p:xfrm>
        <a:graphic>
          <a:graphicData uri="http://schemas.openxmlformats.org/drawingml/2006/table">
            <a:tbl>
              <a:tblPr/>
              <a:tblGrid>
                <a:gridCol w="1134720"/>
                <a:gridCol w="671364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现象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分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2362320" y="2590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底部蜡烛先熄灭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上部蜡烛后熄灭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3657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CO</a:t>
            </a:r>
            <a:r>
              <a:rPr b="0" lang="zh-CN" sz="1600" spc="-1" strike="noStrike">
                <a:solidFill>
                  <a:srgbClr val="ccff66"/>
                </a:solidFill>
                <a:latin typeface="Arial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比空气重，不能燃烧，也不支持燃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5486400"/>
            <a:ext cx="61722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课后思考</a:t>
            </a:r>
            <a:r>
              <a:rPr b="0" lang="zh-CN" sz="28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你能想出哪几种证明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CO</a:t>
            </a:r>
            <a:r>
              <a:rPr b="0" lang="zh-CN" sz="2400" spc="-1" strike="noStrike" baseline="-25000">
                <a:solidFill>
                  <a:srgbClr val="66ccff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的密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比空气的密度大的方法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40384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4920" y="1066680"/>
            <a:ext cx="6476760" cy="1625040"/>
            <a:chOff x="304920" y="1066680"/>
            <a:chExt cx="6476760" cy="1625040"/>
          </a:xfrm>
        </p:grpSpPr>
        <p:sp>
          <p:nvSpPr>
            <p:cNvPr id="338" name=""/>
            <p:cNvSpPr/>
            <p:nvPr/>
          </p:nvSpPr>
          <p:spPr>
            <a:xfrm>
              <a:off x="304920" y="1066680"/>
              <a:ext cx="647676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还原性：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CuO + CO         Cu + C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00400" y="2514240"/>
              <a:ext cx="83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00400" y="2590560"/>
              <a:ext cx="83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0400" y="2057040"/>
              <a:ext cx="106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加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" y="304704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黑色固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11280" y="297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红色固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845320" y="2819520"/>
            <a:ext cx="2378160" cy="1068120"/>
            <a:chOff x="5845320" y="2819520"/>
            <a:chExt cx="2378160" cy="1068120"/>
          </a:xfrm>
        </p:grpSpPr>
        <p:sp>
          <p:nvSpPr>
            <p:cNvPr id="345" name=""/>
            <p:cNvSpPr/>
            <p:nvPr/>
          </p:nvSpPr>
          <p:spPr>
            <a:xfrm>
              <a:off x="5845320" y="28195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48200" y="342792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生成使石灰水变浑浊的气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914400" y="2590920"/>
            <a:ext cx="1272960" cy="1066680"/>
            <a:chOff x="914400" y="2590920"/>
            <a:chExt cx="1272960" cy="1066680"/>
          </a:xfrm>
        </p:grpSpPr>
        <p:sp>
          <p:nvSpPr>
            <p:cNvPr id="348" name=""/>
            <p:cNvSpPr/>
            <p:nvPr/>
          </p:nvSpPr>
          <p:spPr>
            <a:xfrm>
              <a:off x="914400" y="25909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03400" y="3200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572000" y="2590920"/>
            <a:ext cx="1272960" cy="1066680"/>
            <a:chOff x="4572000" y="2590920"/>
            <a:chExt cx="1272960" cy="1066680"/>
          </a:xfrm>
        </p:grpSpPr>
        <p:sp>
          <p:nvSpPr>
            <p:cNvPr id="351" name=""/>
            <p:cNvSpPr/>
            <p:nvPr/>
          </p:nvSpPr>
          <p:spPr>
            <a:xfrm>
              <a:off x="4572000" y="25909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61000" y="3200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49120" y="38088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289160" y="4683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3ebf1"/>
                </a:solidFill>
                <a:latin typeface="Comic Sans MS"/>
              </a:rPr>
              <a:t>注意事项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1447920"/>
            <a:ext cx="782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先通入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，后加热。这两步不能颠倒，否则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2971800"/>
            <a:ext cx="794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先通入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的目的是排尽试管中的空气，以免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不纯而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07680" y="5335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omic Sans MS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600200"/>
            <a:ext cx="67057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uO + CO    Cu + CO</a:t>
            </a:r>
            <a:r>
              <a:rPr b="1" lang="zh-CN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的反应中哪一种物质作还原剂？哪一种物质作氧化剂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71600" y="609480"/>
            <a:ext cx="6477120" cy="1523880"/>
            <a:chOff x="1371600" y="609480"/>
            <a:chExt cx="6477120" cy="1523880"/>
          </a:xfrm>
        </p:grpSpPr>
        <p:sp>
          <p:nvSpPr>
            <p:cNvPr id="360" name=""/>
            <p:cNvSpPr/>
            <p:nvPr/>
          </p:nvSpPr>
          <p:spPr>
            <a:xfrm>
              <a:off x="1371600" y="609480"/>
              <a:ext cx="6477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67440" y="205704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67440" y="213336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67440" y="15984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加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"/>
          <p:cNvSpPr txBox="1"/>
          <p:nvPr/>
        </p:nvSpPr>
        <p:spPr>
          <a:xfrm>
            <a:off x="3429000" y="5638680"/>
            <a:ext cx="22860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会回答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572000" y="23623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4382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369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373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04920" y="228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加热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85800" y="914400"/>
            <a:ext cx="1600200" cy="3048120"/>
            <a:chOff x="685800" y="914400"/>
            <a:chExt cx="1600200" cy="3048120"/>
          </a:xfrm>
        </p:grpSpPr>
        <p:grpSp>
          <p:nvGrpSpPr>
            <p:cNvPr id="384" name=""/>
            <p:cNvGrpSpPr/>
            <p:nvPr/>
          </p:nvGrpSpPr>
          <p:grpSpPr>
            <a:xfrm>
              <a:off x="990720" y="1676520"/>
              <a:ext cx="1066680" cy="2286000"/>
              <a:chOff x="990720" y="1676520"/>
              <a:chExt cx="1066680" cy="2286000"/>
            </a:xfrm>
          </p:grpSpPr>
          <p:sp>
            <p:nvSpPr>
              <p:cNvPr id="385" name=""/>
              <p:cNvSpPr/>
              <p:nvPr/>
            </p:nvSpPr>
            <p:spPr>
              <a:xfrm>
                <a:off x="1447920" y="167652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990720" y="16765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66680" y="251460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00200" y="243828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43000" y="35053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523880" y="320040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685800" y="9144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氧化铜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590920" y="914400"/>
            <a:ext cx="1981080" cy="2590920"/>
            <a:chOff x="2590920" y="914400"/>
            <a:chExt cx="1981080" cy="2590920"/>
          </a:xfrm>
        </p:grpSpPr>
        <p:grpSp>
          <p:nvGrpSpPr>
            <p:cNvPr id="393" name=""/>
            <p:cNvGrpSpPr/>
            <p:nvPr/>
          </p:nvGrpSpPr>
          <p:grpSpPr>
            <a:xfrm>
              <a:off x="2971800" y="1752480"/>
              <a:ext cx="1295280" cy="1752840"/>
              <a:chOff x="2971800" y="1752480"/>
              <a:chExt cx="1295280" cy="1752840"/>
            </a:xfrm>
          </p:grpSpPr>
          <p:sp>
            <p:nvSpPr>
              <p:cNvPr id="394" name=""/>
              <p:cNvSpPr/>
              <p:nvPr/>
            </p:nvSpPr>
            <p:spPr>
              <a:xfrm>
                <a:off x="3429000" y="23623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429000" y="182880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971800" y="175248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86200" y="251460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24080" y="297180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05320" y="30481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2590920" y="9144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一氧化碳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675520" y="5867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86240" y="5867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氧化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404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7" name=""/>
          <p:cNvSpPr/>
          <p:nvPr/>
        </p:nvSpPr>
        <p:spPr>
          <a:xfrm>
            <a:off x="3918960" y="51346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19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23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27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31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35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3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4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5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6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7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8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499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01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13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15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27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29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41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43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3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000"/>
                            </p:stCondLst>
                            <p:childTnLst>
                              <p:par>
                                <p:cTn id="7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5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500"/>
                            </p:stCondLst>
                            <p:childTnLst>
                              <p:par>
                                <p:cTn id="7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636480" y="1182600"/>
          <a:ext cx="8507520" cy="56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1182600"/>
                    <a:ext cx="850752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838080" y="963720"/>
          <a:ext cx="7419960" cy="5894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963720"/>
                    <a:ext cx="741996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"/>
          <p:cNvSpPr/>
          <p:nvPr/>
        </p:nvSpPr>
        <p:spPr>
          <a:xfrm>
            <a:off x="2133720" y="990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869800" y="9907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18288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能燃烧，也不支持燃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648320" y="2819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难溶于水，也不与水反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809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能使石灰水变浑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990720" y="4648320"/>
            <a:ext cx="3276360" cy="916920"/>
            <a:chOff x="990720" y="4648320"/>
            <a:chExt cx="3276360" cy="916920"/>
          </a:xfrm>
        </p:grpSpPr>
        <p:grpSp>
          <p:nvGrpSpPr>
            <p:cNvPr id="564" name=""/>
            <p:cNvGrpSpPr/>
            <p:nvPr/>
          </p:nvGrpSpPr>
          <p:grpSpPr>
            <a:xfrm>
              <a:off x="990720" y="4648320"/>
              <a:ext cx="3276360" cy="916920"/>
              <a:chOff x="990720" y="4648320"/>
              <a:chExt cx="3276360" cy="916920"/>
            </a:xfrm>
          </p:grpSpPr>
          <p:sp>
            <p:nvSpPr>
              <p:cNvPr id="565" name=""/>
              <p:cNvSpPr/>
              <p:nvPr/>
            </p:nvSpPr>
            <p:spPr>
              <a:xfrm>
                <a:off x="990720" y="464832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具有氧化性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95280" y="510552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C            2CO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666880" y="533412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666880" y="541008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2666880" y="50292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00600" y="1600200"/>
            <a:ext cx="3276720" cy="952560"/>
            <a:chOff x="4800600" y="1600200"/>
            <a:chExt cx="3276720" cy="952560"/>
          </a:xfrm>
        </p:grpSpPr>
        <p:sp>
          <p:nvSpPr>
            <p:cNvPr id="571" name=""/>
            <p:cNvSpPr/>
            <p:nvPr/>
          </p:nvSpPr>
          <p:spPr>
            <a:xfrm>
              <a:off x="4800600" y="1600200"/>
              <a:ext cx="32767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具有可燃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CO + 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       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77120" y="20574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9400" y="23623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29400" y="24382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800600" y="4572000"/>
            <a:ext cx="4038480" cy="952560"/>
            <a:chOff x="4800600" y="4572000"/>
            <a:chExt cx="4038480" cy="952560"/>
          </a:xfrm>
        </p:grpSpPr>
        <p:sp>
          <p:nvSpPr>
            <p:cNvPr id="576" name=""/>
            <p:cNvSpPr/>
            <p:nvPr/>
          </p:nvSpPr>
          <p:spPr>
            <a:xfrm>
              <a:off x="4800600" y="4572000"/>
              <a:ext cx="40384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具有还原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CO + CuO       Cu + C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24480" y="533412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24480" y="541008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2200" y="495288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加热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66680" y="5715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没有毒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5715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具有毒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血红蛋白结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228600"/>
            <a:ext cx="524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化学性质 比较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990720" y="2665800"/>
            <a:ext cx="4724280" cy="918000"/>
            <a:chOff x="990720" y="2665800"/>
            <a:chExt cx="4724280" cy="918000"/>
          </a:xfrm>
        </p:grpSpPr>
        <p:sp>
          <p:nvSpPr>
            <p:cNvPr id="584" name=""/>
            <p:cNvSpPr/>
            <p:nvPr/>
          </p:nvSpPr>
          <p:spPr>
            <a:xfrm>
              <a:off x="990720" y="312408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+ H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               H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66880" y="3352680"/>
              <a:ext cx="92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66880" y="3429000"/>
              <a:ext cx="92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68880" y="26658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溶于水，与水反应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838080" y="3656520"/>
            <a:ext cx="4876920" cy="918000"/>
            <a:chOff x="838080" y="3656520"/>
            <a:chExt cx="4876920" cy="918000"/>
          </a:xfrm>
        </p:grpSpPr>
        <p:grpSp>
          <p:nvGrpSpPr>
            <p:cNvPr id="589" name=""/>
            <p:cNvGrpSpPr/>
            <p:nvPr/>
          </p:nvGrpSpPr>
          <p:grpSpPr>
            <a:xfrm>
              <a:off x="838080" y="4114800"/>
              <a:ext cx="4876920" cy="459720"/>
              <a:chOff x="838080" y="4114800"/>
              <a:chExt cx="4876920" cy="459720"/>
            </a:xfrm>
          </p:grpSpPr>
          <p:sp>
            <p:nvSpPr>
              <p:cNvPr id="590" name=""/>
              <p:cNvSpPr/>
              <p:nvPr/>
            </p:nvSpPr>
            <p:spPr>
              <a:xfrm>
                <a:off x="838080" y="4114800"/>
                <a:ext cx="487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+Ca(OH)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  Ca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H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 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19520" y="434340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19520" y="441972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4800" y="419112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1219320" y="36565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使石灰水变浑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5" name=""/>
          <p:cNvGraphicFramePr/>
          <p:nvPr/>
        </p:nvGraphicFramePr>
        <p:xfrm>
          <a:off x="1450800" y="1371600"/>
          <a:ext cx="62424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1371600"/>
                    <a:ext cx="624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1450800" y="1149480"/>
          <a:ext cx="6242400" cy="4560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149480"/>
                    <a:ext cx="62424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533520" y="762120"/>
          <a:ext cx="8210520" cy="5562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82105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380880" y="762120"/>
          <a:ext cx="916200" cy="50054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762120"/>
                    <a:ext cx="91620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1393920" y="1330200"/>
          <a:ext cx="6242040" cy="40640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93920" y="1330200"/>
                    <a:ext cx="6242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1628640" y="1077840"/>
          <a:ext cx="6688440" cy="51404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28640" y="1077840"/>
                    <a:ext cx="6688440" cy="51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8686800" y="83808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29600" y="6400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82200" y="227880"/>
            <a:ext cx="573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化学性质的比较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490480" y="990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可燃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43520" y="990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还原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34240" y="220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0560" y="342828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7240" y="4952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237880" y="220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153280" y="3504240"/>
            <a:ext cx="5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237880" y="502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942320" y="990720"/>
            <a:ext cx="10335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298880" y="2133000"/>
            <a:ext cx="3209040" cy="672840"/>
            <a:chOff x="1298880" y="2133000"/>
            <a:chExt cx="3209040" cy="672840"/>
          </a:xfrm>
        </p:grpSpPr>
        <p:sp>
          <p:nvSpPr>
            <p:cNvPr id="620" name=""/>
            <p:cNvSpPr/>
            <p:nvPr/>
          </p:nvSpPr>
          <p:spPr>
            <a:xfrm>
              <a:off x="1298880" y="2285280"/>
              <a:ext cx="320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CO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  C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971800" y="25909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71800" y="25146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71800" y="2133000"/>
              <a:ext cx="6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8686800" y="5943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31000" y="3276000"/>
            <a:ext cx="3303720" cy="672840"/>
            <a:chOff x="1431000" y="3276000"/>
            <a:chExt cx="3303720" cy="672840"/>
          </a:xfrm>
        </p:grpSpPr>
        <p:sp>
          <p:nvSpPr>
            <p:cNvPr id="626" name=""/>
            <p:cNvSpPr/>
            <p:nvPr/>
          </p:nvSpPr>
          <p:spPr>
            <a:xfrm>
              <a:off x="1431000" y="3428280"/>
              <a:ext cx="330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   2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71800" y="36576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71800" y="37339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65040" y="3276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533520" y="836640"/>
          <a:ext cx="8153280" cy="60213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520" y="836640"/>
                    <a:ext cx="81532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2" name=""/>
          <p:cNvGrpSpPr/>
          <p:nvPr/>
        </p:nvGrpSpPr>
        <p:grpSpPr>
          <a:xfrm>
            <a:off x="4876920" y="2285280"/>
            <a:ext cx="3352680" cy="520560"/>
            <a:chOff x="4876920" y="2285280"/>
            <a:chExt cx="3352680" cy="520560"/>
          </a:xfrm>
        </p:grpSpPr>
        <p:sp>
          <p:nvSpPr>
            <p:cNvPr id="633" name=""/>
            <p:cNvSpPr/>
            <p:nvPr/>
          </p:nvSpPr>
          <p:spPr>
            <a:xfrm>
              <a:off x="4876920" y="22852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3ebf1"/>
                  </a:solidFill>
                  <a:latin typeface="Times New Roman"/>
                </a:rPr>
                <a:t>CO+CuO    </a:t>
              </a:r>
              <a:r>
                <a:rPr b="1" lang="zh-CN" sz="2400" spc="-1" strike="noStrike">
                  <a:solidFill>
                    <a:srgbClr val="e3ebf1"/>
                  </a:solidFill>
                  <a:latin typeface="Times New Roman"/>
                </a:rPr>
                <a:t>Cu+CO</a:t>
              </a:r>
              <a:r>
                <a:rPr b="1" lang="zh-CN" sz="18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29400" y="25146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29400" y="25909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29400" y="2286000"/>
              <a:ext cx="219240" cy="15228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805280" y="3504600"/>
            <a:ext cx="3384360" cy="520560"/>
            <a:chOff x="4805280" y="3504600"/>
            <a:chExt cx="3384360" cy="520560"/>
          </a:xfrm>
        </p:grpSpPr>
        <p:sp>
          <p:nvSpPr>
            <p:cNvPr id="638" name=""/>
            <p:cNvSpPr/>
            <p:nvPr/>
          </p:nvSpPr>
          <p:spPr>
            <a:xfrm>
              <a:off x="4805280" y="3504600"/>
              <a:ext cx="33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+CuO      Cu+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05760" y="380196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05760" y="38782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81720" y="3573360"/>
              <a:ext cx="219240" cy="1526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729320" y="5257080"/>
            <a:ext cx="3396600" cy="520560"/>
            <a:chOff x="4729320" y="5257080"/>
            <a:chExt cx="3396600" cy="520560"/>
          </a:xfrm>
        </p:grpSpPr>
        <p:sp>
          <p:nvSpPr>
            <p:cNvPr id="643" name=""/>
            <p:cNvSpPr/>
            <p:nvPr/>
          </p:nvSpPr>
          <p:spPr>
            <a:xfrm flipV="1">
              <a:off x="8077320" y="53334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4729320" y="5257080"/>
              <a:ext cx="3396600" cy="520560"/>
              <a:chOff x="4729320" y="5257080"/>
              <a:chExt cx="3396600" cy="520560"/>
            </a:xfrm>
          </p:grpSpPr>
          <p:sp>
            <p:nvSpPr>
              <p:cNvPr id="645" name=""/>
              <p:cNvSpPr/>
              <p:nvPr/>
            </p:nvSpPr>
            <p:spPr>
              <a:xfrm>
                <a:off x="4729320" y="5257080"/>
                <a:ext cx="339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3ebf1"/>
                    </a:solidFill>
                    <a:latin typeface="Times New Roman"/>
                  </a:rPr>
                  <a:t>C+2CuO    2Cu+CO</a:t>
                </a:r>
                <a:r>
                  <a:rPr b="1" lang="en-US" sz="2000" spc="-1" strike="noStrike">
                    <a:solidFill>
                      <a:srgbClr val="e3ebf1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8520" y="556236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8520" y="548640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8520" y="5257800"/>
                <a:ext cx="2188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9" name=""/>
          <p:cNvGrpSpPr/>
          <p:nvPr/>
        </p:nvGrpSpPr>
        <p:grpSpPr>
          <a:xfrm>
            <a:off x="1450440" y="4647600"/>
            <a:ext cx="2846160" cy="1434960"/>
            <a:chOff x="1450440" y="4647600"/>
            <a:chExt cx="2846160" cy="1434960"/>
          </a:xfrm>
        </p:grpSpPr>
        <p:sp>
          <p:nvSpPr>
            <p:cNvPr id="650" name=""/>
            <p:cNvSpPr/>
            <p:nvPr/>
          </p:nvSpPr>
          <p:spPr>
            <a:xfrm>
              <a:off x="2810880" y="5409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887200" y="464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50440" y="5562000"/>
              <a:ext cx="284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C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2CO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70280" y="51055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70280" y="502920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93960" y="58672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793960" y="57913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75000" y="4647600"/>
              <a:ext cx="258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C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C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2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287240" y="292356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3352680" y="3276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181480" y="32767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632040" y="281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物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32040" y="3275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81280" y="281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化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460840" y="3275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72200" y="1523880"/>
            <a:ext cx="228600" cy="3505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048120" y="1523880"/>
            <a:ext cx="304560" cy="3429000"/>
          </a:xfrm>
          <a:custGeom>
            <a:avLst/>
            <a:gdLst>
              <a:gd name="textAreaLeft" fmla="*/ 0 w 304560"/>
              <a:gd name="textAreaRight" fmla="*/ 10980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28120" y="761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颜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1800" y="1751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51800" y="281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19600" y="4876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溶解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1800" y="388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密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295280" y="1905120"/>
            <a:ext cx="1600200" cy="304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95280" y="914400"/>
            <a:ext cx="160020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19320" y="2971800"/>
            <a:ext cx="167616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219320" y="4038480"/>
            <a:ext cx="167616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172200" y="99000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81960" y="2666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58280" y="457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913680"/>
            <a:ext cx="12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燃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306200" y="2666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还原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309800" y="457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718640" y="761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553400" y="175176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745640" y="281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气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82120" y="3885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空气略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295280" y="4952880"/>
            <a:ext cx="1600200" cy="3812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584720" y="4876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难溶于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470640" y="1599120"/>
            <a:ext cx="26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CO + 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707160" y="31993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 + C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393320" y="373284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 + C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229600" y="3429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2296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924680" y="1828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924680" y="1905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931520" y="1523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点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236440" y="3123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加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180640" y="22824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6000" spc="-1" strike="noStrike">
                <a:solidFill>
                  <a:srgbClr val="e3ebf1"/>
                </a:solidFill>
                <a:latin typeface="Arial"/>
              </a:rPr>
              <a:t>用途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性质决定用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利方面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可作燃料，供人取暖、煮饭、烧水等；冶炼金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害方面：不纯容易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203640" y="1238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氧化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438280" y="167652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无色无味的气体，难溶于水，密度 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1.25 g/L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（空气的密度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1.29g/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" y="2438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化学性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167652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物理性质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0880" y="2971800"/>
            <a:ext cx="24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可燃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4360" y="3429000"/>
            <a:ext cx="5715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80880" y="3657600"/>
            <a:ext cx="236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还原性</a:t>
            </a:r>
            <a:r>
              <a:rPr b="1" lang="zh-CN" sz="2600" spc="-1" strike="noStrike">
                <a:solidFill>
                  <a:srgbClr val="23055f"/>
                </a:solidFill>
                <a:latin typeface="楷体_GB2312"/>
                <a:ea typeface="楷体_GB2312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743200" y="3733920"/>
            <a:ext cx="5435640" cy="544680"/>
            <a:chOff x="2743200" y="3733920"/>
            <a:chExt cx="5435640" cy="544680"/>
          </a:xfrm>
        </p:grpSpPr>
        <p:sp>
          <p:nvSpPr>
            <p:cNvPr id="708" name=""/>
            <p:cNvSpPr/>
            <p:nvPr/>
          </p:nvSpPr>
          <p:spPr>
            <a:xfrm>
              <a:off x="2743200" y="3772080"/>
              <a:ext cx="2262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  +  CuO</a:t>
              </a: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86280" y="4064040"/>
              <a:ext cx="83988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87920" y="3733920"/>
              <a:ext cx="2590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u  +  CO</a:t>
              </a:r>
              <a:r>
                <a:rPr b="1" lang="en-US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86280" y="3988080"/>
              <a:ext cx="83988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78440" y="3772080"/>
              <a:ext cx="45720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304920" y="5791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有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743200" y="58672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易跟血红蛋白结合，从而阻止了氧气与血红蛋白的结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914400" y="4191120"/>
            <a:ext cx="7445520" cy="749160"/>
            <a:chOff x="914400" y="4191120"/>
            <a:chExt cx="7445520" cy="749160"/>
          </a:xfrm>
        </p:grpSpPr>
        <p:sp>
          <p:nvSpPr>
            <p:cNvPr id="716" name=""/>
            <p:cNvSpPr/>
            <p:nvPr/>
          </p:nvSpPr>
          <p:spPr>
            <a:xfrm>
              <a:off x="914400" y="4360680"/>
              <a:ext cx="47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71513"/>
                  </a:solidFill>
                  <a:latin typeface="华文中宋"/>
                  <a:ea typeface="华文中宋"/>
                </a:rPr>
                <a:t>  </a:t>
              </a:r>
              <a:r>
                <a:rPr b="0" lang="zh-CN" sz="24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工业炼铁：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Fe</a:t>
              </a:r>
              <a:r>
                <a:rPr b="0" lang="zh-CN" sz="28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O</a:t>
              </a:r>
              <a:r>
                <a:rPr b="0" lang="zh-CN" sz="28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3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 + 2C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97600" y="4289400"/>
              <a:ext cx="236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2 Fe + 3CO</a:t>
              </a:r>
              <a:r>
                <a:rPr b="0" lang="en-US" sz="28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5276880" y="4191120"/>
              <a:ext cx="990720" cy="456840"/>
              <a:chOff x="5276880" y="4191120"/>
              <a:chExt cx="990720" cy="456840"/>
            </a:xfrm>
          </p:grpSpPr>
          <p:sp>
            <p:nvSpPr>
              <p:cNvPr id="719" name=""/>
              <p:cNvSpPr/>
              <p:nvPr/>
            </p:nvSpPr>
            <p:spPr>
              <a:xfrm>
                <a:off x="5276880" y="4571640"/>
                <a:ext cx="91440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76880" y="41911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1513"/>
                    </a:solidFill>
                    <a:latin typeface="华文中宋"/>
                    <a:ea typeface="华文中宋"/>
                  </a:rPr>
                  <a:t> </a:t>
                </a:r>
                <a:r>
                  <a:rPr b="1" lang="zh-CN" sz="20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高温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276880" y="4647960"/>
                <a:ext cx="91440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1143000" y="5029200"/>
            <a:ext cx="7450200" cy="544680"/>
            <a:chOff x="1143000" y="5029200"/>
            <a:chExt cx="7450200" cy="544680"/>
          </a:xfrm>
        </p:grpSpPr>
        <p:sp>
          <p:nvSpPr>
            <p:cNvPr id="723" name=""/>
            <p:cNvSpPr/>
            <p:nvPr/>
          </p:nvSpPr>
          <p:spPr>
            <a:xfrm>
              <a:off x="1143000" y="5029200"/>
              <a:ext cx="74502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CO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与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CO</a:t>
              </a:r>
              <a:r>
                <a:rPr b="1" lang="zh-CN" sz="2600" spc="-1" strike="noStrike" baseline="-25000">
                  <a:solidFill>
                    <a:srgbClr val="ff66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的转变：</a:t>
              </a:r>
              <a:r>
                <a:rPr b="1" lang="zh-CN" sz="2600" spc="-1" strike="noStrike">
                  <a:solidFill>
                    <a:srgbClr val="171513"/>
                  </a:solidFill>
                  <a:latin typeface="华文中宋"/>
                  <a:ea typeface="华文中宋"/>
                </a:rPr>
                <a:t>  </a:t>
              </a:r>
              <a:r>
                <a:rPr b="1" lang="zh-CN" sz="2600" spc="-1" strike="noStrike">
                  <a:solidFill>
                    <a:srgbClr val="ccff66"/>
                  </a:solidFill>
                  <a:latin typeface="华文中宋"/>
                  <a:ea typeface="华文中宋"/>
                </a:rPr>
                <a:t>CO                     CO</a:t>
              </a:r>
              <a:r>
                <a:rPr b="1" lang="zh-CN" sz="2600" spc="-1" strike="noStrike" baseline="-25000">
                  <a:solidFill>
                    <a:srgbClr val="ccff66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84640" y="5257800"/>
              <a:ext cx="167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5014800" y="5334120"/>
              <a:ext cx="167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029200" y="4876920"/>
            <a:ext cx="17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O2</a:t>
            </a: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（点燃）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876920" y="5257800"/>
            <a:ext cx="209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（ 高温）</a:t>
            </a: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743200" y="2666880"/>
            <a:ext cx="4633920" cy="812880"/>
            <a:chOff x="2743200" y="2666880"/>
            <a:chExt cx="4633920" cy="812880"/>
          </a:xfrm>
        </p:grpSpPr>
        <p:sp>
          <p:nvSpPr>
            <p:cNvPr id="729" name=""/>
            <p:cNvSpPr/>
            <p:nvPr/>
          </p:nvSpPr>
          <p:spPr>
            <a:xfrm>
              <a:off x="2819520" y="2935080"/>
              <a:ext cx="31179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  +  O</a:t>
              </a:r>
              <a:r>
                <a:rPr b="1" lang="zh-CN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2600" spc="-1" strike="noStrike" baseline="-25000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21280" y="3163680"/>
              <a:ext cx="9162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43600" y="2935080"/>
              <a:ext cx="1433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 </a:t>
              </a: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</a:t>
              </a:r>
              <a:r>
                <a:rPr b="1" lang="zh-CN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43200" y="2935080"/>
              <a:ext cx="457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43600" y="29350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19840" y="2666880"/>
              <a:ext cx="7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02200" y="3207960"/>
              <a:ext cx="9162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15620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1251360" y="380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二、一氧化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6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4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04920" y="1523880"/>
            <a:ext cx="851220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有人说，一闻到煤气气味就赶快将煤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搬到室外去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有人说，只要在煤炉上放一盆水，就可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预防煤气中毒了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038480" y="3048120"/>
            <a:ext cx="13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错误</a:t>
            </a: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541008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这个说法毫无根据。因为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既不溶于水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也不与水起反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15620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429804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判断正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证明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密度比空气的密度大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一：向纸袋里倾倒，如图一所示，盛装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的一端下沉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二：将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慢慢倒入如图二所示的烧杯中，烧杯下层蜡烛火焰先熄灭，上层蜡烛火焰后熄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向气球中通入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，将其放在空中，气球迅速向下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可用向上排空气法收集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39625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2743200" y="11430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再见！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GOOD-BY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Arial"/>
              </a:rPr>
              <a:t>二氧化碳能溶于水吗？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666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Arial"/>
              </a:rPr>
              <a:t>怎么证明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6654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6654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150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15000" y="228600"/>
            <a:ext cx="2874960" cy="383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2590920"/>
            <a:ext cx="44960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533520" y="3657600"/>
          <a:ext cx="7695720" cy="2722680"/>
        </p:xfrm>
        <a:graphic>
          <a:graphicData uri="http://schemas.openxmlformats.org/drawingml/2006/table">
            <a:tbl>
              <a:tblPr/>
              <a:tblGrid>
                <a:gridCol w="1140840"/>
                <a:gridCol w="65548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现象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分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209680" y="40384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塑料瓶变瘪了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5410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CO</a:t>
            </a:r>
            <a:r>
              <a:rPr b="0" lang="zh-CN" sz="1600" spc="-1" strike="noStrike">
                <a:solidFill>
                  <a:srgbClr val="ccff66"/>
                </a:solidFill>
                <a:latin typeface="Arial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能溶于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2743200" cy="3276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1-06-20T09:35:13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