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8F26-5DB7-4329-B9FC-4E6B47DA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D393-6F51-476C-97E2-869E1141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28E6-F978-4E7D-A652-E0408638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3337-FB8B-4BA4-A18A-8BA7ABF9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CA5-236C-49C6-87EB-EDF396B5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3B0B-1EA4-4E2C-9D9C-B794AEA2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7C4F-E009-46B1-9910-4E0CB9E1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BF71-9836-44C5-A943-1716F2A8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0800-9024-4CFF-AE01-260C8167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5689-7A43-4412-8C45-588B6F95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320B-2EA2-46FC-BE51-C7FE52C2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4553-5632-4839-B838-52306244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BC8C-E56A-4A2D-9172-B7103FCFA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53a3b834g9cd76d325627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10040" y="1194840"/>
            <a:ext cx="29239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是这次的情况让他们吓了一跳！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又粗又长的面条落下来，把他们缠住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整片的生菜叶飘下来，像床单一样把他们裹住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肉块沉甸甸的，像石头一样四处乱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火车站里乱作一团，小精灵都生气地大叫起来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这个朱莉娅，根本就没有好好嚼嘛！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总是什么都靠我们！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这些食物太大了，我们怎么办啊？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尽管生气，小精灵们还是开始工作了。不然还能怎么办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53a3b834g76158e65194e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53a3b834g76158b56e08e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0" y="630216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火车必须准时出发，但是要把这么一大堆食物弄碎，要花很多很多时间和力气，因此工作进展得很慢。食物越来越多，堆得像小山一样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53a3b834g9cd772342f2b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0" y="6339240"/>
            <a:ext cx="896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这时，出事了！    一大块东西不偏不倚地砸到了一个小精灵的脑袋上，他立刻晕了过去。在幻觉中，他成了一名导游，带着游客在肚子火车站里参观。小精灵告诉游客们：“如果所有食物都被嚼得很碎，那落下来的就会是小段面条、小片菜叶、小块苹果和小肉丁，即使它们掉在哪个小精灵的头上，也不会把他弄疼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53a3b834g9cd772f9c406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0" y="6242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们会很快地把食物装进火车车厢，还会在里面加入很多液体，这些液体对消化非常重要。最后，我们会把液体和食物搅在一起，让它们变成泥。这个过程对我们来说特别有趣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53a3b834g76158da66f35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切都准备好，火车就可以出发了！小精灵司机会跳到火车头上，激动地等着门卫打开大门。这扇大门是通往小肠的入口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53a3b834g76158db73319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4572000" y="2222640"/>
            <a:ext cx="223200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肠是一条很长、很窄，而且非常昏暗的隧道，里面的弯道还特别多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隧道的四壁上有不少管子，它们会伸进车厢，从里面装的泥中吸取营养，然后再把营养输送到血液里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然后火车会载着车厢里剩下的没用的东西继续往前开，穿过大肠隧道，最后到达终点。司机会把车厢中的东西从一个小门到出去，这些东西大都会掉在一个白色的容器里。人们管这个容器叫‘马桶’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53a3b834g76158dc984ab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2164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34920" y="5064120"/>
            <a:ext cx="36734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嘿！你怎么了？”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一个声音把昏迷中的小精灵唤醒了。几个同伴正忧心忡忡地看着他。食物暴风雨这时已经停止了，一座巨大的食物山正堆在轨道旁边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193840" y="635292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车站里空荡荡的，只剩下最后一列火车了，其他火车都装满泥出发了。    没有了那么多火车，这座食物大山怎么被运走呢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53a3b834g76158ddd5de2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0" y="6302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精灵们正在犯愁时，突然刮来一阵刺骨的寒风。接着，一堆雪泥状的东西从食管里呼呼地喷涌出来，它们是香草冰淇淋和巧克力奶昔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53a3b834g76158dee1ec6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3160080" y="6100200"/>
            <a:ext cx="27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太过分了！我们受够了！”小精灵们在冰天雪地中大声抗议道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火车站里的温度越来越低，最后一列火车北冻在轨道上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53a3b834g76158e7c1944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179280" y="630864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美味食物进嘴巴，牙齿把它咬成粒。颗粒来到肚子中，精灵把它变成泥。火车厢被装满了，一路飞驰不休息。肚子里的火车站，每天都在陪伴你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53a3b834g76158dfee88d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2934360" y="60922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精灵们开始举行抗议活动。他们大声喊着口号，气呼呼地砸墙，使劲跺脚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这下朱莉娅可惨了，她的肚子开始疼起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53a3b834g76158e0e3c66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4135680" y="6165000"/>
            <a:ext cx="4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朱莉娅生病了，因为她吃得太多、太快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53a3b834g76158e1ef6d9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4211640" y="6100200"/>
            <a:ext cx="6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终于，在小精灵们快被冻僵的时候，冰雪开始融化了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阵温暖的雨从天而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53a3b834g76158e2fc5d6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4422600" y="616500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原来，朱利娅正躺在床上喝热水，她的肚子上还放了一个热水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53a3b834g76158e409ab3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0" y="616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过了很长时间，一列列火车才返回了肚子火车站，此时它们已经被卸空了。小精灵们把剩下的食物装进车厢，大山慢慢地消失了。小精灵们现在又可以休息、玩耍和美美地睡觉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53a3b834g76158e516190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36440" y="6237360"/>
            <a:ext cx="88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朱莉娅感觉好多了，她的肚子不疼了，高兴地翻了许多跟头。肚子火车站里的小精灵们觉得好像坐上了过山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们已经分不清哪是上，哪是下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53a3b834g76158e8cc85c&amp;690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53a3b834g9cd76d9478d1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179280" y="622944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个小姑娘叫朱莉娅。她刚刚从幼儿园出来，走在回家的路上。突然，朱莉娅听到了一阵“咕噜噜”的声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53a3b834g9cd76e194fd8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3072960" y="623664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个声音是从她的肚子里发出来的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53a3b834g9cd76ea08970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20520" y="6242760"/>
            <a:ext cx="91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朱莉娅不知道，她的肚子里有一个火车站！肚子精灵们就住在这里，他们的工作是把食物弄成泥。这会儿，小精灵们都懒洋洋地躺着，因为大家无事可做。火车也停在那里，整个肚子火车站里静悄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53a3b834g9cd76f4539d9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3931560" y="616536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突然，那奇怪的声音又响了起来。原来上一个小精灵睡着了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在梦中偶尔打起响亮的呼噜，这就是朱莉娅听到的“咕噜噜”的声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53a3b834g76158b457c67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0" y="62888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朱莉娅终于到家了，一顿美味的午餐正摆在桌子上。她开始狼吞虎咽地吃起来。很快，一大团面条通过食道掉进了肚子火车站里。小精灵们立刻醒了，从各自的洞穴里爬出来，准备开始工作。他们都是一些非常勤劳的小家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53a3b834g9cd77009447c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4:30:42Z</dcterms:created>
  <dc:creator>微软中国</dc:creator>
  <dc:description/>
  <dc:language>en-US</dc:language>
  <cp:lastModifiedBy>User</cp:lastModifiedBy>
  <dcterms:modified xsi:type="dcterms:W3CDTF">2012-10-31T07:21:15Z</dcterms:modified>
  <cp:revision>3</cp:revision>
  <dc:subject/>
  <dc:title>幻灯片 1</dc:title>
</cp:coreProperties>
</file>