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A320-02C5-4C2E-8DFF-03EE512A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E3B5-B700-4BCC-BDEC-D82FF6CE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AF5D-6EB6-4154-8D29-C8EDDC92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B647-C1C8-4FBC-BF7D-4242ED96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C6D3-CEB8-4905-880C-CA27C225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1B64-EAB2-429C-8F88-3EFFDBAB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B12D-F5DD-427A-8F94-5456F61B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8BAC-0168-417F-BF29-AD6E8673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4B1C-E0D8-402D-9105-21B9EEEB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CE7A-031D-4D27-801D-DB925158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2FDD-4D19-46EF-B373-6AE8CB51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E221-1ED9-4029-A914-E5D98605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0DA0-3A94-433F-B2BA-64F24CC5EB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5348" t="0" r="2086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黑体"/>
              </a:rPr>
              <a:t>肚子为什么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32320" y="189000"/>
            <a:ext cx="16434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Arial"/>
                <a:ea typeface="黑体"/>
              </a:rPr>
              <a:t>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67640" y="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00"/>
                </a:solidFill>
                <a:latin typeface="Arial"/>
                <a:ea typeface="黑体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23229" t="0" r="0" b="141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11540" r="30759" b="17068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7:42:40Z</dcterms:created>
  <dc:creator>island</dc:creator>
  <dc:description/>
  <dc:language>en-US</dc:language>
  <cp:lastModifiedBy>island</cp:lastModifiedBy>
  <dcterms:modified xsi:type="dcterms:W3CDTF">2012-10-21T09:23:07Z</dcterms:modified>
  <cp:revision>7</cp:revision>
  <dc:subject/>
  <dc:title>幻灯片 1</dc:title>
</cp:coreProperties>
</file>